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4A5-6132-4B31-BBEE-43CC65BF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3A6-DD00-47B1-92F0-6DD1213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4314A-970B-4624-A1D0-22DE706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A3AEC-73B5-4C56-9D83-5340D31A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8ED35-85FF-49F1-BA70-0595645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DFD31-0A5C-4ABC-A228-89B80A0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B49AA-AD62-40ED-A872-2403E75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94F09-66EE-4618-9CE7-2CF1503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01A5-6EB4-49F6-8499-AF89E58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176D-0AF3-43FA-9B04-A53DC0D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48AB-896F-4FAA-A7B4-21F09665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B73-E429-4EE4-9EC3-04C813B8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4E8-6460-4CA9-B848-618DB222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3E95-9E88-4740-B82B-2718CB4F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9F74-ACA2-43DB-BD12-EB1818AD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AD1-5D4B-499B-9A8D-9A8B34CC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8587-C033-41BC-BB08-4EB47DC9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2B02-95CB-47E9-8F4C-89EC41F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DD3-1DDC-4FF6-8227-1753EB3E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266-4568-4386-9940-1783751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E8C-7E0F-4294-B969-41E5BA3A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5992-4B10-486C-B7B2-4F1ECC1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6F2-D21E-4FF6-8CA6-1EA5308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5BB-92C2-4461-8A40-46D0289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BF6-DB37-49FD-A12F-1D4123BE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D17F-8F6D-43E5-980C-F7E55F3F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D89D-675B-47F0-A6A9-33919966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61D9-AB3F-46BB-900A-3D3A32B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E8C9-18BF-4A70-A952-C5B2EED5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AE3F-7819-4CA1-B56C-AAB1B9A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54AE-2667-450C-A5C4-51AC4F6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075-5199-444C-8746-8582B8F3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8D35-6FC3-4AC0-9EDC-EC793FF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24CD-DA4D-468D-AC9A-88BD7E3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4C1E-44F7-4D18-B7A4-C31D930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E9CF-A46D-4984-BE5C-824CAB4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F58A-A5C1-4E9C-9839-389F92F4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5642-CD99-4ECE-8F4F-DFAC5C2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C522-ED58-4259-BF30-FC24EF7F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6F54-2062-4093-AB9C-B98560F6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E42D-5CF0-473A-A66D-14B1DE61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10B0-76CC-4256-9799-C8917FFC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A65-FDCB-40CA-96A5-E230943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6D07-C4F2-43CB-9AEC-47941581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AAC8-B370-4D0B-8DBA-CCA5B08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0477-1775-409B-A1C0-DB067CC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438F-F561-481D-8F12-88C924B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30DC-593F-4F33-BA6A-A685677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537F-B24E-46DE-944D-87D785E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1AD6-E30A-4D37-AB95-3A5804E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D5B8-EF88-4418-A671-377F2F45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543D-E6F3-4A09-BBE0-89B7DDA0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CA14-AE39-4268-BB66-AF9F8C3E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296-D12C-4B10-AABB-5B94054A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3252-439B-4292-A74E-9613EFA1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6C95-24D6-4121-A955-0F5D7D5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A328-85EB-41F0-86A1-313B17D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8883-C6F5-4FE2-AD55-B5B1E0F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C074-B633-4489-9C13-D5D2EB3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EDAF-E99D-47A8-8545-CB3EC6C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FF34-056F-4B32-9CC9-64F45C3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B264-CCCC-4A25-84D5-0654EC3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A1EC-EC7C-4992-8D6D-A2DF45A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BC62-A9EE-4AB9-8914-133DA2B6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974-4FB2-4A07-A451-74830B4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D0CE6-D62D-430C-B3BC-CA6DCF98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5ABF-507B-449E-8E28-9D90E69E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C9EB-245A-4CF0-A827-7AA7164B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06FF2-19A1-4045-9366-0572166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0A7B-8349-45C4-B288-3D6274CF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DD40-E9B3-454E-BDFE-6FD9217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04768-1FA9-4205-B98C-AB0020B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AFD5-A952-47F2-B764-83DA58C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D0C7-8F53-4C7D-B7A6-DD9C471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E013-AFCB-4D16-ABAA-10BC94A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275-EE8A-4A54-9CB2-53570A42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3F32-6D72-4883-B714-A2B28AC7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1E9C-3485-4974-A567-E8C170E6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EF1B-2AF2-46D3-8383-69A78E7C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C824-B64B-42A4-A63E-568E1D16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F08B-FAA5-4118-91ED-025B7594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8B062-AEBF-4EF4-A337-492CBB1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7119-7794-427C-BF17-0A6DB7F2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14E0-4A73-424F-9D81-8A5FC45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8F97-2FB8-445A-85FF-C2E625A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35334-3A38-47AF-9E02-0241129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CBA-D074-4E17-8990-C60155C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D03E-A0B1-47F1-A1C6-2788CBA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7DE7-3452-4EC9-8910-BCDD05C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9A22-B322-4FDF-AA30-DDEA676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A126-3DD8-4278-BE06-5ED94683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9DA1-6359-4272-8595-E129664D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AAA5-A7AD-491D-A798-BD821869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38601-D92B-4779-887A-5BAF7197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F3AF9-B1BB-4ABC-AD4D-D8993E5F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6B497-1DDB-47C1-AD1F-6AF1CDF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B5393-F062-46EB-AAE0-090469B0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63B-160E-40E1-8443-9D6D223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6CDB-F17E-4265-99A0-202D574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9F8BE-536E-4FA9-8AF5-5DF0CD8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7E32-831B-485E-89F2-D06E9B3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6941-FE22-4027-B54A-F286EF7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01C24-B257-4F26-AFC7-8292E69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C4B5-C7E8-4E1F-8199-3F2BE5F9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BACA-9660-4A02-93E9-2C7123B1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3FB54-739E-4763-BB1F-DC1B7181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89D9-AC2E-4950-BFB0-D6467A3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B7C7-2AEA-46BF-ABCC-076F002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C5B6-01C0-4739-B9D6-6489BB4041BE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04C8-A54E-4DC8-A04D-99D45090ABF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B18-35DA-45BB-B7AA-3B8997574B8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7EA7-34B6-449B-BEFB-2D93EAAA7FF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A27-14DA-42A7-B171-51EC67DFC6A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E12-081D-4923-B082-85F5403BCC7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C36-F3AA-411C-9FF5-C2E389ABBA9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19DE-E083-487B-9EC8-9F4764DA3AF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4252-5D7F-4265-BB53-05C6C727B75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SAUNIER DUVAL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une chaudière à condensation avec un chauffe-eau solaire optimisé du fabricant SAUNIER DUVAL dans le logiciel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La chaudière à condensation + CESI optimisé SAUNIER DUVAL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une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«boucle solaire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générateur «Chaudière ThemaPlus Condens F25 Performance R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HelioPlan SRD 2.3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système de stockage «Ballon HelioSet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0" name="Object 16"/>
          <p:cNvGraphicFramePr/>
          <p:nvPr/>
        </p:nvGraphicFramePr>
        <p:xfrm>
          <a:off x="5519880" y="34290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290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ThemaPlus Condens F25 Performante RT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HelioSet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HelioPlan SRD 2.3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Object 17"/>
          <p:cNvGraphicFramePr/>
          <p:nvPr/>
        </p:nvGraphicFramePr>
        <p:xfrm>
          <a:off x="703908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0360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05" descr="LaCie Disk:1 GRAPHISME:ELEMENTS_OK_FICHES_BET_PRODUIT:F3_BBS:F3_capt_menu.jpg"/>
          <p:cNvPicPr/>
          <p:nvPr/>
        </p:nvPicPr>
        <p:blipFill>
          <a:blip r:embed="rId8"/>
          <a:stretch/>
        </p:blipFill>
        <p:spPr>
          <a:xfrm>
            <a:off x="7462800" y="3505320"/>
            <a:ext cx="27068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1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4740-D618-4543-A714-692DBB36BB7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736560" y="176544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4" name="Text Box 14"/>
          <p:cNvSpPr/>
          <p:nvPr/>
        </p:nvSpPr>
        <p:spPr>
          <a:xfrm>
            <a:off x="6888240" y="2502000"/>
            <a:ext cx="1887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5" name="AutoShape 16"/>
          <p:cNvCxnSpPr/>
          <p:nvPr/>
        </p:nvCxnSpPr>
        <p:spPr>
          <a:xfrm flipV="1" rot="16200000">
            <a:off x="6693480" y="2529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6" name="AutoShape 19"/>
          <p:cNvCxnSpPr/>
          <p:nvPr/>
        </p:nvCxnSpPr>
        <p:spPr>
          <a:xfrm flipV="1" rot="16200000">
            <a:off x="6693480" y="2529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7" name="AutoShape 24"/>
          <p:cNvCxnSpPr/>
          <p:nvPr/>
        </p:nvCxnSpPr>
        <p:spPr>
          <a:xfrm flipV="1" rot="16200000">
            <a:off x="6528240" y="31384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8" name="AutoShape 41"/>
          <p:cNvCxnSpPr/>
          <p:nvPr/>
        </p:nvCxnSpPr>
        <p:spPr>
          <a:xfrm flipH="1" flipV="1" rot="10800000">
            <a:off x="91800" y="3908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9" name="Freeform 25"/>
          <p:cNvSpPr/>
          <p:nvPr/>
        </p:nvSpPr>
        <p:spPr>
          <a:xfrm>
            <a:off x="5632560" y="2844720"/>
            <a:ext cx="2361960" cy="8622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174120" y="389880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1" name="Picture 17" descr=""/>
          <p:cNvPicPr/>
          <p:nvPr/>
        </p:nvPicPr>
        <p:blipFill>
          <a:blip r:embed="rId2"/>
          <a:stretch/>
        </p:blipFill>
        <p:spPr>
          <a:xfrm>
            <a:off x="3162240" y="1998720"/>
            <a:ext cx="838440" cy="181080"/>
          </a:xfrm>
          <a:prstGeom prst="rect">
            <a:avLst/>
          </a:prstGeom>
          <a:ln w="0">
            <a:noFill/>
          </a:ln>
        </p:spPr>
      </p:pic>
      <p:sp>
        <p:nvSpPr>
          <p:cNvPr id="422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6784920" y="356724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C00A-B40F-48F5-890A-51A0C4C8401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685800" y="138096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6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685800" y="31338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7" name="Text Box 7"/>
          <p:cNvSpPr/>
          <p:nvPr/>
        </p:nvSpPr>
        <p:spPr>
          <a:xfrm>
            <a:off x="6837480" y="204156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AutoShape 8"/>
          <p:cNvCxnSpPr/>
          <p:nvPr/>
        </p:nvCxnSpPr>
        <p:spPr>
          <a:xfrm flipV="1" rot="16200000">
            <a:off x="665676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9" name="AutoShape 9"/>
          <p:cNvCxnSpPr/>
          <p:nvPr/>
        </p:nvCxnSpPr>
        <p:spPr>
          <a:xfrm flipV="1" rot="16200000">
            <a:off x="665676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0" name="AutoShape 10"/>
          <p:cNvCxnSpPr/>
          <p:nvPr/>
        </p:nvCxnSpPr>
        <p:spPr>
          <a:xfrm flipH="1" rot="16200000">
            <a:off x="6477120" y="26762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1" name="AutoShape 12"/>
          <p:cNvCxnSpPr/>
          <p:nvPr/>
        </p:nvCxnSpPr>
        <p:spPr>
          <a:xfrm flipH="1" flipV="1" rot="10800000">
            <a:off x="-360" y="40953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2" name="Freeform 25"/>
          <p:cNvSpPr/>
          <p:nvPr/>
        </p:nvSpPr>
        <p:spPr>
          <a:xfrm>
            <a:off x="4408560" y="3313080"/>
            <a:ext cx="5486400" cy="8622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640560" y="3494160"/>
            <a:ext cx="343692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4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05120" y="191448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11"/>
          <p:cNvSpPr/>
          <p:nvPr/>
        </p:nvSpPr>
        <p:spPr>
          <a:xfrm>
            <a:off x="3027960" y="34196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8,1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112"/>
          <p:cNvSpPr/>
          <p:nvPr/>
        </p:nvSpPr>
        <p:spPr>
          <a:xfrm>
            <a:off x="3027960" y="36320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,43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3"/>
          <p:cNvSpPr/>
          <p:nvPr/>
        </p:nvSpPr>
        <p:spPr>
          <a:xfrm>
            <a:off x="2997720" y="42768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4"/>
          <p:cNvSpPr/>
          <p:nvPr/>
        </p:nvSpPr>
        <p:spPr>
          <a:xfrm>
            <a:off x="3010680" y="4484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5"/>
          <p:cNvSpPr/>
          <p:nvPr/>
        </p:nvSpPr>
        <p:spPr>
          <a:xfrm>
            <a:off x="3031200" y="46972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7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6"/>
          <p:cNvSpPr/>
          <p:nvPr/>
        </p:nvSpPr>
        <p:spPr>
          <a:xfrm>
            <a:off x="3010680" y="48862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7"/>
          <p:cNvSpPr/>
          <p:nvPr/>
        </p:nvSpPr>
        <p:spPr>
          <a:xfrm>
            <a:off x="3030480" y="51148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.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8"/>
          <p:cNvSpPr/>
          <p:nvPr/>
        </p:nvSpPr>
        <p:spPr>
          <a:xfrm>
            <a:off x="3013920" y="53434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20"/>
          <p:cNvSpPr/>
          <p:nvPr/>
        </p:nvSpPr>
        <p:spPr>
          <a:xfrm>
            <a:off x="3029400" y="55609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6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1"/>
          <p:cNvSpPr/>
          <p:nvPr/>
        </p:nvSpPr>
        <p:spPr>
          <a:xfrm>
            <a:off x="3029400" y="57578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8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2"/>
          <p:cNvSpPr/>
          <p:nvPr/>
        </p:nvSpPr>
        <p:spPr>
          <a:xfrm>
            <a:off x="3030120" y="596412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3"/>
          <p:cNvSpPr/>
          <p:nvPr/>
        </p:nvSpPr>
        <p:spPr>
          <a:xfrm>
            <a:off x="3013920" y="618156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4"/>
          <p:cNvSpPr/>
          <p:nvPr/>
        </p:nvSpPr>
        <p:spPr>
          <a:xfrm>
            <a:off x="3066120" y="641016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1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2997720" y="65786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34" descr=""/>
          <p:cNvPicPr/>
          <p:nvPr/>
        </p:nvPicPr>
        <p:blipFill>
          <a:blip r:embed="rId4"/>
          <a:stretch/>
        </p:blipFill>
        <p:spPr>
          <a:xfrm>
            <a:off x="2986200" y="1647720"/>
            <a:ext cx="1133280" cy="171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4" descr=""/>
          <p:cNvPicPr/>
          <p:nvPr/>
        </p:nvPicPr>
        <p:blipFill>
          <a:blip r:embed="rId5"/>
          <a:stretch/>
        </p:blipFill>
        <p:spPr>
          <a:xfrm>
            <a:off x="3419640" y="1647720"/>
            <a:ext cx="1133280" cy="171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13"/>
          <p:cNvSpPr/>
          <p:nvPr/>
        </p:nvSpPr>
        <p:spPr>
          <a:xfrm>
            <a:off x="3004200" y="1647720"/>
            <a:ext cx="22042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ThemaPlus Condens F25 Performance R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6640560" y="154944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3E6-5709-48BC-9BC1-FF5E70DCF81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736560" y="1693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6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7" name="Text Box 29"/>
          <p:cNvSpPr/>
          <p:nvPr/>
        </p:nvSpPr>
        <p:spPr>
          <a:xfrm>
            <a:off x="3189240" y="27734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.35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3197160" y="30067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3184560" y="36925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3184560" y="39211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3184560" y="41497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.1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49"/>
          <p:cNvSpPr/>
          <p:nvPr/>
        </p:nvSpPr>
        <p:spPr>
          <a:xfrm>
            <a:off x="3184560" y="43783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76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184560" y="47592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1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184560" y="58420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184560" y="60706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6729480" y="1711440"/>
            <a:ext cx="34369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62"/>
          <p:cNvSpPr/>
          <p:nvPr/>
        </p:nvSpPr>
        <p:spPr>
          <a:xfrm>
            <a:off x="3943440" y="601668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8" name="Picture 34" descr=""/>
          <p:cNvPicPr/>
          <p:nvPr/>
        </p:nvPicPr>
        <p:blipFill>
          <a:blip r:embed="rId2"/>
          <a:stretch/>
        </p:blipFill>
        <p:spPr>
          <a:xfrm>
            <a:off x="3132000" y="2486160"/>
            <a:ext cx="1133640" cy="171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5" descr=""/>
          <p:cNvPicPr/>
          <p:nvPr/>
        </p:nvPicPr>
        <p:blipFill>
          <a:blip r:embed="rId3"/>
          <a:stretch/>
        </p:blipFill>
        <p:spPr>
          <a:xfrm>
            <a:off x="3184560" y="5626080"/>
            <a:ext cx="1133280" cy="1713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7"/>
          <p:cNvSpPr/>
          <p:nvPr/>
        </p:nvSpPr>
        <p:spPr>
          <a:xfrm>
            <a:off x="3147840" y="2486160"/>
            <a:ext cx="1981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RD 2.3 Horizont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47"/>
          <p:cNvSpPr/>
          <p:nvPr/>
        </p:nvSpPr>
        <p:spPr>
          <a:xfrm>
            <a:off x="3147840" y="558180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HelioPlan SRD 2.3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3" name="AutoShape 11"/>
          <p:cNvCxnSpPr/>
          <p:nvPr/>
        </p:nvCxnSpPr>
        <p:spPr>
          <a:xfrm flipH="1" rot="16200000">
            <a:off x="6331680" y="30366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pic>
        <p:nvPicPr>
          <p:cNvPr id="474" name="Picture 36" descr=""/>
          <p:cNvPicPr/>
          <p:nvPr/>
        </p:nvPicPr>
        <p:blipFill>
          <a:blip r:embed="rId4"/>
          <a:stretch/>
        </p:blipFill>
        <p:spPr>
          <a:xfrm>
            <a:off x="4775040" y="43704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4"/>
          <p:cNvSpPr/>
          <p:nvPr/>
        </p:nvSpPr>
        <p:spPr>
          <a:xfrm>
            <a:off x="5416560" y="277344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Freeform 24"/>
          <p:cNvSpPr/>
          <p:nvPr/>
        </p:nvSpPr>
        <p:spPr>
          <a:xfrm>
            <a:off x="5487840" y="3494160"/>
            <a:ext cx="2590920" cy="5331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5416560" y="378144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Freeform 24"/>
          <p:cNvSpPr/>
          <p:nvPr/>
        </p:nvSpPr>
        <p:spPr>
          <a:xfrm>
            <a:off x="5416560" y="40100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6784920" y="32767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784920" y="43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784920" y="522144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6784920" y="61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84920" y="2486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4768920" y="50767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5" name="Connecteur en angle 53"/>
          <p:cNvCxnSpPr>
            <a:stCxn id="482" idx="1"/>
          </p:cNvCxnSpPr>
          <p:nvPr/>
        </p:nvCxnSpPr>
        <p:spPr>
          <a:xfrm rot="10800000">
            <a:off x="4984200" y="5293440"/>
            <a:ext cx="1800720" cy="1164600"/>
          </a:xfrm>
          <a:prstGeom prst="bentConnector3">
            <a:avLst>
              <a:gd name="adj1" fmla="val 6660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8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0DA2-F566-498A-B796-827A0A8148C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85800" y="362412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8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85800" y="156672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9" name="Text Box 9"/>
          <p:cNvSpPr/>
          <p:nvPr/>
        </p:nvSpPr>
        <p:spPr>
          <a:xfrm>
            <a:off x="6837480" y="230364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0" name="AutoShape 12"/>
          <p:cNvCxnSpPr/>
          <p:nvPr/>
        </p:nvCxnSpPr>
        <p:spPr>
          <a:xfrm flipV="1" rot="16200000">
            <a:off x="6477480" y="2940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sp>
        <p:nvSpPr>
          <p:cNvPr id="491" name="Text Box 22"/>
          <p:cNvSpPr/>
          <p:nvPr/>
        </p:nvSpPr>
        <p:spPr>
          <a:xfrm>
            <a:off x="6656400" y="3471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Freeform 23"/>
          <p:cNvSpPr/>
          <p:nvPr/>
        </p:nvSpPr>
        <p:spPr>
          <a:xfrm flipV="1">
            <a:off x="5105520" y="2117880"/>
            <a:ext cx="1600200" cy="8618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3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20500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4" name="Freeform 24"/>
          <p:cNvSpPr/>
          <p:nvPr/>
        </p:nvSpPr>
        <p:spPr>
          <a:xfrm flipV="1">
            <a:off x="5105520" y="382284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Freeform 24"/>
          <p:cNvSpPr/>
          <p:nvPr/>
        </p:nvSpPr>
        <p:spPr>
          <a:xfrm>
            <a:off x="5051520" y="4933800"/>
            <a:ext cx="3047760" cy="8622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25"/>
          <p:cNvSpPr/>
          <p:nvPr/>
        </p:nvSpPr>
        <p:spPr>
          <a:xfrm>
            <a:off x="6635880" y="551016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656400" y="37004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Freeform 24"/>
          <p:cNvSpPr/>
          <p:nvPr/>
        </p:nvSpPr>
        <p:spPr>
          <a:xfrm flipV="1">
            <a:off x="5105520" y="205560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656400" y="191628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2892240" y="44226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2876760" y="461484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2895120" y="484344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2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2933640" y="510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5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2862720" y="530064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2896920" y="55530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6"/>
          <p:cNvSpPr/>
          <p:nvPr/>
        </p:nvSpPr>
        <p:spPr>
          <a:xfrm>
            <a:off x="2892600" y="5794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7" name="Picture 31" descr=""/>
          <p:cNvPicPr/>
          <p:nvPr/>
        </p:nvPicPr>
        <p:blipFill>
          <a:blip r:embed="rId4"/>
          <a:stretch/>
        </p:blipFill>
        <p:spPr>
          <a:xfrm>
            <a:off x="2843280" y="2197080"/>
            <a:ext cx="1133280" cy="17136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0"/>
          <p:cNvSpPr/>
          <p:nvPr/>
        </p:nvSpPr>
        <p:spPr>
          <a:xfrm>
            <a:off x="2855160" y="2197080"/>
            <a:ext cx="671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HelioSet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Ballon HelioSet S-FE 150/3 SE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0263-9555-4EEB-A7B5-32687F5C3A5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" descr=""/>
          <p:cNvPicPr/>
          <p:nvPr/>
        </p:nvPicPr>
        <p:blipFill>
          <a:blip r:embed="rId1"/>
          <a:stretch/>
        </p:blipFill>
        <p:spPr>
          <a:xfrm>
            <a:off x="736560" y="2486160"/>
            <a:ext cx="5591160" cy="6379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3" name="AutoShape 12"/>
          <p:cNvCxnSpPr/>
          <p:nvPr/>
        </p:nvCxnSpPr>
        <p:spPr>
          <a:xfrm flipH="1" rot="16200000">
            <a:off x="6549840" y="32047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14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Freeform 23"/>
          <p:cNvSpPr/>
          <p:nvPr/>
        </p:nvSpPr>
        <p:spPr>
          <a:xfrm flipV="1">
            <a:off x="5178600" y="238356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736560" y="1909800"/>
            <a:ext cx="525636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63840" y="196056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8"/>
          <p:cNvSpPr/>
          <p:nvPr/>
        </p:nvSpPr>
        <p:spPr>
          <a:xfrm>
            <a:off x="3616200" y="2701800"/>
            <a:ext cx="14241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Text Box 39"/>
          <p:cNvSpPr/>
          <p:nvPr/>
        </p:nvSpPr>
        <p:spPr>
          <a:xfrm>
            <a:off x="3687840" y="2486160"/>
            <a:ext cx="99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0.0 m</a:t>
            </a:r>
            <a:r>
              <a:rPr b="0" lang="fr-FR" sz="1000" spc="-1" strike="noStrike" baseline="30000">
                <a:solidFill>
                  <a:srgbClr val="002060"/>
                </a:solidFill>
                <a:latin typeface="45 Helvetica Light"/>
              </a:rPr>
              <a:t>3</a:t>
            </a: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/h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40"/>
          <p:cNvSpPr/>
          <p:nvPr/>
        </p:nvSpPr>
        <p:spPr>
          <a:xfrm>
            <a:off x="3687840" y="2989440"/>
            <a:ext cx="623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24 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A29-2F57-40A5-9433-16846C9EDAD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3" name="AutoShape 12"/>
          <p:cNvCxnSpPr/>
          <p:nvPr/>
        </p:nvCxnSpPr>
        <p:spPr>
          <a:xfrm flipH="1" rot="16200000">
            <a:off x="6495840" y="32047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46:13Z</dcterms:modified>
  <cp:revision>101</cp:revision>
  <dc:subject/>
  <dc:title>Présentation PowerPoint</dc:title>
</cp:coreProperties>
</file>