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wmf" ContentType="image/x-wm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D7F-735E-4C43-96AB-33BC0141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F40-6200-403B-B5CC-9411DC2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FD85A-2BF6-412C-9801-64FDA3E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0B185-A76E-43FB-A821-2F2CC11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D0CBA-924D-492A-958E-DECDF33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4B87C-B4EA-4182-A1EF-5BB2FC2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91173-F9D4-4F27-83F9-733D176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0CC13-2796-4C57-A524-519E5FC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51D71-BA82-4ECD-8AAE-719968F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C03B-7574-4CFE-A2CB-32E526C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C3F6-7344-4558-ADDB-028322A6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59F-1911-4AB2-8F28-E73446E9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3AF-DB0C-43D4-96B5-5784CEB6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8C18-55EE-4F85-89F1-7C1AC3D4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080-1707-4196-AD7D-5EDB903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FD93-3ABE-47DC-B6FF-40C6025D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805E-A118-44CF-B6C5-65CB23D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AEDE-8981-41D3-9A81-BFD7FD6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9A0-139A-43FD-8152-134E519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36C-ABB8-426E-B9D8-14122D0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42B-7717-4A74-8609-5937924A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209-90D3-421F-A6DD-3CBD8E6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5991-1E05-4426-937C-16448C4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A477-EDF1-4C09-B1E3-C95C55F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5AC8-9008-4526-937E-A9100C33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5C0-20FA-4A74-89E0-3B35BBF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AAE8-2548-4597-B94B-0E82506B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0276-2721-42B4-9A4B-B892EF8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C931-DB09-439F-8026-CE9860B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1EDA-25B5-4A75-8770-FA95C94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61E6-08E3-42D5-9358-BA7207B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DF5-EA3C-4531-B8E1-E98871DF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2565-3435-4793-A70C-9ABCAF6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3394-C2B4-420D-9115-9595657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626A-23E0-4E60-A8A4-6F2C536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A990-6FEF-4592-B5B7-7011A7B7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EC75-81EE-4ECD-A5C8-5006E8D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9EB2-1582-4982-A6FE-777D0CB6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8716-6B9E-4ACB-B2EC-AED68B37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350C-1666-40B8-BAAF-1A1729AC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DC50-47E0-41F8-BA73-D1D7668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1DC8-6500-4179-A88A-8272673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A47-38B2-412D-8A52-EFF4C05C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7B34-248A-4A25-9898-9785E34E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8389-63C5-418F-9591-2DE74CB4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1CDE-3D20-46ED-B4C6-90BC714B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EAA0-B923-4A04-BF8F-CD4ABBD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C7F1-F252-4E48-9725-5E2E3BC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8703-B754-4AF7-9569-444C2B3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AB62-AAD2-4AE9-804D-8706DCA4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9D76-8675-4B2C-907F-F30FD5A8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6654-BDFF-4583-B504-9D2C05B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FEDA-45E2-48A3-8431-4970AC32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848-74DE-4489-B248-7DF2FE5C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EC89-B3E2-4EBA-9C7D-86995685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C2E99-367A-4E28-977E-445C7EB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C76B-6CA9-4366-9E27-1D881B6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F33F-1594-4636-8E11-D248EC4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351B-DF10-4704-9350-7DD0DC5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C1BE-42ED-4F27-9AC5-0CBB28E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93DE-EB6E-4A93-B33F-7B4DE8C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13E2-AF48-4170-979E-A18D19F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1B9C-9E9F-4F38-814B-A9D25C00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9FBD-D900-4FFA-9A8A-E197CA4C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69-FF55-495B-A3E7-95430547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4A48-174B-451B-A4D9-574FD75B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72A97-ACEE-4DC2-956F-866BDAA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65EE-1257-4632-9ED9-022C417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98B0-7731-4060-9538-215D1623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C719-2A08-4D0C-8BE0-268B690B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6A167-1C86-4C2B-AB28-0DCF2E7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BF0F6-D2B8-4239-A7F8-4D23A29B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7CF1-E492-46C9-9F9D-67204A9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310B-C8C1-4F8E-B7C8-125F7E30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7E42-AB60-4E9D-9A04-EFCED26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BC2-B368-425B-90E7-6121F2F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426BB-DBC8-4610-ADF5-386FF55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72A0-1AA3-4E59-95DB-F38E1F32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DDC3-4E5C-40B5-B837-03B8DE62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AA4C-9D32-413C-8E97-0E1B03F0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D86E-BBE7-41A3-90C2-614856E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E62E-16C8-4D82-897D-0B68516B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AA2E-3583-458B-B0A6-C8E43A8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38B2-6743-4938-B4BC-4822267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8346-8F0E-416C-8467-F36C699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BBAD-25DD-485E-928D-25A32A1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6CB-8D4E-441B-A7BC-FCC0BD1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73B7-80F9-480F-8D29-8C41289C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8D5D-F94D-4877-8F93-88F0819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F933-26C9-40AA-8FF9-982D05F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D60E-B247-49BC-B021-EDEA5398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10FE-4D20-432D-BE64-6CF0D506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837C-8C27-469D-A108-E138DE6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DDCA-9426-42E6-B9FA-9E8808A0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C08AE-6FAF-4724-A85D-C2C669CE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78E7F-7B87-4E47-A943-F6C540BD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4399-75C3-4AFD-9153-AFC472F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C56-5560-4618-9DA2-BA2CDE9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E326-EBBD-49A1-AE85-91591FC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1913C-1CEE-4F30-9AEE-26368E4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4880-7BDA-4EC7-B62D-7C2858E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C536-43D8-49A0-A75D-7452479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D0C7-2E6C-4FA6-91C5-E84914A8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7B0E-31FD-4DDA-94D0-BCEDF184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B1FF-E4E2-40E8-ABF7-2E0EF824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AB20A-F257-4FDF-A8A2-DC26854E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3AAB4-7C47-4547-A18C-3ADE0777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83AA8-67B9-4BD4-A01A-8EA837B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F812-A1D4-4EE1-9793-27359CE71629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AF12-0436-434C-8840-22F32258E42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1FD-1880-4C41-95F0-7CABC12C6C0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FDF-DACE-4AA1-8491-00E74649AD7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843-0E01-4D6E-BF03-1565084DF8B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503-734A-44CC-A64D-ECA204737D8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676-398C-4BDC-9856-44A564F9D0B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1422-34BB-4753-9209-784BE58E2E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C82-2C0C-4D04-AF53-F3F1EB7A0B1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hyperlink" Target="https://techniqueuniclima.com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DE DIETRICH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DE DIETRICH 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une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générateur «Chaudière NANEO 24/28 M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Dietrisol Pro D 23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système de stockage «Ballon de stockage BLS 150 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519880" y="34290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290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NEO 24/28 MI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BSL 150 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Dietrisol Pro D 23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703908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53280" y="4502160"/>
            <a:ext cx="190440" cy="141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"/>
          <p:cNvPicPr/>
          <p:nvPr/>
        </p:nvPicPr>
        <p:blipFill>
          <a:blip r:embed="rId8"/>
          <a:stretch/>
        </p:blipFill>
        <p:spPr>
          <a:xfrm>
            <a:off x="7550280" y="3925800"/>
            <a:ext cx="2619360" cy="25146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2" name="Rectangle 13"/>
          <p:cNvSpPr/>
          <p:nvPr/>
        </p:nvSpPr>
        <p:spPr>
          <a:xfrm>
            <a:off x="9304200" y="5076720"/>
            <a:ext cx="7207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7E43-6B4A-4977-945A-47468501769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663480" y="190980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6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815160" y="2646360"/>
            <a:ext cx="19191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8" name="AutoShape 16"/>
          <p:cNvCxnSpPr/>
          <p:nvPr/>
        </p:nvCxnSpPr>
        <p:spPr>
          <a:xfrm flipV="1" rot="16200000">
            <a:off x="662040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9" name="AutoShape 19"/>
          <p:cNvCxnSpPr/>
          <p:nvPr/>
        </p:nvCxnSpPr>
        <p:spPr>
          <a:xfrm flipV="1" rot="16200000">
            <a:off x="662040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0" name="AutoShape 24"/>
          <p:cNvCxnSpPr/>
          <p:nvPr/>
        </p:nvCxnSpPr>
        <p:spPr>
          <a:xfrm flipV="1" rot="16200000">
            <a:off x="6454800" y="32828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1" name="AutoShape 41"/>
          <p:cNvCxnSpPr/>
          <p:nvPr/>
        </p:nvCxnSpPr>
        <p:spPr>
          <a:xfrm flipH="1" flipV="1" rot="10800000">
            <a:off x="-360" y="38509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Freeform 25"/>
          <p:cNvSpPr/>
          <p:nvPr/>
        </p:nvSpPr>
        <p:spPr>
          <a:xfrm>
            <a:off x="5487840" y="2989440"/>
            <a:ext cx="2362320" cy="8618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6640560" y="3422880"/>
            <a:ext cx="3508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viron 11 % (par rapport à un emplacement hors volume chauffé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3101040" y="404352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5" name="Picture 17" descr=""/>
          <p:cNvPicPr/>
          <p:nvPr/>
        </p:nvPicPr>
        <p:blipFill>
          <a:blip r:embed="rId2"/>
          <a:stretch/>
        </p:blipFill>
        <p:spPr>
          <a:xfrm>
            <a:off x="3089160" y="2152800"/>
            <a:ext cx="792360" cy="171360"/>
          </a:xfrm>
          <a:prstGeom prst="rect">
            <a:avLst/>
          </a:prstGeom>
          <a:ln w="0">
            <a:noFill/>
          </a:ln>
        </p:spPr>
      </p:pic>
      <p:sp>
        <p:nvSpPr>
          <p:cNvPr id="426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8D7-E12F-4BC4-B108-61B87BA52BC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663480" y="147780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9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66348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0" name="Text Box 7"/>
          <p:cNvSpPr/>
          <p:nvPr/>
        </p:nvSpPr>
        <p:spPr>
          <a:xfrm>
            <a:off x="6815160" y="213840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1" name="AutoShape 8"/>
          <p:cNvCxnSpPr/>
          <p:nvPr/>
        </p:nvCxnSpPr>
        <p:spPr>
          <a:xfrm flipV="1" rot="16200000">
            <a:off x="6634800" y="1851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2" name="AutoShape 9"/>
          <p:cNvCxnSpPr/>
          <p:nvPr/>
        </p:nvCxnSpPr>
        <p:spPr>
          <a:xfrm flipV="1" rot="16200000">
            <a:off x="6634800" y="1851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3" name="AutoShape 10"/>
          <p:cNvCxnSpPr/>
          <p:nvPr/>
        </p:nvCxnSpPr>
        <p:spPr>
          <a:xfrm flipV="1" rot="16200000">
            <a:off x="6454800" y="27748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4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5" name="Freeform 25"/>
          <p:cNvSpPr/>
          <p:nvPr/>
        </p:nvSpPr>
        <p:spPr>
          <a:xfrm flipV="1">
            <a:off x="4479840" y="2485800"/>
            <a:ext cx="5486400" cy="8604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6640560" y="234144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Freeform 25"/>
          <p:cNvSpPr/>
          <p:nvPr/>
        </p:nvSpPr>
        <p:spPr>
          <a:xfrm flipV="1">
            <a:off x="4335480" y="5221080"/>
            <a:ext cx="5486400" cy="86184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6568920" y="5005440"/>
            <a:ext cx="3594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puissance à charge nulle est identique à celle à puissance nominale car cette information n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st pas précisée dans les documentations des fabrican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9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88280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11"/>
          <p:cNvSpPr/>
          <p:nvPr/>
        </p:nvSpPr>
        <p:spPr>
          <a:xfrm>
            <a:off x="3005640" y="35164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3,4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2"/>
          <p:cNvSpPr/>
          <p:nvPr/>
        </p:nvSpPr>
        <p:spPr>
          <a:xfrm>
            <a:off x="3006000" y="37288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,7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3"/>
          <p:cNvSpPr/>
          <p:nvPr/>
        </p:nvSpPr>
        <p:spPr>
          <a:xfrm>
            <a:off x="297540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14"/>
          <p:cNvSpPr/>
          <p:nvPr/>
        </p:nvSpPr>
        <p:spPr>
          <a:xfrm>
            <a:off x="2988360" y="4581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15"/>
          <p:cNvSpPr/>
          <p:nvPr/>
        </p:nvSpPr>
        <p:spPr>
          <a:xfrm>
            <a:off x="3008880" y="479412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6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16"/>
          <p:cNvSpPr/>
          <p:nvPr/>
        </p:nvSpPr>
        <p:spPr>
          <a:xfrm>
            <a:off x="298836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17"/>
          <p:cNvSpPr/>
          <p:nvPr/>
        </p:nvSpPr>
        <p:spPr>
          <a:xfrm>
            <a:off x="3008160" y="52117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,2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18"/>
          <p:cNvSpPr/>
          <p:nvPr/>
        </p:nvSpPr>
        <p:spPr>
          <a:xfrm>
            <a:off x="2991600" y="544032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0"/>
          <p:cNvSpPr/>
          <p:nvPr/>
        </p:nvSpPr>
        <p:spPr>
          <a:xfrm>
            <a:off x="3007080" y="565776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21"/>
          <p:cNvSpPr/>
          <p:nvPr/>
        </p:nvSpPr>
        <p:spPr>
          <a:xfrm>
            <a:off x="3007080" y="58546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Text Box 122"/>
          <p:cNvSpPr/>
          <p:nvPr/>
        </p:nvSpPr>
        <p:spPr>
          <a:xfrm>
            <a:off x="3007440" y="606096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23"/>
          <p:cNvSpPr/>
          <p:nvPr/>
        </p:nvSpPr>
        <p:spPr>
          <a:xfrm>
            <a:off x="3043800" y="62784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5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24"/>
          <p:cNvSpPr/>
          <p:nvPr/>
        </p:nvSpPr>
        <p:spPr>
          <a:xfrm>
            <a:off x="3043800" y="65070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0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24"/>
          <p:cNvSpPr/>
          <p:nvPr/>
        </p:nvSpPr>
        <p:spPr>
          <a:xfrm>
            <a:off x="297540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4" name="Picture 36" descr=""/>
          <p:cNvPicPr/>
          <p:nvPr/>
        </p:nvPicPr>
        <p:blipFill>
          <a:blip r:embed="rId4"/>
          <a:stretch/>
        </p:blipFill>
        <p:spPr>
          <a:xfrm>
            <a:off x="2981160" y="17445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6" descr=""/>
          <p:cNvPicPr/>
          <p:nvPr/>
        </p:nvPicPr>
        <p:blipFill>
          <a:blip r:embed="rId5"/>
          <a:stretch/>
        </p:blipFill>
        <p:spPr>
          <a:xfrm>
            <a:off x="3413160" y="17445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7"/>
          <p:cNvSpPr/>
          <p:nvPr/>
        </p:nvSpPr>
        <p:spPr>
          <a:xfrm>
            <a:off x="2904480" y="1706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7" name="Picture 36" descr=""/>
          <p:cNvPicPr/>
          <p:nvPr/>
        </p:nvPicPr>
        <p:blipFill>
          <a:blip r:embed="rId6"/>
          <a:stretch/>
        </p:blipFill>
        <p:spPr>
          <a:xfrm>
            <a:off x="2981160" y="21765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6" descr=""/>
          <p:cNvPicPr/>
          <p:nvPr/>
        </p:nvPicPr>
        <p:blipFill>
          <a:blip r:embed="rId7"/>
          <a:stretch/>
        </p:blipFill>
        <p:spPr>
          <a:xfrm>
            <a:off x="3378240" y="21765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0"/>
          <p:cNvSpPr/>
          <p:nvPr/>
        </p:nvSpPr>
        <p:spPr>
          <a:xfrm>
            <a:off x="2904480" y="2138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8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5E5-9048-49D5-B094-C99251BF62B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663480" y="1477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64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5" name="Text Box 29"/>
          <p:cNvSpPr/>
          <p:nvPr/>
        </p:nvSpPr>
        <p:spPr>
          <a:xfrm>
            <a:off x="3102120" y="25448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.17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3102120" y="27734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102120" y="34592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102120" y="36878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3102120" y="39164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2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9"/>
          <p:cNvSpPr/>
          <p:nvPr/>
        </p:nvSpPr>
        <p:spPr>
          <a:xfrm>
            <a:off x="3102120" y="41450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94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50"/>
          <p:cNvSpPr/>
          <p:nvPr/>
        </p:nvSpPr>
        <p:spPr>
          <a:xfrm>
            <a:off x="3102120" y="45259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51"/>
          <p:cNvSpPr/>
          <p:nvPr/>
        </p:nvSpPr>
        <p:spPr>
          <a:xfrm>
            <a:off x="3102120" y="56088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4.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Text Box 52"/>
          <p:cNvSpPr/>
          <p:nvPr/>
        </p:nvSpPr>
        <p:spPr>
          <a:xfrm>
            <a:off x="3102120" y="58374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4,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6634080" y="1477800"/>
            <a:ext cx="34401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62"/>
          <p:cNvSpPr/>
          <p:nvPr/>
        </p:nvSpPr>
        <p:spPr>
          <a:xfrm>
            <a:off x="3848040" y="578340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AutoShape 65"/>
          <p:cNvSpPr/>
          <p:nvPr/>
        </p:nvSpPr>
        <p:spPr>
          <a:xfrm>
            <a:off x="4930920" y="4659480"/>
            <a:ext cx="152280" cy="87768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877680"/>
              <a:gd name="textAreaBottom" fmla="*/ 865800 h 87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9863"/>
                </a:lnTo>
                <a:cubicBezTo>
                  <a:pt x="10800" y="10332"/>
                  <a:pt x="16200" y="10800"/>
                  <a:pt x="21600" y="10800"/>
                </a:cubicBezTo>
                <a:cubicBezTo>
                  <a:pt x="16200" y="10800"/>
                  <a:pt x="10800" y="11269"/>
                  <a:pt x="10800" y="11737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7" name="Picture 36" descr=""/>
          <p:cNvPicPr/>
          <p:nvPr/>
        </p:nvPicPr>
        <p:blipFill>
          <a:blip r:embed="rId2"/>
          <a:stretch/>
        </p:blipFill>
        <p:spPr>
          <a:xfrm>
            <a:off x="3052800" y="182088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6" descr=""/>
          <p:cNvPicPr/>
          <p:nvPr/>
        </p:nvPicPr>
        <p:blipFill>
          <a:blip r:embed="rId3"/>
          <a:stretch/>
        </p:blipFill>
        <p:spPr>
          <a:xfrm>
            <a:off x="3484440" y="182088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5"/>
          <p:cNvSpPr/>
          <p:nvPr/>
        </p:nvSpPr>
        <p:spPr>
          <a:xfrm>
            <a:off x="3013920" y="1782720"/>
            <a:ext cx="15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ESI capteur Pro D 230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0" name="Picture 36" descr=""/>
          <p:cNvPicPr/>
          <p:nvPr/>
        </p:nvPicPr>
        <p:blipFill>
          <a:blip r:embed="rId4"/>
          <a:stretch/>
        </p:blipFill>
        <p:spPr>
          <a:xfrm>
            <a:off x="3052800" y="53481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6" descr=""/>
          <p:cNvPicPr/>
          <p:nvPr/>
        </p:nvPicPr>
        <p:blipFill>
          <a:blip r:embed="rId5"/>
          <a:stretch/>
        </p:blipFill>
        <p:spPr>
          <a:xfrm>
            <a:off x="3052800" y="54021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6" descr=""/>
          <p:cNvPicPr/>
          <p:nvPr/>
        </p:nvPicPr>
        <p:blipFill>
          <a:blip r:embed="rId6"/>
          <a:stretch/>
        </p:blipFill>
        <p:spPr>
          <a:xfrm>
            <a:off x="3773520" y="54021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9"/>
          <p:cNvSpPr/>
          <p:nvPr/>
        </p:nvSpPr>
        <p:spPr>
          <a:xfrm>
            <a:off x="2989440" y="534816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4" name="AutoShape 9"/>
          <p:cNvCxnSpPr/>
          <p:nvPr/>
        </p:nvCxnSpPr>
        <p:spPr>
          <a:xfrm flipH="1" flipV="1" rot="10800000">
            <a:off x="6418080" y="68418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5" name="AutoShape 10"/>
          <p:cNvCxnSpPr/>
          <p:nvPr/>
        </p:nvCxnSpPr>
        <p:spPr>
          <a:xfrm flipH="1" flipV="1" rot="10800000">
            <a:off x="6418080" y="68418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6" name="AutoShape 11"/>
          <p:cNvCxnSpPr/>
          <p:nvPr/>
        </p:nvCxnSpPr>
        <p:spPr>
          <a:xfrm flipH="1" rot="16200000">
            <a:off x="6237720" y="287604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87" name="Freeform 24"/>
          <p:cNvSpPr/>
          <p:nvPr/>
        </p:nvSpPr>
        <p:spPr>
          <a:xfrm>
            <a:off x="5322960" y="2611440"/>
            <a:ext cx="4190760" cy="2286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Freeform 24"/>
          <p:cNvSpPr/>
          <p:nvPr/>
        </p:nvSpPr>
        <p:spPr>
          <a:xfrm>
            <a:off x="5394240" y="32590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Freeform 24"/>
          <p:cNvSpPr/>
          <p:nvPr/>
        </p:nvSpPr>
        <p:spPr>
          <a:xfrm>
            <a:off x="5322960" y="354816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Freeform 24"/>
          <p:cNvSpPr/>
          <p:nvPr/>
        </p:nvSpPr>
        <p:spPr>
          <a:xfrm>
            <a:off x="5322960" y="3763800"/>
            <a:ext cx="1828800" cy="17528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689880" y="3116160"/>
            <a:ext cx="35128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689880" y="419580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6689880" y="505944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6689880" y="599616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689880" y="232416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6" name="Connecteur en angle 53"/>
          <p:cNvCxnSpPr>
            <a:stCxn id="494" idx="1"/>
          </p:cNvCxnSpPr>
          <p:nvPr/>
        </p:nvCxnSpPr>
        <p:spPr>
          <a:xfrm rot="10800000">
            <a:off x="5106240" y="5131800"/>
            <a:ext cx="1583640" cy="1164240"/>
          </a:xfrm>
          <a:prstGeom prst="bentConnector3">
            <a:avLst>
              <a:gd name="adj1" fmla="val 74965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97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PRO D23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BC8-B3AB-4949-96B4-630D411B9C3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85800" y="360684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0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85800" y="154944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1" name="Text Box 9"/>
          <p:cNvSpPr/>
          <p:nvPr/>
        </p:nvSpPr>
        <p:spPr>
          <a:xfrm>
            <a:off x="6837480" y="2286000"/>
            <a:ext cx="1920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2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3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4" name="AutoShape 12"/>
          <p:cNvCxnSpPr/>
          <p:nvPr/>
        </p:nvCxnSpPr>
        <p:spPr>
          <a:xfrm flipH="1" rot="16200000">
            <a:off x="6477120" y="2920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5" name="AutoShape 13"/>
          <p:cNvCxnSpPr/>
          <p:nvPr/>
        </p:nvCxnSpPr>
        <p:spPr>
          <a:xfrm flipH="1" flipV="1" rot="10800000">
            <a:off x="-360" y="4339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6" name="Text Box 22"/>
          <p:cNvSpPr/>
          <p:nvPr/>
        </p:nvSpPr>
        <p:spPr>
          <a:xfrm>
            <a:off x="6656400" y="3454560"/>
            <a:ext cx="35132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Freeform 23"/>
          <p:cNvSpPr/>
          <p:nvPr/>
        </p:nvSpPr>
        <p:spPr>
          <a:xfrm flipV="1">
            <a:off x="5105520" y="209952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187720"/>
            <a:ext cx="865440" cy="202860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4"/>
          <p:cNvSpPr/>
          <p:nvPr/>
        </p:nvSpPr>
        <p:spPr>
          <a:xfrm flipV="1">
            <a:off x="5105520" y="3804480"/>
            <a:ext cx="3657600" cy="86220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Freeform 24"/>
          <p:cNvSpPr/>
          <p:nvPr/>
        </p:nvSpPr>
        <p:spPr>
          <a:xfrm>
            <a:off x="5127480" y="4916520"/>
            <a:ext cx="3048120" cy="861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6640560" y="5564160"/>
            <a:ext cx="35132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656400" y="3683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Freeform 24"/>
          <p:cNvSpPr/>
          <p:nvPr/>
        </p:nvSpPr>
        <p:spPr>
          <a:xfrm flipV="1">
            <a:off x="5105520" y="2037240"/>
            <a:ext cx="3657600" cy="86220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656400" y="189864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Text Box 39"/>
          <p:cNvSpPr/>
          <p:nvPr/>
        </p:nvSpPr>
        <p:spPr>
          <a:xfrm>
            <a:off x="2925720" y="440532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45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40"/>
          <p:cNvSpPr/>
          <p:nvPr/>
        </p:nvSpPr>
        <p:spPr>
          <a:xfrm>
            <a:off x="2910600" y="45975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2927160" y="4826160"/>
            <a:ext cx="38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3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2966760" y="5089680"/>
            <a:ext cx="34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1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2896200" y="528336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2930400" y="55357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2926080" y="5776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2" name="Picture 36" descr=""/>
          <p:cNvPicPr/>
          <p:nvPr/>
        </p:nvPicPr>
        <p:blipFill>
          <a:blip r:embed="rId4"/>
          <a:stretch/>
        </p:blipFill>
        <p:spPr>
          <a:xfrm>
            <a:off x="285912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6" descr=""/>
          <p:cNvPicPr/>
          <p:nvPr/>
        </p:nvPicPr>
        <p:blipFill>
          <a:blip r:embed="rId5"/>
          <a:stretch/>
        </p:blipFill>
        <p:spPr>
          <a:xfrm>
            <a:off x="329076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6" descr=""/>
          <p:cNvPicPr/>
          <p:nvPr/>
        </p:nvPicPr>
        <p:blipFill>
          <a:blip r:embed="rId6"/>
          <a:stretch/>
        </p:blipFill>
        <p:spPr>
          <a:xfrm>
            <a:off x="357984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6" descr=""/>
          <p:cNvPicPr/>
          <p:nvPr/>
        </p:nvPicPr>
        <p:blipFill>
          <a:blip r:embed="rId7"/>
          <a:stretch/>
        </p:blipFill>
        <p:spPr>
          <a:xfrm>
            <a:off x="2859120" y="2179800"/>
            <a:ext cx="828720" cy="16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6" descr=""/>
          <p:cNvPicPr/>
          <p:nvPr/>
        </p:nvPicPr>
        <p:blipFill>
          <a:blip r:embed="rId8"/>
          <a:stretch/>
        </p:blipFill>
        <p:spPr>
          <a:xfrm>
            <a:off x="3579840" y="2179800"/>
            <a:ext cx="828720" cy="1616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2"/>
          <p:cNvSpPr/>
          <p:nvPr/>
        </p:nvSpPr>
        <p:spPr>
          <a:xfrm>
            <a:off x="2843640" y="174780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Ballon BSL 150 N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Rectangle 36"/>
          <p:cNvSpPr/>
          <p:nvPr/>
        </p:nvSpPr>
        <p:spPr>
          <a:xfrm>
            <a:off x="2831760" y="214164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Ballon BSL 150 N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9" name="Picture 31" descr=""/>
          <p:cNvPicPr/>
          <p:nvPr/>
        </p:nvPicPr>
        <p:blipFill>
          <a:blip r:embed="rId9"/>
          <a:stretch/>
        </p:blipFill>
        <p:spPr>
          <a:xfrm>
            <a:off x="2874960" y="2416320"/>
            <a:ext cx="885960" cy="123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7"/>
          <p:cNvSpPr/>
          <p:nvPr/>
        </p:nvSpPr>
        <p:spPr>
          <a:xfrm>
            <a:off x="2778120" y="2357280"/>
            <a:ext cx="16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ESI capteur Pro D 230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1" name="Picture 32" descr=""/>
          <p:cNvPicPr/>
          <p:nvPr/>
        </p:nvPicPr>
        <p:blipFill>
          <a:blip r:embed="rId10"/>
          <a:stretch/>
        </p:blipFill>
        <p:spPr>
          <a:xfrm>
            <a:off x="2874960" y="2827440"/>
            <a:ext cx="885960" cy="123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2" descr=""/>
          <p:cNvPicPr/>
          <p:nvPr/>
        </p:nvPicPr>
        <p:blipFill>
          <a:blip r:embed="rId11"/>
          <a:stretch/>
        </p:blipFill>
        <p:spPr>
          <a:xfrm>
            <a:off x="3162240" y="2827440"/>
            <a:ext cx="885960" cy="1238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9"/>
          <p:cNvSpPr/>
          <p:nvPr/>
        </p:nvSpPr>
        <p:spPr>
          <a:xfrm>
            <a:off x="2840040" y="27558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Ballon BSL 150 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9EA-689C-4FBC-8351-9C8D2B72D05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0" descr=""/>
          <p:cNvPicPr/>
          <p:nvPr/>
        </p:nvPicPr>
        <p:blipFill>
          <a:blip r:embed="rId1"/>
          <a:stretch/>
        </p:blipFill>
        <p:spPr>
          <a:xfrm>
            <a:off x="736560" y="2629080"/>
            <a:ext cx="5591160" cy="6379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4"/>
          <p:cNvSpPr/>
          <p:nvPr/>
        </p:nvSpPr>
        <p:spPr>
          <a:xfrm>
            <a:off x="736560" y="2052720"/>
            <a:ext cx="525636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8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65280" y="21034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8"/>
          <p:cNvSpPr/>
          <p:nvPr/>
        </p:nvSpPr>
        <p:spPr>
          <a:xfrm>
            <a:off x="3616200" y="2844720"/>
            <a:ext cx="1079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3616200" y="2629080"/>
            <a:ext cx="808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0. 0 m</a:t>
            </a:r>
            <a:r>
              <a:rPr b="0" lang="fr-FR" sz="1000" spc="-1" strike="noStrike" baseline="30000">
                <a:solidFill>
                  <a:srgbClr val="002060"/>
                </a:solidFill>
                <a:latin typeface="45 Helvetica Light"/>
              </a:rPr>
              <a:t>3</a:t>
            </a: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/h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3616200" y="3060720"/>
            <a:ext cx="641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24.0 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5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9841-4E31-4229-827A-6D309E7D6EC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4:51Z</dcterms:modified>
  <cp:revision>106</cp:revision>
  <dc:subject/>
  <dc:title>Présentation PowerPoint</dc:title>
</cp:coreProperties>
</file>