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7AA-F3B5-477B-A979-C9A77B95AC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467-F974-482D-8A3B-96C5F6FADB4F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265-0FD0-446D-97C3-313A28CC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5DB-0E65-4CF1-BA60-7234AE05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078E-9D4E-4F22-842F-83341E37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A560C-2B47-4196-93D9-34B3835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38587-4EE4-44D7-9BAA-7B94C8C2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9725D-61F0-4F50-B63B-4FAEC22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B967-1A2D-4A6C-9323-0C285C1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D1989-260B-4226-922C-4097759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57CB5-9216-41EE-BF8C-16E52F28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C2FB-0B19-447F-B8E6-32713853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E014A-102D-4B57-88E6-03FE93CB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F44-F167-4F1B-9D06-BED1567C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529-AAC2-45D6-AFCD-712ABC2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ABC0-BA44-4540-828D-2D5DB3B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B365-16D2-4EF8-8705-419AEB5B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9E26-4166-41FA-985E-4D9FE031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5F3-CBF1-4C2A-B655-C34D5FD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1B1-2637-404D-B7D6-CE57C8B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A498-81CD-4386-BDC5-D40D4DA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B16-8083-4298-B81D-36013B1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3A7-E485-4FA9-9ADB-2D5D8BE0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6559-CFF1-43A6-95FC-97A6DF4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C84D-4598-4134-8D9B-0ED5857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F6C-0751-4831-BA2D-714703A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7AB-2010-48D5-9430-7C6B3601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5076-AB0A-4498-89E9-FEE733FA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8EBC-7388-43A7-A584-889DEC0E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EE52-C852-4B25-B028-7FCC253E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4444-D3AE-4555-B395-AD4B7AA7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59A4-EC36-46B5-AA20-78658A43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ED42-A01F-4F40-BD2A-D49AE148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02D-F1BE-48B3-9AEC-51C683C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C43E-4501-4DC0-99F7-8C57236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0044-24D9-4A8E-B46F-29DD921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106F-1DED-4B5D-BEAA-97A1A8D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FA29-C51E-47DC-9120-BA4F11C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BA02-EAC7-420B-A0F1-E43F0B8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7E30-C585-40ED-B687-63093403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892D-66A3-4776-A13C-00BAF860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9D27-4E5B-4DB3-A83B-E978BE29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2079-0142-4FF7-9D1B-103B21A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CEE0-F37E-4A19-B789-BC219ABB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1C6-154D-4D9E-9F56-0FCFD721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80B9-9584-4B68-BF89-9AB760B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0C57-F9F2-4AC8-B4CB-1F12D89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3F59-987B-45DA-B90F-B440C750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34EE-E156-465E-BAE1-67711F6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426E-1B0B-4F37-97C3-26C748C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41D4-3674-41BE-A35F-20B18CB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1E16-A7FE-4989-8940-9D5FD848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6BE5-AF31-45EB-B8F6-5B101AAF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7E72-3488-487A-983E-269F893D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3D56-905A-44D0-89E0-5FF57759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D68-A99A-48DE-98ED-8A058D5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6441-1344-46D7-AE8C-7B1488B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BA1F-C1AC-492B-B399-2BFB9AA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7453-FDDE-43DC-A591-4698CA2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7340-2002-4A02-938A-6998CE2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DA0C-E14C-4079-BB56-3D7153B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6FCF-4E1B-46AA-BBED-66F0178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2919-4B02-4342-802A-6AF7D2E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C5EE-5AF0-4D50-A20D-6704EA9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0482-2196-434F-AA84-3DBF87EC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2B9B-01E4-4133-8DCE-52E78ADB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33E-E0DA-4F17-B205-8FF70CC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C6BA9-FE6C-49EA-80B8-B7BF5E5B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0CF3-F0FA-4C5F-B629-F6E1E440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B025-A1ED-478C-836D-1EAF0537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232F-37B4-4C2B-A2BF-8F2AC533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2C5B-4AA2-4308-9454-1F74DB25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BCA9-04AE-4C3F-91FE-8A7A1DD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6229-E75E-4A3A-A368-4A6B18A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B8DD-987F-4560-A580-A59D6CD9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F4EB-AF4C-4BC7-9AC4-D4FD4E0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6755-BFD5-4706-8E46-BD64D17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CD3-AA8C-45DB-985A-2A769A3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4EAF-E8E1-4385-A98C-24138A1F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AF09-1A60-4CFB-AAC5-2D2ECDE5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2535-4358-47A5-AC85-EE900C87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5CA9-8B19-46DE-9258-4CE53469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68490-CA94-4D95-BCD1-4131F59E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5946-3FCA-4DFB-9055-54B63A49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9385F-580D-45A8-AC27-0CCFA67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E933-5250-4144-B42D-BCB38508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E053-18F3-40B9-B362-5256E379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90BC-82D5-48E0-8002-9A6B742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0A0-AA5B-4C32-A704-820D082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9A82-9FAE-4B61-850E-002E54B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F7E9-E04E-4A9D-A37F-C081BAB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4CF6-178A-4C8D-A8F8-D3B03DF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54B07-AE61-4150-BBDB-6377526A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32F41-4FF2-4B1B-A980-BE803FF5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D946-1BED-414C-B9D9-44A4BEC4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639B4-2F0E-4F78-BFF9-F407653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41A8-33E5-42BC-A8DF-AF897C5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1F35-977F-4FAD-8F3C-7D9BCD33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E6D8-59C7-4EC9-B3DA-B0877E8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8F1-B7BA-47CA-9744-C8D5F4A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3E3A8-1FF0-4308-A1C1-5FA18B9E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3FC6-77CD-4683-BB43-F5F3F69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58277-0AB9-4AAA-9070-D73FF36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197D4-2C39-41B2-9A8D-60DEE5E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7D0BB-D119-4385-8EF3-B5C3DC5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B0A16-3A87-451E-AB3B-2C85088E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65BA3-3C3E-4356-A0BA-049CD338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D801A-3EAF-487E-B77D-C32A338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F4E1-A3EE-40AF-89C1-65768172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E6B32-9448-4D93-A1CC-7850E43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871-FF1F-49ED-993A-D4B66497F240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36B9-D079-4D21-872D-0D730DB1374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0FAC-05AD-488B-9123-4A15BF6AA0A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879-BD2E-4A1A-84DD-5BC57B10367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5B38-D8EA-49C9-9BCA-E95A62D8E9F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0D5-75EF-4258-87FB-42D97C24C0D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4A2-855B-4A4C-86F9-14053C56F5E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285-F980-4333-8049-1EAE0EF9519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B01-A7DD-4294-8F9D-3380C188B9C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Atlantic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Atlantic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RIVEO 200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IA MIC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533A-10A3-421F-91DA-55B6D9EF6494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624560" y="312588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4560" y="312588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92360"/>
          <a:ext cx="177480" cy="20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92360"/>
                    <a:ext cx="1774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535640" y="4118040"/>
          <a:ext cx="17748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5640" y="4118040"/>
                    <a:ext cx="177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6711840" y="4502160"/>
            <a:ext cx="25815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99A-386A-4444-B9C5-A6B94842CB9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haudières NAIA MICRO 25/30/35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0F7-A385-4C89-836C-FB77B27BB1D4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34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25164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5" name="Text Box 33"/>
          <p:cNvSpPr/>
          <p:nvPr/>
        </p:nvSpPr>
        <p:spPr>
          <a:xfrm>
            <a:off x="7216920" y="4068720"/>
            <a:ext cx="316836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ici sont pour le système NAIA MICRO 25 et sont arrondies automatiquement par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6" name="Picture 15" descr=""/>
          <p:cNvPicPr/>
          <p:nvPr/>
        </p:nvPicPr>
        <p:blipFill>
          <a:blip r:embed="rId2"/>
          <a:stretch/>
        </p:blipFill>
        <p:spPr>
          <a:xfrm>
            <a:off x="8080200" y="2629080"/>
            <a:ext cx="1514520" cy="10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5487840" y="2989440"/>
          <a:ext cx="720720" cy="403200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8.8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6.3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7.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08.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5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7.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0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0 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8" name="Picture 14" descr=""/>
          <p:cNvPicPr/>
          <p:nvPr/>
        </p:nvPicPr>
        <p:blipFill>
          <a:blip r:embed="rId3"/>
          <a:stretch/>
        </p:blipFill>
        <p:spPr>
          <a:xfrm>
            <a:off x="1311120" y="2773440"/>
            <a:ext cx="42022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0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3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4E4-8438-4DCB-91EE-94B68DDB1FBD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7" name="Connecteur en angle 18"/>
          <p:cNvCxnSpPr>
            <a:stCxn id="446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8" name="Text Box 33"/>
          <p:cNvSpPr/>
          <p:nvPr/>
        </p:nvSpPr>
        <p:spPr>
          <a:xfrm>
            <a:off x="7072200" y="1549440"/>
            <a:ext cx="32925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ET RIVEO 200L/200L ambiant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9" name="Connecteur en angle 18"/>
          <p:cNvCxnSpPr>
            <a:stCxn id="448" idx="1"/>
          </p:cNvCxnSpPr>
          <p:nvPr/>
        </p:nvCxnSpPr>
        <p:spPr>
          <a:xfrm rot="10800000">
            <a:off x="5776200" y="2628360"/>
            <a:ext cx="1296000" cy="21636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50" name="Picture 14" descr=""/>
          <p:cNvPicPr/>
          <p:nvPr/>
        </p:nvPicPr>
        <p:blipFill>
          <a:blip r:embed="rId3"/>
          <a:stretch/>
        </p:blipFill>
        <p:spPr>
          <a:xfrm>
            <a:off x="7361280" y="2413080"/>
            <a:ext cx="27622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1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2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4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5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1390-E421-4F84-B1C9-C1AC2EDCC73E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5848200" y="3276720"/>
            <a:ext cx="410400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au lieu de « Avec appoint intégré élec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5848200" y="118908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8" name="Accolade fermante 33"/>
          <p:cNvSpPr/>
          <p:nvPr/>
        </p:nvSpPr>
        <p:spPr>
          <a:xfrm>
            <a:off x="3255840" y="313380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584820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60" name="Picture 16" descr=""/>
          <p:cNvPicPr/>
          <p:nvPr/>
        </p:nvPicPr>
        <p:blipFill>
          <a:blip r:embed="rId1"/>
          <a:stretch/>
        </p:blipFill>
        <p:spPr>
          <a:xfrm>
            <a:off x="519120" y="1333440"/>
            <a:ext cx="3879720" cy="5140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" descr=""/>
          <p:cNvPicPr/>
          <p:nvPr/>
        </p:nvPicPr>
        <p:blipFill>
          <a:blip r:embed="rId2"/>
          <a:stretch/>
        </p:blipFill>
        <p:spPr>
          <a:xfrm>
            <a:off x="519120" y="5869080"/>
            <a:ext cx="3889440" cy="1233360"/>
          </a:xfrm>
          <a:prstGeom prst="rect">
            <a:avLst/>
          </a:prstGeom>
          <a:ln w="0">
            <a:noFill/>
          </a:ln>
        </p:spPr>
      </p:pic>
      <p:cxnSp>
        <p:nvCxnSpPr>
          <p:cNvPr id="462" name="Connecteur en angle 18"/>
          <p:cNvCxnSpPr>
            <a:stCxn id="456" idx="1"/>
          </p:cNvCxnSpPr>
          <p:nvPr/>
        </p:nvCxnSpPr>
        <p:spPr>
          <a:xfrm flipV="1" rot="10800000">
            <a:off x="3903120" y="3600000"/>
            <a:ext cx="1945080" cy="12614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63" name="Connecteur en angle 18"/>
          <p:cNvCxnSpPr>
            <a:stCxn id="457" idx="1"/>
          </p:cNvCxnSpPr>
          <p:nvPr/>
        </p:nvCxnSpPr>
        <p:spPr>
          <a:xfrm flipV="1" rot="10800000">
            <a:off x="3255120" y="1980000"/>
            <a:ext cx="2592720" cy="1513800"/>
          </a:xfrm>
          <a:prstGeom prst="bentConnector3">
            <a:avLst>
              <a:gd name="adj1" fmla="val 22052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64" name="Connecteur en angle 18"/>
          <p:cNvCxnSpPr>
            <a:stCxn id="459" idx="1"/>
          </p:cNvCxnSpPr>
          <p:nvPr/>
        </p:nvCxnSpPr>
        <p:spPr>
          <a:xfrm flipV="1" rot="10800000">
            <a:off x="3975840" y="5185440"/>
            <a:ext cx="1872360" cy="75636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graphicFrame>
        <p:nvGraphicFramePr>
          <p:cNvPr id="465" name=""/>
          <p:cNvGraphicFramePr/>
          <p:nvPr/>
        </p:nvGraphicFramePr>
        <p:xfrm>
          <a:off x="4408560" y="2413080"/>
          <a:ext cx="720720" cy="6271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29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5" descr=""/>
          <p:cNvPicPr/>
          <p:nvPr/>
        </p:nvPicPr>
        <p:blipFill>
          <a:blip r:embed="rId1"/>
          <a:stretch/>
        </p:blipFill>
        <p:spPr>
          <a:xfrm>
            <a:off x="808200" y="4789440"/>
            <a:ext cx="7667640" cy="180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"/>
          <p:cNvPicPr/>
          <p:nvPr/>
        </p:nvPicPr>
        <p:blipFill>
          <a:blip r:embed="rId2"/>
          <a:stretch/>
        </p:blipFill>
        <p:spPr>
          <a:xfrm>
            <a:off x="3471840" y="3276720"/>
            <a:ext cx="6913440" cy="1209600"/>
          </a:xfrm>
          <a:prstGeom prst="rect">
            <a:avLst/>
          </a:prstGeom>
          <a:ln w="0">
            <a:noFill/>
          </a:ln>
        </p:spPr>
      </p:pic>
      <p:cxnSp>
        <p:nvCxnSpPr>
          <p:cNvPr id="468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9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0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567-E845-45D5-90DF-CE26F50B7FB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4" name="Picture 13" descr=""/>
          <p:cNvPicPr/>
          <p:nvPr/>
        </p:nvPicPr>
        <p:blipFill>
          <a:blip r:embed="rId3"/>
          <a:stretch/>
        </p:blipFill>
        <p:spPr>
          <a:xfrm>
            <a:off x="376200" y="1836720"/>
            <a:ext cx="2390760" cy="1038240"/>
          </a:xfrm>
          <a:prstGeom prst="rect">
            <a:avLst/>
          </a:prstGeom>
          <a:ln w="0">
            <a:noFill/>
          </a:ln>
        </p:spPr>
      </p:pic>
      <p:cxnSp>
        <p:nvCxnSpPr>
          <p:cNvPr id="475" name="Connecteur en angle 18"/>
          <p:cNvCxnSpPr/>
          <p:nvPr/>
        </p:nvCxnSpPr>
        <p:spPr>
          <a:xfrm>
            <a:off x="2752200" y="2628720"/>
            <a:ext cx="4320360" cy="648360"/>
          </a:xfrm>
          <a:prstGeom prst="bentConnector3">
            <a:avLst>
              <a:gd name="adj1" fmla="val 10001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76" name="Connecteur en angle 18"/>
          <p:cNvCxnSpPr/>
          <p:nvPr/>
        </p:nvCxnSpPr>
        <p:spPr>
          <a:xfrm rot="5400000">
            <a:off x="987480" y="3816720"/>
            <a:ext cx="1945440" cy="108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7" name="ZoneTexte 12"/>
          <p:cNvSpPr/>
          <p:nvPr/>
        </p:nvSpPr>
        <p:spPr>
          <a:xfrm>
            <a:off x="4695840" y="6373800"/>
            <a:ext cx="504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5:13Z</dcterms:modified>
  <cp:revision>191</cp:revision>
  <dc:subject/>
  <dc:title>Présentation PowerPoint</dc:title>
</cp:coreProperties>
</file>