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839520" y="767880"/>
            <a:ext cx="541980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move the slide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3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24B0-6C60-49D0-BFE4-DDB4464C40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839880" y="768240"/>
            <a:ext cx="5419800" cy="3837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FA16-745C-466B-8CD6-EAB2F3BAA364}" type="slidenum">
              <a:rPr b="0" lang="fr-FR" sz="1200" spc="-1" strike="noStrike">
                <a:solidFill>
                  <a:srgbClr val="000000"/>
                </a:solidFill>
                <a:latin typeface="Avenir LT Std 55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E00-8B56-428D-8019-74D584A7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68C0-03F6-4E93-92A5-FA636975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527FF-C5FA-4C55-979A-86C58F01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8BCD5-61A9-4E3B-BEAD-65460C6A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69E38-8591-442E-8DBF-D1DBF4CC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EC9B2-2C76-4FE7-A742-2E95A389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0A8CF-B3B5-4200-8742-A5EBEDCE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369D9-BA7B-4E34-AEA3-A15C9233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6E03C-B763-40C3-BBD5-A6A77682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D1309-B55B-4437-8597-83703189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B96B5-81B2-4592-B249-7DE252AD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536-F617-45DC-9A71-CEB1CE12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924F-7D5B-47C6-B2E6-C0FA8822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C682-51B1-489E-81C5-42C4A46C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AAF9-4FEB-4654-9102-210F0072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5F16-1081-4B0B-8C1C-5856C10B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C1E3-9BEF-41AB-80C7-39278F89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C180-A574-4404-A85A-3D5AE2A4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AA38-95A8-4FF0-881E-E204247A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3B59-455C-470F-9546-BAE35731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29D-C297-4E3D-AC3F-6DEE7B2F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DD09-7435-4CB3-B09E-910CA55B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F5CE-DA78-48E7-AC10-3D8EBBF2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67F1-0253-4768-9431-42C98774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49B5-CFB4-494B-A51D-EC005113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C7B7-7AD5-4939-9094-E73FCE28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1A9CC-3C5E-48AE-86C4-7F84680E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8113C-D2F0-4DED-8FCF-D15D5316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6CDAB-D5FC-4714-A40E-86C120B4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630E6-CDF7-4E62-BB87-C610808E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80530-42A2-42A2-BAEB-A77867CC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883-C4A9-4BA0-9F88-7F74F893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2534A-0EDA-4A82-BFBF-B6820645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84B69-C97E-49D6-9BAC-6A2A3D79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C00F8-F6BF-4344-9B17-68B81FFE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8D3A0-8409-4511-A960-2383C1E5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89DC6-2E2E-4889-8763-99FC2B56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ED55E-BACC-471C-ABC3-F1DFBFB8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59141-AF30-4291-A4B7-A0ABA9BB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B9FD3-0191-4184-925E-08396E95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CF071-174F-42BC-8F0C-4BEABCD1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A1265-E42A-4F1A-B0D1-6A5CD35A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8E5-4D4A-4669-B6FD-4FDFF38C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8CE9C-B245-4735-AC73-316F5585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B1018-094B-4529-85A7-34D76D9F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87750-062C-4AB4-A2FF-49904B1E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2A441-3270-471D-8EB7-93D635D9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980D6-4124-4E8E-93A6-D34D599A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4182E-E117-4D62-AC4F-858530E3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4BE6B-00D9-4A87-9848-D362955C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1A37E-6B7C-4975-B118-42120F4A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62608-C81E-4F3B-8CE1-403089E7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631D8-1672-4F86-8388-6E2C8F5C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888-A01F-40AE-9BB8-00972316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54A5D-4687-4FE0-BD78-6AC4696E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4663D-D0C9-4E35-BD65-AB811263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34605-2981-4384-9CB3-83C36AEF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E17FD-956F-4561-AB9F-F308AB53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1B429-7906-4F7C-81D8-EAC98920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78C0B-59B3-4AC8-A6C0-CEF24F3F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6E3A7-A1F7-4C71-B645-3F166D02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3B233-D6A6-40F7-A6B3-57C0F977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7BF33-5371-499A-A935-CDA52FBA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86322-B794-40B4-AF56-950A169B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1AC-3ED2-4476-9C34-B18AB055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54B13-BC29-4F92-8FFC-8A4DD7C5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D6D9D-EB3A-4D9D-9DCB-6BA6B9FD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9BF90-01BF-43D2-9DEE-54834E70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79AB4-896E-44EE-9237-8435E531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6A658-CC7D-44C8-A48A-E8C00617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5D703-26C5-468D-A2D9-4B51DD01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8F83F-67A5-4EB8-A16C-101CAC28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60710-A180-4F62-B54B-AA769394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72C37-AE4E-450A-9E6D-4B662B32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AB175-070F-423B-8FE5-463D0B2C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064-AC1B-42AB-8ED3-56C4FEA7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1D635-8DAC-43DE-82C7-08B26F94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91A1A-1157-4592-9BDD-4D2AA631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A1029-752C-476D-B147-8C255571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AA1BF-44C5-46CA-96C9-7618549A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2E8E8-518C-45A1-8E9B-D43088B5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64721-3B51-4CD6-9016-CA9E14DC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37A75-78DA-47D4-8408-B1C57860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5E763-A6E4-4B35-8458-0243BEDA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3B175-FFB9-4200-BC28-736DBD9A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29506-74C3-4A73-A1D7-960B5020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1F2-70C9-4DD7-B4D7-4BECC3C3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F3059-2981-4E07-9EDA-4FD6B488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811F7-0B2A-46A3-ADB7-BA7A06AE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926D8-D56D-470B-95B5-81F10AA2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0031C-7DFB-48B4-8F8C-3083AFDF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50DE2-73DE-409E-B3B7-B8F81C8D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808C2-0CC2-48DC-A1A1-662E6D54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DED4C-7184-48BF-B5B0-43016FAC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113ED-749C-43C9-AD2D-BBAAEE72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8A669-2650-4802-9B1A-470AD57E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09F0C-2DA4-4613-A6D7-BC3A8D9C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340-C702-4068-8B14-C1902EA5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73598-040A-4B2A-94B0-BE3AE53F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776FB-C3F4-46EF-A18B-E64B5148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7B6C8-5CFF-4390-A149-DF814543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69905-9517-4F3D-8D3E-F316843B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883E0-B0E3-4B13-AF07-A9C15A03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3D714-3701-47CA-A2F5-36A58095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ECD41-08AE-4126-B883-8FAFEF05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9CF76-D41C-4F4C-A4D3-F2A06412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9262A-F18C-468A-B038-9BD27BDF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C6DBD-2840-4AC5-8807-85A4D40F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8996-B454-4C9A-9B91-A64196C5D37F}" type="slidenum">
              <a:rPr b="0" lang="fr-FR" sz="8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FE06-E1B3-45D2-BB8F-F6FEDE3F6C93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3557-F6B4-4146-A6F6-CCF947AB0FAB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2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7C59-D31D-4D2D-880B-DBFFA7B6F7C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7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875D-0EEA-4F5B-BDD4-E1736D4F6E5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1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4470-0901-418F-9AB7-4D6B8585572F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2EF7-FD71-46A5-A243-C1243B564CE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09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63BB-4A1B-459E-B1E8-AA4A58CAD6C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4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A7EA-B79E-4922-8872-4DBD3852BA3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  <a:ea typeface="MS PGothic"/>
              </a:rPr>
              <a:t>PRODUIT</a:t>
            </a:r>
            <a:endParaRPr b="0" lang="en-US" sz="16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9796a3"/>
                </a:solidFill>
                <a:latin typeface="Avenir LT Std 55 Roman"/>
              </a:rPr>
              <a:t>Chauffe-Eau Thermodynamique hybride</a:t>
            </a:r>
            <a:br>
              <a:rPr sz="2900"/>
            </a:br>
            <a:r>
              <a:rPr b="0" lang="fr-FR" sz="2900" spc="-1" strike="noStrike">
                <a:solidFill>
                  <a:srgbClr val="9796a3"/>
                </a:solidFill>
                <a:latin typeface="Avenir LT Std 55 Roman"/>
              </a:rPr>
              <a:t>CHAFFOTEAUX</a:t>
            </a:r>
            <a:endParaRPr b="0" lang="en-US" sz="29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1852560" y="2612520"/>
            <a:ext cx="6983640" cy="20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7/06/2018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0"/>
          <p:cNvSpPr/>
          <p:nvPr/>
        </p:nvSpPr>
        <p:spPr>
          <a:xfrm>
            <a:off x="952560" y="1260360"/>
            <a:ext cx="864072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Le présent document décrit la saisie et la prise en compte d’un chauffe-eau thermodynamique hybride du fabricant Chaffoteaux dans le logiciel d’application de la RT 2012 Climawin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Le chauffe-eau thermodynamique hybride Chaffoteaux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est composée des éléments suivant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Avenir LT Std 55 Roman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(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éléments suivants 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 générateur » décrivant les caractéristiques de la chaudière gaz à condensation (         ) assurant une fonction de chauffage et d’appoint pour l’ECS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stockage décrivant les caractéristiques du ballon de stockage du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 générateur » décrivant les caractéristiques du CET (        ) assurant une fonction de production d’EC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8" name="Rectangle 69"/>
          <p:cNvSpPr/>
          <p:nvPr/>
        </p:nvSpPr>
        <p:spPr>
          <a:xfrm>
            <a:off x="385272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455840" y="2197080"/>
          <a:ext cx="7848360" cy="547560"/>
        </p:xfrm>
        <a:graphic>
          <a:graphicData uri="http://schemas.openxmlformats.org/drawingml/2006/table">
            <a:tbl>
              <a:tblPr/>
              <a:tblGrid>
                <a:gridCol w="3316320"/>
                <a:gridCol w="4532040"/>
              </a:tblGrid>
              <a:tr h="28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  <a:ea typeface="MS PGothic"/>
                        </a:rPr>
                        <a:t>Chauffe-eau thermodynam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AQUANEXT OP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  <a:ea typeface="MS PGothic"/>
                        </a:rPr>
                        <a:t>Chaudière gaz à condens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MIRA C GREEN ULT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11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8DFA-3AC7-4BC5-A317-DF4FA9F6731B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12" name="ZoneTexte 19"/>
          <p:cNvSpPr/>
          <p:nvPr/>
        </p:nvSpPr>
        <p:spPr>
          <a:xfrm>
            <a:off x="952560" y="4429080"/>
            <a:ext cx="583236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1 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: Création de l’objet « Génération »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2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: Création du générateur « Chaudière à condensation (ECS &amp; chauffage) »;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3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: Création du générateur « CET hybride (ECS seul) » ;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4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: Création du générateur « CET » 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413" name="Object 16"/>
          <p:cNvGraphicFramePr/>
          <p:nvPr/>
        </p:nvGraphicFramePr>
        <p:xfrm>
          <a:off x="4560840" y="3135240"/>
          <a:ext cx="184320" cy="1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0840" y="3135240"/>
                    <a:ext cx="184320" cy="1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17"/>
          <p:cNvGraphicFramePr/>
          <p:nvPr/>
        </p:nvGraphicFramePr>
        <p:xfrm>
          <a:off x="6135840" y="3492360"/>
          <a:ext cx="177480" cy="203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1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5840" y="3492360"/>
                    <a:ext cx="17748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4"/>
          <p:cNvGraphicFramePr/>
          <p:nvPr/>
        </p:nvGraphicFramePr>
        <p:xfrm>
          <a:off x="4508640" y="4094280"/>
          <a:ext cx="177840" cy="203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1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8640" y="4094280"/>
                    <a:ext cx="1778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9" name="Picture 33" descr=""/>
          <p:cNvPicPr/>
          <p:nvPr/>
        </p:nvPicPr>
        <p:blipFill>
          <a:blip r:embed="rId7"/>
          <a:stretch/>
        </p:blipFill>
        <p:spPr>
          <a:xfrm>
            <a:off x="6711840" y="4645080"/>
            <a:ext cx="2686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0" name="AutoShape 41"/>
          <p:cNvCxnSpPr/>
          <p:nvPr/>
        </p:nvCxnSpPr>
        <p:spPr>
          <a:xfrm flipH="1" flipV="1" rot="10800000">
            <a:off x="70200" y="4067640"/>
            <a:ext cx="252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1" name="Text Box 33"/>
          <p:cNvSpPr/>
          <p:nvPr/>
        </p:nvSpPr>
        <p:spPr>
          <a:xfrm>
            <a:off x="7072200" y="3053880"/>
            <a:ext cx="314640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Paramétrage classique RT 2012 d’une cascade. Un emplacement en volume chauffé permet de réduire les consommations par rapport à un emplacement hors volume chauffé. À choisir en fonction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2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’objet « Génération 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A525-85F5-433F-AADA-B8AAF48040D8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24" name="Picture 8" descr=""/>
          <p:cNvPicPr/>
          <p:nvPr/>
        </p:nvPicPr>
        <p:blipFill>
          <a:blip r:embed="rId1"/>
          <a:stretch/>
        </p:blipFill>
        <p:spPr>
          <a:xfrm>
            <a:off x="376200" y="2557440"/>
            <a:ext cx="5904000" cy="2122560"/>
          </a:xfrm>
          <a:prstGeom prst="rect">
            <a:avLst/>
          </a:prstGeom>
          <a:ln w="0">
            <a:noFill/>
          </a:ln>
        </p:spPr>
      </p:pic>
      <p:cxnSp>
        <p:nvCxnSpPr>
          <p:cNvPr id="425" name="Connecteur en angle 29"/>
          <p:cNvCxnSpPr>
            <a:stCxn id="421" idx="1"/>
          </p:cNvCxnSpPr>
          <p:nvPr/>
        </p:nvCxnSpPr>
        <p:spPr>
          <a:xfrm rot="10800000">
            <a:off x="4335480" y="3493440"/>
            <a:ext cx="2737080" cy="108720"/>
          </a:xfrm>
          <a:prstGeom prst="bentConnector3">
            <a:avLst>
              <a:gd name="adj1" fmla="val 50000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7"/>
          <p:cNvSpPr/>
          <p:nvPr/>
        </p:nvSpPr>
        <p:spPr>
          <a:xfrm>
            <a:off x="6799320" y="250524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27" name="AutoShape 12"/>
          <p:cNvCxnSpPr/>
          <p:nvPr/>
        </p:nvCxnSpPr>
        <p:spPr>
          <a:xfrm flipH="1" flipV="1" rot="10800000">
            <a:off x="-360" y="435744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8" name="Text Box 33"/>
          <p:cNvSpPr/>
          <p:nvPr/>
        </p:nvSpPr>
        <p:spPr>
          <a:xfrm>
            <a:off x="7236000" y="1836720"/>
            <a:ext cx="3168360" cy="165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a référence produit peut être trouver dans la base de données EDIBATEC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 choix entre les chaudières MIRA GREEN 25/30/35 dépend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9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chaudière gaz à condensation (chauffage &amp; ECS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0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42DD-4869-4551-AC38-A625864E4667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1" name="Text Box 33"/>
          <p:cNvSpPr/>
          <p:nvPr/>
        </p:nvSpPr>
        <p:spPr>
          <a:xfrm>
            <a:off x="160200" y="1550160"/>
            <a:ext cx="314640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Dans l’outil de saisie des Générateurs, on indique les fonctions de la chaudière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32" name="Picture 10" descr=""/>
          <p:cNvPicPr/>
          <p:nvPr/>
        </p:nvPicPr>
        <p:blipFill>
          <a:blip r:embed="rId1"/>
          <a:stretch/>
        </p:blipFill>
        <p:spPr>
          <a:xfrm>
            <a:off x="179280" y="2125800"/>
            <a:ext cx="6620040" cy="599760"/>
          </a:xfrm>
          <a:prstGeom prst="rect">
            <a:avLst/>
          </a:prstGeom>
          <a:ln w="0">
            <a:noFill/>
          </a:ln>
        </p:spPr>
      </p:pic>
      <p:cxnSp>
        <p:nvCxnSpPr>
          <p:cNvPr id="433" name="Connecteur en angle 18"/>
          <p:cNvCxnSpPr>
            <a:stCxn id="431" idx="3"/>
          </p:cNvCxnSpPr>
          <p:nvPr/>
        </p:nvCxnSpPr>
        <p:spPr>
          <a:xfrm flipH="1">
            <a:off x="2247120" y="1765080"/>
            <a:ext cx="1059480" cy="864360"/>
          </a:xfrm>
          <a:prstGeom prst="bentConnector3">
            <a:avLst>
              <a:gd name="adj1" fmla="val -7511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pic>
        <p:nvPicPr>
          <p:cNvPr id="434" name="Picture 9" descr=""/>
          <p:cNvPicPr/>
          <p:nvPr/>
        </p:nvPicPr>
        <p:blipFill>
          <a:blip r:embed="rId2"/>
          <a:stretch/>
        </p:blipFill>
        <p:spPr>
          <a:xfrm>
            <a:off x="7935840" y="2629080"/>
            <a:ext cx="1778040" cy="720720"/>
          </a:xfrm>
          <a:prstGeom prst="rect">
            <a:avLst/>
          </a:prstGeom>
          <a:ln w="0">
            <a:noFill/>
          </a:ln>
        </p:spPr>
      </p:pic>
      <p:cxnSp>
        <p:nvCxnSpPr>
          <p:cNvPr id="435" name="Connecteur en angle 18"/>
          <p:cNvCxnSpPr>
            <a:stCxn id="428" idx="1"/>
          </p:cNvCxnSpPr>
          <p:nvPr/>
        </p:nvCxnSpPr>
        <p:spPr>
          <a:xfrm rot="10800000">
            <a:off x="5415840" y="2556720"/>
            <a:ext cx="1820160" cy="108720"/>
          </a:xfrm>
          <a:prstGeom prst="bentConnector3">
            <a:avLst>
              <a:gd name="adj1" fmla="val 49990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36" name="Text Box 33"/>
          <p:cNvSpPr/>
          <p:nvPr/>
        </p:nvSpPr>
        <p:spPr>
          <a:xfrm>
            <a:off x="7216920" y="3637080"/>
            <a:ext cx="3168360" cy="93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s valeurs entrées pour ce système sont arrondie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Code couleur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c00000"/>
                </a:solidFill>
                <a:latin typeface="Avenir LT Std 55 Roman"/>
              </a:rPr>
              <a:t>Rouge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: aucune valeur n’a été changé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Gris : une valeur au moins a été changé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5560920" y="3060720"/>
          <a:ext cx="720720" cy="434484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22860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21.5 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6.45 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97.7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109.8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À modifier dans Climaw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8" name="Picture 14" descr=""/>
          <p:cNvPicPr/>
          <p:nvPr/>
        </p:nvPicPr>
        <p:blipFill>
          <a:blip r:embed="rId3"/>
          <a:stretch/>
        </p:blipFill>
        <p:spPr>
          <a:xfrm>
            <a:off x="1311120" y="2844720"/>
            <a:ext cx="4211640" cy="423072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33"/>
          <p:cNvSpPr/>
          <p:nvPr/>
        </p:nvSpPr>
        <p:spPr>
          <a:xfrm>
            <a:off x="3471840" y="5726880"/>
            <a:ext cx="64764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0" descr=""/>
          <p:cNvPicPr/>
          <p:nvPr/>
        </p:nvPicPr>
        <p:blipFill>
          <a:blip r:embed="rId1"/>
          <a:stretch/>
        </p:blipFill>
        <p:spPr>
          <a:xfrm>
            <a:off x="231840" y="2125800"/>
            <a:ext cx="6619680" cy="599760"/>
          </a:xfrm>
          <a:prstGeom prst="rect">
            <a:avLst/>
          </a:prstGeom>
          <a:ln w="0">
            <a:noFill/>
          </a:ln>
        </p:spPr>
      </p:pic>
      <p:cxnSp>
        <p:nvCxnSpPr>
          <p:cNvPr id="441" name="AutoShape 10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2" name="AutoShape 11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3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44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5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4B0A-E292-4A99-B9CD-E32B3EA37762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46" name="Picture 11" descr=""/>
          <p:cNvPicPr/>
          <p:nvPr/>
        </p:nvPicPr>
        <p:blipFill>
          <a:blip r:embed="rId2"/>
          <a:stretch/>
        </p:blipFill>
        <p:spPr>
          <a:xfrm>
            <a:off x="212760" y="2486160"/>
            <a:ext cx="6619680" cy="21888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33"/>
          <p:cNvSpPr/>
          <p:nvPr/>
        </p:nvSpPr>
        <p:spPr>
          <a:xfrm>
            <a:off x="231840" y="1478520"/>
            <a:ext cx="314640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Dans l’outil de saisie des Générateurs, on indique les fonctions du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48" name="Connecteur en angle 18"/>
          <p:cNvCxnSpPr>
            <a:stCxn id="447" idx="3"/>
          </p:cNvCxnSpPr>
          <p:nvPr/>
        </p:nvCxnSpPr>
        <p:spPr>
          <a:xfrm flipH="1">
            <a:off x="2102760" y="1692360"/>
            <a:ext cx="1275480" cy="937440"/>
          </a:xfrm>
          <a:prstGeom prst="bentConnector3">
            <a:avLst>
              <a:gd name="adj1" fmla="val -4573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49" name="Text Box 33"/>
          <p:cNvSpPr/>
          <p:nvPr/>
        </p:nvSpPr>
        <p:spPr>
          <a:xfrm>
            <a:off x="7072200" y="1549440"/>
            <a:ext cx="329256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a référence produit peut être trouver dans la base de données EDIBATEC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 choix entre les CET AQUANEXT PLUS 110 OPTI/200 OPTI dépend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50" name="Picture 10" descr=""/>
          <p:cNvPicPr/>
          <p:nvPr/>
        </p:nvPicPr>
        <p:blipFill>
          <a:blip r:embed="rId3"/>
          <a:stretch/>
        </p:blipFill>
        <p:spPr>
          <a:xfrm>
            <a:off x="7196040" y="2341440"/>
            <a:ext cx="3133800" cy="1038240"/>
          </a:xfrm>
          <a:prstGeom prst="rect">
            <a:avLst/>
          </a:prstGeom>
          <a:ln w="0">
            <a:noFill/>
          </a:ln>
        </p:spPr>
      </p:pic>
      <p:cxnSp>
        <p:nvCxnSpPr>
          <p:cNvPr id="451" name="Connecteur en angle 18"/>
          <p:cNvCxnSpPr>
            <a:stCxn id="449" idx="1"/>
          </p:cNvCxnSpPr>
          <p:nvPr/>
        </p:nvCxnSpPr>
        <p:spPr>
          <a:xfrm flipV="1" rot="10800000">
            <a:off x="5776200" y="2520720"/>
            <a:ext cx="1296000" cy="108720"/>
          </a:xfrm>
          <a:prstGeom prst="bentConnector3">
            <a:avLst>
              <a:gd name="adj1" fmla="val 49986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2" name="AutoShape 10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53" name="AutoShape 11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54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55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6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022F-7A75-4A42-9F0A-40DB81859C87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57" name="Picture 2" descr=""/>
          <p:cNvPicPr/>
          <p:nvPr/>
        </p:nvPicPr>
        <p:blipFill>
          <a:blip r:embed="rId1"/>
          <a:stretch/>
        </p:blipFill>
        <p:spPr>
          <a:xfrm>
            <a:off x="447840" y="5797440"/>
            <a:ext cx="4321080" cy="965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1" descr=""/>
          <p:cNvPicPr/>
          <p:nvPr/>
        </p:nvPicPr>
        <p:blipFill>
          <a:blip r:embed="rId2"/>
          <a:stretch/>
        </p:blipFill>
        <p:spPr>
          <a:xfrm>
            <a:off x="447840" y="1333440"/>
            <a:ext cx="4297320" cy="482436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33"/>
          <p:cNvSpPr/>
          <p:nvPr/>
        </p:nvSpPr>
        <p:spPr>
          <a:xfrm>
            <a:off x="6208560" y="3276720"/>
            <a:ext cx="4104000" cy="64908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Attention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Ici, on indique un système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Sans appoint intégré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au lieu de « Avec appoint intégré élec »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60" name="Connecteur en angle 18"/>
          <p:cNvCxnSpPr>
            <a:stCxn id="459" idx="1"/>
          </p:cNvCxnSpPr>
          <p:nvPr/>
        </p:nvCxnSpPr>
        <p:spPr>
          <a:xfrm flipV="1" rot="10800000">
            <a:off x="4263480" y="3601080"/>
            <a:ext cx="1945080" cy="1043640"/>
          </a:xfrm>
          <a:prstGeom prst="bentConnector3">
            <a:avLst>
              <a:gd name="adj1" fmla="val 28008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61" name="Text Box 33"/>
          <p:cNvSpPr/>
          <p:nvPr/>
        </p:nvSpPr>
        <p:spPr>
          <a:xfrm>
            <a:off x="6208560" y="1189080"/>
            <a:ext cx="4104000" cy="158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Bien renseigner les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limites amont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(côté source froide) et 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aval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(côté production d’eau chaude) de température du CET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s bornes admissibles sont fixées dans la fiche d’application « Saisie des chauffe-eau thermodynamiques à compression électrique et à appoint hydraulique » disponible sur le site rt-batiment.fr  à savoir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maximum 7°C en amont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minimum 30°C en aval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62" name="Connecteur en angle 18"/>
          <p:cNvCxnSpPr>
            <a:stCxn id="461" idx="1"/>
          </p:cNvCxnSpPr>
          <p:nvPr/>
        </p:nvCxnSpPr>
        <p:spPr>
          <a:xfrm flipV="1" rot="10800000">
            <a:off x="3831480" y="1980720"/>
            <a:ext cx="2377080" cy="1369440"/>
          </a:xfrm>
          <a:prstGeom prst="bentConnector3">
            <a:avLst>
              <a:gd name="adj1" fmla="val 23508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63" name="Accolade fermante 33"/>
          <p:cNvSpPr/>
          <p:nvPr/>
        </p:nvSpPr>
        <p:spPr>
          <a:xfrm>
            <a:off x="3040200" y="3133800"/>
            <a:ext cx="215640" cy="431640"/>
          </a:xfrm>
          <a:custGeom>
            <a:avLst/>
            <a:gdLst>
              <a:gd name="textAreaLeft" fmla="*/ 0 w 215640"/>
              <a:gd name="textAreaRight" fmla="*/ 77760 w 215640"/>
              <a:gd name="textAreaTop" fmla="*/ 5400 h 431640"/>
              <a:gd name="textAreaBottom" fmla="*/ 4262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a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64" name="Text Box 33"/>
          <p:cNvSpPr/>
          <p:nvPr/>
        </p:nvSpPr>
        <p:spPr>
          <a:xfrm>
            <a:off x="6208560" y="4213080"/>
            <a:ext cx="410544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« Chauffage de nuit » possible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si les conditions de la fiche d’application « Saisie des chauffe-eau thermodynamiques à compression électrique » (rt-batiment.fr) sont réunie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 CET dispose d’un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relais Heures Pleines / Heures Creuses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pour piloter le fonctionnement de la PAC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a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montée en température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du ballon (correspondant à th dans la norme NF EN 16147) est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inférieure à 8h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Sinon, il faut indiquer « 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chauffage permanent 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». La régulation du CET «  chauffage de nuit » implique un transfert d’une partie des consommations du CET vers la chaudière d’appoint vu que le CET est restreint dans sa période de fonctionnemen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65" name="Connecteur en angle 18"/>
          <p:cNvCxnSpPr>
            <a:stCxn id="464" idx="1"/>
          </p:cNvCxnSpPr>
          <p:nvPr/>
        </p:nvCxnSpPr>
        <p:spPr>
          <a:xfrm flipV="1" rot="10800000">
            <a:off x="4336200" y="5186160"/>
            <a:ext cx="1872360" cy="467280"/>
          </a:xfrm>
          <a:prstGeom prst="bentConnector3">
            <a:avLst>
              <a:gd name="adj1" fmla="val 27788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graphicFrame>
        <p:nvGraphicFramePr>
          <p:cNvPr id="466" name=""/>
          <p:cNvGraphicFramePr/>
          <p:nvPr/>
        </p:nvGraphicFramePr>
        <p:xfrm>
          <a:off x="4768920" y="2341440"/>
          <a:ext cx="720720" cy="62712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209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0.2 k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2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certifi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7" name="AutoShape 12"/>
          <p:cNvCxnSpPr/>
          <p:nvPr/>
        </p:nvCxnSpPr>
        <p:spPr>
          <a:xfrm flipH="1" flipV="1" rot="10800000">
            <a:off x="-360" y="392472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68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69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54B0-50D3-4702-9AAA-E96642CE0791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70" name="Picture 7" descr=""/>
          <p:cNvPicPr/>
          <p:nvPr/>
        </p:nvPicPr>
        <p:blipFill>
          <a:blip r:embed="rId1"/>
          <a:stretch/>
        </p:blipFill>
        <p:spPr>
          <a:xfrm>
            <a:off x="447840" y="1909800"/>
            <a:ext cx="2216160" cy="93492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33"/>
          <p:cNvSpPr/>
          <p:nvPr/>
        </p:nvSpPr>
        <p:spPr>
          <a:xfrm>
            <a:off x="447840" y="1477800"/>
            <a:ext cx="32922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On saisit les composants chaudières et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72" name="Connecteur en angle 18"/>
          <p:cNvCxnSpPr/>
          <p:nvPr/>
        </p:nvCxnSpPr>
        <p:spPr>
          <a:xfrm>
            <a:off x="2679840" y="2628720"/>
            <a:ext cx="4304160" cy="648360"/>
          </a:xfrm>
          <a:prstGeom prst="bentConnector2">
            <a:avLst/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pic>
        <p:nvPicPr>
          <p:cNvPr id="473" name="Picture 8" descr=""/>
          <p:cNvPicPr/>
          <p:nvPr/>
        </p:nvPicPr>
        <p:blipFill>
          <a:blip r:embed="rId2"/>
          <a:stretch/>
        </p:blipFill>
        <p:spPr>
          <a:xfrm>
            <a:off x="3471840" y="3276720"/>
            <a:ext cx="7023240" cy="12254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9" descr=""/>
          <p:cNvPicPr/>
          <p:nvPr/>
        </p:nvPicPr>
        <p:blipFill>
          <a:blip r:embed="rId3"/>
          <a:stretch/>
        </p:blipFill>
        <p:spPr>
          <a:xfrm>
            <a:off x="879480" y="4789440"/>
            <a:ext cx="7639200" cy="1809720"/>
          </a:xfrm>
          <a:prstGeom prst="rect">
            <a:avLst/>
          </a:prstGeom>
          <a:ln w="0">
            <a:noFill/>
          </a:ln>
        </p:spPr>
      </p:pic>
      <p:cxnSp>
        <p:nvCxnSpPr>
          <p:cNvPr id="475" name="Connecteur en angle 18"/>
          <p:cNvCxnSpPr/>
          <p:nvPr/>
        </p:nvCxnSpPr>
        <p:spPr>
          <a:xfrm rot="5400000">
            <a:off x="-5760" y="3728880"/>
            <a:ext cx="2850480" cy="1081800"/>
          </a:xfrm>
          <a:prstGeom prst="bentConnector4">
            <a:avLst>
              <a:gd name="adj1" fmla="val 34116"/>
              <a:gd name="adj2" fmla="val 121138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76" name="Text Box 33"/>
          <p:cNvSpPr/>
          <p:nvPr/>
        </p:nvSpPr>
        <p:spPr>
          <a:xfrm>
            <a:off x="4695840" y="5437080"/>
            <a:ext cx="1657440" cy="50508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7" name="Text Box 33"/>
          <p:cNvSpPr/>
          <p:nvPr/>
        </p:nvSpPr>
        <p:spPr>
          <a:xfrm>
            <a:off x="6927840" y="4286160"/>
            <a:ext cx="289080" cy="28728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8" name="ZoneTexte 12"/>
          <p:cNvSpPr/>
          <p:nvPr/>
        </p:nvSpPr>
        <p:spPr>
          <a:xfrm>
            <a:off x="4695840" y="6373800"/>
            <a:ext cx="504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venir LT Std 55 Roman"/>
              </a:rPr>
              <a:t>0 W</a:t>
            </a:r>
            <a:endParaRPr b="0" lang="en-US" sz="10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Rapeneau Igor (GDF SUEZ SA)</dc:creator>
  <dc:description/>
  <dc:language>en-US</dc:language>
  <cp:lastModifiedBy>RAPENEAU Igor (Gaz Réseau Distribution France)</cp:lastModifiedBy>
  <cp:lastPrinted>2014-02-20T07:11:44Z</cp:lastPrinted>
  <dcterms:modified xsi:type="dcterms:W3CDTF">2018-11-23T14:06:48Z</dcterms:modified>
  <cp:revision>192</cp:revision>
  <dc:subject/>
  <dc:title>Présentation PowerPoint</dc:title>
</cp:coreProperties>
</file>