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0.png" ContentType="image/png"/>
  <Override PartName="/ppt/media/image2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75A-81A0-406D-8494-6A07591E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E6C-F29F-4EEE-87FF-887816AE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E58A7-6436-40CF-910C-0F658EE6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557A6-7005-4322-86B1-AC385A9F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E5F29-6BD1-4EFA-BFFB-289F0680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D144A-D3E3-481F-90F2-4CCC9AF8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BBAEC-5689-435E-84D3-533FBCC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DE560-EA54-4D96-86F8-0AFDF721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38DEC-B94B-42D4-9199-296A9D0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DA5DC-365D-4858-8DCB-C2A901F6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84A9A-9D0E-45D7-A296-27E8EC09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242-0F75-46C1-B419-8690FD9D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4E7-FAFE-4386-8A63-9F428F20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B11E-B043-41E9-BD47-5A4E6E9D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7B4F-8A72-4CD6-9E32-0507579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DBBC-70C1-41C3-899D-6486A0ED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BA93-EE43-4B07-AAE6-B88ECECD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5EBC-E153-4DA3-AFCF-EB8A4D90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D964-ABF9-40DE-B919-0E0D1096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A52E-5E1F-4102-97B7-E7E7E02E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596-FB15-4C43-A2A6-84F55A90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C939-9A04-40D9-B187-CEDEDF9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4D0C-D74F-431D-BB4C-9B7C41AF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8EE0-F5CF-438B-A127-3896B9E3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341F-72EC-4DE8-9C9D-3FB18573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519-097A-46DF-89D6-C22BF7AD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7438-577E-4D1B-B44B-3DCFA115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B42C-6A96-43AF-BB28-15527A6C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9085-076F-4332-8516-5F81E00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87FA-0C8B-4CF4-B29A-8FFCD50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9AA4-AE4F-4416-A43F-895B8DD0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5EB-E2E1-423B-9443-8AB64899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2A7F-3CED-4A8F-A575-51AAAC64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85B1-D905-4206-A381-5D51258B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95C4-EFF7-40D0-AE7B-501B371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BF84-DA52-4E0F-8F98-122AB27F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6A74-9130-4BD6-A1AC-C83BACF1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8184-A8C8-49F2-9200-E937E2E8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839D-CDD7-410A-BBF3-B508152D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FDB7-7251-4931-8C86-1F396862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9973B-8CC1-431D-BB78-7FA9A5F4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4BFF-6455-4342-A13D-7A310AAA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0D6-7697-4ED8-8075-AF316241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1E6C-A47F-4430-92C4-25953072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50157-9900-46D2-B7B7-1C2C42B2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7247-07BC-4D7A-A3F2-51B24942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174C-1AAD-4ACE-B651-94B5BD8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FFB8-7A42-415D-B90E-0AA6728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6F1B-FE9C-4458-9971-1EE7C48E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D141-0870-4ADC-B9BB-74DC761B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6F5F-3E82-456E-AFBF-BBFEA05F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B56C-1617-4D9E-B293-EFBCB94A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00110-D740-4AAE-94E2-85A10C7E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90C-E65E-4045-9BD7-7AB24F2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8209C-3186-42D5-83CD-29928E98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04AB6-0417-4FEE-AF32-4624EE8B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73DB3-943C-40DF-9853-12B036A4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FA37-58DB-4874-8853-6422E163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76B6-1DD2-4EE4-BA7A-DD0A4B9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D875F-398A-4E08-AA06-995EDE2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AB10-0BB5-4789-88A2-6E71B04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E637F-503F-4063-9BC7-CF0B9EF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9A90-379D-473E-B5AF-569EF4E8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0115A-CA03-48EE-BC3D-796FA73F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4FF-3F85-4117-AA92-8A7924B6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E2244-E575-412B-BCFB-F1C5C1B2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C2CC-46D5-46F2-9342-56E083B9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CDE8-FCC7-4509-9CD5-62A43D5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9C930-741D-4310-8E4D-BF74AAD1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E052A-817F-4BDA-8FA9-701A1489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0008-714A-4F5E-B3A5-4C0E19A0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DFA0E-0B89-4905-B4B4-1B039C31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C613-FE3A-4A69-B66A-FA71821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F049E-E2E9-4B5E-B7F1-EDA060A8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D4E9-D253-4660-A9BC-464B0B8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E2B-0FF3-456A-A8F7-0B26F9F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5D8DA-726D-4D99-8A9A-181CCC0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73FBB-E210-46FC-9269-6637ABA7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EEB07-41A6-4A93-B11C-F08631DB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7B7A-D37F-46D7-ADC6-574A83D3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5F688-DD15-404C-9305-C04801EF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F3F26-873F-4509-A8CD-60402C3B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7C278-A569-47D7-A4A3-A619FD8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7B1F1-13BA-4BB7-A55D-7183B7BC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D90F-893F-4A12-9804-70D8C0CE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0C994-52F3-42CD-9959-99032040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788-CB74-4C5C-B423-98EFA75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08394-C414-420B-9989-05DB592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05035-EFEC-49DE-A273-FFAC7D3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4C24-5D21-4E48-8800-62F015B2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C508-A4E9-419B-BFA8-E5D3AC60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511BB-37A3-4DD8-8986-B72F7427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39845-69BD-45C8-8CC1-2766CF26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C6B75-F7E7-47F1-932E-503D31AE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1584C-BF29-4AC5-AF78-FEABDA5F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354F3-DA78-424D-A9D6-E9EBA0F2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D6CBF-AA71-4521-88AF-02A453B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666-8E1C-4F77-97E4-A01D5FDC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69648-7410-482E-B923-EAE3FF11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EF5F6-543B-4936-A4A3-1F6EF815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73662-BC1B-43BA-B543-6D6E6D1D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4CC30-B76F-4561-A8DC-B0551C2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7CFC2-AAA0-4D50-A967-CFE93A39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66F2C-FFCF-4BA9-B66A-31B079B1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79AA7-0290-440A-8635-9CC91469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641EA-5B19-4925-B90A-A8879C79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7A9F8-E26F-4AB8-AC0A-4603F5B7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A80C0-B112-42B4-96C0-093EAD5F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BC5B-6FE1-4C7A-A487-0F22249F1955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7752-0E11-4A0C-BE4B-183C789B151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5922-E9A5-4512-A2BE-A213F8551E7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9200-0297-4ED0-A36B-0A7B2E49975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2F99-748A-4190-BD26-33E9D6566C5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3013-3DDC-4845-9F7B-1DAF6761D59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ABBF-77FB-4F6B-868C-3092397ACB3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C08-2DFA-40E1-85D0-97BB36CAE9C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05B-3E1F-48BC-A11F-969FCD68C68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certita.org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udière HYSAE HYBRID GAZ</a:t>
            </a:r>
            <a:br>
              <a:rPr sz="3100"/>
            </a:b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6/07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2517840" y="99072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Domaine d’applic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1438200" y="1582560"/>
            <a:ext cx="8155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c1001f"/>
                </a:solidFill>
                <a:latin typeface="76 Helvetica BoldItalic"/>
              </a:rPr>
              <a:t>La modélisation de ce système est basée sur le Titre V relatif à la prise en compte du «Générateur Hybride» dans la </a:t>
            </a:r>
            <a:br>
              <a:rPr sz="1100"/>
            </a:br>
            <a:r>
              <a:rPr b="0" lang="fr-FR" sz="1100" spc="-1" strike="noStrike">
                <a:solidFill>
                  <a:srgbClr val="c1001f"/>
                </a:solidFill>
                <a:latin typeface="76 Helvetica BoldItalic"/>
              </a:rPr>
              <a:t>RT 2012 (arrêté du 13 août 2015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titre V s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que uniquement aux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maisons individuell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ou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accolé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oumises aux exigences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rrêté du 26 octobre 2010. Il ne s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que qu</a:t>
            </a:r>
            <a:r>
              <a:rPr b="0" lang="ja-JP" sz="1100" spc="-1" strike="noStrike">
                <a:solidFill>
                  <a:srgbClr val="000000"/>
                </a:solidFill>
                <a:latin typeface="75 Helvetica Bold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aux générateurs hybrides associés à des radiateurs à eau chaude et/ou à des planchers chauffants sur vecteur eau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Il concerne les générateurs hybrides composés de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PAC électrique A/E de puissance utile nominale inférieure à 5 kW à 7/35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chaudière à condensation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système de régulation permettant une commutation entre les deux générateurs en fonction de leurs performances en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énergie primair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9952200" y="73818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7158-70B4-4AE3-B96C-36E883C9E6A7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1438200" y="1582560"/>
            <a:ext cx="793440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présent document décrit la saisie et la prise en compte de la chaudière hybride Hysaé d’ATLANTIC dans le logiciel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cation de la RT 2012 de ClimaWin. Seule la saisie de la «génération chauffage &amp; ECS» est décrite ; un focus spécifique sur la saisie du circulateur est également réalis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a chaudière hybride Hysaé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pompe à chaleur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haudière hybride Hysaé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PAC (fonction chauffage)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gaz à condensation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6" name="Object 16"/>
          <p:cNvGraphicFramePr/>
          <p:nvPr/>
        </p:nvGraphicFramePr>
        <p:xfrm>
          <a:off x="5508720" y="378144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378144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107"/>
          <p:cNvSpPr/>
          <p:nvPr/>
        </p:nvSpPr>
        <p:spPr>
          <a:xfrm>
            <a:off x="144792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9" name="Rectangle 1093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523880" y="2576520"/>
          <a:ext cx="7917120" cy="51768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micro-accumulée Hysaé Hybrid gaz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Pompe à chaleur électrique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Pac à compression électrique air/eau Inverter Fujitsu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Object 17"/>
          <p:cNvGraphicFramePr/>
          <p:nvPr/>
        </p:nvGraphicFramePr>
        <p:xfrm>
          <a:off x="7032600" y="4357800"/>
          <a:ext cx="184320" cy="209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32600" y="4357800"/>
                    <a:ext cx="1843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5"/>
          <p:cNvGraphicFramePr/>
          <p:nvPr/>
        </p:nvGraphicFramePr>
        <p:xfrm>
          <a:off x="6229440" y="4176720"/>
          <a:ext cx="183960" cy="209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9440" y="4176720"/>
                    <a:ext cx="18396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5" name="Picture 1327" descr="LaCie Disk:1 GRAPHISME:ELEMENTS_OK_FICHES_BET_PRODUIT:F2_BBS:F2_B_capt_menu.jpg"/>
          <p:cNvPicPr/>
          <p:nvPr/>
        </p:nvPicPr>
        <p:blipFill>
          <a:blip r:embed="rId7"/>
          <a:stretch/>
        </p:blipFill>
        <p:spPr>
          <a:xfrm>
            <a:off x="7496280" y="3781440"/>
            <a:ext cx="2638440" cy="2436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6" name="Rectangle 13"/>
          <p:cNvSpPr/>
          <p:nvPr/>
        </p:nvSpPr>
        <p:spPr>
          <a:xfrm>
            <a:off x="8224920" y="4573440"/>
            <a:ext cx="1008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17" name="Picture 26" descr=""/>
          <p:cNvPicPr/>
          <p:nvPr/>
        </p:nvPicPr>
        <p:blipFill>
          <a:blip r:embed="rId8"/>
          <a:stretch/>
        </p:blipFill>
        <p:spPr>
          <a:xfrm>
            <a:off x="8512200" y="4362480"/>
            <a:ext cx="1584360" cy="220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6" descr=""/>
          <p:cNvPicPr/>
          <p:nvPr/>
        </p:nvPicPr>
        <p:blipFill>
          <a:blip r:embed="rId9"/>
          <a:stretch/>
        </p:blipFill>
        <p:spPr>
          <a:xfrm>
            <a:off x="8512200" y="4281480"/>
            <a:ext cx="1584360" cy="2206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4"/>
          <p:cNvSpPr/>
          <p:nvPr/>
        </p:nvSpPr>
        <p:spPr>
          <a:xfrm>
            <a:off x="8440560" y="42130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PAC Hybride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8440560" y="435780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haudière gaz condensation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9952200" y="73818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0DE7-53D8-4A07-B993-A23B315DB26F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e l’objet génération «Chaudière hybride Hysaé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6913440" y="2949480"/>
            <a:ext cx="1800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4" name="AutoShape 16"/>
          <p:cNvCxnSpPr/>
          <p:nvPr/>
        </p:nvCxnSpPr>
        <p:spPr>
          <a:xfrm flipH="1" flipV="1" rot="10800000">
            <a:off x="6717960" y="297468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25" name="AutoShape 19"/>
          <p:cNvCxnSpPr/>
          <p:nvPr/>
        </p:nvCxnSpPr>
        <p:spPr>
          <a:xfrm flipH="1" flipV="1" rot="10800000">
            <a:off x="6717960" y="297468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26" name="AutoShape 24"/>
          <p:cNvCxnSpPr/>
          <p:nvPr/>
        </p:nvCxnSpPr>
        <p:spPr>
          <a:xfrm flipH="1" rot="16200000">
            <a:off x="6552000" y="358416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27" name="AutoShape 41"/>
          <p:cNvCxnSpPr/>
          <p:nvPr/>
        </p:nvCxnSpPr>
        <p:spPr>
          <a:xfrm flipH="1" flipV="1" rot="10800000">
            <a:off x="75960" y="5002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pic>
        <p:nvPicPr>
          <p:cNvPr id="428" name="Picture 32" descr="Travail:1 GRAPHISME:GRDF:FICHES_BET_CEGIBAT_GrDF:FICHES_PRODUIT:ELEMENTS_OK:F1_BBS:F1_2.jpg"/>
          <p:cNvPicPr/>
          <p:nvPr/>
        </p:nvPicPr>
        <p:blipFill>
          <a:blip r:embed="rId1"/>
          <a:stretch/>
        </p:blipFill>
        <p:spPr>
          <a:xfrm>
            <a:off x="739800" y="2411280"/>
            <a:ext cx="5184720" cy="2432160"/>
          </a:xfrm>
          <a:prstGeom prst="rect">
            <a:avLst/>
          </a:prstGeom>
          <a:ln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9" name="ZoneTexte 15"/>
          <p:cNvSpPr/>
          <p:nvPr/>
        </p:nvSpPr>
        <p:spPr>
          <a:xfrm>
            <a:off x="3403440" y="4664160"/>
            <a:ext cx="1297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ECS Instantan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0" name="Freeform 25"/>
          <p:cNvSpPr/>
          <p:nvPr/>
        </p:nvSpPr>
        <p:spPr>
          <a:xfrm>
            <a:off x="5638680" y="3648240"/>
            <a:ext cx="2362320" cy="86184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1" name="Freeform 25"/>
          <p:cNvSpPr/>
          <p:nvPr/>
        </p:nvSpPr>
        <p:spPr>
          <a:xfrm>
            <a:off x="5638680" y="2975040"/>
            <a:ext cx="2362320" cy="2286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6732720" y="2989080"/>
            <a:ext cx="32922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n sollicite les générateurs par ordre de priorité jusqu’à la limite de leur puissance uti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3" name="Picture 18" descr=""/>
          <p:cNvPicPr/>
          <p:nvPr/>
        </p:nvPicPr>
        <p:blipFill>
          <a:blip r:embed="rId2"/>
          <a:stretch/>
        </p:blipFill>
        <p:spPr>
          <a:xfrm>
            <a:off x="3403440" y="3133800"/>
            <a:ext cx="1209960" cy="142920"/>
          </a:xfrm>
          <a:prstGeom prst="rect">
            <a:avLst/>
          </a:prstGeom>
          <a:ln w="0">
            <a:noFill/>
          </a:ln>
        </p:spPr>
      </p:pic>
      <p:sp>
        <p:nvSpPr>
          <p:cNvPr id="434" name="ZoneTexte 15"/>
          <p:cNvSpPr/>
          <p:nvPr/>
        </p:nvSpPr>
        <p:spPr>
          <a:xfrm>
            <a:off x="3348000" y="3079800"/>
            <a:ext cx="17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45 Helvetica Light"/>
              </a:rPr>
              <a:t>Avec isolemen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33"/>
          <p:cNvSpPr/>
          <p:nvPr/>
        </p:nvSpPr>
        <p:spPr>
          <a:xfrm>
            <a:off x="6732720" y="4202640"/>
            <a:ext cx="32922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emplacement en volume chauffé permet de réduire significativement les consommation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08EA-BB62-4C4F-ADAF-5818CB1EC0AD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PAC» (fonction chauffage)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pic>
        <p:nvPicPr>
          <p:cNvPr id="438" name="Picture 105" descr="LaCie Disk:1 GRAPHISME:ELEMENTS_OK_FICHES_BET_PRODUIT:F2_BBS:F2_3.jpg"/>
          <p:cNvPicPr/>
          <p:nvPr/>
        </p:nvPicPr>
        <p:blipFill>
          <a:blip r:embed="rId1"/>
          <a:stretch/>
        </p:blipFill>
        <p:spPr>
          <a:xfrm>
            <a:off x="685800" y="3262320"/>
            <a:ext cx="4408560" cy="3951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39" name="Picture 103" descr="LaCie Disk:1 GRAPHISME:ELEMENTS_OK_FICHES_BET_PRODUIT:F2_BBS:F2_2.jpg"/>
          <p:cNvPicPr/>
          <p:nvPr/>
        </p:nvPicPr>
        <p:blipFill>
          <a:blip r:embed="rId2"/>
          <a:stretch/>
        </p:blipFill>
        <p:spPr>
          <a:xfrm>
            <a:off x="663480" y="1498680"/>
            <a:ext cx="4426200" cy="158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0" name="Freeform 25"/>
          <p:cNvSpPr/>
          <p:nvPr/>
        </p:nvSpPr>
        <p:spPr>
          <a:xfrm>
            <a:off x="4419720" y="5765760"/>
            <a:ext cx="5486400" cy="15228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6837480" y="2235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2" name="AutoShape 8"/>
          <p:cNvCxnSpPr/>
          <p:nvPr/>
        </p:nvCxnSpPr>
        <p:spPr>
          <a:xfrm flipH="1" flipV="1" rot="10800000">
            <a:off x="6656040" y="1945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3" name="AutoShape 9"/>
          <p:cNvCxnSpPr/>
          <p:nvPr/>
        </p:nvCxnSpPr>
        <p:spPr>
          <a:xfrm flipH="1" flipV="1" rot="10800000">
            <a:off x="6656040" y="1945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4" name="AutoShape 10"/>
          <p:cNvCxnSpPr/>
          <p:nvPr/>
        </p:nvCxnSpPr>
        <p:spPr>
          <a:xfrm flipH="1" rot="16200000">
            <a:off x="6476760" y="270468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45" name="AutoShape 12"/>
          <p:cNvCxnSpPr/>
          <p:nvPr/>
        </p:nvCxnSpPr>
        <p:spPr>
          <a:xfrm flipH="1" flipV="1" rot="10800000">
            <a:off x="-360" y="42890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6" name="Text Box 31"/>
          <p:cNvSpPr/>
          <p:nvPr/>
        </p:nvSpPr>
        <p:spPr>
          <a:xfrm>
            <a:off x="6656400" y="5067360"/>
            <a:ext cx="3292560" cy="1265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a température limite amont dépend de la température départ chauffage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Freeform 25"/>
          <p:cNvSpPr/>
          <p:nvPr/>
        </p:nvSpPr>
        <p:spPr>
          <a:xfrm flipV="1">
            <a:off x="4419720" y="4698720"/>
            <a:ext cx="5486400" cy="86184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Freeform 25"/>
          <p:cNvSpPr/>
          <p:nvPr/>
        </p:nvSpPr>
        <p:spPr>
          <a:xfrm flipV="1">
            <a:off x="4419720" y="6952680"/>
            <a:ext cx="5486400" cy="75960"/>
          </a:xfrm>
          <a:custGeom>
            <a:avLst/>
            <a:gdLst>
              <a:gd name="textAreaLeft" fmla="*/ 0 w 5486400"/>
              <a:gd name="textAreaRight" fmla="*/ 5486760 w 5486400"/>
              <a:gd name="textAreaTop" fmla="*/ -360 h 75960"/>
              <a:gd name="textAreaBottom" fmla="*/ 75960 h 7596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6656400" y="4457880"/>
            <a:ext cx="32925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Ce paramètre n’intervient pas dans le système de régulation </a:t>
            </a:r>
            <a:r>
              <a:rPr b="0" lang="fr-FR" sz="1100" spc="-1" strike="noStrike">
                <a:solidFill>
                  <a:srgbClr val="00b1af"/>
                </a:solidFill>
                <a:latin typeface="46 Helvetica LightItalic"/>
              </a:rPr>
              <a:t>(Valeurs ﬁgée à 100 °C =&gt; cf. titre V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0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05120" y="210816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6"/>
          <p:cNvSpPr/>
          <p:nvPr/>
        </p:nvSpPr>
        <p:spPr>
          <a:xfrm>
            <a:off x="2743200" y="42102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32.5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2743200" y="441972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-7°C, 7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2743200" y="4641840"/>
            <a:ext cx="2057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Cf. tableau matrice des performances P6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Text Box 89"/>
          <p:cNvSpPr/>
          <p:nvPr/>
        </p:nvSpPr>
        <p:spPr>
          <a:xfrm>
            <a:off x="2743200" y="4832280"/>
            <a:ext cx="2057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Cf. tableau matrice des puis. absorbées P6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90"/>
          <p:cNvSpPr/>
          <p:nvPr/>
        </p:nvSpPr>
        <p:spPr>
          <a:xfrm>
            <a:off x="2743200" y="5059440"/>
            <a:ext cx="2057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Cf. tableau indicateurs de certif. P6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91"/>
          <p:cNvSpPr/>
          <p:nvPr/>
        </p:nvSpPr>
        <p:spPr>
          <a:xfrm>
            <a:off x="2743200" y="550692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0.0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92"/>
          <p:cNvSpPr/>
          <p:nvPr/>
        </p:nvSpPr>
        <p:spPr>
          <a:xfrm>
            <a:off x="2743200" y="570060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55 Helvetica Roman"/>
              </a:rPr>
              <a:t>…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93"/>
          <p:cNvSpPr/>
          <p:nvPr/>
        </p:nvSpPr>
        <p:spPr>
          <a:xfrm>
            <a:off x="2743200" y="592776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décla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94"/>
          <p:cNvSpPr/>
          <p:nvPr/>
        </p:nvSpPr>
        <p:spPr>
          <a:xfrm>
            <a:off x="2743200" y="6149880"/>
            <a:ext cx="224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Mode continu du compresseur ou en cycl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95"/>
          <p:cNvSpPr/>
          <p:nvPr/>
        </p:nvSpPr>
        <p:spPr>
          <a:xfrm>
            <a:off x="2743200" y="634536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96"/>
          <p:cNvSpPr/>
          <p:nvPr/>
        </p:nvSpPr>
        <p:spPr>
          <a:xfrm>
            <a:off x="2743200" y="6567480"/>
            <a:ext cx="2286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Radiateurs, plafonds d</a:t>
            </a:r>
            <a:r>
              <a:rPr b="0" lang="ja-JP" sz="900" spc="-1" strike="noStrike">
                <a:solidFill>
                  <a:srgbClr val="000000"/>
                </a:solidFill>
                <a:latin typeface="55 Helvetica Roman"/>
              </a:rPr>
              <a:t>’</a:t>
            </a: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inertie moyenn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107"/>
          <p:cNvSpPr/>
          <p:nvPr/>
        </p:nvSpPr>
        <p:spPr>
          <a:xfrm>
            <a:off x="2743200" y="397656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s  certifiées ou mesurées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grpSp>
        <p:nvGrpSpPr>
          <p:cNvPr id="463" name="Groupe 37"/>
          <p:cNvGrpSpPr/>
          <p:nvPr/>
        </p:nvGrpSpPr>
        <p:grpSpPr>
          <a:xfrm>
            <a:off x="6997680" y="5499000"/>
            <a:ext cx="2666880" cy="743760"/>
            <a:chOff x="6997680" y="5499000"/>
            <a:chExt cx="2666880" cy="743760"/>
          </a:xfrm>
        </p:grpSpPr>
        <p:pic>
          <p:nvPicPr>
            <p:cNvPr id="464" name="Picture 61" descr="Travail:1 GRAPHISME:GRDF:FICHES_BET_CEGIBAT_GrDF:FICHES_PRODUIT:ELEMENTS_OK:F1_BBS:TABLO.jpg"/>
            <p:cNvPicPr/>
            <p:nvPr/>
          </p:nvPicPr>
          <p:blipFill>
            <a:blip r:embed="rId4"/>
            <a:srcRect l="0" t="0" r="16247" b="0"/>
            <a:stretch/>
          </p:blipFill>
          <p:spPr>
            <a:xfrm>
              <a:off x="6997680" y="5524200"/>
              <a:ext cx="2595600" cy="7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62"/>
            <p:cNvSpPr/>
            <p:nvPr/>
          </p:nvSpPr>
          <p:spPr>
            <a:xfrm>
              <a:off x="8152560" y="5499000"/>
              <a:ext cx="151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HelveticaNeue BoldCond"/>
                </a:rPr>
                <a:t>Emetteurs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6" name="Text Box 64"/>
            <p:cNvSpPr/>
            <p:nvPr/>
          </p:nvSpPr>
          <p:spPr>
            <a:xfrm>
              <a:off x="6997680" y="5676840"/>
              <a:ext cx="946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Température départ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7" name="Text Box 65"/>
            <p:cNvSpPr/>
            <p:nvPr/>
          </p:nvSpPr>
          <p:spPr>
            <a:xfrm>
              <a:off x="6997680" y="5942160"/>
              <a:ext cx="11188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Température minimale amont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8" name="Text Box 66"/>
            <p:cNvSpPr/>
            <p:nvPr/>
          </p:nvSpPr>
          <p:spPr>
            <a:xfrm>
              <a:off x="8152560" y="5709960"/>
              <a:ext cx="4806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3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9" name="Text Box 67"/>
            <p:cNvSpPr/>
            <p:nvPr/>
          </p:nvSpPr>
          <p:spPr>
            <a:xfrm>
              <a:off x="8116560" y="5981760"/>
              <a:ext cx="516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3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70" name="Text Box 68"/>
            <p:cNvSpPr/>
            <p:nvPr/>
          </p:nvSpPr>
          <p:spPr>
            <a:xfrm>
              <a:off x="8633160" y="5709960"/>
              <a:ext cx="5270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4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71" name="Text Box 69"/>
            <p:cNvSpPr/>
            <p:nvPr/>
          </p:nvSpPr>
          <p:spPr>
            <a:xfrm>
              <a:off x="9149760" y="5709960"/>
              <a:ext cx="5148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5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72" name="Text Box 71"/>
            <p:cNvSpPr/>
            <p:nvPr/>
          </p:nvSpPr>
          <p:spPr>
            <a:xfrm>
              <a:off x="8633160" y="5981760"/>
              <a:ext cx="516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2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73" name="Text Box 72"/>
            <p:cNvSpPr/>
            <p:nvPr/>
          </p:nvSpPr>
          <p:spPr>
            <a:xfrm>
              <a:off x="9149760" y="5981760"/>
              <a:ext cx="4302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1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pic>
        <p:nvPicPr>
          <p:cNvPr id="474" name="Picture 44" descr=""/>
          <p:cNvPicPr/>
          <p:nvPr/>
        </p:nvPicPr>
        <p:blipFill>
          <a:blip r:embed="rId5"/>
          <a:stretch/>
        </p:blipFill>
        <p:spPr>
          <a:xfrm>
            <a:off x="2679840" y="1768320"/>
            <a:ext cx="1722240" cy="144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07"/>
          <p:cNvSpPr/>
          <p:nvPr/>
        </p:nvSpPr>
        <p:spPr>
          <a:xfrm>
            <a:off x="2714760" y="17654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PAC Hybrid Hysa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6656400" y="6515280"/>
            <a:ext cx="32925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Valeur issue du titre V RT 2012 ; la totalité des consommations des auxiliaires de génération est regroupée au niveau de la chaudièr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6667200" y="1552680"/>
            <a:ext cx="2835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Les paramètres «Limite temp. sources»,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«Température maximale aval» et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«Température minimale amont»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caractérisent la régulation sur énergie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primaire du produi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CFCD-4FA6-4E77-B9AD-D7568D318717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PAC» (fonction chauffage)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pic>
        <p:nvPicPr>
          <p:cNvPr id="480" name="Picture 48" descr="LaCie Disk:1 GRAPHISME:ELEMENTS_OK_FICHES_BET_PRODUIT:F2_BBS:F2_BBS_4.jpg"/>
          <p:cNvPicPr/>
          <p:nvPr/>
        </p:nvPicPr>
        <p:blipFill>
          <a:blip r:embed="rId1"/>
          <a:stretch/>
        </p:blipFill>
        <p:spPr>
          <a:xfrm>
            <a:off x="676440" y="1862280"/>
            <a:ext cx="4809960" cy="1191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81" name="Picture 49" descr="LaCie Disk:1 GRAPHISME:ELEMENTS_OK_FICHES_BET_PRODUIT:F2_BBS:F2_B_5.jpg"/>
          <p:cNvPicPr/>
          <p:nvPr/>
        </p:nvPicPr>
        <p:blipFill>
          <a:blip r:embed="rId2"/>
          <a:stretch/>
        </p:blipFill>
        <p:spPr>
          <a:xfrm>
            <a:off x="685800" y="3218040"/>
            <a:ext cx="4809960" cy="1191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82" name="Picture 50" descr="LaCie Disk:1 GRAPHISME:ELEMENTS_OK_FICHES_BET_PRODUIT:F2_BBS:F2_B_6.jpg"/>
          <p:cNvPicPr/>
          <p:nvPr/>
        </p:nvPicPr>
        <p:blipFill>
          <a:blip r:embed="rId3"/>
          <a:stretch/>
        </p:blipFill>
        <p:spPr>
          <a:xfrm>
            <a:off x="685800" y="4605480"/>
            <a:ext cx="4809960" cy="1191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83" name="Text Box 9"/>
          <p:cNvSpPr/>
          <p:nvPr/>
        </p:nvSpPr>
        <p:spPr>
          <a:xfrm>
            <a:off x="6837480" y="25988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4" name="AutoShape 12"/>
          <p:cNvCxnSpPr/>
          <p:nvPr/>
        </p:nvCxnSpPr>
        <p:spPr>
          <a:xfrm flipH="1" rot="16200000">
            <a:off x="6477120" y="32335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85" name="AutoShape 13"/>
          <p:cNvCxnSpPr/>
          <p:nvPr/>
        </p:nvCxnSpPr>
        <p:spPr>
          <a:xfrm flipH="1" flipV="1" rot="10800000">
            <a:off x="-360" y="46526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6" name="Text Box 22"/>
          <p:cNvSpPr/>
          <p:nvPr/>
        </p:nvSpPr>
        <p:spPr>
          <a:xfrm>
            <a:off x="6656400" y="3767040"/>
            <a:ext cx="32925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Freeform 23"/>
          <p:cNvSpPr/>
          <p:nvPr/>
        </p:nvSpPr>
        <p:spPr>
          <a:xfrm flipV="1">
            <a:off x="5105520" y="241452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Rectangle 28"/>
          <p:cNvSpPr/>
          <p:nvPr/>
        </p:nvSpPr>
        <p:spPr>
          <a:xfrm>
            <a:off x="6640560" y="2090880"/>
            <a:ext cx="3346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Certiﬁcat NF PAC NF 414-664 est consultable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 sur le site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4"/>
              </a:rPr>
              <a:t>www.certita.org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Freeform 30"/>
          <p:cNvSpPr/>
          <p:nvPr/>
        </p:nvSpPr>
        <p:spPr>
          <a:xfrm>
            <a:off x="4552920" y="2494080"/>
            <a:ext cx="2819520" cy="860400"/>
          </a:xfrm>
          <a:custGeom>
            <a:avLst/>
            <a:gdLst>
              <a:gd name="textAreaLeft" fmla="*/ 0 w 2819520"/>
              <a:gd name="textAreaRight" fmla="*/ 2819520 w 28195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1872" h="624">
                <a:moveTo>
                  <a:pt x="1872" y="624"/>
                </a:moveTo>
                <a:lnTo>
                  <a:pt x="1296" y="624"/>
                </a:lnTo>
                <a:lnTo>
                  <a:pt x="1296" y="432"/>
                </a:lnTo>
                <a:lnTo>
                  <a:pt x="240" y="432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656400" y="3035160"/>
            <a:ext cx="329256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valeur «pivot» à fournir systématiquement par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tilisateur est la valeur pour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empérature amont (Tam) = 7 °C et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empérature aval (Tav) = 30/35 °C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1557360" y="217656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33"/>
          <p:cNvSpPr/>
          <p:nvPr/>
        </p:nvSpPr>
        <p:spPr>
          <a:xfrm>
            <a:off x="2583000" y="217656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2,8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2,2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35"/>
          <p:cNvSpPr/>
          <p:nvPr/>
        </p:nvSpPr>
        <p:spPr>
          <a:xfrm>
            <a:off x="3124080" y="217656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4108320" y="217656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4,3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3,2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4648320" y="217656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1557360" y="353844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39"/>
          <p:cNvSpPr/>
          <p:nvPr/>
        </p:nvSpPr>
        <p:spPr>
          <a:xfrm>
            <a:off x="2666880" y="353844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,6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,7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Text Box 40"/>
          <p:cNvSpPr/>
          <p:nvPr/>
        </p:nvSpPr>
        <p:spPr>
          <a:xfrm>
            <a:off x="3124080" y="353844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Text Box 41"/>
          <p:cNvSpPr/>
          <p:nvPr/>
        </p:nvSpPr>
        <p:spPr>
          <a:xfrm>
            <a:off x="4119480" y="3538440"/>
            <a:ext cx="52884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,6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,8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0" name="Text Box 42"/>
          <p:cNvSpPr/>
          <p:nvPr/>
        </p:nvSpPr>
        <p:spPr>
          <a:xfrm>
            <a:off x="4648320" y="353844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Text Box 43"/>
          <p:cNvSpPr/>
          <p:nvPr/>
        </p:nvSpPr>
        <p:spPr>
          <a:xfrm>
            <a:off x="1557360" y="492588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44"/>
          <p:cNvSpPr/>
          <p:nvPr/>
        </p:nvSpPr>
        <p:spPr>
          <a:xfrm>
            <a:off x="2666880" y="492588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45"/>
          <p:cNvSpPr/>
          <p:nvPr/>
        </p:nvSpPr>
        <p:spPr>
          <a:xfrm>
            <a:off x="3124080" y="492588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46"/>
          <p:cNvSpPr/>
          <p:nvPr/>
        </p:nvSpPr>
        <p:spPr>
          <a:xfrm>
            <a:off x="4191120" y="492588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47"/>
          <p:cNvSpPr/>
          <p:nvPr/>
        </p:nvSpPr>
        <p:spPr>
          <a:xfrm>
            <a:off x="4648320" y="492588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3C6-B4C3-40F4-B94D-4C2CD3E857EE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Chaudière gaz à condensation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pic>
        <p:nvPicPr>
          <p:cNvPr id="508" name="Picture 43" descr="LaCie Disk:1 GRAPHISME:ELEMENTS_OK_FICHES_BET_PRODUIT:F2_BBS:F2_B_7.jpg"/>
          <p:cNvPicPr/>
          <p:nvPr/>
        </p:nvPicPr>
        <p:blipFill>
          <a:blip r:embed="rId1"/>
          <a:stretch/>
        </p:blipFill>
        <p:spPr>
          <a:xfrm>
            <a:off x="663480" y="1343160"/>
            <a:ext cx="4683240" cy="1393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9" name="Text Box 8"/>
          <p:cNvSpPr/>
          <p:nvPr/>
        </p:nvSpPr>
        <p:spPr>
          <a:xfrm>
            <a:off x="6837480" y="207972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0" name="AutoShape 9"/>
          <p:cNvCxnSpPr/>
          <p:nvPr/>
        </p:nvCxnSpPr>
        <p:spPr>
          <a:xfrm flipH="1" flipV="1" rot="10800000">
            <a:off x="6656040" y="7067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11" name="AutoShape 10"/>
          <p:cNvCxnSpPr/>
          <p:nvPr/>
        </p:nvCxnSpPr>
        <p:spPr>
          <a:xfrm flipH="1" flipV="1" rot="10800000">
            <a:off x="6656040" y="7067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12" name="AutoShape 11"/>
          <p:cNvCxnSpPr/>
          <p:nvPr/>
        </p:nvCxnSpPr>
        <p:spPr>
          <a:xfrm flipH="1" rot="16200000">
            <a:off x="6477120" y="27144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513" name="Freeform 24"/>
          <p:cNvSpPr/>
          <p:nvPr/>
        </p:nvSpPr>
        <p:spPr>
          <a:xfrm>
            <a:off x="5105520" y="2409840"/>
            <a:ext cx="3657600" cy="533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656400" y="2500200"/>
            <a:ext cx="336852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chaudière gaz à condensation assure une parti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es besoins de chauffage (seule ou en complément de la PAC) et la totalité des besoins en 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5" name="Picture 34" descr=""/>
          <p:cNvPicPr/>
          <p:nvPr/>
        </p:nvPicPr>
        <p:blipFill>
          <a:blip r:embed="rId2"/>
          <a:stretch/>
        </p:blipFill>
        <p:spPr>
          <a:xfrm>
            <a:off x="2959200" y="1582560"/>
            <a:ext cx="1584360" cy="1447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0"/>
          <p:cNvSpPr/>
          <p:nvPr/>
        </p:nvSpPr>
        <p:spPr>
          <a:xfrm>
            <a:off x="2968560" y="1584360"/>
            <a:ext cx="151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dière hybride Hysa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7" name="Picture 34" descr=""/>
          <p:cNvPicPr/>
          <p:nvPr/>
        </p:nvPicPr>
        <p:blipFill>
          <a:blip r:embed="rId3"/>
          <a:stretch/>
        </p:blipFill>
        <p:spPr>
          <a:xfrm>
            <a:off x="2959200" y="1955880"/>
            <a:ext cx="1584360" cy="14292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0"/>
          <p:cNvSpPr/>
          <p:nvPr/>
        </p:nvSpPr>
        <p:spPr>
          <a:xfrm>
            <a:off x="2968560" y="1954080"/>
            <a:ext cx="151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dière hybride Hysa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9" name="Picture 38" descr=""/>
          <p:cNvPicPr/>
          <p:nvPr/>
        </p:nvPicPr>
        <p:blipFill>
          <a:blip r:embed="rId4"/>
          <a:stretch/>
        </p:blipFill>
        <p:spPr>
          <a:xfrm>
            <a:off x="692280" y="3054240"/>
            <a:ext cx="4200480" cy="4143600"/>
          </a:xfrm>
          <a:prstGeom prst="rect">
            <a:avLst/>
          </a:prstGeom>
          <a:ln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520" name="AutoShape 12"/>
          <p:cNvCxnSpPr/>
          <p:nvPr/>
        </p:nvCxnSpPr>
        <p:spPr>
          <a:xfrm flipH="1" flipV="1" rot="10800000">
            <a:off x="243360" y="413352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1" name="Text Box 29"/>
          <p:cNvSpPr/>
          <p:nvPr/>
        </p:nvSpPr>
        <p:spPr>
          <a:xfrm>
            <a:off x="3139920" y="33606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2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Text Box 30"/>
          <p:cNvSpPr/>
          <p:nvPr/>
        </p:nvSpPr>
        <p:spPr>
          <a:xfrm>
            <a:off x="3139920" y="358776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3,6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3" name="Text Box 33"/>
          <p:cNvSpPr/>
          <p:nvPr/>
        </p:nvSpPr>
        <p:spPr>
          <a:xfrm>
            <a:off x="3139920" y="471492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96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3139920" y="51912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8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5" name="Text Box 37"/>
          <p:cNvSpPr/>
          <p:nvPr/>
        </p:nvSpPr>
        <p:spPr>
          <a:xfrm>
            <a:off x="3139920" y="56386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87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Text Box 38"/>
          <p:cNvSpPr/>
          <p:nvPr/>
        </p:nvSpPr>
        <p:spPr>
          <a:xfrm>
            <a:off x="3133800" y="586728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5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39"/>
          <p:cNvSpPr/>
          <p:nvPr/>
        </p:nvSpPr>
        <p:spPr>
          <a:xfrm>
            <a:off x="3139920" y="61056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3,6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3139920" y="65404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1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9" name="Picture 28" descr="Travail:1 GRAPHISME:GRDF:FICHES_BET_CEGIBAT_GrDF:FICHES_PRODUIT:ELEMENTS_OK:F1_BBS:fleche.png"/>
          <p:cNvPicPr/>
          <p:nvPr/>
        </p:nvPicPr>
        <p:blipFill>
          <a:blip r:embed="rId5"/>
          <a:stretch/>
        </p:blipFill>
        <p:spPr>
          <a:xfrm rot="379800">
            <a:off x="2052360" y="1901520"/>
            <a:ext cx="865080" cy="1731960"/>
          </a:xfrm>
          <a:prstGeom prst="rect">
            <a:avLst/>
          </a:prstGeom>
          <a:ln w="0">
            <a:noFill/>
          </a:ln>
        </p:spPr>
      </p:pic>
      <p:sp>
        <p:nvSpPr>
          <p:cNvPr id="530" name="Freeform 24"/>
          <p:cNvSpPr/>
          <p:nvPr/>
        </p:nvSpPr>
        <p:spPr>
          <a:xfrm>
            <a:off x="4408560" y="6149880"/>
            <a:ext cx="3657600" cy="45720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1" name="Text Box 25"/>
          <p:cNvSpPr/>
          <p:nvPr/>
        </p:nvSpPr>
        <p:spPr>
          <a:xfrm>
            <a:off x="5959440" y="6226200"/>
            <a:ext cx="336888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uissance électrique de veille à saisir dan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artie chaudière est la puissance de veill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u générateur hybride à charge nulle dans son ensemble (PAC + chaudièr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3663-45E0-4F89-89C7-EB02D603C207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La saisie du circulateur du réseau de distribu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35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36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37" name="AutoShape 12"/>
          <p:cNvCxnSpPr/>
          <p:nvPr/>
        </p:nvCxnSpPr>
        <p:spPr>
          <a:xfrm flipH="1" rot="16200000">
            <a:off x="6477120" y="23619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38" name="AutoShape 13"/>
          <p:cNvCxnSpPr/>
          <p:nvPr/>
        </p:nvCxnSpPr>
        <p:spPr>
          <a:xfrm flipH="1" flipV="1" rot="10800000">
            <a:off x="21960" y="42876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39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0" name="Freeform 23"/>
          <p:cNvSpPr/>
          <p:nvPr/>
        </p:nvSpPr>
        <p:spPr>
          <a:xfrm flipV="1">
            <a:off x="5105520" y="140076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6705720" y="1219320"/>
            <a:ext cx="3281400" cy="44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3c4"/>
                </a:solidFill>
                <a:latin typeface="75 Helvetica Bold"/>
              </a:rPr>
              <a:t>Focus sur la saisie des circulateurs</a:t>
            </a:r>
            <a:endParaRPr b="0" lang="en-US" sz="13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 circulateur représente le système permettant la circul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au chaude dans le réseau hydraulique de chauffag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d0921"/>
                </a:solidFill>
                <a:latin typeface="76 Helvetica BoldItalic"/>
              </a:rPr>
              <a:t>Attention, la documentation technique de certaines chaudières hybrides mentionne la présence de plusieurs circulateur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1.</a:t>
            </a: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irculateur de l’unité extérieure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- il est pris en compte dans le COP de la PAC, il ne faut donc pas le considérer dans les auxiliaires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2.</a:t>
            </a: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irculateur dédié au fonctionnement interne de la chaudièr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- il doit être saisi comme faisant partie des auxiliaires électriques de la chaudière (car il ne fonctionne que lorsque la chaudière fonctionn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3.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 Le circulateur dédié au réseau de chauffage commun à la PAC et à la chaudière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 circulateur est à saisir au niveau du réseau de distribution, la puissance du circulateur à saisir est celle fournie au débit nominal de l’installa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2" name="Text Box 24"/>
          <p:cNvSpPr/>
          <p:nvPr/>
        </p:nvSpPr>
        <p:spPr>
          <a:xfrm>
            <a:off x="736560" y="4718160"/>
            <a:ext cx="511344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Emiss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43" name="Picture 26" descr="Travail:1 GRAPHISME:GRDF:FICHES_BET_CEGIBAT_GrDF:FICHES_PRODUIT:ELEMENTS_OK:F1_BBS:EMISSION.jpg"/>
          <p:cNvPicPr/>
          <p:nvPr/>
        </p:nvPicPr>
        <p:blipFill>
          <a:blip r:embed="rId1"/>
          <a:stretch/>
        </p:blipFill>
        <p:spPr>
          <a:xfrm>
            <a:off x="2535120" y="478944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7"/>
          <p:cNvSpPr/>
          <p:nvPr/>
        </p:nvSpPr>
        <p:spPr>
          <a:xfrm>
            <a:off x="6586560" y="4286160"/>
            <a:ext cx="3505320" cy="860400"/>
          </a:xfrm>
          <a:prstGeom prst="rect">
            <a:avLst/>
          </a:prstGeom>
          <a:noFill/>
          <a:ln w="38160">
            <a:solidFill>
              <a:srgbClr val="008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45" name="Picture 31" descr="LaCie Disk:1 GRAPHISME:ELEMENTS_OK_FICHES_BET_PRODUIT:F2_BBS:F2_B_8.jpg"/>
          <p:cNvPicPr/>
          <p:nvPr/>
        </p:nvPicPr>
        <p:blipFill>
          <a:blip r:embed="rId2"/>
          <a:stretch/>
        </p:blipFill>
        <p:spPr>
          <a:xfrm>
            <a:off x="708120" y="1496880"/>
            <a:ext cx="3378240" cy="3113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46" name="Rectangle 25"/>
          <p:cNvSpPr/>
          <p:nvPr/>
        </p:nvSpPr>
        <p:spPr>
          <a:xfrm>
            <a:off x="1838160" y="3890880"/>
            <a:ext cx="2016360" cy="252360"/>
          </a:xfrm>
          <a:prstGeom prst="rect">
            <a:avLst/>
          </a:prstGeom>
          <a:noFill/>
          <a:ln w="38160">
            <a:solidFill>
              <a:srgbClr val="008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2054160" y="2054160"/>
            <a:ext cx="1944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PAC Hybrid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8" name="Rectangle 22"/>
          <p:cNvSpPr/>
          <p:nvPr/>
        </p:nvSpPr>
        <p:spPr>
          <a:xfrm>
            <a:off x="2054160" y="2271600"/>
            <a:ext cx="1944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Chaudière gaz condensati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9" name="Rectangle 23"/>
          <p:cNvSpPr/>
          <p:nvPr/>
        </p:nvSpPr>
        <p:spPr>
          <a:xfrm>
            <a:off x="1622520" y="2487600"/>
            <a:ext cx="201600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50" name="Picture 27" descr=""/>
          <p:cNvPicPr/>
          <p:nvPr/>
        </p:nvPicPr>
        <p:blipFill>
          <a:blip r:embed="rId3"/>
          <a:stretch/>
        </p:blipFill>
        <p:spPr>
          <a:xfrm>
            <a:off x="663480" y="5510160"/>
            <a:ext cx="5486400" cy="1104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8"/>
          <p:cNvSpPr/>
          <p:nvPr/>
        </p:nvSpPr>
        <p:spPr>
          <a:xfrm>
            <a:off x="1168560" y="5583240"/>
            <a:ext cx="22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55 Helvetica Roman"/>
              </a:rPr>
              <a:t>Gestion système de chauffag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2" name="Text Box 28"/>
          <p:cNvSpPr/>
          <p:nvPr/>
        </p:nvSpPr>
        <p:spPr>
          <a:xfrm>
            <a:off x="1168560" y="5870520"/>
            <a:ext cx="22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55 Helvetica Roman"/>
              </a:rPr>
              <a:t>Mode de régulation de fonctionnem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3760920" y="5583240"/>
            <a:ext cx="22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Temp. de départ en fct de temp. extérieur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3760920" y="5846760"/>
            <a:ext cx="22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Régulation à débit variabl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736560" y="5581800"/>
            <a:ext cx="27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55 Helvetica Roman"/>
              </a:rPr>
              <a:t>6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6" name="Text Box 29"/>
          <p:cNvSpPr/>
          <p:nvPr/>
        </p:nvSpPr>
        <p:spPr>
          <a:xfrm>
            <a:off x="736560" y="5869080"/>
            <a:ext cx="27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55 Helvetica Roman"/>
              </a:rPr>
              <a:t>63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3760920" y="6084720"/>
            <a:ext cx="22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itesse et pression différentielle variables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8" name="Text Box 29"/>
          <p:cNvSpPr/>
          <p:nvPr/>
        </p:nvSpPr>
        <p:spPr>
          <a:xfrm>
            <a:off x="3760920" y="637380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4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C62-D003-426F-805D-6ECEB23D829E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Données environnementales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952560" y="2413080"/>
          <a:ext cx="8091360" cy="741240"/>
        </p:xfrm>
        <a:graphic>
          <a:graphicData uri="http://schemas.openxmlformats.org/drawingml/2006/table">
            <a:tbl>
              <a:tblPr/>
              <a:tblGrid>
                <a:gridCol w="6237360"/>
                <a:gridCol w="1854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harge en fluide frigorigène (kg)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R410a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Type de fluide frigorigène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562" name="Rectangle 13"/>
          <p:cNvSpPr/>
          <p:nvPr/>
        </p:nvSpPr>
        <p:spPr>
          <a:xfrm>
            <a:off x="808200" y="2006640"/>
            <a:ext cx="955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onnées à saisir pour le calcul de l’impact environnemental du fluide frigorigène de la PAC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D9C3-7B88-4509-9C20-E4CA13A56DEB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1:17Z</dcterms:modified>
  <cp:revision>126</cp:revision>
  <dc:subject/>
  <dc:title>Présentation PowerPoint</dc:title>
</cp:coreProperties>
</file>