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png" ContentType="image/png"/>
  <Override PartName="/ppt/media/image8.png" ContentType="image/pn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3.jpeg" ContentType="image/jpeg"/>
  <Override PartName="/ppt/media/image22.png" ContentType="image/png"/>
  <Override PartName="/ppt/media/image4.wmf" ContentType="image/x-wmf"/>
  <Override PartName="/ppt/media/image21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FE6F-18B8-4D9E-941D-902198E04002}" type="slidenum">
              <a:rPr b="0" lang="fr-FR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DC13-4B74-4F34-8CF6-B13483C7D8C3}" type="slidenum">
              <a:rPr b="0" lang="fr-FR" sz="1200" spc="-1" strike="noStrike">
                <a:solidFill>
                  <a:srgbClr val="1f497d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BAC-FCE1-4FE3-AA39-209114EC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0DB-599E-42F8-8335-5553DF22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077F3-6559-4BF2-BCFE-57773931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56114-FE47-4CB4-B7A2-0274DA28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EC8E2-164F-42B0-BB11-A189FA55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F91C0-4B9C-4A62-8AFF-BB0FFF9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52199-E3A3-4BDC-BCEE-D0F97280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8F4F8-2868-4622-91D2-C172AFC7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EC587-653A-45EE-88CC-575967F8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B96E6-5FFA-4C91-8E20-36E65E9F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365D2-A987-4A55-8267-56B5DF81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B10-142F-4BA7-9C6D-13011F44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EBA-6A6C-4691-A322-8580FE28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0823-406A-4179-A723-69B320F5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E9DB-F570-48EC-8F28-BCF7EAA7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911B-72E7-4C1B-83A2-C7ADCDF8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9A93-822B-4EBD-9F87-B97DDB5C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01CF-4EAB-427F-A105-3C1D477B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3CC5-5C5D-4864-B5B0-841B4061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DE89-49F5-4F55-A75E-540EABD3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7EA-742B-4D2B-A2DF-0F6E2410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D464-18FA-42F7-A9ED-55E77FE4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07AE-D61C-4CB1-A9EE-BB86C73E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624D-0CDF-4118-BB9F-C59C6C5D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FE89-D100-46D4-80F5-D80C1A59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AE34-6580-4E55-AA37-261F8D03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3DDA-EBDB-4B16-B495-6DA371F8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97E28-1521-4BC2-8D58-D5FCB973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7B5FC-63A7-4EEA-9652-8FB99751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AB15-0BF0-4F93-81ED-A2288D7D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E1194-4C07-4454-B8B8-D4ADBC64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DBE-CDC9-492E-A682-647E56A9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AC808-B0CB-4407-9D8C-F928C43B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DB02-39A7-4CA0-8453-A53C9C12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A48F-F5A3-4AA6-93C1-F8E49E64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E092-E761-48B9-915A-2516AF1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428E-68DF-4B16-8FAD-649C665D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D87EA-D527-47DC-A9D6-0460106D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53B0-DE40-45E3-B86A-3A8130A6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BFAF5-9464-420C-BFA8-363E9D80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A3550-7C56-48F7-B529-050F0258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C2101-390C-4C02-A7DE-60D44C5E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2AA-C763-4D03-8E04-825339EE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81AD-93B3-44E4-8E9E-867A489B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2B253-EE68-4024-9C9C-282F8088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79DE0-5677-4D98-99DB-0F150A01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53E14-571E-46D0-9212-D2645836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C0D9-6FD8-43CE-A8CF-ECDA410C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8E91F-0CDA-4765-9580-D26463D7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AB66A-DFBB-4EA6-9253-1AB55205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B905-0404-4090-9B90-C01C0A4A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627F0-4803-47D6-B1DF-91EE513F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6895C-23F3-4F45-A60C-A8DC0AFB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731-F142-4DCC-8312-49CD7639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C000C-DB9B-4D57-8B21-E2246B8B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EB509-02B9-4297-A376-6BBCEADA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08C0C-003D-4B5B-A9B6-42441F5D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30D91-5CC5-4CAE-94CF-EA1BA685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1B58A-F70B-4B0B-B7FA-D1DA52A5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6ABDD-55C8-43F8-A2F8-37653221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B5D2D-506F-4C4D-BF6C-E6D3B1FB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A28C-41D9-4552-8023-F8FBFBC2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DE84B-FD5C-4D5D-8632-A6E49131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5789B-B191-47E6-92B9-D1B30E23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E2C-8325-497C-8C22-9875E271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07B9-7FEA-4FBB-B67D-7FEF3BEC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3D308-ABB6-4874-A0DD-F60DE92C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2B930-7838-4DA9-8057-709169AF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96083-6EFE-43EE-8B58-94F018E0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C83C4-C182-4928-AF55-3C4B3A81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25851-3917-4DA1-9E0B-C833BE46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B84E5-97D1-4EA0-B510-298E010D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33F2-0C87-4D36-8D20-6905B1F7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F8C39-77DE-41BE-AFB8-D817426D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33433-130F-4B66-9B45-7EE47748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110-9F0F-48B2-98EE-F09FF5A2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B095E-0BFC-4FAC-A65D-A28F4C49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25953-5CFE-4D14-96CF-753DCC9F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FDDB3-0FD1-48AB-9A52-C8921DD7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5D0C8-3BF3-4F36-884F-F31A1EC4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7EB88-E0B9-47E7-8791-FACD1D49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84CC6-0464-4369-9608-9C26EC3E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7F237-8973-4C59-9B65-7D3047DA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6EBF1-A3F1-42F4-BBA0-7B0FFCE5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ECCE0-B57C-492B-BDD3-0045D482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7C213-3BE7-4E13-9720-DE24DD25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410-7633-4D6B-B396-84147700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D66A3-86C4-493C-B2AD-24D1D5F4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9193-799B-41D7-B822-0EEF4281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D7472-017A-4198-A962-094AA178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3E78-48D9-49AF-A0B1-B3618199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C07EF-6835-4891-980B-9BB863A5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CD117-B62F-4FF4-9903-9FD9A613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E14FE-570E-432A-91AA-3CBEAA5F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5E133-AEAC-4722-AC55-B1B56187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9927C-07D2-4473-9189-383C6369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D0212-41B7-4B7E-99F5-DE136FD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1B3-1F61-47AB-AF43-5262FEEE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97CFA-3E3A-49EA-93F9-FBCB78AD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F937B-DDB7-40FC-9601-44E9F493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31215-466F-48A6-89C4-91EF6C9F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05193-8425-49DF-B071-DEFEEA47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3E8FF-1CCC-4CE4-9578-8B588AEC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DCFC8-42A4-4668-9C15-5AF9FA82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570B8-95CE-4CD5-A71D-D9E7D9B6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0EBF7-E62A-4CD0-B96E-65573235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324B2-254E-40D1-93FD-80D5C97D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90705-F5C6-440C-B379-2DE7C7B9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8D55-0F5E-44D9-9937-923A87D39B52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FDE8-8324-4DFD-94FC-8ED6DA56063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FC42-0F0B-4187-AEE1-E41FB5A0EA9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A732-DCB9-4F54-875F-DB80530AFCB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AD54-90AB-47F3-95D9-F100EF6993ED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DD2F-54A8-4037-966B-458689056D6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CF45-4AB8-477E-BB0E-92F67422E03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6390-725A-46F3-9C04-5B9E9B28EC1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7398-5D64-4F12-BB35-1E9F526EEA6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hyperlink" Target="https://techniqueuniclima.com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VIESSMANN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1438200" y="1582560"/>
            <a:ext cx="79344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VIESSMANN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VIESSMANN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chaudière gaz à condensation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e «boucle solaire»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boucle solaire (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1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2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u générateur «Chaudière Vitodens 100 W B1KA009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3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boucle solaire «Vitosol 200-F SVK/SVKA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4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u système de stockage «Vitocell 100-W CVSA 200 L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focus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 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Arial"/>
              </a:rPr>
              <a:t>2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9" name="Object 16"/>
          <p:cNvGraphicFramePr/>
          <p:nvPr/>
        </p:nvGraphicFramePr>
        <p:xfrm>
          <a:off x="5519880" y="3449520"/>
          <a:ext cx="183960" cy="1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3449520"/>
                    <a:ext cx="183960" cy="1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8"/>
          <p:cNvGraphicFramePr/>
          <p:nvPr/>
        </p:nvGraphicFramePr>
        <p:xfrm>
          <a:off x="3267000" y="432756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2756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83"/>
          <p:cNvSpPr/>
          <p:nvPr/>
        </p:nvSpPr>
        <p:spPr>
          <a:xfrm>
            <a:off x="1447920" y="3227400"/>
            <a:ext cx="18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4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Vitodens 100 W B1KA009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Vitocell 100-W CVSA 200 L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Vitosol 200-F type SVK/SVKA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6" name="Object 17"/>
          <p:cNvGraphicFramePr/>
          <p:nvPr/>
        </p:nvGraphicFramePr>
        <p:xfrm>
          <a:off x="7039080" y="393876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7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39080" y="393876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8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78480" y="4576680"/>
            <a:ext cx="190440" cy="141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8" descr=""/>
          <p:cNvPicPr/>
          <p:nvPr/>
        </p:nvPicPr>
        <p:blipFill>
          <a:blip r:embed="rId8"/>
          <a:stretch/>
        </p:blipFill>
        <p:spPr>
          <a:xfrm>
            <a:off x="7419960" y="4068720"/>
            <a:ext cx="2892600" cy="249084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20" name="Picture 27" descr=""/>
          <p:cNvPicPr/>
          <p:nvPr/>
        </p:nvPicPr>
        <p:blipFill>
          <a:blip r:embed="rId9"/>
          <a:stretch/>
        </p:blipFill>
        <p:spPr>
          <a:xfrm>
            <a:off x="8513640" y="4759200"/>
            <a:ext cx="1800360" cy="276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7" descr=""/>
          <p:cNvPicPr/>
          <p:nvPr/>
        </p:nvPicPr>
        <p:blipFill>
          <a:blip r:embed="rId10"/>
          <a:stretch/>
        </p:blipFill>
        <p:spPr>
          <a:xfrm>
            <a:off x="8513640" y="4543560"/>
            <a:ext cx="1800360" cy="276120"/>
          </a:xfrm>
          <a:prstGeom prst="rect">
            <a:avLst/>
          </a:prstGeom>
          <a:ln w="0">
            <a:noFill/>
          </a:ln>
        </p:spPr>
      </p:pic>
      <p:sp>
        <p:nvSpPr>
          <p:cNvPr id="422" name="ZoneTexte 15"/>
          <p:cNvSpPr/>
          <p:nvPr/>
        </p:nvSpPr>
        <p:spPr>
          <a:xfrm>
            <a:off x="8442360" y="45435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45 Helvetica Light"/>
              </a:rPr>
              <a:t>Ballon Vitocell 100-W CVSA 200 L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ZoneTexte 16"/>
          <p:cNvSpPr/>
          <p:nvPr/>
        </p:nvSpPr>
        <p:spPr>
          <a:xfrm>
            <a:off x="8442360" y="4695840"/>
            <a:ext cx="1582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45 Helvetica Light"/>
              </a:rPr>
              <a:t>Vitodens 100 W B1KA009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ZoneTexte 17"/>
          <p:cNvSpPr/>
          <p:nvPr/>
        </p:nvSpPr>
        <p:spPr>
          <a:xfrm>
            <a:off x="8442360" y="4830840"/>
            <a:ext cx="1942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45 Helvetica Light"/>
              </a:rPr>
              <a:t>Capteur Vitosol 200-F type SVK/SVKA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5" name="Espace réservé du texte 5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AD4-367E-4FE5-A969-702F935F2FB7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36" descr="LaCie Disk:1 GRAPHISME:ELEMENTS_OK_FICHES_BET_PRODUIT:F3_BBS:F3_B_1.jpg"/>
          <p:cNvPicPr/>
          <p:nvPr/>
        </p:nvPicPr>
        <p:blipFill>
          <a:blip r:embed="rId1"/>
          <a:stretch/>
        </p:blipFill>
        <p:spPr>
          <a:xfrm>
            <a:off x="808200" y="1909800"/>
            <a:ext cx="5308560" cy="23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8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3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6959520" y="2646360"/>
            <a:ext cx="1868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30" name="AutoShape 16"/>
          <p:cNvCxnSpPr/>
          <p:nvPr/>
        </p:nvCxnSpPr>
        <p:spPr>
          <a:xfrm flipV="1" rot="16200000">
            <a:off x="6764760" y="267336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31" name="AutoShape 19"/>
          <p:cNvCxnSpPr/>
          <p:nvPr/>
        </p:nvCxnSpPr>
        <p:spPr>
          <a:xfrm flipV="1" rot="16200000">
            <a:off x="6764760" y="267336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32" name="AutoShape 24"/>
          <p:cNvCxnSpPr/>
          <p:nvPr/>
        </p:nvCxnSpPr>
        <p:spPr>
          <a:xfrm flipV="1" rot="16200000">
            <a:off x="6599520" y="328284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33" name="AutoShape 41"/>
          <p:cNvCxnSpPr/>
          <p:nvPr/>
        </p:nvCxnSpPr>
        <p:spPr>
          <a:xfrm flipH="1" flipV="1" rot="10800000">
            <a:off x="91800" y="39240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4" name="Freeform 25"/>
          <p:cNvSpPr/>
          <p:nvPr/>
        </p:nvSpPr>
        <p:spPr>
          <a:xfrm>
            <a:off x="5684760" y="2971800"/>
            <a:ext cx="2362320" cy="504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Text Box 37"/>
          <p:cNvSpPr/>
          <p:nvPr/>
        </p:nvSpPr>
        <p:spPr>
          <a:xfrm>
            <a:off x="3208320" y="404352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45 Helvetica Light"/>
              </a:rPr>
              <a:t>55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6" name="Picture 17" descr=""/>
          <p:cNvPicPr/>
          <p:nvPr/>
        </p:nvPicPr>
        <p:blipFill>
          <a:blip r:embed="rId2"/>
          <a:stretch/>
        </p:blipFill>
        <p:spPr>
          <a:xfrm>
            <a:off x="3233880" y="2143080"/>
            <a:ext cx="838080" cy="181080"/>
          </a:xfrm>
          <a:prstGeom prst="rect">
            <a:avLst/>
          </a:prstGeom>
          <a:ln w="0">
            <a:noFill/>
          </a:ln>
        </p:spPr>
      </p:pic>
      <p:sp>
        <p:nvSpPr>
          <p:cNvPr id="437" name="Espace réservé du texte 22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36"/>
          <p:cNvSpPr/>
          <p:nvPr/>
        </p:nvSpPr>
        <p:spPr>
          <a:xfrm>
            <a:off x="6784920" y="3351600"/>
            <a:ext cx="34578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A818-2C5D-4B80-95CE-ADD75B594E4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9" descr="LaCie Disk:1 GRAPHISME:ELEMENTS_OK_FICHES_BET_PRODUIT:F3_BBS:F3_B_2.jpg"/>
          <p:cNvPicPr/>
          <p:nvPr/>
        </p:nvPicPr>
        <p:blipFill>
          <a:blip r:embed="rId1"/>
          <a:stretch/>
        </p:blipFill>
        <p:spPr>
          <a:xfrm>
            <a:off x="714240" y="1380960"/>
            <a:ext cx="4648320" cy="1560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41" name="Picture 110" descr="LaCie Disk:1 GRAPHISME:ELEMENTS_OK_FICHES_BET_PRODUIT:F3_BBS:F3_B_3.jpg"/>
          <p:cNvPicPr/>
          <p:nvPr/>
        </p:nvPicPr>
        <p:blipFill>
          <a:blip r:embed="rId2"/>
          <a:stretch/>
        </p:blipFill>
        <p:spPr>
          <a:xfrm>
            <a:off x="736560" y="313380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42" name="Text Box 7"/>
          <p:cNvSpPr/>
          <p:nvPr/>
        </p:nvSpPr>
        <p:spPr>
          <a:xfrm>
            <a:off x="6870600" y="2041560"/>
            <a:ext cx="1881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43" name="AutoShape 8"/>
          <p:cNvCxnSpPr/>
          <p:nvPr/>
        </p:nvCxnSpPr>
        <p:spPr>
          <a:xfrm flipV="1" rot="16200000">
            <a:off x="6690240" y="17542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44" name="AutoShape 9"/>
          <p:cNvCxnSpPr/>
          <p:nvPr/>
        </p:nvCxnSpPr>
        <p:spPr>
          <a:xfrm flipV="1" rot="16200000">
            <a:off x="6690240" y="17542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45" name="AutoShape 10"/>
          <p:cNvCxnSpPr/>
          <p:nvPr/>
        </p:nvCxnSpPr>
        <p:spPr>
          <a:xfrm flipV="1" rot="16200000">
            <a:off x="6527880" y="267804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46" name="AutoShape 12"/>
          <p:cNvCxnSpPr/>
          <p:nvPr/>
        </p:nvCxnSpPr>
        <p:spPr>
          <a:xfrm flipH="1" flipV="1" rot="10800000">
            <a:off x="1728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7" name="Freeform 25"/>
          <p:cNvSpPr/>
          <p:nvPr/>
        </p:nvSpPr>
        <p:spPr>
          <a:xfrm flipV="1">
            <a:off x="4452840" y="2904840"/>
            <a:ext cx="5486400" cy="38088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6689880" y="2448000"/>
            <a:ext cx="343980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9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55880" y="191448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11"/>
          <p:cNvSpPr/>
          <p:nvPr/>
        </p:nvSpPr>
        <p:spPr>
          <a:xfrm>
            <a:off x="3078720" y="341964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3,8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1" name="Text Box 112"/>
          <p:cNvSpPr/>
          <p:nvPr/>
        </p:nvSpPr>
        <p:spPr>
          <a:xfrm>
            <a:off x="3078720" y="363204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,90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Text Box 113"/>
          <p:cNvSpPr/>
          <p:nvPr/>
        </p:nvSpPr>
        <p:spPr>
          <a:xfrm>
            <a:off x="3047760" y="427680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114"/>
          <p:cNvSpPr/>
          <p:nvPr/>
        </p:nvSpPr>
        <p:spPr>
          <a:xfrm>
            <a:off x="3060720" y="44845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Text Box 115"/>
          <p:cNvSpPr/>
          <p:nvPr/>
        </p:nvSpPr>
        <p:spPr>
          <a:xfrm>
            <a:off x="3081240" y="469728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,8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Text Box 116"/>
          <p:cNvSpPr/>
          <p:nvPr/>
        </p:nvSpPr>
        <p:spPr>
          <a:xfrm>
            <a:off x="3061440" y="488628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118"/>
          <p:cNvSpPr/>
          <p:nvPr/>
        </p:nvSpPr>
        <p:spPr>
          <a:xfrm>
            <a:off x="3063960" y="534348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120"/>
          <p:cNvSpPr/>
          <p:nvPr/>
        </p:nvSpPr>
        <p:spPr>
          <a:xfrm>
            <a:off x="3080160" y="55609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0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121"/>
          <p:cNvSpPr/>
          <p:nvPr/>
        </p:nvSpPr>
        <p:spPr>
          <a:xfrm>
            <a:off x="3079800" y="5757840"/>
            <a:ext cx="43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7,90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122"/>
          <p:cNvSpPr/>
          <p:nvPr/>
        </p:nvSpPr>
        <p:spPr>
          <a:xfrm>
            <a:off x="3079800" y="59641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,00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123"/>
          <p:cNvSpPr/>
          <p:nvPr/>
        </p:nvSpPr>
        <p:spPr>
          <a:xfrm>
            <a:off x="3054600" y="618156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124"/>
          <p:cNvSpPr/>
          <p:nvPr/>
        </p:nvSpPr>
        <p:spPr>
          <a:xfrm>
            <a:off x="3054600" y="641016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124"/>
          <p:cNvSpPr/>
          <p:nvPr/>
        </p:nvSpPr>
        <p:spPr>
          <a:xfrm>
            <a:off x="3048480" y="657864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3" name="Picture 35" descr=""/>
          <p:cNvPicPr/>
          <p:nvPr/>
        </p:nvPicPr>
        <p:blipFill>
          <a:blip r:embed="rId4"/>
          <a:stretch/>
        </p:blipFill>
        <p:spPr>
          <a:xfrm>
            <a:off x="3019320" y="1647720"/>
            <a:ext cx="1000080" cy="171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5" descr=""/>
          <p:cNvPicPr/>
          <p:nvPr/>
        </p:nvPicPr>
        <p:blipFill>
          <a:blip r:embed="rId5"/>
          <a:stretch/>
        </p:blipFill>
        <p:spPr>
          <a:xfrm>
            <a:off x="3386160" y="1647720"/>
            <a:ext cx="1000080" cy="171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5" descr=""/>
          <p:cNvPicPr/>
          <p:nvPr/>
        </p:nvPicPr>
        <p:blipFill>
          <a:blip r:embed="rId6"/>
          <a:stretch/>
        </p:blipFill>
        <p:spPr>
          <a:xfrm>
            <a:off x="3019320" y="2079720"/>
            <a:ext cx="1000080" cy="1713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5" descr=""/>
          <p:cNvPicPr/>
          <p:nvPr/>
        </p:nvPicPr>
        <p:blipFill>
          <a:blip r:embed="rId7"/>
          <a:stretch/>
        </p:blipFill>
        <p:spPr>
          <a:xfrm>
            <a:off x="3530520" y="2079720"/>
            <a:ext cx="1000080" cy="171360"/>
          </a:xfrm>
          <a:prstGeom prst="rect">
            <a:avLst/>
          </a:prstGeom>
          <a:ln w="0">
            <a:noFill/>
          </a:ln>
        </p:spPr>
      </p:pic>
      <p:sp>
        <p:nvSpPr>
          <p:cNvPr id="467" name="ZoneTexte 38"/>
          <p:cNvSpPr/>
          <p:nvPr/>
        </p:nvSpPr>
        <p:spPr>
          <a:xfrm>
            <a:off x="2946240" y="1622520"/>
            <a:ext cx="2232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Chaudière Vitodens 100-W B1K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ZoneTexte 39"/>
          <p:cNvSpPr/>
          <p:nvPr/>
        </p:nvSpPr>
        <p:spPr>
          <a:xfrm>
            <a:off x="2946240" y="2036880"/>
            <a:ext cx="2232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Chaudière Vitodens 100-W B1K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6638760" y="144792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8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318F-D480-462B-8013-D7A24A79F652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2" name="Text Box 115"/>
          <p:cNvSpPr/>
          <p:nvPr/>
        </p:nvSpPr>
        <p:spPr>
          <a:xfrm>
            <a:off x="3041280" y="507672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8,5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844560" y="1522440"/>
            <a:ext cx="5203800" cy="4600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74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5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6966000" y="225900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6" name="AutoShape 9"/>
          <p:cNvCxnSpPr/>
          <p:nvPr/>
        </p:nvCxnSpPr>
        <p:spPr>
          <a:xfrm flipH="1" flipV="1" rot="10800000">
            <a:off x="6707520" y="716724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7" name="AutoShape 10"/>
          <p:cNvCxnSpPr/>
          <p:nvPr/>
        </p:nvCxnSpPr>
        <p:spPr>
          <a:xfrm flipH="1" flipV="1" rot="10800000">
            <a:off x="6707520" y="716724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8" name="AutoShape 11"/>
          <p:cNvCxnSpPr/>
          <p:nvPr/>
        </p:nvCxnSpPr>
        <p:spPr>
          <a:xfrm flipH="1" rot="16200000">
            <a:off x="6605640" y="28936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79" name="AutoShape 12"/>
          <p:cNvCxnSpPr/>
          <p:nvPr/>
        </p:nvCxnSpPr>
        <p:spPr>
          <a:xfrm flipH="1" flipV="1" rot="10800000">
            <a:off x="75960" y="38595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80" name="Freeform 24"/>
          <p:cNvSpPr/>
          <p:nvPr/>
        </p:nvSpPr>
        <p:spPr>
          <a:xfrm>
            <a:off x="5614920" y="3046320"/>
            <a:ext cx="2590920" cy="5335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Text Box 29"/>
          <p:cNvSpPr/>
          <p:nvPr/>
        </p:nvSpPr>
        <p:spPr>
          <a:xfrm>
            <a:off x="3252960" y="258912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014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3252960" y="281772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3252960" y="35035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3252960" y="37321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Text Box 48"/>
          <p:cNvSpPr/>
          <p:nvPr/>
        </p:nvSpPr>
        <p:spPr>
          <a:xfrm>
            <a:off x="3252960" y="39607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Text Box 49"/>
          <p:cNvSpPr/>
          <p:nvPr/>
        </p:nvSpPr>
        <p:spPr>
          <a:xfrm>
            <a:off x="3274920" y="41893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99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Text Box 50"/>
          <p:cNvSpPr/>
          <p:nvPr/>
        </p:nvSpPr>
        <p:spPr>
          <a:xfrm>
            <a:off x="3274920" y="457056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138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Text Box 51"/>
          <p:cNvSpPr/>
          <p:nvPr/>
        </p:nvSpPr>
        <p:spPr>
          <a:xfrm>
            <a:off x="3252960" y="565308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9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Text Box 52"/>
          <p:cNvSpPr/>
          <p:nvPr/>
        </p:nvSpPr>
        <p:spPr>
          <a:xfrm>
            <a:off x="3252960" y="588168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4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84920" y="1522440"/>
            <a:ext cx="343692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Freeform 24"/>
          <p:cNvSpPr/>
          <p:nvPr/>
        </p:nvSpPr>
        <p:spPr>
          <a:xfrm>
            <a:off x="5614920" y="258912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6784920" y="228456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Freeform 24"/>
          <p:cNvSpPr/>
          <p:nvPr/>
        </p:nvSpPr>
        <p:spPr>
          <a:xfrm>
            <a:off x="5614920" y="3351240"/>
            <a:ext cx="2210040" cy="11430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Freeform 24"/>
          <p:cNvSpPr/>
          <p:nvPr/>
        </p:nvSpPr>
        <p:spPr>
          <a:xfrm>
            <a:off x="5614920" y="357984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6784920" y="501156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Freeform 61"/>
          <p:cNvSpPr/>
          <p:nvPr/>
        </p:nvSpPr>
        <p:spPr>
          <a:xfrm>
            <a:off x="5462640" y="5145120"/>
            <a:ext cx="2057400" cy="11016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1296" h="768">
                <a:moveTo>
                  <a:pt x="1296" y="768"/>
                </a:moveTo>
                <a:lnTo>
                  <a:pt x="672" y="768"/>
                </a:lnTo>
                <a:lnTo>
                  <a:pt x="672" y="384"/>
                </a:lnTo>
                <a:lnTo>
                  <a:pt x="672" y="336"/>
                </a:lnTo>
                <a:lnTo>
                  <a:pt x="288" y="336"/>
                </a:lnTo>
                <a:lnTo>
                  <a:pt x="288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84920" y="594216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’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3998880" y="5827680"/>
            <a:ext cx="1843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9" name="AutoShape 65"/>
          <p:cNvSpPr/>
          <p:nvPr/>
        </p:nvSpPr>
        <p:spPr>
          <a:xfrm>
            <a:off x="5251320" y="488160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0" name="Picture 38" descr=""/>
          <p:cNvPicPr/>
          <p:nvPr/>
        </p:nvPicPr>
        <p:blipFill>
          <a:blip r:embed="rId2"/>
          <a:stretch/>
        </p:blipFill>
        <p:spPr>
          <a:xfrm>
            <a:off x="3240000" y="3017880"/>
            <a:ext cx="1008000" cy="142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9" descr=""/>
          <p:cNvPicPr/>
          <p:nvPr/>
        </p:nvPicPr>
        <p:blipFill>
          <a:blip r:embed="rId3"/>
          <a:stretch/>
        </p:blipFill>
        <p:spPr>
          <a:xfrm>
            <a:off x="3240000" y="3233880"/>
            <a:ext cx="324000" cy="2188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6"/>
          <p:cNvSpPr/>
          <p:nvPr/>
        </p:nvSpPr>
        <p:spPr>
          <a:xfrm>
            <a:off x="3240000" y="3017880"/>
            <a:ext cx="198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elon proje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Text Box 46"/>
          <p:cNvSpPr/>
          <p:nvPr/>
        </p:nvSpPr>
        <p:spPr>
          <a:xfrm>
            <a:off x="3240000" y="3233880"/>
            <a:ext cx="1981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elon proje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4" name="Picture 40" descr=""/>
          <p:cNvPicPr/>
          <p:nvPr/>
        </p:nvPicPr>
        <p:blipFill>
          <a:blip r:embed="rId4"/>
          <a:stretch/>
        </p:blipFill>
        <p:spPr>
          <a:xfrm>
            <a:off x="3247920" y="1865160"/>
            <a:ext cx="1000080" cy="1717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0" descr=""/>
          <p:cNvPicPr/>
          <p:nvPr/>
        </p:nvPicPr>
        <p:blipFill>
          <a:blip r:embed="rId5"/>
          <a:stretch/>
        </p:blipFill>
        <p:spPr>
          <a:xfrm>
            <a:off x="3537000" y="1865160"/>
            <a:ext cx="1000080" cy="1717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0" descr=""/>
          <p:cNvPicPr/>
          <p:nvPr/>
        </p:nvPicPr>
        <p:blipFill>
          <a:blip r:embed="rId6"/>
          <a:stretch/>
        </p:blipFill>
        <p:spPr>
          <a:xfrm>
            <a:off x="3313080" y="4933800"/>
            <a:ext cx="1000080" cy="171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"/>
          <p:cNvPicPr/>
          <p:nvPr/>
        </p:nvPicPr>
        <p:blipFill>
          <a:blip r:embed="rId7"/>
          <a:stretch/>
        </p:blipFill>
        <p:spPr>
          <a:xfrm>
            <a:off x="3897360" y="4960800"/>
            <a:ext cx="1000080" cy="17172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0"/>
          <p:cNvSpPr/>
          <p:nvPr/>
        </p:nvSpPr>
        <p:spPr>
          <a:xfrm>
            <a:off x="3274920" y="49672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,007 W/K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3240000" y="1865160"/>
            <a:ext cx="23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CESI Capteur Vitosol 200-F SVK/SVKA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0" name="Picture 41" descr=""/>
          <p:cNvPicPr/>
          <p:nvPr/>
        </p:nvPicPr>
        <p:blipFill>
          <a:blip r:embed="rId8"/>
          <a:stretch/>
        </p:blipFill>
        <p:spPr>
          <a:xfrm>
            <a:off x="3240000" y="5437080"/>
            <a:ext cx="1000080" cy="1717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49"/>
          <p:cNvSpPr/>
          <p:nvPr/>
        </p:nvSpPr>
        <p:spPr>
          <a:xfrm>
            <a:off x="3274920" y="5392800"/>
            <a:ext cx="198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Sans échangeur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6764400" y="315288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764400" y="416088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C521-3AC0-4F4E-BE74-CAF2A0700FB1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5" name="Espace réservé du texte 46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</a:t>
            </a:r>
            <a:r>
              <a:rPr b="0" lang="fr-FR" sz="2900" spc="-1" strike="noStrike">
                <a:solidFill>
                  <a:srgbClr val="662483"/>
                </a:solidFill>
                <a:latin typeface="45 Helvetica Light"/>
              </a:rPr>
              <a:t>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45 Helvetica Light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45 Helvetica Light"/>
              </a:rPr>
              <a:t>objet boucle solaire «Vitosol 200-F type SVK/SVKA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663480" y="371016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17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663480" y="1652760"/>
            <a:ext cx="4737240" cy="1865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18" name="Text Box 9"/>
          <p:cNvSpPr/>
          <p:nvPr/>
        </p:nvSpPr>
        <p:spPr>
          <a:xfrm>
            <a:off x="6837480" y="238932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9" name="AutoShape 12"/>
          <p:cNvCxnSpPr/>
          <p:nvPr/>
        </p:nvCxnSpPr>
        <p:spPr>
          <a:xfrm flipH="1" rot="16200000">
            <a:off x="6477120" y="30240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20" name="AutoShape 13"/>
          <p:cNvCxnSpPr/>
          <p:nvPr/>
        </p:nvCxnSpPr>
        <p:spPr>
          <a:xfrm flipH="1" flipV="1" rot="10800000">
            <a:off x="75960" y="38516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21" name="Text Box 22"/>
          <p:cNvSpPr/>
          <p:nvPr/>
        </p:nvSpPr>
        <p:spPr>
          <a:xfrm>
            <a:off x="6656400" y="3557520"/>
            <a:ext cx="34369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2" name="Freeform 23"/>
          <p:cNvSpPr/>
          <p:nvPr/>
        </p:nvSpPr>
        <p:spPr>
          <a:xfrm flipV="1">
            <a:off x="5105520" y="206316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3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81080" y="2290680"/>
            <a:ext cx="865440" cy="202896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24"/>
          <p:cNvSpPr/>
          <p:nvPr/>
        </p:nvSpPr>
        <p:spPr>
          <a:xfrm flipV="1">
            <a:off x="5105520" y="4091040"/>
            <a:ext cx="3657600" cy="4968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5" name="Freeform 24"/>
          <p:cNvSpPr/>
          <p:nvPr/>
        </p:nvSpPr>
        <p:spPr>
          <a:xfrm>
            <a:off x="5105520" y="5005440"/>
            <a:ext cx="3047760" cy="65412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6656400" y="5462640"/>
            <a:ext cx="343692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, les pertes thermiques du ballon impactent la consomma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Text Box 25"/>
          <p:cNvSpPr/>
          <p:nvPr/>
        </p:nvSpPr>
        <p:spPr>
          <a:xfrm>
            <a:off x="6656400" y="378612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8" name="Freeform 24"/>
          <p:cNvSpPr/>
          <p:nvPr/>
        </p:nvSpPr>
        <p:spPr>
          <a:xfrm flipV="1">
            <a:off x="5105520" y="2382480"/>
            <a:ext cx="3657600" cy="38088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6656400" y="200196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2892240" y="450864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00.0 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2877120" y="47005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2894040" y="4929120"/>
            <a:ext cx="47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.38 W/K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2933640" y="5192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0° 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2862720" y="538632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5" name="Text Box 44"/>
          <p:cNvSpPr/>
          <p:nvPr/>
        </p:nvSpPr>
        <p:spPr>
          <a:xfrm>
            <a:off x="2898000" y="563868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2,2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6" name="Text Box 46"/>
          <p:cNvSpPr/>
          <p:nvPr/>
        </p:nvSpPr>
        <p:spPr>
          <a:xfrm>
            <a:off x="2892600" y="588024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7" name="Picture 42" descr=""/>
          <p:cNvPicPr/>
          <p:nvPr/>
        </p:nvPicPr>
        <p:blipFill>
          <a:blip r:embed="rId4"/>
          <a:stretch/>
        </p:blipFill>
        <p:spPr>
          <a:xfrm>
            <a:off x="2854440" y="2903400"/>
            <a:ext cx="1914480" cy="171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5" descr=""/>
          <p:cNvPicPr/>
          <p:nvPr/>
        </p:nvPicPr>
        <p:blipFill>
          <a:blip r:embed="rId5"/>
          <a:stretch/>
        </p:blipFill>
        <p:spPr>
          <a:xfrm>
            <a:off x="2824200" y="1895400"/>
            <a:ext cx="1000080" cy="171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5" descr=""/>
          <p:cNvPicPr/>
          <p:nvPr/>
        </p:nvPicPr>
        <p:blipFill>
          <a:blip r:embed="rId6"/>
          <a:stretch/>
        </p:blipFill>
        <p:spPr>
          <a:xfrm>
            <a:off x="3479760" y="1895400"/>
            <a:ext cx="1000080" cy="1713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6"/>
          <p:cNvSpPr/>
          <p:nvPr/>
        </p:nvSpPr>
        <p:spPr>
          <a:xfrm>
            <a:off x="2859120" y="1922400"/>
            <a:ext cx="1981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Ballon Vitocell 100-W CVSA 200 L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41" name="Picture 36" descr=""/>
          <p:cNvPicPr/>
          <p:nvPr/>
        </p:nvPicPr>
        <p:blipFill>
          <a:blip r:embed="rId7"/>
          <a:stretch/>
        </p:blipFill>
        <p:spPr>
          <a:xfrm>
            <a:off x="2824200" y="2282760"/>
            <a:ext cx="1000080" cy="1713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46"/>
          <p:cNvSpPr/>
          <p:nvPr/>
        </p:nvSpPr>
        <p:spPr>
          <a:xfrm>
            <a:off x="2859120" y="2282760"/>
            <a:ext cx="1981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Ballon Vitocell 100-W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3" name="Text Box 46"/>
          <p:cNvSpPr/>
          <p:nvPr/>
        </p:nvSpPr>
        <p:spPr>
          <a:xfrm>
            <a:off x="2824200" y="2498760"/>
            <a:ext cx="2521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CESI Capteur Vitosol 200-F type SVK/SVKA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2824200" y="2921040"/>
            <a:ext cx="2521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Chaudière Vitodens 100 W B1KA009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5" name="Espace réservé du texte 39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Vitocell 100-W CSVA 200 L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6191-4ACC-49D6-B919-9EE2C770A119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0" descr=""/>
          <p:cNvPicPr/>
          <p:nvPr/>
        </p:nvPicPr>
        <p:blipFill>
          <a:blip r:embed="rId1"/>
          <a:stretch/>
        </p:blipFill>
        <p:spPr>
          <a:xfrm>
            <a:off x="1168560" y="2557440"/>
            <a:ext cx="5591160" cy="638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7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927840" y="1811160"/>
            <a:ext cx="1800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50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51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52" name="AutoShape 12"/>
          <p:cNvCxnSpPr/>
          <p:nvPr/>
        </p:nvCxnSpPr>
        <p:spPr>
          <a:xfrm flipH="1" rot="16200000">
            <a:off x="6927840" y="32763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53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54" name="Text Box 22"/>
          <p:cNvSpPr/>
          <p:nvPr/>
        </p:nvSpPr>
        <p:spPr>
          <a:xfrm>
            <a:off x="4192560" y="2486160"/>
            <a:ext cx="172728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5" name="Freeform 23"/>
          <p:cNvSpPr/>
          <p:nvPr/>
        </p:nvSpPr>
        <p:spPr>
          <a:xfrm flipV="1">
            <a:off x="5610240" y="2456640"/>
            <a:ext cx="1600200" cy="8622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1168560" y="1981080"/>
            <a:ext cx="568800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57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895480" y="203184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8"/>
          <p:cNvSpPr/>
          <p:nvPr/>
        </p:nvSpPr>
        <p:spPr>
          <a:xfrm>
            <a:off x="4048200" y="2773440"/>
            <a:ext cx="149364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9" name="Text Box 40"/>
          <p:cNvSpPr/>
          <p:nvPr/>
        </p:nvSpPr>
        <p:spPr>
          <a:xfrm>
            <a:off x="4119480" y="2989440"/>
            <a:ext cx="6001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70.0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60" name="Espace réservé du texte 21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61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15BF-09F4-41F4-BBE0-072B5E3F2D2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4:23:53Z</dcterms:modified>
  <cp:revision>122</cp:revision>
  <dc:subject/>
  <dc:title>Présentation PowerPoint</dc:title>
</cp:coreProperties>
</file>