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0.png" ContentType="image/png"/>
  <Override PartName="/ppt/media/image5.wmf" ContentType="image/x-wmf"/>
  <Override PartName="/ppt/media/image10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9BD-EAAC-4FA6-BB1F-931709F9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5A3-6B5D-44A0-8E3D-59AA93CF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984A4-80A8-489C-9ACD-5FCD31A6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FAF62-8766-4E9A-A8E2-3454947E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DD701-15DF-4516-9AE2-D7411FD8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0A00C-6910-4779-A2EF-C46EBB52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6016D-D756-4984-9353-06AD7C71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A5EC2-F58D-4AAD-A5BD-0A68B282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C6F26-0A25-4DAB-B6E2-CEE6003F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F0913-C2E4-42C7-961E-42380F2D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4B746-34E0-4A8C-9ADE-0288796A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BB3-F8D4-47E5-A17C-79974B03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82B-2BBD-4C38-9BA9-E90073D3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0D00-6534-4FAB-A2BE-7740F107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E7C8-F565-4C02-A917-D73116BC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B568-061D-4AA4-B320-7199A93D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1719-7E74-46C1-9AA5-73F289B2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B1E9-01B2-4944-9204-DC02493E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9639-90BA-4F8E-A26A-DD7238B0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BA15-14EC-4BC5-8A5E-49008727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74F-CF61-4F35-AB87-E2F95240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86E5-AFBF-4BB7-B523-A8557FDD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245D-091A-4BE3-881E-1100B122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A678-F7E0-4C7F-B168-06D658B8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7309-74E7-4C01-9F01-82F4CF09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F7E1-7071-4F30-9410-16CAF711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0575B-CF21-449C-8C9A-D1637084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8565F-5184-4E20-A7F0-E27EEFB2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C67D4-4DD5-492F-8EB9-D6C0B826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F6AD-232D-4CBE-9543-B5EDCBEA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1BA3C-D35A-47CA-96A6-87E0BE67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9CC4-C013-4EE7-AEAD-78D242BC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9572-689C-459B-BD07-1BC3E4F2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F9501-D9C5-4DA0-BEA3-ECF46699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FF03-AF05-448F-B5DD-21AD5A1E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8F953-8AF2-4806-B1A7-5FBB1BCB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9C40A-59FB-47FE-B89C-4908317D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48CC-07CC-4C19-8477-68BA4D29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7A39-D2A6-43EF-B1CE-D8BD1FEC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86DD5-FF64-401D-9DD3-C9A081E1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1396E-DF4D-4C7A-9236-8F4CC692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A66F9-863A-45D6-9FC6-A5713014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524-4FE7-480F-9F7E-DDC4B101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49AF4-4433-485D-B77B-195B37BA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41098-45EC-42A6-8122-79D8585B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490EB-0685-453E-BD9C-391D05C1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CF655-D907-4046-9FB3-27779DCC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CA0CF-69BB-4B5D-84BC-D64E6C73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279B2-EBEF-4041-914C-ED7182A1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997D5-DC05-4492-B719-25677B3C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FC3F7-9D53-4BD2-BF5F-518DD847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F1B00-DDEE-42A1-BB8B-35886D52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DF724-3A02-4C99-9A26-AC973B4E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FFB5-E126-4D6C-80B4-E33DFA3E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ACDD7-949F-46B0-A51A-B369C0CB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3D384-B521-4E86-A56A-077A55B7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D10CC-295B-484B-B409-1FDBED97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8E949-AE01-460B-BE62-F387086A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858D4-5DC5-445A-8263-66261969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6753F-1ED2-4AFB-9A5D-0592C436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368BC-710B-4E18-AC41-EEB055AE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A2BD4-C83C-4EF1-ACA6-89B89F3C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04F45-9AFF-4AF1-96BB-CF93D5A4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1F98F-A790-44E9-9EFA-70011984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54C-591B-4E3D-B663-9F44E53D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1FDAF-7861-485C-890F-724B65BD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4BC43-296D-4F8E-924A-BE4A7675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D8103-0E32-47C6-AC09-0E847456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EB683-85A8-4269-9A5F-19F75638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AD1A8-6263-4F4E-86E6-E8D69319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D3531-57ED-4F5D-A014-ED8C2418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6D8D4-7BB9-42DB-82BC-3892F95B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B6558-0C04-4740-8E98-FFB0403C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E76FB-0066-4F8D-B425-ED90864B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F9EC5-00EB-4511-B05C-BA02081C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5D3-1FB1-4E2B-8574-ED2DE389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DC173-7EF2-4834-A230-F3DB02A2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1A971-9CE2-4B21-92A4-226A26B1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818E9-FF8C-44F3-9639-637797EA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1BE72-70C0-4BD8-B725-584F49A1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1C4A8-FD89-4025-A805-2D59343B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CCDBC-E642-4659-B344-9C83D465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C095C-B3AF-4CC6-88F4-1E21B81F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A95B4-2B92-4498-8669-BF540518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9E17C-84E7-46F0-813C-38B2FE0B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7F263-C717-4FB3-9528-8126A956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0088-10D6-4B4B-98FD-C0CF2D5E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003FC-3B04-49F4-8DE8-8E41B9ED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B3E09-5B64-421C-8CF5-29567A8F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CD35A-0576-4228-9535-7EDE92C1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1EC92-0782-498D-976B-71D98288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23C7C-855D-46A5-AB75-79885FCE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596C0-7B9E-4580-A9F7-98DE50B5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ECB31-E99C-41A7-A924-AF6D05D3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9FDE3-84C9-4013-A089-02FBBC7D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B33D7-D625-4B3F-8216-A93A0A38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1329E-143A-4D5A-8578-7C00D95D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8CC-459E-4332-919E-54EE6920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EA76E-9A17-48A2-AEB7-1355E988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619FA-A60C-45E1-B82B-AB80350F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5AEDC-AD18-440D-A2CA-49C52E74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7E921-A05E-4F4E-A578-AB62655E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2FD4F-C054-428C-9A04-FFBF79FA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82894-2115-4DD9-A53F-6FBDBA60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B3115-8D13-4804-95A8-9907A41F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EC08A-7206-4D4F-8BBD-77AF916A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6BDA9-7B2A-48BA-A984-13A53E70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2B59F-93FB-49CB-B644-3AF9A424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28C9-C6DA-4751-B489-66EA204A6321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151A-3D9F-4996-9F3F-A594DCB18F4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E29D-389D-447A-B18F-0B39BA06E0B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65B2-6DE9-4AB4-868A-EFF5A945768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8659-E154-4B73-9336-EDF0B1418E3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394B-0FBE-40D3-B6DD-EA8EAC6DBE2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172A-2C52-4F4A-8292-CA579B07D02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EC32-197A-4901-B834-544F1C735BAC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C29D-C670-4A62-9CE3-9461165DB1B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hyperlink" Target="https://techniqueuniclima.com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3200"/>
            </a:b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VAILLANT</a:t>
            </a:r>
            <a:endParaRPr b="0" lang="en-US" sz="32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0"/>
          <p:cNvSpPr/>
          <p:nvPr/>
        </p:nvSpPr>
        <p:spPr>
          <a:xfrm>
            <a:off x="1438200" y="1582560"/>
            <a:ext cx="793440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VAILLANT dans le logiciel d’application de la RT 2012 Clima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La chaudière à condensation + CESI optimisé VAILLANT 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MS PGothic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e la chaudière gaz à condensation (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MS PGothic"/>
              </a:rPr>
              <a:t>«ballon de stockage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  et du système solaire (     ).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e «boucle solaire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e la boucle solaire (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1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2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u générateur «Chaudière Ecotec Plus VUW FR 306/5-5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3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objet boucle solaire «VFK 135 VD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4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u système de stockage «Ballon de stockage AUROSTEP PLUS 1.150 M HI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focus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 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0" name="Object 16"/>
          <p:cNvGraphicFramePr/>
          <p:nvPr/>
        </p:nvGraphicFramePr>
        <p:xfrm>
          <a:off x="5487840" y="3522600"/>
          <a:ext cx="184320" cy="1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7840" y="3522600"/>
                    <a:ext cx="184320" cy="1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18"/>
          <p:cNvGraphicFramePr/>
          <p:nvPr/>
        </p:nvGraphicFramePr>
        <p:xfrm>
          <a:off x="3267000" y="4398840"/>
          <a:ext cx="13356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7000" y="4398840"/>
                    <a:ext cx="13356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Rectangle 83"/>
          <p:cNvSpPr/>
          <p:nvPr/>
        </p:nvSpPr>
        <p:spPr>
          <a:xfrm>
            <a:off x="1447920" y="3227400"/>
            <a:ext cx="18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5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523880" y="2427120"/>
          <a:ext cx="7917120" cy="77796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Ecotec Plus VUW FR 306/5-5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AUROSTEP PLUS 1.150 M HI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VFK 135 VD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7" name="Object 17"/>
          <p:cNvGraphicFramePr/>
          <p:nvPr/>
        </p:nvGraphicFramePr>
        <p:xfrm>
          <a:off x="7039080" y="3938760"/>
          <a:ext cx="177840" cy="20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8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39080" y="3938760"/>
                    <a:ext cx="1778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9" name="Picture 304" descr="LaCie Disk:1 GRAPHISME:ELEMENTS_OK_FICHES_BET_PRODUIT:PICTOS:BOUCLE_SOLAIRE.jpg"/>
          <p:cNvPicPr/>
          <p:nvPr/>
        </p:nvPicPr>
        <p:blipFill>
          <a:blip r:embed="rId7"/>
          <a:stretch/>
        </p:blipFill>
        <p:spPr>
          <a:xfrm>
            <a:off x="6378480" y="4576680"/>
            <a:ext cx="190440" cy="141480"/>
          </a:xfrm>
          <a:prstGeom prst="rect">
            <a:avLst/>
          </a:prstGeom>
          <a:ln w="0">
            <a:noFill/>
          </a:ln>
        </p:spPr>
      </p:pic>
      <p:sp>
        <p:nvSpPr>
          <p:cNvPr id="410" name="Espace réservé du texte 5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1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F997-F4B7-40CE-A56A-09F7385EFB0F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e 17"/>
          <p:cNvGrpSpPr/>
          <p:nvPr/>
        </p:nvGrpSpPr>
        <p:grpSpPr>
          <a:xfrm>
            <a:off x="736560" y="2341440"/>
            <a:ext cx="5308560" cy="2381400"/>
            <a:chOff x="736560" y="2341440"/>
            <a:chExt cx="5308560" cy="2381400"/>
          </a:xfrm>
        </p:grpSpPr>
        <p:pic>
          <p:nvPicPr>
            <p:cNvPr id="413" name="Picture 36" descr="LaCie Disk:1 GRAPHISME:ELEMENTS_OK_FICHES_BET_PRODUIT:F3_BBS:F3_B_1.jpg"/>
            <p:cNvPicPr/>
            <p:nvPr/>
          </p:nvPicPr>
          <p:blipFill>
            <a:blip r:embed="rId1"/>
            <a:stretch/>
          </p:blipFill>
          <p:spPr>
            <a:xfrm>
              <a:off x="736560" y="2341440"/>
              <a:ext cx="5308560" cy="2381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414" name="Picture 17" descr=""/>
            <p:cNvPicPr/>
            <p:nvPr/>
          </p:nvPicPr>
          <p:blipFill>
            <a:blip r:embed="rId2"/>
            <a:stretch/>
          </p:blipFill>
          <p:spPr>
            <a:xfrm>
              <a:off x="3162240" y="2574720"/>
              <a:ext cx="838080" cy="18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3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16" name="AutoShape 24"/>
          <p:cNvCxnSpPr/>
          <p:nvPr/>
        </p:nvCxnSpPr>
        <p:spPr>
          <a:xfrm flipH="1" rot="16200000">
            <a:off x="6570720" y="371772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17" name="AutoShape 41"/>
          <p:cNvCxnSpPr/>
          <p:nvPr/>
        </p:nvCxnSpPr>
        <p:spPr>
          <a:xfrm flipH="1" flipV="1" rot="10800000">
            <a:off x="19440" y="385092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18" name="Freeform 25"/>
          <p:cNvSpPr/>
          <p:nvPr/>
        </p:nvSpPr>
        <p:spPr>
          <a:xfrm>
            <a:off x="5656320" y="3408480"/>
            <a:ext cx="2362320" cy="504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9" name="Text Box 36"/>
          <p:cNvSpPr/>
          <p:nvPr/>
        </p:nvSpPr>
        <p:spPr>
          <a:xfrm>
            <a:off x="6784920" y="3638880"/>
            <a:ext cx="34578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0" name="Text Box 37"/>
          <p:cNvSpPr/>
          <p:nvPr/>
        </p:nvSpPr>
        <p:spPr>
          <a:xfrm>
            <a:off x="3216960" y="447984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49,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21" name="Picture 19" descr=""/>
          <p:cNvPicPr/>
          <p:nvPr/>
        </p:nvPicPr>
        <p:blipFill>
          <a:blip r:embed="rId3"/>
          <a:stretch/>
        </p:blipFill>
        <p:spPr>
          <a:xfrm>
            <a:off x="3205080" y="2976480"/>
            <a:ext cx="847800" cy="17136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9"/>
          <p:cNvSpPr/>
          <p:nvPr/>
        </p:nvSpPr>
        <p:spPr>
          <a:xfrm>
            <a:off x="3162960" y="2932200"/>
            <a:ext cx="77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A82E-B580-4FCC-9087-577E25FE4EC9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5" name="Espace réservé du numéro de diapositive 3"/>
          <p:cNvSpPr/>
          <p:nvPr/>
        </p:nvSpPr>
        <p:spPr>
          <a:xfrm>
            <a:off x="9817200" y="756288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0D79-F55E-4CA6-8C3B-7DF9C6A36CAC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09" descr="LaCie Disk:1 GRAPHISME:ELEMENTS_OK_FICHES_BET_PRODUIT:F3_BBS:F3_B_2.jpg"/>
          <p:cNvPicPr/>
          <p:nvPr/>
        </p:nvPicPr>
        <p:blipFill>
          <a:blip r:embed="rId1"/>
          <a:stretch/>
        </p:blipFill>
        <p:spPr>
          <a:xfrm>
            <a:off x="736560" y="1477800"/>
            <a:ext cx="4648320" cy="1560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27" name="Picture 110" descr="LaCie Disk:1 GRAPHISME:ELEMENTS_OK_FICHES_BET_PRODUIT:F3_BBS:F3_B_3.jpg"/>
          <p:cNvPicPr/>
          <p:nvPr/>
        </p:nvPicPr>
        <p:blipFill>
          <a:blip r:embed="rId2"/>
          <a:stretch/>
        </p:blipFill>
        <p:spPr>
          <a:xfrm>
            <a:off x="736560" y="3230640"/>
            <a:ext cx="4648320" cy="3895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8" name="Text Box 7"/>
          <p:cNvSpPr/>
          <p:nvPr/>
        </p:nvSpPr>
        <p:spPr>
          <a:xfrm>
            <a:off x="6888240" y="2138400"/>
            <a:ext cx="1839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9" name="AutoShape 8"/>
          <p:cNvCxnSpPr/>
          <p:nvPr/>
        </p:nvCxnSpPr>
        <p:spPr>
          <a:xfrm flipH="1" flipV="1" rot="10800000">
            <a:off x="6706800" y="184824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30" name="AutoShape 9"/>
          <p:cNvCxnSpPr/>
          <p:nvPr/>
        </p:nvCxnSpPr>
        <p:spPr>
          <a:xfrm flipH="1" flipV="1" rot="10800000">
            <a:off x="6706800" y="184824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31" name="AutoShape 10"/>
          <p:cNvCxnSpPr/>
          <p:nvPr/>
        </p:nvCxnSpPr>
        <p:spPr>
          <a:xfrm flipH="1" rot="16200000">
            <a:off x="6527880" y="277308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32" name="AutoShape 12"/>
          <p:cNvCxnSpPr/>
          <p:nvPr/>
        </p:nvCxnSpPr>
        <p:spPr>
          <a:xfrm flipH="1" flipV="1" rot="10800000">
            <a:off x="759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3" name="Freeform 25"/>
          <p:cNvSpPr/>
          <p:nvPr/>
        </p:nvSpPr>
        <p:spPr>
          <a:xfrm flipV="1">
            <a:off x="4479840" y="2485800"/>
            <a:ext cx="5486400" cy="860400"/>
          </a:xfrm>
          <a:custGeom>
            <a:avLst/>
            <a:gdLst>
              <a:gd name="textAreaLeft" fmla="*/ 0 w 5486400"/>
              <a:gd name="textAreaRight" fmla="*/ 5486760 w 54864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6711840" y="2341440"/>
            <a:ext cx="336420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valeurs issues du certiﬁcat CE sont considérées certiﬁées. Comparé à un système «CESI classique», la chaudière doit être plus puissante pour produire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 instantanée avec un confort sufﬁs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35" name="Picture 85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1955880" y="2011320"/>
            <a:ext cx="865080" cy="168912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11"/>
          <p:cNvSpPr/>
          <p:nvPr/>
        </p:nvSpPr>
        <p:spPr>
          <a:xfrm>
            <a:off x="3078360" y="3516480"/>
            <a:ext cx="32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5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Text Box 112"/>
          <p:cNvSpPr/>
          <p:nvPr/>
        </p:nvSpPr>
        <p:spPr>
          <a:xfrm>
            <a:off x="3078720" y="372888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4.90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8" name="Text Box 113"/>
          <p:cNvSpPr/>
          <p:nvPr/>
        </p:nvSpPr>
        <p:spPr>
          <a:xfrm>
            <a:off x="3047760" y="4373640"/>
            <a:ext cx="103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entilateur prés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9" name="Text Box 114"/>
          <p:cNvSpPr/>
          <p:nvPr/>
        </p:nvSpPr>
        <p:spPr>
          <a:xfrm>
            <a:off x="3060720" y="458136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0" name="Text Box 115"/>
          <p:cNvSpPr/>
          <p:nvPr/>
        </p:nvSpPr>
        <p:spPr>
          <a:xfrm>
            <a:off x="3081240" y="479412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8.1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116"/>
          <p:cNvSpPr/>
          <p:nvPr/>
        </p:nvSpPr>
        <p:spPr>
          <a:xfrm>
            <a:off x="3061440" y="498312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2" name="Text Box 118"/>
          <p:cNvSpPr/>
          <p:nvPr/>
        </p:nvSpPr>
        <p:spPr>
          <a:xfrm>
            <a:off x="3063960" y="5440320"/>
            <a:ext cx="84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3" name="Text Box 120"/>
          <p:cNvSpPr/>
          <p:nvPr/>
        </p:nvSpPr>
        <p:spPr>
          <a:xfrm>
            <a:off x="3079800" y="565776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9.9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4" name="Text Box 121"/>
          <p:cNvSpPr/>
          <p:nvPr/>
        </p:nvSpPr>
        <p:spPr>
          <a:xfrm>
            <a:off x="3080160" y="585468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9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5" name="Text Box 122"/>
          <p:cNvSpPr/>
          <p:nvPr/>
        </p:nvSpPr>
        <p:spPr>
          <a:xfrm>
            <a:off x="3080520" y="6060960"/>
            <a:ext cx="20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Text Box 123"/>
          <p:cNvSpPr/>
          <p:nvPr/>
        </p:nvSpPr>
        <p:spPr>
          <a:xfrm>
            <a:off x="3064680" y="6278400"/>
            <a:ext cx="84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Text Box 124"/>
          <p:cNvSpPr/>
          <p:nvPr/>
        </p:nvSpPr>
        <p:spPr>
          <a:xfrm>
            <a:off x="3116880" y="6507000"/>
            <a:ext cx="25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2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Text Box 124"/>
          <p:cNvSpPr/>
          <p:nvPr/>
        </p:nvSpPr>
        <p:spPr>
          <a:xfrm>
            <a:off x="3048480" y="6675480"/>
            <a:ext cx="125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Générateur sans ballon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49" name="Picture 35" descr=""/>
          <p:cNvPicPr/>
          <p:nvPr/>
        </p:nvPicPr>
        <p:blipFill>
          <a:blip r:embed="rId4"/>
          <a:stretch/>
        </p:blipFill>
        <p:spPr>
          <a:xfrm>
            <a:off x="3059280" y="1744560"/>
            <a:ext cx="2047680" cy="2001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6" descr=""/>
          <p:cNvPicPr/>
          <p:nvPr/>
        </p:nvPicPr>
        <p:blipFill>
          <a:blip r:embed="rId5"/>
          <a:stretch/>
        </p:blipFill>
        <p:spPr>
          <a:xfrm>
            <a:off x="3019320" y="2176560"/>
            <a:ext cx="1505160" cy="1904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115"/>
          <p:cNvSpPr/>
          <p:nvPr/>
        </p:nvSpPr>
        <p:spPr>
          <a:xfrm>
            <a:off x="3092760" y="5207040"/>
            <a:ext cx="48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9.60 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2" name="Espace réservé du texte 46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Text Box 18"/>
          <p:cNvSpPr/>
          <p:nvPr/>
        </p:nvSpPr>
        <p:spPr>
          <a:xfrm>
            <a:off x="6638760" y="1447920"/>
            <a:ext cx="34401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la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6"/>
              </a:rPr>
              <a:t>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/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7CC5-6745-413A-81AA-EC46E667C4E3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7" descr="LaCie Disk:1 GRAPHISME:ELEMENTS_OK_FICHES_BET_PRODUIT:F3_BBS:F3_B_4.jpg"/>
          <p:cNvPicPr/>
          <p:nvPr/>
        </p:nvPicPr>
        <p:blipFill>
          <a:blip r:embed="rId1"/>
          <a:stretch/>
        </p:blipFill>
        <p:spPr>
          <a:xfrm>
            <a:off x="519120" y="1693800"/>
            <a:ext cx="5203800" cy="460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56" name="AutoShape 12"/>
          <p:cNvCxnSpPr/>
          <p:nvPr/>
        </p:nvCxnSpPr>
        <p:spPr>
          <a:xfrm flipH="1" flipV="1" rot="10800000">
            <a:off x="75960" y="38595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7" name="Text Box 29"/>
          <p:cNvSpPr/>
          <p:nvPr/>
        </p:nvSpPr>
        <p:spPr>
          <a:xfrm>
            <a:off x="2957400" y="276084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,35 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2957400" y="298944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2957400" y="36752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2957400" y="39038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endement optique certifi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2957400" y="41324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1,4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Text Box 49"/>
          <p:cNvSpPr/>
          <p:nvPr/>
        </p:nvSpPr>
        <p:spPr>
          <a:xfrm>
            <a:off x="2957400" y="43610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,645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2957400" y="474192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.033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2957400" y="58244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5" name="Text Box 62"/>
          <p:cNvSpPr/>
          <p:nvPr/>
        </p:nvSpPr>
        <p:spPr>
          <a:xfrm>
            <a:off x="3703680" y="5999040"/>
            <a:ext cx="1839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Text Box 51"/>
          <p:cNvSpPr/>
          <p:nvPr/>
        </p:nvSpPr>
        <p:spPr>
          <a:xfrm>
            <a:off x="2944800" y="607536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65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67" name="Picture 35" descr=""/>
          <p:cNvPicPr/>
          <p:nvPr/>
        </p:nvPicPr>
        <p:blipFill>
          <a:blip r:embed="rId2"/>
          <a:stretch/>
        </p:blipFill>
        <p:spPr>
          <a:xfrm>
            <a:off x="2905200" y="2468520"/>
            <a:ext cx="1047600" cy="1713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5" descr=""/>
          <p:cNvPicPr/>
          <p:nvPr/>
        </p:nvPicPr>
        <p:blipFill>
          <a:blip r:embed="rId3"/>
          <a:stretch/>
        </p:blipFill>
        <p:spPr>
          <a:xfrm>
            <a:off x="2905200" y="2009880"/>
            <a:ext cx="1047600" cy="1713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46"/>
          <p:cNvSpPr/>
          <p:nvPr/>
        </p:nvSpPr>
        <p:spPr>
          <a:xfrm>
            <a:off x="2944800" y="2468520"/>
            <a:ext cx="1981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6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VFK 135 VD Vertical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0" name="Text Box 46"/>
          <p:cNvSpPr/>
          <p:nvPr/>
        </p:nvSpPr>
        <p:spPr>
          <a:xfrm>
            <a:off x="2979720" y="2041560"/>
            <a:ext cx="1981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VFK 135 VD Vertical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71" name="Picture 36" descr=""/>
          <p:cNvPicPr/>
          <p:nvPr/>
        </p:nvPicPr>
        <p:blipFill>
          <a:blip r:embed="rId4"/>
          <a:stretch/>
        </p:blipFill>
        <p:spPr>
          <a:xfrm>
            <a:off x="2905200" y="5608800"/>
            <a:ext cx="1047600" cy="1713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6"/>
          <p:cNvSpPr/>
          <p:nvPr/>
        </p:nvSpPr>
        <p:spPr>
          <a:xfrm>
            <a:off x="2944800" y="5564160"/>
            <a:ext cx="1981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6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Sans échangeur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3" name="Espace réservé du texte 38"/>
          <p:cNvSpPr/>
          <p:nvPr/>
        </p:nvSpPr>
        <p:spPr>
          <a:xfrm>
            <a:off x="2319480" y="325440"/>
            <a:ext cx="79405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boucle solaire «VFK 135 VD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74" name="AutoShape 9"/>
          <p:cNvCxnSpPr/>
          <p:nvPr/>
        </p:nvCxnSpPr>
        <p:spPr>
          <a:xfrm flipH="1" flipV="1" rot="10800000">
            <a:off x="6511680" y="700128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75" name="AutoShape 10"/>
          <p:cNvCxnSpPr/>
          <p:nvPr/>
        </p:nvCxnSpPr>
        <p:spPr>
          <a:xfrm flipH="1" flipV="1" rot="10800000">
            <a:off x="6511680" y="700128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76" name="AutoShape 11"/>
          <p:cNvCxnSpPr/>
          <p:nvPr/>
        </p:nvCxnSpPr>
        <p:spPr>
          <a:xfrm flipH="1" rot="16200000">
            <a:off x="6331680" y="3036600"/>
            <a:ext cx="216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477" name="Text Box 25"/>
          <p:cNvSpPr/>
          <p:nvPr/>
        </p:nvSpPr>
        <p:spPr>
          <a:xfrm>
            <a:off x="6784920" y="1693800"/>
            <a:ext cx="351324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78" name="Picture 36" descr=""/>
          <p:cNvPicPr/>
          <p:nvPr/>
        </p:nvPicPr>
        <p:blipFill>
          <a:blip r:embed="rId5"/>
          <a:stretch/>
        </p:blipFill>
        <p:spPr>
          <a:xfrm>
            <a:off x="4775040" y="4370400"/>
            <a:ext cx="847800" cy="171360"/>
          </a:xfrm>
          <a:prstGeom prst="rect">
            <a:avLst/>
          </a:prstGeom>
          <a:ln w="0">
            <a:noFill/>
          </a:ln>
        </p:spPr>
      </p:pic>
      <p:sp>
        <p:nvSpPr>
          <p:cNvPr id="479" name="Freeform 24"/>
          <p:cNvSpPr/>
          <p:nvPr/>
        </p:nvSpPr>
        <p:spPr>
          <a:xfrm>
            <a:off x="5416560" y="2773440"/>
            <a:ext cx="4191120" cy="2286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0" name="Freeform 24"/>
          <p:cNvSpPr/>
          <p:nvPr/>
        </p:nvSpPr>
        <p:spPr>
          <a:xfrm>
            <a:off x="5487840" y="3494160"/>
            <a:ext cx="2590920" cy="5331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1" name="Freeform 24"/>
          <p:cNvSpPr/>
          <p:nvPr/>
        </p:nvSpPr>
        <p:spPr>
          <a:xfrm>
            <a:off x="5416560" y="3781440"/>
            <a:ext cx="2209680" cy="11430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Freeform 24"/>
          <p:cNvSpPr/>
          <p:nvPr/>
        </p:nvSpPr>
        <p:spPr>
          <a:xfrm>
            <a:off x="5416560" y="4010040"/>
            <a:ext cx="1828800" cy="1752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Text Box 25"/>
          <p:cNvSpPr/>
          <p:nvPr/>
        </p:nvSpPr>
        <p:spPr>
          <a:xfrm>
            <a:off x="6784920" y="3276720"/>
            <a:ext cx="35132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augmente la consommation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4" name="Text Box 25"/>
          <p:cNvSpPr/>
          <p:nvPr/>
        </p:nvSpPr>
        <p:spPr>
          <a:xfrm>
            <a:off x="6784920" y="435780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inclinaison de 45 °est optimale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e modiﬁcation de celle-ci peut  entrainer une baisse de performanc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5" name="Text Box 25"/>
          <p:cNvSpPr/>
          <p:nvPr/>
        </p:nvSpPr>
        <p:spPr>
          <a:xfrm>
            <a:off x="6784920" y="522144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ffectue sur la température en maisons individuell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6" name="Text Box 25"/>
          <p:cNvSpPr/>
          <p:nvPr/>
        </p:nvSpPr>
        <p:spPr>
          <a:xfrm>
            <a:off x="6784920" y="615780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bsence de valeurs fournies par le constructeur, les valeurs moyennes suivantes peuvent être utilisé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6784920" y="248616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8" name="AutoShape 65"/>
          <p:cNvSpPr/>
          <p:nvPr/>
        </p:nvSpPr>
        <p:spPr>
          <a:xfrm>
            <a:off x="4768920" y="507672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89" name="Connecteur en angle 56"/>
          <p:cNvCxnSpPr>
            <a:stCxn id="486" idx="1"/>
          </p:cNvCxnSpPr>
          <p:nvPr/>
        </p:nvCxnSpPr>
        <p:spPr>
          <a:xfrm rot="10800000">
            <a:off x="4984200" y="5293440"/>
            <a:ext cx="1800720" cy="1164600"/>
          </a:xfrm>
          <a:prstGeom prst="bentConnector3">
            <a:avLst>
              <a:gd name="adj1" fmla="val 4999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90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6833-8B06-4BA4-BBE6-8EBCA8CFBE7F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8" descr="LaCie Disk:1 GRAPHISME:ELEMENTS_OK_FICHES_BET_PRODUIT:F3_BBS:F3_B_6.jpg"/>
          <p:cNvPicPr/>
          <p:nvPr/>
        </p:nvPicPr>
        <p:blipFill>
          <a:blip r:embed="rId1"/>
          <a:stretch/>
        </p:blipFill>
        <p:spPr>
          <a:xfrm>
            <a:off x="736560" y="4038480"/>
            <a:ext cx="4719600" cy="239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92" name="Picture 47" descr="LaCie Disk:1 GRAPHISME:ELEMENTS_OK_FICHES_BET_PRODUIT:F3_BBS:F3_B_5.jpg"/>
          <p:cNvPicPr/>
          <p:nvPr/>
        </p:nvPicPr>
        <p:blipFill>
          <a:blip r:embed="rId2"/>
          <a:stretch/>
        </p:blipFill>
        <p:spPr>
          <a:xfrm>
            <a:off x="736560" y="1981080"/>
            <a:ext cx="4737240" cy="1865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93" name="Text Box 9"/>
          <p:cNvSpPr/>
          <p:nvPr/>
        </p:nvSpPr>
        <p:spPr>
          <a:xfrm>
            <a:off x="6888240" y="2717640"/>
            <a:ext cx="18399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4" name="AutoShape 12"/>
          <p:cNvCxnSpPr/>
          <p:nvPr/>
        </p:nvCxnSpPr>
        <p:spPr>
          <a:xfrm flipV="1" rot="16200000">
            <a:off x="6528240" y="33544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95" name="AutoShape 13"/>
          <p:cNvCxnSpPr/>
          <p:nvPr/>
        </p:nvCxnSpPr>
        <p:spPr>
          <a:xfrm flipH="1" flipV="1" rot="10800000">
            <a:off x="75960" y="385164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96" name="Text Box 22"/>
          <p:cNvSpPr/>
          <p:nvPr/>
        </p:nvSpPr>
        <p:spPr>
          <a:xfrm>
            <a:off x="6707160" y="3886200"/>
            <a:ext cx="336384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Freeform 23"/>
          <p:cNvSpPr/>
          <p:nvPr/>
        </p:nvSpPr>
        <p:spPr>
          <a:xfrm flipV="1">
            <a:off x="5156280" y="2533680"/>
            <a:ext cx="1600200" cy="86040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98" name="Picture 29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2031840" y="2619360"/>
            <a:ext cx="865440" cy="2028960"/>
          </a:xfrm>
          <a:prstGeom prst="rect">
            <a:avLst/>
          </a:prstGeom>
          <a:ln w="0">
            <a:noFill/>
          </a:ln>
        </p:spPr>
      </p:pic>
      <p:sp>
        <p:nvSpPr>
          <p:cNvPr id="499" name="Freeform 24"/>
          <p:cNvSpPr/>
          <p:nvPr/>
        </p:nvSpPr>
        <p:spPr>
          <a:xfrm flipV="1">
            <a:off x="5127480" y="3997440"/>
            <a:ext cx="3657600" cy="86184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861840"/>
              <a:gd name="textAreaBottom" fmla="*/ 86256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0" name="Freeform 24"/>
          <p:cNvSpPr/>
          <p:nvPr/>
        </p:nvSpPr>
        <p:spPr>
          <a:xfrm>
            <a:off x="5127480" y="5365800"/>
            <a:ext cx="3048120" cy="86184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1" name="Text Box 25"/>
          <p:cNvSpPr/>
          <p:nvPr/>
        </p:nvSpPr>
        <p:spPr>
          <a:xfrm>
            <a:off x="6711840" y="5869080"/>
            <a:ext cx="33642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, les pertes thermiques du ballon impactent la consomma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6640560" y="3925800"/>
            <a:ext cx="33638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Freeform 24"/>
          <p:cNvSpPr/>
          <p:nvPr/>
        </p:nvSpPr>
        <p:spPr>
          <a:xfrm flipV="1">
            <a:off x="5156280" y="2471400"/>
            <a:ext cx="3657600" cy="86040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6707160" y="2330280"/>
            <a:ext cx="33638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2976480" y="483696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50.0 l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961000" y="5029200"/>
            <a:ext cx="79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jus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2977920" y="5257800"/>
            <a:ext cx="38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.2W/K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3016800" y="5521320"/>
            <a:ext cx="25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75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2946240" y="571500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2981160" y="596736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5.0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1" name="Text Box 46"/>
          <p:cNvSpPr/>
          <p:nvPr/>
        </p:nvSpPr>
        <p:spPr>
          <a:xfrm>
            <a:off x="2976840" y="620856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Zone 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2" name="Picture 35" descr=""/>
          <p:cNvPicPr/>
          <p:nvPr/>
        </p:nvPicPr>
        <p:blipFill>
          <a:blip r:embed="rId4"/>
          <a:stretch/>
        </p:blipFill>
        <p:spPr>
          <a:xfrm>
            <a:off x="2909880" y="2224080"/>
            <a:ext cx="2486160" cy="1713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7" descr=""/>
          <p:cNvPicPr/>
          <p:nvPr/>
        </p:nvPicPr>
        <p:blipFill>
          <a:blip r:embed="rId5"/>
          <a:stretch/>
        </p:blipFill>
        <p:spPr>
          <a:xfrm>
            <a:off x="2874960" y="2827440"/>
            <a:ext cx="1162080" cy="152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8" descr=""/>
          <p:cNvPicPr/>
          <p:nvPr/>
        </p:nvPicPr>
        <p:blipFill>
          <a:blip r:embed="rId6"/>
          <a:stretch/>
        </p:blipFill>
        <p:spPr>
          <a:xfrm>
            <a:off x="2874960" y="3232080"/>
            <a:ext cx="2514600" cy="171360"/>
          </a:xfrm>
          <a:prstGeom prst="rect">
            <a:avLst/>
          </a:prstGeom>
          <a:ln w="0">
            <a:noFill/>
          </a:ln>
        </p:spPr>
      </p:pic>
      <p:sp>
        <p:nvSpPr>
          <p:cNvPr id="515" name="Espace réservé du texte 39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système de stockage «AUROSTEP PLUS 1.150 M HI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3613-0C45-4F86-B4D5-0D9AB1DE4A6E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7" name="Rectangle 28"/>
          <p:cNvSpPr/>
          <p:nvPr/>
        </p:nvSpPr>
        <p:spPr>
          <a:xfrm>
            <a:off x="2895480" y="2629080"/>
            <a:ext cx="1944720" cy="144360"/>
          </a:xfrm>
          <a:prstGeom prst="rect">
            <a:avLst/>
          </a:prstGeom>
          <a:solidFill>
            <a:srgbClr val="80c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AUROSTEP PLUS 1.150 M HI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8" name="Rectangle 29"/>
          <p:cNvSpPr/>
          <p:nvPr/>
        </p:nvSpPr>
        <p:spPr>
          <a:xfrm>
            <a:off x="3903840" y="2268360"/>
            <a:ext cx="1584000" cy="144720"/>
          </a:xfrm>
          <a:prstGeom prst="rect">
            <a:avLst/>
          </a:prstGeom>
          <a:solidFill>
            <a:srgbClr val="80c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AUROSTEP PLUS 1.150 M HI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0" descr=""/>
          <p:cNvPicPr/>
          <p:nvPr/>
        </p:nvPicPr>
        <p:blipFill>
          <a:blip r:embed="rId1"/>
          <a:stretch/>
        </p:blipFill>
        <p:spPr>
          <a:xfrm>
            <a:off x="1311120" y="2557440"/>
            <a:ext cx="5591160" cy="63828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9"/>
          <p:cNvSpPr/>
          <p:nvPr/>
        </p:nvSpPr>
        <p:spPr>
          <a:xfrm>
            <a:off x="6840360" y="1797120"/>
            <a:ext cx="1800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21" name="AutoShape 12"/>
          <p:cNvCxnSpPr/>
          <p:nvPr/>
        </p:nvCxnSpPr>
        <p:spPr>
          <a:xfrm flipH="1" rot="16200000">
            <a:off x="7124760" y="322704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522" name="Text Box 22"/>
          <p:cNvSpPr/>
          <p:nvPr/>
        </p:nvSpPr>
        <p:spPr>
          <a:xfrm>
            <a:off x="6659640" y="2965320"/>
            <a:ext cx="32925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3" name="Freeform 23"/>
          <p:cNvSpPr/>
          <p:nvPr/>
        </p:nvSpPr>
        <p:spPr>
          <a:xfrm flipV="1">
            <a:off x="5749920" y="2336040"/>
            <a:ext cx="1600200" cy="8622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4" name="Text Box 24"/>
          <p:cNvSpPr/>
          <p:nvPr/>
        </p:nvSpPr>
        <p:spPr>
          <a:xfrm>
            <a:off x="1308240" y="1862280"/>
            <a:ext cx="568800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: on indique la présence du circulateur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25" name="Picture 26" descr="Travail:1 GRAPHISME:GRDF:FICHES_BET_CEGIBAT_GrDF:FICHES_PRODUIT:ELEMENTS_OK:F1_BBS:EMISSION.jpg"/>
          <p:cNvPicPr/>
          <p:nvPr/>
        </p:nvPicPr>
        <p:blipFill>
          <a:blip r:embed="rId2"/>
          <a:stretch/>
        </p:blipFill>
        <p:spPr>
          <a:xfrm>
            <a:off x="3035160" y="1913040"/>
            <a:ext cx="228600" cy="1998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8"/>
          <p:cNvSpPr/>
          <p:nvPr/>
        </p:nvSpPr>
        <p:spPr>
          <a:xfrm>
            <a:off x="4192560" y="2773440"/>
            <a:ext cx="2519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Selon projet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7" name="Text Box 40"/>
          <p:cNvSpPr/>
          <p:nvPr/>
        </p:nvSpPr>
        <p:spPr>
          <a:xfrm>
            <a:off x="4264200" y="2989440"/>
            <a:ext cx="59976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33,5 W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8" name="Espace réservé du texte 21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9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C2D3-DA95-4384-9677-3A9051E5BBC2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0" name="Text Box 40"/>
          <p:cNvSpPr/>
          <p:nvPr/>
        </p:nvSpPr>
        <p:spPr>
          <a:xfrm>
            <a:off x="4264200" y="2557440"/>
            <a:ext cx="59976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45 Helvetica Light"/>
              </a:rPr>
              <a:t>33,5 W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0:55:32Z</dcterms:modified>
  <cp:revision>125</cp:revision>
  <dc:subject/>
  <dc:title>Présentation PowerPoint</dc:title>
</cp:coreProperties>
</file>