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9.png" ContentType="image/png"/>
  <Override PartName="/ppt/media/image8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770-BBB0-40DA-9759-F34CC77F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FE2-82E9-4084-A439-71ADA12C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19DF4-D1C7-4BFC-926F-E98C36FD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F0FFC-3A32-4E0B-A3AD-70807246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D61E8-64A5-460C-9D58-35EA4F1D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E7A6E-454A-4FD1-BEED-4C8A44A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B5AD2-0528-4848-92F9-FC9A09B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5D837-46E4-46C6-81D1-E91B667D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2440C-59DD-4D4D-BABF-A4AB1EE1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551F4-ABD4-49EE-BBE4-98A34EA2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A0B10-A740-4676-A138-A9BF53BC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58C-BD3E-4941-9A7A-491241F2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8F7-CD5E-4711-B689-45A084DD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5E55-7030-4060-BF35-8F8F9CC0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6EBD-6E28-4137-9518-04CF538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1CB2-C550-47F7-A489-05CA1CA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0543-00F1-4648-BC37-4F640080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3D0B-0966-475B-87E5-1A13DEF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03F1-EA2B-42BF-B2B6-7D8DD013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4E5-0B6E-4860-8FC1-1C5C02FB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714-2647-48E7-A622-9E73A75A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6DFE-98EB-41D2-A990-86EA8DD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E9D-9F9F-4588-8D64-A262C0F7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CA7C-D9EA-4ED2-B8CB-394FD3E4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9679-A918-4318-A236-0A72BFB9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C996-FDCE-4E2E-B183-5FB4F8B6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B7B9-3925-487A-83CF-ECCF76BB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38F8-88C3-49A5-9C68-973666D9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9599-4BD1-48DC-A0A8-1146F1BC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D5C7-ED7C-48E8-92FD-B13CF818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224A-F6CF-409E-9878-D32C5B30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2B9-7A6D-4EFE-AF0B-655F7F6D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B0FE-92DA-41CF-814C-823C7755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C91F-FC8F-4473-9456-BC00C7A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1568-70AA-4289-8C18-272A9CED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B19EB-AF43-4997-BB8B-38DA2BA1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C7D4-2FD1-4E04-8A72-6AED4DE3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2E6B-97C6-4A79-AC5E-50A08E53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1F06-D171-499E-8A0D-96C2AFE3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10A68-B52D-426A-BCE0-4D8A8E33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7165-5316-4EAB-8268-D5A9A8C9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CD20-5203-4E08-B212-024592B7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157-7639-49B7-88D2-88AABE3B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411F-7767-462F-8D88-E9A88F4E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CE97-F555-4A38-9321-31D19700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9BD8-A9AB-4886-8A34-ABB078F0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8016-861C-46B0-997E-3E05137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E98F8-1E66-4EB9-9EEA-0334C7E3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EC878-2399-41C4-AC3C-8BD18DF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FAC51-D412-4F6D-9A39-3AE48993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4C5B-3DBF-4362-A15D-FCDF4E47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238D3-0B83-4DAE-BB47-89EDD986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A97FC-7910-45E7-9861-B64E5ED6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EF9-1EBB-4D9E-906E-367BCBD7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C8FE-6BEA-47D0-A28B-E354DAF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DF5B4-D1DB-4E88-B13E-1F1817AA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36EF2-0740-472E-9B5E-F2933D03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82D22-EEB9-4421-B044-6590945F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1865-05BE-4DBB-9616-AA398277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F4840-6E25-44F9-BBEE-AEA000FE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F56FA-1B81-462A-8D85-A4C5B1F6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1E9C-0C6C-4C04-886C-1987108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AB4FB-8AD9-4FD6-9CAE-5A6369EF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D568E-1D95-4CA8-9693-5813757D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80F-3AC0-4ECF-8427-C2509D92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F5908-5AD7-4C4D-89FF-A4987888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834A-A849-4872-90DE-F287322E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1ABB6-C09C-4EA1-99B4-191BB62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325EB-BC15-4ACD-9C5B-51478601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630BA-B344-4607-BF4E-CAAF15DD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F64C-3E17-4AEA-86FF-778CD53F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069A7-0D1C-4633-B961-875595AB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FE92B-2E9B-49FA-85EE-7DF65996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50368-6FA5-4FE2-A86C-74F10A57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637D-56DF-47E2-A32A-86C7F83C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BF9-FF8A-402B-8AC4-2565174B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0ADC-B182-4AFE-8DC5-2DEA4631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0BB81-2380-4729-9CA8-25A75FEC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88A0-0372-4F84-BED3-8BF9749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5E5E7-CB94-40E5-A33C-7E8EC876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0AA15-5FD3-42AF-86D5-3611FA8C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3DA7-7803-4E41-8D3E-DC1357CF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4610-23AC-4DB8-9CBC-32EA2D89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422C6-EFB2-4E84-B4AF-43988DF6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07CC3-6420-48BD-9522-DA9333D6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5A737-073F-4637-897D-7980B17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E39-8BD7-42FB-AC83-B11BBE1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6D549-4D03-407E-B0E0-BDD73DA1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7EC06-D379-4A9F-9248-51E1E19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9F388-2A0D-4342-A763-61CD91F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98B89-2885-4CA3-9E19-DD88C619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9E3D-E69D-402C-8862-41212C5A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FD381-BBE3-4FDE-96AA-E8D2A199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03629-6A57-4CF5-A0AF-45082DE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C716-4DB6-4955-AD6E-FEB150E2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606E-7531-4AFB-B97D-537761D6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FF82B-C0D3-40C6-8DFD-B574CAAE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9C4-9AA5-4F6D-9437-D744B850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421D7-59CE-4898-BACA-B6E2F265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40C83-8179-4561-9998-557F00B8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E93D4-0D0A-4383-84FD-E127C67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A8E8-0365-4EDB-8477-935FEC2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421E6-D2BF-4EBB-AA4A-4583FC88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1A23-E612-430D-B892-C7DEAA6E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B1163-CC63-49A6-BC56-E9E0BF19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AA7B6-A9CD-40A6-8981-8D0A6C7B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BC21F-97FB-449F-8435-D1BE3DA0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59F17-5542-43C4-BA4A-692727C7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7618-97A2-483B-9EED-72E8612ABA2A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00D4-C6B4-4E36-8A57-1200D75A4E1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9638-7D5E-440F-A87D-2DF70BA540A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3DF1-EA59-4B07-9E12-F57973CA8B4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58EA-5396-474C-A1D4-CA573F29DA9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04B1-914A-4B17-AC89-1B13D26207D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7C49-CCE0-4043-B502-DBF892107B1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3BD6-3A1A-4DF2-8755-2CA2FEEC9C6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0D2D-8776-4138-88F3-12BB413FD64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s://techniqueuniclima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2700"/>
            </a:b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CHAPPEE</a:t>
            </a:r>
            <a:endParaRPr b="0" lang="en-US" sz="27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0"/>
          <p:cNvSpPr/>
          <p:nvPr/>
        </p:nvSpPr>
        <p:spPr>
          <a:xfrm>
            <a:off x="933480" y="1582560"/>
            <a:ext cx="793440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CHAPPEE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La chaudière à condensation + CESI optimisé CHAPPEE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boucle solaire (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u générateur «Chaudière Initia Plus HTE 2.29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boucle solaire «Capteur SOL 20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u système de stockage «Ballon Wsi 150 L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1" name="Object 16"/>
          <p:cNvGraphicFramePr/>
          <p:nvPr/>
        </p:nvGraphicFramePr>
        <p:xfrm>
          <a:off x="5014800" y="3429000"/>
          <a:ext cx="18432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0" y="3429000"/>
                    <a:ext cx="18432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8"/>
          <p:cNvGraphicFramePr/>
          <p:nvPr/>
        </p:nvGraphicFramePr>
        <p:xfrm>
          <a:off x="2762280" y="4327560"/>
          <a:ext cx="13320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2280" y="4327560"/>
                    <a:ext cx="1332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83"/>
          <p:cNvSpPr/>
          <p:nvPr/>
        </p:nvSpPr>
        <p:spPr>
          <a:xfrm>
            <a:off x="94284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Rectangle 69"/>
          <p:cNvSpPr/>
          <p:nvPr/>
        </p:nvSpPr>
        <p:spPr>
          <a:xfrm>
            <a:off x="376236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019160" y="2427120"/>
          <a:ext cx="791676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16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Initia Plus HTE 2.29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Wsi 150 lit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SOL 20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Object 17"/>
          <p:cNvGraphicFramePr/>
          <p:nvPr/>
        </p:nvGraphicFramePr>
        <p:xfrm>
          <a:off x="6534000" y="3857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34000" y="3857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5873760" y="450360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7" descr=""/>
          <p:cNvPicPr/>
          <p:nvPr/>
        </p:nvPicPr>
        <p:blipFill>
          <a:blip r:embed="rId8"/>
          <a:stretch/>
        </p:blipFill>
        <p:spPr>
          <a:xfrm>
            <a:off x="7143840" y="3997440"/>
            <a:ext cx="2679480" cy="262080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2" name="Picture 27" descr=""/>
          <p:cNvPicPr/>
          <p:nvPr/>
        </p:nvPicPr>
        <p:blipFill>
          <a:blip r:embed="rId9"/>
          <a:stretch/>
        </p:blipFill>
        <p:spPr>
          <a:xfrm>
            <a:off x="8256600" y="4502160"/>
            <a:ext cx="1190520" cy="181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"/>
          <p:cNvPicPr/>
          <p:nvPr/>
        </p:nvPicPr>
        <p:blipFill>
          <a:blip r:embed="rId10"/>
          <a:stretch/>
        </p:blipFill>
        <p:spPr>
          <a:xfrm>
            <a:off x="8616960" y="4502160"/>
            <a:ext cx="1190520" cy="181080"/>
          </a:xfrm>
          <a:prstGeom prst="rect">
            <a:avLst/>
          </a:prstGeom>
          <a:ln w="0">
            <a:noFill/>
          </a:ln>
        </p:spPr>
      </p:pic>
      <p:sp>
        <p:nvSpPr>
          <p:cNvPr id="414" name="ZoneTexte 15"/>
          <p:cNvSpPr/>
          <p:nvPr/>
        </p:nvSpPr>
        <p:spPr>
          <a:xfrm>
            <a:off x="8223120" y="45021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b1af"/>
                </a:solidFill>
                <a:latin typeface="45 Helvetica Light"/>
              </a:rPr>
              <a:t>Balon Wsi 150 L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5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B00C-F949-4751-B413-36932E1B849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7" name="ZoneTexte 15"/>
          <p:cNvSpPr/>
          <p:nvPr/>
        </p:nvSpPr>
        <p:spPr>
          <a:xfrm>
            <a:off x="9520200" y="4718160"/>
            <a:ext cx="28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2.29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6" descr="LaCie Disk:1 GRAPHISME:ELEMENTS_OK_FICHES_BET_PRODUIT:F3_BBS:F3_B_1.jpg"/>
          <p:cNvPicPr/>
          <p:nvPr/>
        </p:nvPicPr>
        <p:blipFill>
          <a:blip r:embed="rId1"/>
          <a:stretch/>
        </p:blipFill>
        <p:spPr>
          <a:xfrm>
            <a:off x="685800" y="2052720"/>
            <a:ext cx="5308560" cy="23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19" name="AutoShape 24"/>
          <p:cNvCxnSpPr/>
          <p:nvPr/>
        </p:nvCxnSpPr>
        <p:spPr>
          <a:xfrm flipH="1" rot="16200000">
            <a:off x="6477120" y="34239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420" name="Freeform 25"/>
          <p:cNvSpPr/>
          <p:nvPr/>
        </p:nvSpPr>
        <p:spPr>
          <a:xfrm>
            <a:off x="5562720" y="3114720"/>
            <a:ext cx="2361960" cy="5047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6640560" y="3345120"/>
            <a:ext cx="34354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2" name="Text Box 37"/>
          <p:cNvSpPr/>
          <p:nvPr/>
        </p:nvSpPr>
        <p:spPr>
          <a:xfrm>
            <a:off x="3086280" y="418608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45 Helvetica Light"/>
              </a:rPr>
              <a:t>55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3" name="Picture 17" descr=""/>
          <p:cNvPicPr/>
          <p:nvPr/>
        </p:nvPicPr>
        <p:blipFill>
          <a:blip r:embed="rId2"/>
          <a:stretch/>
        </p:blipFill>
        <p:spPr>
          <a:xfrm>
            <a:off x="3111480" y="2286000"/>
            <a:ext cx="838080" cy="181080"/>
          </a:xfrm>
          <a:prstGeom prst="rect">
            <a:avLst/>
          </a:prstGeom>
          <a:ln w="0">
            <a:noFill/>
          </a:ln>
        </p:spPr>
      </p:pic>
      <p:sp>
        <p:nvSpPr>
          <p:cNvPr id="424" name="Espace réservé du texte 4"/>
          <p:cNvSpPr/>
          <p:nvPr/>
        </p:nvSpPr>
        <p:spPr>
          <a:xfrm>
            <a:off x="2027160" y="260280"/>
            <a:ext cx="7116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0B8F-E9AD-4EE4-ACF5-923E9B88013E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808200" y="1523880"/>
            <a:ext cx="464796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7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808200" y="3276720"/>
            <a:ext cx="464796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6959520" y="2184480"/>
            <a:ext cx="1881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9" name="AutoShape 8"/>
          <p:cNvCxnSpPr>
            <a:stCxn id="430" idx="3"/>
          </p:cNvCxnSpPr>
          <p:nvPr/>
        </p:nvCxnSpPr>
        <p:spPr>
          <a:xfrm flipH="1" flipV="1">
            <a:off x="6713280" y="1792440"/>
            <a:ext cx="3440880" cy="1078200"/>
          </a:xfrm>
          <a:prstGeom prst="bentConnector3">
            <a:avLst>
              <a:gd name="adj1" fmla="val -6644"/>
            </a:avLst>
          </a:prstGeom>
          <a:ln w="0">
            <a:noFill/>
          </a:ln>
        </p:spPr>
      </p:cxnSp>
      <p:cxnSp>
        <p:nvCxnSpPr>
          <p:cNvPr id="431" name="AutoShape 9"/>
          <p:cNvCxnSpPr>
            <a:stCxn id="430" idx="3"/>
          </p:cNvCxnSpPr>
          <p:nvPr/>
        </p:nvCxnSpPr>
        <p:spPr>
          <a:xfrm flipH="1" flipV="1">
            <a:off x="6713280" y="1792440"/>
            <a:ext cx="3440880" cy="1078200"/>
          </a:xfrm>
          <a:prstGeom prst="bentConnector3">
            <a:avLst>
              <a:gd name="adj1" fmla="val -6644"/>
            </a:avLst>
          </a:prstGeom>
          <a:ln w="0">
            <a:noFill/>
          </a:ln>
        </p:spPr>
      </p:cxnSp>
      <p:cxnSp>
        <p:nvCxnSpPr>
          <p:cNvPr id="432" name="AutoShape 10"/>
          <p:cNvCxnSpPr>
            <a:stCxn id="430" idx="3"/>
          </p:cNvCxnSpPr>
          <p:nvPr/>
        </p:nvCxnSpPr>
        <p:spPr>
          <a:xfrm flipH="1" flipV="1">
            <a:off x="6533280" y="2715840"/>
            <a:ext cx="3620520" cy="154800"/>
          </a:xfrm>
          <a:prstGeom prst="bentConnector5">
            <a:avLst>
              <a:gd name="adj1" fmla="val -6314"/>
              <a:gd name="adj2" fmla="val -399067"/>
              <a:gd name="adj3" fmla="val 97533"/>
            </a:avLst>
          </a:prstGeom>
          <a:ln w="0">
            <a:noFill/>
          </a:ln>
        </p:spPr>
      </p:cxnSp>
      <p:cxnSp>
        <p:nvCxnSpPr>
          <p:cNvPr id="433" name="AutoShape 12"/>
          <p:cNvCxnSpPr/>
          <p:nvPr/>
        </p:nvCxnSpPr>
        <p:spPr>
          <a:xfrm flipH="1" flipV="1" rot="10800000">
            <a:off x="70200" y="380016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4" name="Freeform 25"/>
          <p:cNvSpPr/>
          <p:nvPr/>
        </p:nvSpPr>
        <p:spPr>
          <a:xfrm flipV="1">
            <a:off x="4479840" y="2556360"/>
            <a:ext cx="5486400" cy="862200"/>
          </a:xfrm>
          <a:custGeom>
            <a:avLst/>
            <a:gdLst>
              <a:gd name="textAreaLeft" fmla="*/ 0 w 5486400"/>
              <a:gd name="textAreaRight" fmla="*/ 5486760 w 54864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6711840" y="2486160"/>
            <a:ext cx="344196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5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2027160" y="2057400"/>
            <a:ext cx="865440" cy="168912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11"/>
          <p:cNvSpPr/>
          <p:nvPr/>
        </p:nvSpPr>
        <p:spPr>
          <a:xfrm>
            <a:off x="3150000" y="3562200"/>
            <a:ext cx="32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0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112"/>
          <p:cNvSpPr/>
          <p:nvPr/>
        </p:nvSpPr>
        <p:spPr>
          <a:xfrm>
            <a:off x="3150360" y="377496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80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113"/>
          <p:cNvSpPr/>
          <p:nvPr/>
        </p:nvSpPr>
        <p:spPr>
          <a:xfrm>
            <a:off x="3119760" y="441972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114"/>
          <p:cNvSpPr/>
          <p:nvPr/>
        </p:nvSpPr>
        <p:spPr>
          <a:xfrm>
            <a:off x="3132720" y="462744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115"/>
          <p:cNvSpPr/>
          <p:nvPr/>
        </p:nvSpPr>
        <p:spPr>
          <a:xfrm>
            <a:off x="3153600" y="484020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6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116"/>
          <p:cNvSpPr/>
          <p:nvPr/>
        </p:nvSpPr>
        <p:spPr>
          <a:xfrm>
            <a:off x="3132720" y="50292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117"/>
          <p:cNvSpPr/>
          <p:nvPr/>
        </p:nvSpPr>
        <p:spPr>
          <a:xfrm>
            <a:off x="3152520" y="525780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.8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118"/>
          <p:cNvSpPr/>
          <p:nvPr/>
        </p:nvSpPr>
        <p:spPr>
          <a:xfrm>
            <a:off x="3135960" y="548640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120"/>
          <p:cNvSpPr/>
          <p:nvPr/>
        </p:nvSpPr>
        <p:spPr>
          <a:xfrm>
            <a:off x="3151440" y="570384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21"/>
          <p:cNvSpPr/>
          <p:nvPr/>
        </p:nvSpPr>
        <p:spPr>
          <a:xfrm>
            <a:off x="3151440" y="590076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2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22"/>
          <p:cNvSpPr/>
          <p:nvPr/>
        </p:nvSpPr>
        <p:spPr>
          <a:xfrm>
            <a:off x="3152160" y="6107040"/>
            <a:ext cx="29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1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23"/>
          <p:cNvSpPr/>
          <p:nvPr/>
        </p:nvSpPr>
        <p:spPr>
          <a:xfrm>
            <a:off x="3125880" y="632448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24"/>
          <p:cNvSpPr/>
          <p:nvPr/>
        </p:nvSpPr>
        <p:spPr>
          <a:xfrm>
            <a:off x="3125880" y="655308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124"/>
          <p:cNvSpPr/>
          <p:nvPr/>
        </p:nvSpPr>
        <p:spPr>
          <a:xfrm>
            <a:off x="3119760" y="672156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0" name="Picture 36" descr=""/>
          <p:cNvPicPr/>
          <p:nvPr/>
        </p:nvPicPr>
        <p:blipFill>
          <a:blip r:embed="rId4"/>
          <a:stretch/>
        </p:blipFill>
        <p:spPr>
          <a:xfrm>
            <a:off x="3111480" y="1765440"/>
            <a:ext cx="1542960" cy="199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7" descr=""/>
          <p:cNvPicPr/>
          <p:nvPr/>
        </p:nvPicPr>
        <p:blipFill>
          <a:blip r:embed="rId5"/>
          <a:stretch/>
        </p:blipFill>
        <p:spPr>
          <a:xfrm>
            <a:off x="3090960" y="2222640"/>
            <a:ext cx="2266920" cy="1904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8"/>
          <p:cNvSpPr/>
          <p:nvPr/>
        </p:nvSpPr>
        <p:spPr>
          <a:xfrm>
            <a:off x="6784920" y="159696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6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44C7-DADD-410B-8466-11AEF1B2990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ZoneTexte 40"/>
          <p:cNvSpPr/>
          <p:nvPr/>
        </p:nvSpPr>
        <p:spPr>
          <a:xfrm>
            <a:off x="4408560" y="1836720"/>
            <a:ext cx="287280" cy="144360"/>
          </a:xfrm>
          <a:prstGeom prst="rect">
            <a:avLst/>
          </a:prstGeom>
          <a:solidFill>
            <a:srgbClr val="94d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2.29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879480" y="1909800"/>
            <a:ext cx="5203800" cy="460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57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5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7031160" y="2646360"/>
            <a:ext cx="1841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59" name="AutoShape 9"/>
          <p:cNvCxnSpPr/>
          <p:nvPr/>
        </p:nvCxnSpPr>
        <p:spPr>
          <a:xfrm flipV="1" rot="16200000">
            <a:off x="6656760" y="67168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60" name="AutoShape 10"/>
          <p:cNvCxnSpPr/>
          <p:nvPr/>
        </p:nvCxnSpPr>
        <p:spPr>
          <a:xfrm flipV="1" rot="16200000">
            <a:off x="6656760" y="67168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61" name="AutoShape 11"/>
          <p:cNvCxnSpPr/>
          <p:nvPr/>
        </p:nvCxnSpPr>
        <p:spPr>
          <a:xfrm flipH="1" rot="16200000">
            <a:off x="6670800" y="328104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62" name="AutoShape 12"/>
          <p:cNvCxnSpPr/>
          <p:nvPr/>
        </p:nvCxnSpPr>
        <p:spPr>
          <a:xfrm flipH="1" flipV="1" rot="10800000">
            <a:off x="143280" y="385956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3" name="Freeform 24"/>
          <p:cNvSpPr/>
          <p:nvPr/>
        </p:nvSpPr>
        <p:spPr>
          <a:xfrm>
            <a:off x="5680080" y="3433680"/>
            <a:ext cx="2590920" cy="5335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25"/>
          <p:cNvSpPr/>
          <p:nvPr/>
        </p:nvSpPr>
        <p:spPr>
          <a:xfrm>
            <a:off x="6850080" y="3586320"/>
            <a:ext cx="33685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29"/>
          <p:cNvSpPr/>
          <p:nvPr/>
        </p:nvSpPr>
        <p:spPr>
          <a:xfrm>
            <a:off x="3317760" y="29764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,89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3317760" y="32050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317760" y="38908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Text Box 47"/>
          <p:cNvSpPr/>
          <p:nvPr/>
        </p:nvSpPr>
        <p:spPr>
          <a:xfrm>
            <a:off x="3317760" y="41194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48"/>
          <p:cNvSpPr/>
          <p:nvPr/>
        </p:nvSpPr>
        <p:spPr>
          <a:xfrm>
            <a:off x="3317760" y="43480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1,7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49"/>
          <p:cNvSpPr/>
          <p:nvPr/>
        </p:nvSpPr>
        <p:spPr>
          <a:xfrm>
            <a:off x="3317760" y="45766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72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Text Box 50"/>
          <p:cNvSpPr/>
          <p:nvPr/>
        </p:nvSpPr>
        <p:spPr>
          <a:xfrm>
            <a:off x="3317760" y="49579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8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Text Box 51"/>
          <p:cNvSpPr/>
          <p:nvPr/>
        </p:nvSpPr>
        <p:spPr>
          <a:xfrm>
            <a:off x="3317760" y="6040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3" name="Text Box 52"/>
          <p:cNvSpPr/>
          <p:nvPr/>
        </p:nvSpPr>
        <p:spPr>
          <a:xfrm>
            <a:off x="3317760" y="62690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3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6850080" y="1909800"/>
            <a:ext cx="336852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Freeform 24"/>
          <p:cNvSpPr/>
          <p:nvPr/>
        </p:nvSpPr>
        <p:spPr>
          <a:xfrm>
            <a:off x="5680080" y="297648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6850080" y="2671920"/>
            <a:ext cx="33685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Freeform 24"/>
          <p:cNvSpPr/>
          <p:nvPr/>
        </p:nvSpPr>
        <p:spPr>
          <a:xfrm>
            <a:off x="5680080" y="373860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Text Box 25"/>
          <p:cNvSpPr/>
          <p:nvPr/>
        </p:nvSpPr>
        <p:spPr>
          <a:xfrm>
            <a:off x="6850080" y="4576680"/>
            <a:ext cx="33685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Freeform 24"/>
          <p:cNvSpPr/>
          <p:nvPr/>
        </p:nvSpPr>
        <p:spPr>
          <a:xfrm>
            <a:off x="5680080" y="396720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6850080" y="5398920"/>
            <a:ext cx="33685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Freeform 61"/>
          <p:cNvSpPr/>
          <p:nvPr/>
        </p:nvSpPr>
        <p:spPr>
          <a:xfrm>
            <a:off x="5527800" y="5532480"/>
            <a:ext cx="2057400" cy="1101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1296" h="768">
                <a:moveTo>
                  <a:pt x="1296" y="768"/>
                </a:moveTo>
                <a:lnTo>
                  <a:pt x="672" y="768"/>
                </a:lnTo>
                <a:lnTo>
                  <a:pt x="672" y="384"/>
                </a:lnTo>
                <a:lnTo>
                  <a:pt x="672" y="336"/>
                </a:lnTo>
                <a:lnTo>
                  <a:pt x="288" y="336"/>
                </a:ln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6850080" y="6329520"/>
            <a:ext cx="33685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62"/>
          <p:cNvSpPr/>
          <p:nvPr/>
        </p:nvSpPr>
        <p:spPr>
          <a:xfrm>
            <a:off x="4064040" y="62150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AutoShape 65"/>
          <p:cNvSpPr/>
          <p:nvPr/>
        </p:nvSpPr>
        <p:spPr>
          <a:xfrm>
            <a:off x="5146560" y="5091120"/>
            <a:ext cx="152640" cy="87804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878040"/>
              <a:gd name="textAreaBottom" fmla="*/ 866160 h 8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9"/>
                  <a:pt x="10800" y="937"/>
                </a:cubicBezTo>
                <a:lnTo>
                  <a:pt x="10800" y="9863"/>
                </a:lnTo>
                <a:cubicBezTo>
                  <a:pt x="10800" y="10332"/>
                  <a:pt x="16200" y="10800"/>
                  <a:pt x="21600" y="10800"/>
                </a:cubicBezTo>
                <a:cubicBezTo>
                  <a:pt x="16200" y="10800"/>
                  <a:pt x="10800" y="11269"/>
                  <a:pt x="10800" y="11737"/>
                </a:cubicBezTo>
                <a:lnTo>
                  <a:pt x="10800" y="20663"/>
                </a:lnTo>
                <a:cubicBezTo>
                  <a:pt x="10800" y="211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85" name="Picture 35" descr=""/>
          <p:cNvPicPr/>
          <p:nvPr/>
        </p:nvPicPr>
        <p:blipFill>
          <a:blip r:embed="rId2"/>
          <a:stretch/>
        </p:blipFill>
        <p:spPr>
          <a:xfrm>
            <a:off x="3292560" y="2252520"/>
            <a:ext cx="2028600" cy="190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5" descr=""/>
          <p:cNvPicPr/>
          <p:nvPr/>
        </p:nvPicPr>
        <p:blipFill>
          <a:blip r:embed="rId3"/>
          <a:stretch/>
        </p:blipFill>
        <p:spPr>
          <a:xfrm>
            <a:off x="3305160" y="5824440"/>
            <a:ext cx="866880" cy="171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5" descr=""/>
          <p:cNvPicPr/>
          <p:nvPr/>
        </p:nvPicPr>
        <p:blipFill>
          <a:blip r:embed="rId4"/>
          <a:stretch/>
        </p:blipFill>
        <p:spPr>
          <a:xfrm>
            <a:off x="3591000" y="5824440"/>
            <a:ext cx="866880" cy="1717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50"/>
          <p:cNvSpPr/>
          <p:nvPr/>
        </p:nvSpPr>
        <p:spPr>
          <a:xfrm>
            <a:off x="3305160" y="5780160"/>
            <a:ext cx="19810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Capteur SOL 200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4612-C8F3-4AF7-B4CF-679B47AB2ACB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736560" y="371016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92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787320" y="1652760"/>
            <a:ext cx="4737240" cy="1865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93" name="Text Box 9"/>
          <p:cNvSpPr/>
          <p:nvPr/>
        </p:nvSpPr>
        <p:spPr>
          <a:xfrm>
            <a:off x="6888240" y="2389320"/>
            <a:ext cx="1881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4" name="AutoShape 12"/>
          <p:cNvCxnSpPr/>
          <p:nvPr/>
        </p:nvCxnSpPr>
        <p:spPr>
          <a:xfrm flipH="1" rot="16200000">
            <a:off x="6527880" y="30240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95" name="AutoShape 13"/>
          <p:cNvCxnSpPr/>
          <p:nvPr/>
        </p:nvCxnSpPr>
        <p:spPr>
          <a:xfrm flipH="1" flipV="1" rot="10800000">
            <a:off x="70200" y="3851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96" name="Text Box 22"/>
          <p:cNvSpPr/>
          <p:nvPr/>
        </p:nvSpPr>
        <p:spPr>
          <a:xfrm>
            <a:off x="6707160" y="3557520"/>
            <a:ext cx="34416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Freeform 23"/>
          <p:cNvSpPr/>
          <p:nvPr/>
        </p:nvSpPr>
        <p:spPr>
          <a:xfrm flipV="1">
            <a:off x="5156280" y="206316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8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2031840" y="229068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499" name="Freeform 24"/>
          <p:cNvSpPr/>
          <p:nvPr/>
        </p:nvSpPr>
        <p:spPr>
          <a:xfrm flipV="1">
            <a:off x="5156280" y="4091040"/>
            <a:ext cx="3657600" cy="4968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0" name="Text Box 25"/>
          <p:cNvSpPr/>
          <p:nvPr/>
        </p:nvSpPr>
        <p:spPr>
          <a:xfrm>
            <a:off x="6707160" y="3786120"/>
            <a:ext cx="34416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Freeform 24"/>
          <p:cNvSpPr/>
          <p:nvPr/>
        </p:nvSpPr>
        <p:spPr>
          <a:xfrm flipV="1">
            <a:off x="5156280" y="2382480"/>
            <a:ext cx="3657600" cy="38088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6707160" y="2001960"/>
            <a:ext cx="344160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39"/>
          <p:cNvSpPr/>
          <p:nvPr/>
        </p:nvSpPr>
        <p:spPr>
          <a:xfrm>
            <a:off x="2976480" y="450864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40"/>
          <p:cNvSpPr/>
          <p:nvPr/>
        </p:nvSpPr>
        <p:spPr>
          <a:xfrm>
            <a:off x="3021480" y="4718160"/>
            <a:ext cx="79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jus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41"/>
          <p:cNvSpPr/>
          <p:nvPr/>
        </p:nvSpPr>
        <p:spPr>
          <a:xfrm>
            <a:off x="2968560" y="493380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,5 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3017880" y="5192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0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Text Box 43"/>
          <p:cNvSpPr/>
          <p:nvPr/>
        </p:nvSpPr>
        <p:spPr>
          <a:xfrm>
            <a:off x="2946240" y="538632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Text Box 44"/>
          <p:cNvSpPr/>
          <p:nvPr/>
        </p:nvSpPr>
        <p:spPr>
          <a:xfrm>
            <a:off x="2981160" y="563868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0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2976840" y="588024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0" name="Picture 35" descr=""/>
          <p:cNvPicPr/>
          <p:nvPr/>
        </p:nvPicPr>
        <p:blipFill>
          <a:blip r:embed="rId4"/>
          <a:stretch/>
        </p:blipFill>
        <p:spPr>
          <a:xfrm>
            <a:off x="2938320" y="2498760"/>
            <a:ext cx="1305000" cy="152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7" descr=""/>
          <p:cNvPicPr/>
          <p:nvPr/>
        </p:nvPicPr>
        <p:blipFill>
          <a:blip r:embed="rId5"/>
          <a:stretch/>
        </p:blipFill>
        <p:spPr>
          <a:xfrm>
            <a:off x="2946240" y="2922480"/>
            <a:ext cx="1609920" cy="152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5" descr=""/>
          <p:cNvPicPr/>
          <p:nvPr/>
        </p:nvPicPr>
        <p:blipFill>
          <a:blip r:embed="rId6"/>
          <a:stretch/>
        </p:blipFill>
        <p:spPr>
          <a:xfrm>
            <a:off x="2944800" y="1895400"/>
            <a:ext cx="866880" cy="171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5" descr=""/>
          <p:cNvPicPr/>
          <p:nvPr/>
        </p:nvPicPr>
        <p:blipFill>
          <a:blip r:embed="rId7"/>
          <a:stretch/>
        </p:blipFill>
        <p:spPr>
          <a:xfrm>
            <a:off x="3664080" y="1922400"/>
            <a:ext cx="866520" cy="1713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5" descr=""/>
          <p:cNvPicPr/>
          <p:nvPr/>
        </p:nvPicPr>
        <p:blipFill>
          <a:blip r:embed="rId8"/>
          <a:stretch/>
        </p:blipFill>
        <p:spPr>
          <a:xfrm>
            <a:off x="2946240" y="2282760"/>
            <a:ext cx="866880" cy="171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5" descr=""/>
          <p:cNvPicPr/>
          <p:nvPr/>
        </p:nvPicPr>
        <p:blipFill>
          <a:blip r:embed="rId9"/>
          <a:stretch/>
        </p:blipFill>
        <p:spPr>
          <a:xfrm>
            <a:off x="3448080" y="2282760"/>
            <a:ext cx="866880" cy="1713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1"/>
          <p:cNvSpPr/>
          <p:nvPr/>
        </p:nvSpPr>
        <p:spPr>
          <a:xfrm>
            <a:off x="2939400" y="192240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Wsi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7" name="Text Box 41"/>
          <p:cNvSpPr/>
          <p:nvPr/>
        </p:nvSpPr>
        <p:spPr>
          <a:xfrm>
            <a:off x="2962440" y="2282760"/>
            <a:ext cx="7840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Wsi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8" name="Espace réservé du texte 4"/>
          <p:cNvSpPr/>
          <p:nvPr/>
        </p:nvSpPr>
        <p:spPr>
          <a:xfrm>
            <a:off x="2027160" y="287280"/>
            <a:ext cx="7925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Stockage SOLAR Wsi 150 L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A3A7-D28B-412E-B322-D2C556F665A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0" descr=""/>
          <p:cNvPicPr/>
          <p:nvPr/>
        </p:nvPicPr>
        <p:blipFill>
          <a:blip r:embed="rId1"/>
          <a:stretch/>
        </p:blipFill>
        <p:spPr>
          <a:xfrm>
            <a:off x="808200" y="255744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9"/>
          <p:cNvSpPr/>
          <p:nvPr/>
        </p:nvSpPr>
        <p:spPr>
          <a:xfrm>
            <a:off x="6831000" y="262908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22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23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24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25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Freeform 23"/>
          <p:cNvSpPr/>
          <p:nvPr/>
        </p:nvSpPr>
        <p:spPr>
          <a:xfrm flipV="1">
            <a:off x="5249880" y="2529000"/>
            <a:ext cx="1600200" cy="86184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24"/>
          <p:cNvSpPr/>
          <p:nvPr/>
        </p:nvSpPr>
        <p:spPr>
          <a:xfrm>
            <a:off x="808200" y="2052720"/>
            <a:ext cx="576072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8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536920" y="210348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38"/>
          <p:cNvSpPr/>
          <p:nvPr/>
        </p:nvSpPr>
        <p:spPr>
          <a:xfrm>
            <a:off x="3687840" y="2773440"/>
            <a:ext cx="149364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0" name="Text Box 40"/>
          <p:cNvSpPr/>
          <p:nvPr/>
        </p:nvSpPr>
        <p:spPr>
          <a:xfrm>
            <a:off x="3760920" y="2989440"/>
            <a:ext cx="6001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21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1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5172-7A07-44D6-B801-803A486CFEC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3" name="Text Box 40"/>
          <p:cNvSpPr/>
          <p:nvPr/>
        </p:nvSpPr>
        <p:spPr>
          <a:xfrm>
            <a:off x="3832200" y="2557440"/>
            <a:ext cx="6001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52:55Z</dcterms:modified>
  <cp:revision>115</cp:revision>
  <dc:subject/>
  <dc:title>Présentation PowerPoint</dc:title>
</cp:coreProperties>
</file>