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1EE-A22B-4174-BCAC-8043D939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61B-D3B9-4C36-ACDD-6F7E1212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77B05-0660-4762-9134-13AE7DE6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D3245-D768-4F9E-A2AF-9F748B3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D5489-0F7B-4032-9A7E-3399A63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0F735-22DC-4100-9A2E-61EA9B4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F1A83-3FD2-4757-B0BD-3772E0D4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C6EDE-C4A7-4117-9DBD-0CD437AE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F562D-81E5-4DE7-BC0A-86ECCD9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957C0-2646-4266-AF95-BDC0A0EF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A5621-C3F6-43F7-BC61-E315CF20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CDA-CC02-48FB-B6FD-F4C14AC9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4BB-F7B2-4AA8-82E9-FDD0C8E7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4FBB-A662-4CE7-B806-2765FABE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FF0-1C69-4B61-9632-742B54D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22B6-FA7D-4E16-AA86-08BADCB5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9098-583B-402A-8811-0E4F9700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63A2-D94E-45C7-9E83-39B23A59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41DA-DCCA-4145-AB05-B78879D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4B02-77A5-4211-B91D-8674F77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0F2-EB89-4369-A5BA-CEB53C7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C22-6F5B-4B7A-B094-D17B7FF4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209D-BFB3-46EC-93C3-1079EB7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886C-250B-41A3-9B8D-B003B51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582C-1396-4540-A20C-DB325B05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73B2-9238-4261-BCE4-57FFD277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CFF9-3FEE-4B18-A6F9-73D46A47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9064-B539-4F58-AC3B-FE9368F0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5EAA-DAEA-48AB-81FC-6E833AA0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3871-4AE6-4C0C-8513-63896583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6978-25E7-476A-9F73-87822168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580-013B-4C9B-A6CF-C83C1D7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F782-59D7-4200-AA5A-7F82AEA4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5A21-4E56-4EEE-9D48-7798779F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EAD3-135E-4C44-89D8-559F931A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1407-98EC-4957-8231-8AE2EEF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899B-2D2C-4E08-96B8-150DF83E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AC9B-3EC4-4AC0-9760-BB8D4E5F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F4BF-5BF4-43A6-B245-0F3A0CB9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37BA-2F47-4658-93A9-4611E0D6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50ED-E1F5-40A4-9722-E53C50B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3E16-70AC-47D4-8458-6DAB4123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DED-1F0E-4CF1-901E-55D83DFF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5B30-A31E-4892-9D5E-FAABB4C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9466-FFEB-4BD5-B44B-0964F953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A6A7-6C57-448F-9550-DE0838C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075E-29E8-4F75-885B-8D8D534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AE6D-A7AC-4D97-8234-CD86F8D3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E81C-515C-4966-9794-A3962E3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13F5-3548-4D48-9736-A9CA3C56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CB9A-B302-4A86-9DD9-5E9A48C6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7A21-546B-43A6-99BE-2394A8A3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1ADD-D0E6-4442-82FC-F5ABCDB4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5B4-A7F4-49E3-A58E-C2A9840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7C4F-8F65-479E-A484-AE2A379D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2265-9BEF-44B8-BFEC-24EC5114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5DBD-6611-4027-B1DF-7D62A0D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DB02-87A8-4C46-9770-73BD37A6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CDAA-C2E1-4766-88C6-AF33AA7B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319D-9C5F-4C4C-9FB8-6742FA21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5A2D-C518-4DD2-840C-09267BB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9C48-3167-4173-81D7-6D0D9927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AEBB5-1A3D-4B69-BAB8-4BED40AA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65AE-5E3F-49AE-88A6-FD8F8E9F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BB0-668A-47F5-ABCD-F7BF7441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D6B1-3F6D-4E85-B3C2-CD84206C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AA6E3-0B73-4976-8841-B5695973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5DF7B-682B-4626-B919-4C969D7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6A805-4F39-466B-A89A-311EE091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ED48-3E39-4D84-9FF5-7982168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E48D-E97D-4AA4-89B6-25221CD9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2679-6582-420C-B713-03CD8374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6FE5-392C-418A-826A-A6D4F5C1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5A049-F89A-42DA-AE2E-8BACC956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47D5-233A-415F-B107-583946F0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925-04B0-4A96-A280-C5EEC7D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C63C4-7E57-4599-8ACE-AA6FE2B5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A6BB5-265A-4117-8545-BFDF152E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B4C39-1944-4031-8E7D-ED840DC5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D7117-4969-4500-8E92-47F10253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B419-78D3-47E2-822D-11F35FE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F49EE-8E44-4095-B8C7-2752CE8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0853F-0D8F-434B-999E-9F81EF2B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ACFA0-E945-49D9-AFAA-B88FA43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D66ED-4E9C-4175-9055-DF8B7F39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D143-C8E8-43F4-8EF6-0206FA7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76C-9958-44E7-89D2-E0CCA85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7CFD-FDFF-4CFD-A238-5146C781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77CAD-9413-432B-A18D-E76C6BA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56BB5-4ED5-448D-994D-D73C147A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2BA45-29F1-44E4-B025-1FB55D6D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7F07-E0E2-40C8-A825-671773BC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39418-1E94-41D3-948A-83E89DD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9CFD8-A474-4AF3-8D9C-8010711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9B92F-2671-44B6-82E4-C604EA12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22090-C298-4967-ABB7-AA853FA0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14177-9D3A-480E-B0F0-A4988F1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A28-B445-49AA-B489-839EAE4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CE8F2-4A0A-4FB0-B4AF-7899E9E0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44C86-E520-4E10-8AE7-BCD9B68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9138-A2EA-43D9-A334-45B0084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6BC4-C148-4499-8CDF-B44067D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9C1B3-211F-4A69-90D6-C032B08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EA10B-FFB7-4E0C-B0FD-4F7B1D5B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61A1-4626-4F20-A4C1-7BB49BF4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CACE1-DAC3-4E88-93D7-020287DD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C2F9-F3B9-420C-819F-4A489B6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299E4-FE7A-4382-AC84-0E164A6A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C6F1-3408-4D1D-8357-0668970CC60F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393C-9071-4522-867F-F2D87F80EEB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D1C6-2253-4374-B264-CEF9AFC565E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4966-AA94-4C70-964E-76B1C1185C7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11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47FE-E867-485A-AA1B-D5A953E051D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F232-7414-4F84-995D-70CB5EEADB1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6284-5C71-4580-942F-7C0EA3603C3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5858-2E84-4FD1-BDBB-C0FA29D3658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11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307-F033-4F74-82AF-CEA4E7A0357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ergies-avenir.fr/page/guide-pratique-rt-2012-77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8"/>
          <p:cNvSpPr/>
          <p:nvPr/>
        </p:nvSpPr>
        <p:spPr>
          <a:xfrm>
            <a:off x="830880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ＭＳ Ｐゴシック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60680" y="96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dière à condensation individuelle à micro-accumulation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/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-1587600" y="339840"/>
            <a:ext cx="9601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1238040" y="1582560"/>
            <a:ext cx="87854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e présent document décrit la saisie et la prise en compte de chaudières à condensation individuelles dans le logiciel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pplication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e la RT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ensemble du systèm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(      ). Cet objet contient l’élément suivant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à condensation (      ),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es étapes de la saisie du système sont les suivantes :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Génér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gaz à condens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«Circulateur du réseau de distribution de groupe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4" name="Object 16"/>
          <p:cNvGraphicFramePr/>
          <p:nvPr/>
        </p:nvGraphicFramePr>
        <p:xfrm>
          <a:off x="5519880" y="209880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209880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7"/>
          <p:cNvGraphicFramePr/>
          <p:nvPr/>
        </p:nvGraphicFramePr>
        <p:xfrm>
          <a:off x="7104240" y="2268360"/>
          <a:ext cx="183960" cy="20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4240" y="2268360"/>
                    <a:ext cx="1839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D8DB-3D4F-4620-80D9-4FCF60B5583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09" name="Picture 11" descr=""/>
          <p:cNvPicPr/>
          <p:nvPr/>
        </p:nvPicPr>
        <p:blipFill>
          <a:blip r:embed="rId5"/>
          <a:stretch/>
        </p:blipFill>
        <p:spPr>
          <a:xfrm>
            <a:off x="6927840" y="3997440"/>
            <a:ext cx="273384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8" descr="Travail:1 GRAPHISME:GRDF:FICHES_BET:FICHES_SOLUTIONS:ELEMENTS_OK:F2_BBS:CAPT_1.jpg"/>
          <p:cNvPicPr/>
          <p:nvPr/>
        </p:nvPicPr>
        <p:blipFill>
          <a:blip r:embed="rId1"/>
          <a:stretch/>
        </p:blipFill>
        <p:spPr>
          <a:xfrm>
            <a:off x="663480" y="1620720"/>
            <a:ext cx="5500800" cy="2116080"/>
          </a:xfrm>
          <a:prstGeom prst="rect">
            <a:avLst/>
          </a:prstGeom>
          <a:ln w="0">
            <a:noFill/>
          </a:ln>
        </p:spPr>
      </p:pic>
      <p:cxnSp>
        <p:nvCxnSpPr>
          <p:cNvPr id="411" name="AutoShape 16"/>
          <p:cNvCxnSpPr>
            <a:stCxn id="412" idx="1"/>
            <a:endCxn id="412" idx="1"/>
          </p:cNvCxnSpPr>
          <p:nvPr/>
        </p:nvCxnSpPr>
        <p:spPr>
          <a:xfrm rot="10800000">
            <a:off x="6633360" y="1932840"/>
            <a:ext cx="13680" cy="1332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13" name="AutoShape 19"/>
          <p:cNvCxnSpPr>
            <a:stCxn id="412" idx="1"/>
            <a:endCxn id="412" idx="1"/>
          </p:cNvCxnSpPr>
          <p:nvPr/>
        </p:nvCxnSpPr>
        <p:spPr>
          <a:xfrm rot="10800000">
            <a:off x="6633360" y="1932840"/>
            <a:ext cx="13680" cy="1332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14" name="AutoShape 24"/>
          <p:cNvCxnSpPr/>
          <p:nvPr/>
        </p:nvCxnSpPr>
        <p:spPr>
          <a:xfrm flipH="1" rot="16200000">
            <a:off x="6454440" y="29761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5" name="AutoShape 41"/>
          <p:cNvCxnSpPr/>
          <p:nvPr/>
        </p:nvCxnSpPr>
        <p:spPr>
          <a:xfrm flipH="1" flipV="1" rot="10800000">
            <a:off x="139320" y="37818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6" name="Freeform 29"/>
          <p:cNvSpPr/>
          <p:nvPr/>
        </p:nvSpPr>
        <p:spPr>
          <a:xfrm>
            <a:off x="5921280" y="19098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6634080" y="16354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quer «Générateurs en cascade» si présence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ballon ECS, dans le cas contraire «sans priorité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7" name="Freeform 30"/>
          <p:cNvSpPr/>
          <p:nvPr/>
        </p:nvSpPr>
        <p:spPr>
          <a:xfrm flipV="1">
            <a:off x="5921280" y="2747880"/>
            <a:ext cx="1219320" cy="457200"/>
          </a:xfrm>
          <a:custGeom>
            <a:avLst/>
            <a:gdLst>
              <a:gd name="textAreaLeft" fmla="*/ 0 w 1219320"/>
              <a:gd name="textAreaRight" fmla="*/ 1219680 w 121932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6634080" y="2764440"/>
            <a:ext cx="35132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emplacement en volume chauffé permet de réduire les pertes et les consommations de chauffage. La chaudière individuelle est généralement située dans le volume habitable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ppart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19" name="Image 16" descr=""/>
          <p:cNvPicPr/>
          <p:nvPr/>
        </p:nvPicPr>
        <p:blipFill>
          <a:blip r:embed="rId2"/>
          <a:stretch/>
        </p:blipFill>
        <p:spPr>
          <a:xfrm>
            <a:off x="3738600" y="3349800"/>
            <a:ext cx="2351160" cy="144360"/>
          </a:xfrm>
          <a:prstGeom prst="rect">
            <a:avLst/>
          </a:prstGeom>
          <a:ln w="0">
            <a:noFill/>
          </a:ln>
        </p:spPr>
      </p:pic>
      <p:sp>
        <p:nvSpPr>
          <p:cNvPr id="420" name="Freeform 31"/>
          <p:cNvSpPr/>
          <p:nvPr/>
        </p:nvSpPr>
        <p:spPr>
          <a:xfrm flipV="1">
            <a:off x="5921280" y="3432960"/>
            <a:ext cx="1219320" cy="762120"/>
          </a:xfrm>
          <a:custGeom>
            <a:avLst/>
            <a:gdLst>
              <a:gd name="textAreaLeft" fmla="*/ 0 w 1219320"/>
              <a:gd name="textAreaRight" fmla="*/ 1219680 w 121932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6634080" y="3880800"/>
            <a:ext cx="3516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 RT 2012, les chaudières à micro-accumulation sont considérées comme production d’ECS instantané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génération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FD1A-2803-45CB-8B86-A70888941705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3" descr="Travail:1 GRAPHISME:GRDF:FICHES_BET:FICHES_SOLUTIONS:ELEMENTS_OK:F2_BBS:CAPT_3.jpg"/>
          <p:cNvPicPr/>
          <p:nvPr/>
        </p:nvPicPr>
        <p:blipFill>
          <a:blip r:embed="rId1"/>
          <a:stretch/>
        </p:blipFill>
        <p:spPr>
          <a:xfrm>
            <a:off x="663480" y="2701800"/>
            <a:ext cx="4648320" cy="445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5" name="Picture 24" descr="Travail:1 GRAPHISME:GRDF:FICHES_BET:FICHES_SOLUTIONS:ELEMENTS_OK:F2_BBS:CAPT_2.jpg"/>
          <p:cNvPicPr/>
          <p:nvPr/>
        </p:nvPicPr>
        <p:blipFill>
          <a:blip r:embed="rId2"/>
          <a:stretch/>
        </p:blipFill>
        <p:spPr>
          <a:xfrm>
            <a:off x="663480" y="1415880"/>
            <a:ext cx="4648320" cy="112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6" name="Text Box 7"/>
          <p:cNvSpPr/>
          <p:nvPr/>
        </p:nvSpPr>
        <p:spPr>
          <a:xfrm>
            <a:off x="6815160" y="2143080"/>
            <a:ext cx="19209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8"/>
          <p:cNvCxnSpPr>
            <a:stCxn id="428" idx="1"/>
            <a:endCxn id="428" idx="1"/>
          </p:cNvCxnSpPr>
          <p:nvPr/>
        </p:nvCxnSpPr>
        <p:spPr>
          <a:xfrm rot="10800000">
            <a:off x="6633360" y="1770840"/>
            <a:ext cx="13680" cy="1368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29" name="AutoShape 9"/>
          <p:cNvCxnSpPr>
            <a:stCxn id="428" idx="1"/>
            <a:endCxn id="428" idx="1"/>
          </p:cNvCxnSpPr>
          <p:nvPr/>
        </p:nvCxnSpPr>
        <p:spPr>
          <a:xfrm rot="10800000">
            <a:off x="6633360" y="1770840"/>
            <a:ext cx="13680" cy="1368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30" name="AutoShape 10"/>
          <p:cNvCxnSpPr/>
          <p:nvPr/>
        </p:nvCxnSpPr>
        <p:spPr>
          <a:xfrm flipV="1" rot="16200000">
            <a:off x="6454800" y="277956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1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14"/>
          <p:cNvSpPr/>
          <p:nvPr/>
        </p:nvSpPr>
        <p:spPr>
          <a:xfrm>
            <a:off x="6634080" y="1387440"/>
            <a:ext cx="351324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Toutes les caractéristiques de performances des générateurs sont disponibles sur le site du fabricant EDIBATEC et la base de données ATITA (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https://techniqueuniclima.com/)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2" name="Freeform 17"/>
          <p:cNvSpPr/>
          <p:nvPr/>
        </p:nvSpPr>
        <p:spPr>
          <a:xfrm flipV="1">
            <a:off x="5083200" y="2128680"/>
            <a:ext cx="1600200" cy="64944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649440"/>
              <a:gd name="textAreaBottom" fmla="*/ 650160 h 64944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6607080" y="2625840"/>
            <a:ext cx="351324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quer le nombre de générateurs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4" name="Freeform 25"/>
          <p:cNvSpPr/>
          <p:nvPr/>
        </p:nvSpPr>
        <p:spPr>
          <a:xfrm>
            <a:off x="5083200" y="2433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00" h="384">
                <a:moveTo>
                  <a:pt x="1200" y="384"/>
                </a:moveTo>
                <a:lnTo>
                  <a:pt x="672" y="384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5" name="Text Box 31"/>
          <p:cNvSpPr/>
          <p:nvPr/>
        </p:nvSpPr>
        <p:spPr>
          <a:xfrm>
            <a:off x="6607080" y="315900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ce 1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 base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ce 2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 appoi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a chaudière gaz à condensation assure des fonctions de chauffage et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20976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/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7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gaz à condensation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DE4B-B8D5-4488-9E0F-1B6807FD8229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9"/>
          <p:cNvSpPr/>
          <p:nvPr/>
        </p:nvSpPr>
        <p:spPr>
          <a:xfrm>
            <a:off x="6815160" y="2316240"/>
            <a:ext cx="1920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0" name="AutoShape 12"/>
          <p:cNvCxnSpPr/>
          <p:nvPr/>
        </p:nvCxnSpPr>
        <p:spPr>
          <a:xfrm flipV="1" rot="16200000">
            <a:off x="6455160" y="29527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41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2" name="Text Box 16"/>
          <p:cNvSpPr/>
          <p:nvPr/>
        </p:nvSpPr>
        <p:spPr>
          <a:xfrm>
            <a:off x="6618240" y="1595520"/>
            <a:ext cx="3529080" cy="112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Les caractéristiques des réseaux de distribution de chauffage et d</a:t>
            </a:r>
            <a:r>
              <a:rPr b="1" lang="ja-JP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’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ECS (longueurs, puissances et vitesse du circulateur) sont détaillées dans le guide pratique RT 2012 (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ea typeface="ＭＳ Ｐゴシック"/>
                <a:hlinkClick r:id="rId1"/>
              </a:rPr>
              <a:t>http://www.energies-avenir.fr/page/guide-pratique-rt-2012-77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). Ce document ne concerne que le log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663480" y="1595520"/>
            <a:ext cx="516276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«Emission» (       )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4" name="Picture 25" descr="Travail:1 GRAPHISME:GRDF:FICHES_BET:FICHES_SOLUTIONS:ELEMENTS_OK:PICTOS:EMISSION.jpg"/>
          <p:cNvPicPr/>
          <p:nvPr/>
        </p:nvPicPr>
        <p:blipFill>
          <a:blip r:embed="rId2"/>
          <a:stretch/>
        </p:blipFill>
        <p:spPr>
          <a:xfrm>
            <a:off x="2370240" y="1631880"/>
            <a:ext cx="225360" cy="203400"/>
          </a:xfrm>
          <a:prstGeom prst="rect">
            <a:avLst/>
          </a:prstGeom>
          <a:ln w="0">
            <a:noFill/>
          </a:ln>
        </p:spPr>
      </p:pic>
      <p:sp>
        <p:nvSpPr>
          <p:cNvPr id="445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«Circulateur du réseau de distribution de groupe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6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1D93-77B1-4F92-9B25-42A71320F52B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7" name="Picture 20" descr=""/>
          <p:cNvPicPr/>
          <p:nvPr/>
        </p:nvPicPr>
        <p:blipFill>
          <a:blip r:embed="rId3"/>
          <a:stretch/>
        </p:blipFill>
        <p:spPr>
          <a:xfrm>
            <a:off x="663480" y="2268360"/>
            <a:ext cx="5591160" cy="638280"/>
          </a:xfrm>
          <a:prstGeom prst="rect">
            <a:avLst/>
          </a:prstGeom>
          <a:ln w="0">
            <a:noFill/>
          </a:ln>
        </p:spPr>
      </p:pic>
      <p:cxnSp>
        <p:nvCxnSpPr>
          <p:cNvPr id="448" name="AutoShape 12"/>
          <p:cNvCxnSpPr/>
          <p:nvPr/>
        </p:nvCxnSpPr>
        <p:spPr>
          <a:xfrm flipH="1" rot="16200000">
            <a:off x="6423120" y="29890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49" name="Text Box 22"/>
          <p:cNvSpPr/>
          <p:nvPr/>
        </p:nvSpPr>
        <p:spPr>
          <a:xfrm>
            <a:off x="3687840" y="2197080"/>
            <a:ext cx="1728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3544920" y="2486160"/>
            <a:ext cx="1493640" cy="1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616200" y="2701800"/>
            <a:ext cx="6001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2" name="Freeform 25"/>
          <p:cNvSpPr/>
          <p:nvPr/>
        </p:nvSpPr>
        <p:spPr>
          <a:xfrm flipV="1">
            <a:off x="5616720" y="2498040"/>
            <a:ext cx="1981080" cy="1981080"/>
          </a:xfrm>
          <a:custGeom>
            <a:avLst/>
            <a:gdLst>
              <a:gd name="textAreaLeft" fmla="*/ 0 w 1981080"/>
              <a:gd name="textAreaRight" fmla="*/ 1981440 w 198108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6634080" y="2840040"/>
            <a:ext cx="35132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e circulateur est généralement intégré à la chaudière. La puissance à renseigner correspond à la somme des puissances des circulateurs des chaudières individuelles du bâti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Quand le circulateur est à multivitesse réglable manuellement, la puissance du circulateur à retenir dans le calcul est la moyenne des puissances des différentes vitesse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Pour des circulateurs à vitesse variable, la puissance du circulateur est la moyenne entre la puissance maximale et la puissance minimal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vitesse constante du circulateur de distribution peut entraîner une augmentation de la consommation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viron 10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% par rapport à une vitesse variabl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1:53Z</dcterms:modified>
  <cp:revision>66</cp:revision>
  <dc:subject/>
  <dc:title>Présentation PowerPoint</dc:title>
</cp:coreProperties>
</file>