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wmf" ContentType="image/x-wmf"/>
  <Override PartName="/ppt/media/image7.jpeg" ContentType="image/jpeg"/>
  <Override PartName="/ppt/media/image18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2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839520" y="767880"/>
            <a:ext cx="541980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move the slide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3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58AE-6F0E-4FE5-8119-668AD07801F1}" type="slidenum">
              <a:rPr b="0" lang="fr-FR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839880" y="768240"/>
            <a:ext cx="5419800" cy="3837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CECD-70B5-4CCF-A781-F3E288CF709C}" type="slidenum">
              <a:rPr b="0" lang="fr-FR" sz="1200" spc="-1" strike="noStrike">
                <a:solidFill>
                  <a:srgbClr val="1f497d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BC88-F0C1-4736-9503-D5625E64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25C6-1B88-4BC1-9208-D8B446F9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891AD-B9B7-46C6-B089-DF970A8E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DBD7E-CDF3-4155-93CC-6D74BFE1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5BA4C-5DC6-4FAE-A69E-6C2BF433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1A3FB-EC2A-4361-BD98-B7D9378B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51790-9554-4542-BC6A-CA66E9DB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2828E-A466-48B4-889D-DFBFD8A0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1A690-14C8-46AC-A584-E0205F95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A92AB-391A-4A9B-B36D-1D28744C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E00E6-A10E-41B5-9EF6-FB5A7E49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C4AF-F0EF-4D82-B693-A290C967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B49-9946-44FE-8ABB-63AB58E1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4BB3-FC50-4004-90E2-C5EE8620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DD0E-1869-4C06-9BFE-38B4C52F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9BA2-34B8-4021-A1EF-1665A299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FFD9-246F-4C77-8F0F-129AEC15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9910-B81B-400C-8D62-F9E96DC5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A4CD-AD16-49AF-B693-66BC1BE4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AE73-C112-435E-893D-6656109C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E216-3F38-4A6C-9A0C-D7FF196C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FA0E-078B-4944-8968-F3519392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6EEE-0975-4555-8494-71E50CD0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6FB9-4148-4BFC-9194-DAF33ECC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9116-4CE0-4F83-9E07-71CC3A93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57D2-54D7-4EDA-B0B0-20F5C194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02244-7336-44F0-9238-3DAF748C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1DD5A-B60E-4E4E-A56E-9AB68398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8FDAB-70E9-4685-9E9F-5B8386E0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C8FD5-6742-4752-B23A-A4C2B5AA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C46F6-65FC-4A31-AE72-498395DF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3F69-7BD3-4B9F-974F-559EC924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20F24-421B-4ED8-BED9-DC9D6302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AFF1E-D87E-403B-82F2-07025E2E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3D440-A2AD-46CF-A4FB-5762C266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105D4-373E-433E-A30A-19BB4049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32178-03D1-49DE-88A9-1341F5C3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03ECC-2567-4B47-B63A-88B516F8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B2371-36C5-4D8A-9D30-D6EC3DD8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F2FC7-1337-4378-B5FD-F1B5FAAF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63761-F05F-42E3-B096-C50D5576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7DB98-3AD8-4EFE-8303-9D6763AD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D5CE-112B-4B64-A146-2E8C3B8B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C7879-A664-49EC-8E54-208D9736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3E51C-5D34-4783-8298-4BBED34C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64C04-B263-4A17-B720-D62A6D90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64D5F-5FA9-44D2-9BAB-CE3A3F3D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A2DFF-B469-4E9E-9484-91BA8057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C1D0A-BF3B-493D-9206-23CB4C9B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1FFE5-9DAE-4FE6-8CF6-73A86A71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9F02B-4B6C-4E3A-8E2D-594ED22F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0DB24-BF4C-4245-86EE-F800D8A2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1DEC3-6D4A-454D-8189-32F750F1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7675-D661-4E3E-9303-72014BC6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87745-76AB-4A3F-8EDE-361AFBAD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C8DF1-93A2-4391-87E8-67D33816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6415A-5460-4B7F-B0B4-66B2724B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0D196-9085-4D89-9E61-281A69EE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A16A9-10E4-4628-8A17-45D853B1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B455F-ABF3-47D2-8350-C945D27D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3DCD9-E413-49D3-8F03-39A40CE2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76741-206F-4BA3-9032-3A933710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9EBA6-0AF8-4832-87E5-4B49EB86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EE0CB-84B0-4183-B745-9B1DD60F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5493-023C-43D7-9365-F58D0B76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094B3-7C99-4D43-AA50-C0F98C2F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61EC7-6429-45E7-9473-B7D7D4AA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6C93F-B173-409D-B8F6-03C1C3F7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88D29-F2C2-48ED-A37D-AB9074FE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F659D-2511-49BF-9535-9F049F65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B5566-9B6B-452B-BB7D-A312F9CE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38C52-CD10-4E76-8CC3-A2BFD601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06D82-E1EA-4AD3-BC3E-9C276FC1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9E065-D8A5-490A-BAFA-22AC0821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00893-E29F-409F-9628-9F5A0FFA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B496-80D2-4A23-9AB1-ADF7F379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F5E8D-272F-44E6-B45E-8EBCD52A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96141-B20F-4155-9111-7192E407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F60C8-047B-4E0D-9F3B-E57ACF00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6065B-A3B5-4EFB-92B4-0BC37052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FED06-AB83-4ECE-98B1-037EA0E2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E4DEC-1DB9-487F-B99A-832A0B1D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234A1-B0F7-4109-8122-AD9B57D5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704E1-EEB2-418F-8A03-EEAA5153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44D19-6BB4-4670-9A68-B067BFCE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287E7-41F2-43D9-A772-0C2369BB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01B7-61FE-45A6-8990-ED902B0D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CAB8B-6081-4CF2-A7CC-2D94DC2E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CFDC0-40A0-4995-AFFA-39D787B8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03B64-E439-4EFD-9A91-87E2F290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7599F-4979-4113-B22A-5B4977A8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418EE-001D-4924-94C6-054589ED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F68D8-A451-4314-80E3-12C410F3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B65E9-4862-4325-A182-D2D48519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BD018-B07D-4D5A-BFC5-4E0D2FB3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35FCD-387A-4C2F-8564-A10673E4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C2370-3138-4104-9F3A-93DCEB4E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8B6-DC7C-4EEA-A88B-05BA74EF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A4E57-ACBA-4D06-96A7-62B9D1A5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8EA77-A2BF-459A-AA53-78A2CA17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AB95F-F94F-46CB-9F1A-657E07E2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E6D1C-3A5C-44DC-9C44-6C016FBB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C77B4-358F-46A9-AA59-4336779E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42A9D-16C9-4A25-AB7F-B0C9FBBE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EEF96-D7CD-49E7-8962-D3AD7ED1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F3774-5AF1-4DB7-9DFF-3E8BE9C5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27359-4FE3-4437-9592-D3337226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6EECE-C46C-4794-AE4A-FA4F1478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D27A-989B-4112-98E3-69F8DDFF1297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1BF2-B195-436C-A62C-76BB6B12EAC1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EB29-E687-411E-97F8-4ADCC5A6C341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1177-2FCC-4279-870C-51CBD55F359C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76CA-0894-48EB-BBEB-26F85B4A703D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D67A-E902-46CC-96ED-8D3884B988A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ACA7-1610-4330-8460-33F1D0BEDA30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5167-6DA2-4C08-A69D-9132C73276D4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8BC5-7E64-4B6C-98BA-C620B781F646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hyperlink" Target="https://techniqueuniclima.com/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5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100" spc="-1" strike="noStrike">
                <a:solidFill>
                  <a:srgbClr val="9796a3"/>
                </a:solidFill>
                <a:latin typeface="Avenir LT Std 55 Roman"/>
              </a:rPr>
              <a:t>Chaudière à condensation + CESI optimisé</a:t>
            </a:r>
            <a:br>
              <a:rPr sz="3100"/>
            </a:br>
            <a:r>
              <a:rPr b="0" lang="fr-FR" sz="3100" spc="-1" strike="noStrike">
                <a:solidFill>
                  <a:srgbClr val="9796a3"/>
                </a:solidFill>
                <a:latin typeface="Avenir LT Std 55 Roman"/>
              </a:rPr>
              <a:t>CHAFFOTEAUX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 Slama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7/06/2018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</a:rPr>
              <a:t>PRODUIT</a:t>
            </a:r>
            <a:endParaRPr b="0" lang="en-US" sz="16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0"/>
          <p:cNvSpPr/>
          <p:nvPr/>
        </p:nvSpPr>
        <p:spPr>
          <a:xfrm>
            <a:off x="1438200" y="1582560"/>
            <a:ext cx="793440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Le présent document décrit la saisie et la prise en compte d’une chaudière à condensation avec un chauffe-eau solaire optimisé du fabricant CHAFFOTEAUX dans le logiciel d’application de la RT 2012 ClimaWi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b1af"/>
                </a:solidFill>
                <a:latin typeface="45 Helvetica Light"/>
              </a:rPr>
              <a:t>La chaudière à condensation + CESI optimisé CHAFFOTEAUX </a:t>
            </a: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est composée d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MS PGothic"/>
              </a:rPr>
              <a:t>«générateur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décrivant les caractéristiques de la chaudière gaz à condensation ( 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MS PGothic"/>
              </a:rPr>
              <a:t>«ballon de stockage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décrivant les caractéristiques du ballon de stockage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  et du système solaire (     ).</a:t>
            </a:r>
            <a:br>
              <a:rPr sz="1100"/>
            </a:b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une «boucle solaire»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décrivant les caractéristiques de la boucle solaire (      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1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objet génération «CD + CESI opt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2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u générateur «Chaudière Mira C Green25 FF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3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objet boucle solaire «Zelios 2.3 V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4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u système de stockage «Zelios compact CD1 150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focus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 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saisie du circulateur du circuit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2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9" name="Object 16"/>
          <p:cNvGraphicFramePr/>
          <p:nvPr/>
        </p:nvGraphicFramePr>
        <p:xfrm>
          <a:off x="5519880" y="3449520"/>
          <a:ext cx="183960" cy="1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0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9880" y="3449520"/>
                    <a:ext cx="183960" cy="1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18"/>
          <p:cNvGraphicFramePr/>
          <p:nvPr/>
        </p:nvGraphicFramePr>
        <p:xfrm>
          <a:off x="3267000" y="4398840"/>
          <a:ext cx="133560" cy="17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1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7000" y="4398840"/>
                    <a:ext cx="13356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83"/>
          <p:cNvSpPr/>
          <p:nvPr/>
        </p:nvSpPr>
        <p:spPr>
          <a:xfrm>
            <a:off x="1447920" y="3200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4" name="Rectangle 69"/>
          <p:cNvSpPr/>
          <p:nvPr/>
        </p:nvSpPr>
        <p:spPr>
          <a:xfrm>
            <a:off x="426708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523880" y="2427120"/>
          <a:ext cx="7917120" cy="777960"/>
        </p:xfrm>
        <a:graphic>
          <a:graphicData uri="http://schemas.openxmlformats.org/drawingml/2006/table">
            <a:tbl>
              <a:tblPr/>
              <a:tblGrid>
                <a:gridCol w="2514600"/>
                <a:gridCol w="5402520"/>
              </a:tblGrid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Mira C Green 25 FF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Un système de stockage d</a:t>
                      </a:r>
                      <a:r>
                        <a:rPr b="0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EC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Un ballon de stockage Zelios compact CD1 150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apteurs solaire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1 capteur Zelio 2.3 V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6" name="Object 17"/>
          <p:cNvGraphicFramePr/>
          <p:nvPr/>
        </p:nvGraphicFramePr>
        <p:xfrm>
          <a:off x="7072200" y="3925800"/>
          <a:ext cx="177840" cy="203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17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3925800"/>
                    <a:ext cx="17784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8" name="Picture 304" descr="LaCie Disk:1 GRAPHISME:ELEMENTS_OK_FICHES_BET_PRODUIT:PICTOS:BOUCLE_SOLAIRE.jpg"/>
          <p:cNvPicPr/>
          <p:nvPr/>
        </p:nvPicPr>
        <p:blipFill>
          <a:blip r:embed="rId7"/>
          <a:stretch/>
        </p:blipFill>
        <p:spPr>
          <a:xfrm>
            <a:off x="6378480" y="4573440"/>
            <a:ext cx="190440" cy="1414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6" descr=""/>
          <p:cNvPicPr/>
          <p:nvPr/>
        </p:nvPicPr>
        <p:blipFill>
          <a:blip r:embed="rId8"/>
          <a:stretch/>
        </p:blipFill>
        <p:spPr>
          <a:xfrm>
            <a:off x="7504200" y="3925800"/>
            <a:ext cx="2867040" cy="2376720"/>
          </a:xfrm>
          <a:prstGeom prst="rect">
            <a:avLst/>
          </a:prstGeom>
          <a:ln cap="sq" w="28440">
            <a:solidFill>
              <a:srgbClr val="003366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0" name="Rectangle 15"/>
          <p:cNvSpPr/>
          <p:nvPr/>
        </p:nvSpPr>
        <p:spPr>
          <a:xfrm>
            <a:off x="8512200" y="4718160"/>
            <a:ext cx="17287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8508240" y="4718160"/>
            <a:ext cx="132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45 Helvetica Light"/>
              </a:rPr>
              <a:t>Zelios compact CD1 150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2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973620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CA16-F950-4EEE-8643-C0DAAD33DE36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e 17"/>
          <p:cNvGrpSpPr/>
          <p:nvPr/>
        </p:nvGrpSpPr>
        <p:grpSpPr>
          <a:xfrm>
            <a:off x="663480" y="1836720"/>
            <a:ext cx="5308560" cy="2381400"/>
            <a:chOff x="663480" y="1836720"/>
            <a:chExt cx="5308560" cy="2381400"/>
          </a:xfrm>
        </p:grpSpPr>
        <p:pic>
          <p:nvPicPr>
            <p:cNvPr id="425" name="Picture 36" descr="LaCie Disk:1 GRAPHISME:ELEMENTS_OK_FICHES_BET_PRODUIT:F3_BBS:F3_B_1.jpg"/>
            <p:cNvPicPr/>
            <p:nvPr/>
          </p:nvPicPr>
          <p:blipFill>
            <a:blip r:embed="rId1"/>
            <a:stretch/>
          </p:blipFill>
          <p:spPr>
            <a:xfrm>
              <a:off x="663480" y="1836720"/>
              <a:ext cx="5308560" cy="2381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</p:pic>
        <p:pic>
          <p:nvPicPr>
            <p:cNvPr id="426" name="Picture 17" descr=""/>
            <p:cNvPicPr/>
            <p:nvPr/>
          </p:nvPicPr>
          <p:blipFill>
            <a:blip r:embed="rId2"/>
            <a:stretch/>
          </p:blipFill>
          <p:spPr>
            <a:xfrm>
              <a:off x="3089160" y="2079720"/>
              <a:ext cx="79236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Text Box 14"/>
          <p:cNvSpPr/>
          <p:nvPr/>
        </p:nvSpPr>
        <p:spPr>
          <a:xfrm>
            <a:off x="6815160" y="2573280"/>
            <a:ext cx="1800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28" name="AutoShape 16"/>
          <p:cNvCxnSpPr/>
          <p:nvPr/>
        </p:nvCxnSpPr>
        <p:spPr>
          <a:xfrm flipH="1" flipV="1" rot="10800000">
            <a:off x="6619680" y="2598480"/>
            <a:ext cx="2160" cy="2160"/>
          </a:xfrm>
          <a:prstGeom prst="bentConnector3">
            <a:avLst>
              <a:gd name="adj1" fmla="val -13500000"/>
            </a:avLst>
          </a:prstGeom>
          <a:ln w="0">
            <a:noFill/>
          </a:ln>
        </p:spPr>
      </p:cxnSp>
      <p:cxnSp>
        <p:nvCxnSpPr>
          <p:cNvPr id="429" name="AutoShape 19"/>
          <p:cNvCxnSpPr/>
          <p:nvPr/>
        </p:nvCxnSpPr>
        <p:spPr>
          <a:xfrm flipH="1" flipV="1" rot="10800000">
            <a:off x="6619680" y="2598480"/>
            <a:ext cx="2160" cy="2160"/>
          </a:xfrm>
          <a:prstGeom prst="bentConnector3">
            <a:avLst>
              <a:gd name="adj1" fmla="val -13500000"/>
            </a:avLst>
          </a:prstGeom>
          <a:ln w="0">
            <a:noFill/>
          </a:ln>
        </p:spPr>
      </p:cxnSp>
      <p:cxnSp>
        <p:nvCxnSpPr>
          <p:cNvPr id="430" name="AutoShape 24"/>
          <p:cNvCxnSpPr/>
          <p:nvPr/>
        </p:nvCxnSpPr>
        <p:spPr>
          <a:xfrm flipH="1" rot="16200000">
            <a:off x="6454800" y="320796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31" name="AutoShape 41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32" name="Text Box 37"/>
          <p:cNvSpPr/>
          <p:nvPr/>
        </p:nvSpPr>
        <p:spPr>
          <a:xfrm>
            <a:off x="3101040" y="3970440"/>
            <a:ext cx="55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45 Helvetica Light"/>
              </a:rPr>
              <a:t>55,0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grpSp>
        <p:nvGrpSpPr>
          <p:cNvPr id="433" name="Groupe 18"/>
          <p:cNvGrpSpPr/>
          <p:nvPr/>
        </p:nvGrpSpPr>
        <p:grpSpPr>
          <a:xfrm>
            <a:off x="5540400" y="2898720"/>
            <a:ext cx="4606920" cy="826560"/>
            <a:chOff x="5540400" y="2898720"/>
            <a:chExt cx="4606920" cy="826560"/>
          </a:xfrm>
        </p:grpSpPr>
        <p:sp>
          <p:nvSpPr>
            <p:cNvPr id="434" name="Freeform 25"/>
            <p:cNvSpPr/>
            <p:nvPr/>
          </p:nvSpPr>
          <p:spPr>
            <a:xfrm>
              <a:off x="5540400" y="2898720"/>
              <a:ext cx="2362680" cy="504720"/>
            </a:xfrm>
            <a:custGeom>
              <a:avLst/>
              <a:gdLst>
                <a:gd name="textAreaLeft" fmla="*/ 0 w 2362680"/>
                <a:gd name="textAreaRight" fmla="*/ 2363040 w 236268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069" h="1126">
                  <a:moveTo>
                    <a:pt x="2069" y="1126"/>
                  </a:moveTo>
                  <a:lnTo>
                    <a:pt x="729" y="1126"/>
                  </a:lnTo>
                  <a:lnTo>
                    <a:pt x="729" y="816"/>
                  </a:lnTo>
                  <a:lnTo>
                    <a:pt x="729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4e3073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50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35" name="Text Box 36"/>
            <p:cNvSpPr/>
            <p:nvPr/>
          </p:nvSpPr>
          <p:spPr>
            <a:xfrm>
              <a:off x="6618240" y="3129120"/>
              <a:ext cx="3529080" cy="596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4e30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45 Helvetica Light"/>
                </a:rPr>
                <a:t>Un emplacement en volume chauffé permet de réduire les consommations par rapport à un emplacement hors volume chauffé.</a:t>
              </a:r>
              <a:endParaRPr b="0" lang="en-US" sz="11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</p:grpSp>
      <p:sp>
        <p:nvSpPr>
          <p:cNvPr id="436" name="Espace réservé du texte 4"/>
          <p:cNvSpPr/>
          <p:nvPr/>
        </p:nvSpPr>
        <p:spPr>
          <a:xfrm>
            <a:off x="2027160" y="260280"/>
            <a:ext cx="7925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génération «CD + CESI opt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7" name="Espace réservé du numéro de diapositive 3"/>
          <p:cNvSpPr/>
          <p:nvPr/>
        </p:nvSpPr>
        <p:spPr>
          <a:xfrm>
            <a:off x="973620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0F5D-6A97-4660-BA75-1D63D4C9BA17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110" descr="LaCie Disk:1 GRAPHISME:ELEMENTS_OK_FICHES_BET_PRODUIT:F3_BBS:F3_B_3.jpg"/>
          <p:cNvPicPr/>
          <p:nvPr/>
        </p:nvPicPr>
        <p:blipFill>
          <a:blip r:embed="rId1"/>
          <a:stretch/>
        </p:blipFill>
        <p:spPr>
          <a:xfrm>
            <a:off x="663480" y="3230640"/>
            <a:ext cx="4648320" cy="3895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39" name="Text Box 7"/>
          <p:cNvSpPr/>
          <p:nvPr/>
        </p:nvSpPr>
        <p:spPr>
          <a:xfrm>
            <a:off x="6837480" y="2138400"/>
            <a:ext cx="19206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40" name="AutoShape 8"/>
          <p:cNvCxnSpPr/>
          <p:nvPr/>
        </p:nvCxnSpPr>
        <p:spPr>
          <a:xfrm flipH="1" flipV="1" rot="10800000">
            <a:off x="6656040" y="1848240"/>
            <a:ext cx="2160" cy="108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1" name="AutoShape 9"/>
          <p:cNvCxnSpPr/>
          <p:nvPr/>
        </p:nvCxnSpPr>
        <p:spPr>
          <a:xfrm flipH="1" flipV="1" rot="10800000">
            <a:off x="6656040" y="1848240"/>
            <a:ext cx="2160" cy="108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2" name="AutoShape 10"/>
          <p:cNvCxnSpPr/>
          <p:nvPr/>
        </p:nvCxnSpPr>
        <p:spPr>
          <a:xfrm flipH="1" rot="16200000">
            <a:off x="6477480" y="2772360"/>
            <a:ext cx="108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43" name="AutoShape 12"/>
          <p:cNvCxnSpPr/>
          <p:nvPr/>
        </p:nvCxnSpPr>
        <p:spPr>
          <a:xfrm flipH="1" flipV="1" rot="10800000">
            <a:off x="-55080" y="36874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44" name="Text Box 62"/>
          <p:cNvSpPr/>
          <p:nvPr/>
        </p:nvSpPr>
        <p:spPr>
          <a:xfrm>
            <a:off x="7848720" y="55674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HelveticaNeue BoldCond"/>
              </a:rPr>
              <a:t>Plancher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5" name="Freeform 25"/>
          <p:cNvSpPr/>
          <p:nvPr/>
        </p:nvSpPr>
        <p:spPr>
          <a:xfrm flipV="1">
            <a:off x="3903840" y="3204000"/>
            <a:ext cx="5486400" cy="381240"/>
          </a:xfrm>
          <a:custGeom>
            <a:avLst/>
            <a:gdLst>
              <a:gd name="textAreaLeft" fmla="*/ 0 w 5486400"/>
              <a:gd name="textAreaRight" fmla="*/ 5486760 w 5486400"/>
              <a:gd name="textAreaTop" fmla="*/ -360 h 381240"/>
              <a:gd name="textAreaBottom" fmla="*/ 381240 h 3812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6" name="Text Box 18"/>
          <p:cNvSpPr/>
          <p:nvPr/>
        </p:nvSpPr>
        <p:spPr>
          <a:xfrm>
            <a:off x="6711840" y="2701800"/>
            <a:ext cx="3513240" cy="93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valeurs issues du certiﬁcat CE sont considérées certiﬁées. Comparé à un système «CESI classique», la chaudière doit être plus puissante pour produire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 instantanée avec un confort sufﬁsan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7" name="Text Box 111"/>
          <p:cNvSpPr/>
          <p:nvPr/>
        </p:nvSpPr>
        <p:spPr>
          <a:xfrm>
            <a:off x="2972520" y="351648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1,5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8" name="Text Box 112"/>
          <p:cNvSpPr/>
          <p:nvPr/>
        </p:nvSpPr>
        <p:spPr>
          <a:xfrm>
            <a:off x="2972520" y="372888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6,45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9" name="Text Box 113"/>
          <p:cNvSpPr/>
          <p:nvPr/>
        </p:nvSpPr>
        <p:spPr>
          <a:xfrm>
            <a:off x="2941920" y="4373640"/>
            <a:ext cx="103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entilateur prés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0" name="Text Box 114"/>
          <p:cNvSpPr/>
          <p:nvPr/>
        </p:nvSpPr>
        <p:spPr>
          <a:xfrm>
            <a:off x="2954880" y="457992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1" name="Text Box 115"/>
          <p:cNvSpPr/>
          <p:nvPr/>
        </p:nvSpPr>
        <p:spPr>
          <a:xfrm>
            <a:off x="2975760" y="4792680"/>
            <a:ext cx="32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7.5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2" name="Text Box 116"/>
          <p:cNvSpPr/>
          <p:nvPr/>
        </p:nvSpPr>
        <p:spPr>
          <a:xfrm>
            <a:off x="2954880" y="498312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3" name="Text Box 118"/>
          <p:cNvSpPr/>
          <p:nvPr/>
        </p:nvSpPr>
        <p:spPr>
          <a:xfrm>
            <a:off x="2959560" y="5440320"/>
            <a:ext cx="842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Mesur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4" name="Text Box 120"/>
          <p:cNvSpPr/>
          <p:nvPr/>
        </p:nvSpPr>
        <p:spPr>
          <a:xfrm>
            <a:off x="2973600" y="56563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9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5" name="Text Box 121"/>
          <p:cNvSpPr/>
          <p:nvPr/>
        </p:nvSpPr>
        <p:spPr>
          <a:xfrm>
            <a:off x="2973600" y="585324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1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6" name="Text Box 122"/>
          <p:cNvSpPr/>
          <p:nvPr/>
        </p:nvSpPr>
        <p:spPr>
          <a:xfrm>
            <a:off x="2973960" y="6059520"/>
            <a:ext cx="20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4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7" name="Text Box 123"/>
          <p:cNvSpPr/>
          <p:nvPr/>
        </p:nvSpPr>
        <p:spPr>
          <a:xfrm>
            <a:off x="2948040" y="627840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8" name="Text Box 124"/>
          <p:cNvSpPr/>
          <p:nvPr/>
        </p:nvSpPr>
        <p:spPr>
          <a:xfrm>
            <a:off x="2948040" y="650700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9" name="Text Box 124"/>
          <p:cNvSpPr/>
          <p:nvPr/>
        </p:nvSpPr>
        <p:spPr>
          <a:xfrm>
            <a:off x="2941920" y="6675480"/>
            <a:ext cx="125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Générateur sans ballon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60" name="Picture 109" descr="LaCie Disk:1 GRAPHISME:ELEMENTS_OK_FICHES_BET_PRODUIT:F3_BBS:F3_B_2.jpg"/>
          <p:cNvPicPr/>
          <p:nvPr/>
        </p:nvPicPr>
        <p:blipFill>
          <a:blip r:embed="rId2"/>
          <a:stretch/>
        </p:blipFill>
        <p:spPr>
          <a:xfrm>
            <a:off x="663480" y="1477800"/>
            <a:ext cx="4648320" cy="1559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61" name="Picture 41" descr=""/>
          <p:cNvPicPr/>
          <p:nvPr/>
        </p:nvPicPr>
        <p:blipFill>
          <a:blip r:embed="rId3"/>
          <a:stretch/>
        </p:blipFill>
        <p:spPr>
          <a:xfrm>
            <a:off x="2968560" y="1744560"/>
            <a:ext cx="1581120" cy="1810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1" descr=""/>
          <p:cNvPicPr/>
          <p:nvPr/>
        </p:nvPicPr>
        <p:blipFill>
          <a:blip r:embed="rId4"/>
          <a:srcRect l="0" t="0" r="49909" b="20477"/>
          <a:stretch/>
        </p:blipFill>
        <p:spPr>
          <a:xfrm>
            <a:off x="2968560" y="2176560"/>
            <a:ext cx="792360" cy="1429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2" descr=""/>
          <p:cNvPicPr/>
          <p:nvPr/>
        </p:nvPicPr>
        <p:blipFill>
          <a:blip r:embed="rId5"/>
          <a:stretch/>
        </p:blipFill>
        <p:spPr>
          <a:xfrm>
            <a:off x="3760920" y="2176560"/>
            <a:ext cx="533160" cy="15228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115"/>
          <p:cNvSpPr/>
          <p:nvPr/>
        </p:nvSpPr>
        <p:spPr>
          <a:xfrm>
            <a:off x="2986200" y="5205240"/>
            <a:ext cx="48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09.00 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65" name="Picture 85" descr="Travail:1 GRAPHISME:GRDF:FICHES_BET_CEGIBAT_GrDF:FICHES_PRODUIT:ELEMENTS_OK:F1_BBS:fleche.png"/>
          <p:cNvPicPr/>
          <p:nvPr/>
        </p:nvPicPr>
        <p:blipFill>
          <a:blip r:embed="rId6"/>
          <a:stretch/>
        </p:blipFill>
        <p:spPr>
          <a:xfrm>
            <a:off x="1905120" y="2011320"/>
            <a:ext cx="865080" cy="16891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8"/>
          <p:cNvSpPr/>
          <p:nvPr/>
        </p:nvSpPr>
        <p:spPr>
          <a:xfrm>
            <a:off x="6656400" y="1569960"/>
            <a:ext cx="344016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Toutes les caractéristiques de performances des générateurs sont disponibles sur le site du fabricant, EDIBATEC et la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7"/>
              </a:rPr>
              <a:t>base de données ATITA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. (https://techniqueuniclima.com/)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7" name="Espace réservé du texte 4"/>
          <p:cNvSpPr/>
          <p:nvPr/>
        </p:nvSpPr>
        <p:spPr>
          <a:xfrm>
            <a:off x="2027160" y="260280"/>
            <a:ext cx="81424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Mira C Green25 FF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8" name="Espace réservé du numéro de diapositive 3"/>
          <p:cNvSpPr/>
          <p:nvPr/>
        </p:nvSpPr>
        <p:spPr>
          <a:xfrm>
            <a:off x="973620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C9AE-2DF3-4B0D-9EC6-BBE5F4602318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e 35"/>
          <p:cNvGrpSpPr/>
          <p:nvPr/>
        </p:nvGrpSpPr>
        <p:grpSpPr>
          <a:xfrm>
            <a:off x="736560" y="1909800"/>
            <a:ext cx="5203800" cy="4600440"/>
            <a:chOff x="736560" y="1909800"/>
            <a:chExt cx="5203800" cy="4600440"/>
          </a:xfrm>
        </p:grpSpPr>
        <p:pic>
          <p:nvPicPr>
            <p:cNvPr id="470" name="Picture 67" descr="LaCie Disk:1 GRAPHISME:ELEMENTS_OK_FICHES_BET_PRODUIT:F3_BBS:F3_B_4.jpg"/>
            <p:cNvPicPr/>
            <p:nvPr/>
          </p:nvPicPr>
          <p:blipFill>
            <a:blip r:embed="rId1"/>
            <a:stretch/>
          </p:blipFill>
          <p:spPr>
            <a:xfrm>
              <a:off x="736560" y="1909800"/>
              <a:ext cx="5203800" cy="46004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</p:pic>
        <p:pic>
          <p:nvPicPr>
            <p:cNvPr id="471" name="Picture 40" descr=""/>
            <p:cNvPicPr/>
            <p:nvPr/>
          </p:nvPicPr>
          <p:blipFill>
            <a:blip r:embed="rId2"/>
            <a:stretch/>
          </p:blipFill>
          <p:spPr>
            <a:xfrm>
              <a:off x="3125880" y="2244600"/>
              <a:ext cx="68580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2" name="Text Box 8"/>
          <p:cNvSpPr/>
          <p:nvPr/>
        </p:nvSpPr>
        <p:spPr>
          <a:xfrm>
            <a:off x="6888240" y="2646360"/>
            <a:ext cx="1920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73" name="AutoShape 9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74" name="AutoShape 10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75" name="AutoShape 11"/>
          <p:cNvCxnSpPr/>
          <p:nvPr/>
        </p:nvCxnSpPr>
        <p:spPr>
          <a:xfrm flipH="1" rot="16200000">
            <a:off x="6527880" y="328104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76" name="AutoShape 12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77" name="Text Box 29"/>
          <p:cNvSpPr/>
          <p:nvPr/>
        </p:nvSpPr>
        <p:spPr>
          <a:xfrm>
            <a:off x="3174840" y="297648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,0 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8" name="Text Box 45"/>
          <p:cNvSpPr/>
          <p:nvPr/>
        </p:nvSpPr>
        <p:spPr>
          <a:xfrm>
            <a:off x="3174840" y="320508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9" name="Text Box 46"/>
          <p:cNvSpPr/>
          <p:nvPr/>
        </p:nvSpPr>
        <p:spPr>
          <a:xfrm>
            <a:off x="3174840" y="389088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égulation sur la températur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0" name="Text Box 47"/>
          <p:cNvSpPr/>
          <p:nvPr/>
        </p:nvSpPr>
        <p:spPr>
          <a:xfrm>
            <a:off x="3174840" y="411948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endement optique certifié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3174840" y="434808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0,4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174840" y="457668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,235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3174840" y="495792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.012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3174840" y="604044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94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3174840" y="626904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50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6" name="Text Box 25"/>
          <p:cNvSpPr/>
          <p:nvPr/>
        </p:nvSpPr>
        <p:spPr>
          <a:xfrm>
            <a:off x="6707160" y="1909800"/>
            <a:ext cx="351324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Les caractéristiques de performances des capteurs solaires sont données dans les avis techniques ou les PV Keymark des produi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7" name="Text Box 62"/>
          <p:cNvSpPr/>
          <p:nvPr/>
        </p:nvSpPr>
        <p:spPr>
          <a:xfrm>
            <a:off x="3921120" y="621504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8" name="AutoShape 65"/>
          <p:cNvSpPr/>
          <p:nvPr/>
        </p:nvSpPr>
        <p:spPr>
          <a:xfrm>
            <a:off x="5127480" y="5294160"/>
            <a:ext cx="152640" cy="457200"/>
          </a:xfrm>
          <a:custGeom>
            <a:avLst/>
            <a:gdLst>
              <a:gd name="textAreaLeft" fmla="*/ 0 w 152640"/>
              <a:gd name="textAreaRight" fmla="*/ 55080 w 1526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89" name="Picture 41" descr=""/>
          <p:cNvPicPr/>
          <p:nvPr/>
        </p:nvPicPr>
        <p:blipFill>
          <a:blip r:embed="rId3"/>
          <a:stretch/>
        </p:blipFill>
        <p:spPr>
          <a:xfrm>
            <a:off x="3811680" y="2252520"/>
            <a:ext cx="476280" cy="162000"/>
          </a:xfrm>
          <a:prstGeom prst="rect">
            <a:avLst/>
          </a:prstGeom>
          <a:ln w="0">
            <a:noFill/>
          </a:ln>
        </p:spPr>
      </p:pic>
      <p:sp>
        <p:nvSpPr>
          <p:cNvPr id="490" name="Freeform 24"/>
          <p:cNvSpPr/>
          <p:nvPr/>
        </p:nvSpPr>
        <p:spPr>
          <a:xfrm>
            <a:off x="5537160" y="3433680"/>
            <a:ext cx="2590920" cy="53352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707160" y="3586320"/>
            <a:ext cx="351324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 à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rientation des panneaux qui a un fort impact sur la produc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 Une orientation au Nord (cas extrême) augmente la consommation du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2" name="Freeform 24"/>
          <p:cNvSpPr/>
          <p:nvPr/>
        </p:nvSpPr>
        <p:spPr>
          <a:xfrm>
            <a:off x="5537160" y="2976480"/>
            <a:ext cx="4191120" cy="22860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3" name="Text Box 25"/>
          <p:cNvSpPr/>
          <p:nvPr/>
        </p:nvSpPr>
        <p:spPr>
          <a:xfrm>
            <a:off x="6707160" y="267192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a surface des capteurs solaires est plus faible dans un système «CESI optimisé» que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4" name="Freeform 24"/>
          <p:cNvSpPr/>
          <p:nvPr/>
        </p:nvSpPr>
        <p:spPr>
          <a:xfrm>
            <a:off x="5537160" y="3738600"/>
            <a:ext cx="2209680" cy="11430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5" name="Text Box 25"/>
          <p:cNvSpPr/>
          <p:nvPr/>
        </p:nvSpPr>
        <p:spPr>
          <a:xfrm>
            <a:off x="6707160" y="457668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inclinaison de 45 °est optimale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e modiﬁcation de celle-ci peut  entrainer une baisse de performanc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6" name="Freeform 24"/>
          <p:cNvSpPr/>
          <p:nvPr/>
        </p:nvSpPr>
        <p:spPr>
          <a:xfrm>
            <a:off x="5537160" y="3967200"/>
            <a:ext cx="1828800" cy="17524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6707160" y="539892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e manière générale, la régulation de la boucle solaire s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ffectue sur la température en maisons individuell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8" name="Freeform 61"/>
          <p:cNvSpPr/>
          <p:nvPr/>
        </p:nvSpPr>
        <p:spPr>
          <a:xfrm>
            <a:off x="5384880" y="5532480"/>
            <a:ext cx="2057400" cy="110160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1296" h="768">
                <a:moveTo>
                  <a:pt x="1296" y="768"/>
                </a:moveTo>
                <a:lnTo>
                  <a:pt x="672" y="768"/>
                </a:lnTo>
                <a:lnTo>
                  <a:pt x="672" y="384"/>
                </a:lnTo>
                <a:lnTo>
                  <a:pt x="672" y="336"/>
                </a:lnTo>
                <a:lnTo>
                  <a:pt x="288" y="336"/>
                </a:lnTo>
                <a:lnTo>
                  <a:pt x="288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9" name="Text Box 25"/>
          <p:cNvSpPr/>
          <p:nvPr/>
        </p:nvSpPr>
        <p:spPr>
          <a:xfrm>
            <a:off x="6707160" y="632952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bsence de valeurs fournies par le constructeur, les valeurs moyennes suivantes peuvent être utilisé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00" name="Picture 37" descr=""/>
          <p:cNvPicPr/>
          <p:nvPr/>
        </p:nvPicPr>
        <p:blipFill>
          <a:blip r:embed="rId4"/>
          <a:stretch/>
        </p:blipFill>
        <p:spPr>
          <a:xfrm>
            <a:off x="3168720" y="5780160"/>
            <a:ext cx="1361880" cy="1522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7" descr=""/>
          <p:cNvPicPr/>
          <p:nvPr/>
        </p:nvPicPr>
        <p:blipFill>
          <a:blip r:embed="rId5"/>
          <a:stretch/>
        </p:blipFill>
        <p:spPr>
          <a:xfrm>
            <a:off x="3162240" y="5853240"/>
            <a:ext cx="1362240" cy="15228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47"/>
          <p:cNvSpPr/>
          <p:nvPr/>
        </p:nvSpPr>
        <p:spPr>
          <a:xfrm>
            <a:off x="3125880" y="5780160"/>
            <a:ext cx="1981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5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Sans échangeur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3" name="Espace réservé du texte 4"/>
          <p:cNvSpPr/>
          <p:nvPr/>
        </p:nvSpPr>
        <p:spPr>
          <a:xfrm>
            <a:off x="2027160" y="260280"/>
            <a:ext cx="81424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boucle solaire «Zelios 2.3 V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973620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9AA0-554D-4E04-8328-7E8FE26D91CE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9"/>
          <p:cNvSpPr/>
          <p:nvPr/>
        </p:nvSpPr>
        <p:spPr>
          <a:xfrm>
            <a:off x="6837480" y="2070000"/>
            <a:ext cx="19206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06" name="AutoShape 10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07" name="AutoShape 11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08" name="AutoShape 12"/>
          <p:cNvCxnSpPr/>
          <p:nvPr/>
        </p:nvCxnSpPr>
        <p:spPr>
          <a:xfrm flipV="1" rot="16200000">
            <a:off x="6477840" y="2706120"/>
            <a:ext cx="108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509" name="AutoShape 13"/>
          <p:cNvCxnSpPr/>
          <p:nvPr/>
        </p:nvCxnSpPr>
        <p:spPr>
          <a:xfrm flipH="1" flipV="1" rot="10800000">
            <a:off x="-360" y="412308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10" name="Text Box 22"/>
          <p:cNvSpPr/>
          <p:nvPr/>
        </p:nvSpPr>
        <p:spPr>
          <a:xfrm>
            <a:off x="6656400" y="2895480"/>
            <a:ext cx="351324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1" name="Freeform 23"/>
          <p:cNvSpPr/>
          <p:nvPr/>
        </p:nvSpPr>
        <p:spPr>
          <a:xfrm flipV="1">
            <a:off x="5105520" y="1743840"/>
            <a:ext cx="1600200" cy="11430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12" name="Picture 47" descr="LaCie Disk:1 GRAPHISME:ELEMENTS_OK_FICHES_BET_PRODUIT:F3_BBS:F3_B_5.jpg"/>
          <p:cNvPicPr/>
          <p:nvPr/>
        </p:nvPicPr>
        <p:blipFill>
          <a:blip r:embed="rId1"/>
          <a:stretch/>
        </p:blipFill>
        <p:spPr>
          <a:xfrm>
            <a:off x="736560" y="1333440"/>
            <a:ext cx="4737240" cy="1865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13" name="Picture 46" descr=""/>
          <p:cNvPicPr/>
          <p:nvPr/>
        </p:nvPicPr>
        <p:blipFill>
          <a:blip r:embed="rId2"/>
          <a:stretch/>
        </p:blipFill>
        <p:spPr>
          <a:xfrm>
            <a:off x="2914560" y="2179800"/>
            <a:ext cx="1133640" cy="1522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8" descr=""/>
          <p:cNvPicPr/>
          <p:nvPr/>
        </p:nvPicPr>
        <p:blipFill>
          <a:blip r:embed="rId3"/>
          <a:stretch/>
        </p:blipFill>
        <p:spPr>
          <a:xfrm>
            <a:off x="2895480" y="2584440"/>
            <a:ext cx="1971720" cy="171360"/>
          </a:xfrm>
          <a:prstGeom prst="rect">
            <a:avLst/>
          </a:prstGeom>
          <a:ln w="0">
            <a:noFill/>
          </a:ln>
        </p:spPr>
      </p:pic>
      <p:sp>
        <p:nvSpPr>
          <p:cNvPr id="515" name="Freeform 24"/>
          <p:cNvSpPr/>
          <p:nvPr/>
        </p:nvSpPr>
        <p:spPr>
          <a:xfrm flipV="1">
            <a:off x="5105520" y="2063520"/>
            <a:ext cx="3657600" cy="38088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6" name="Text Box 25"/>
          <p:cNvSpPr/>
          <p:nvPr/>
        </p:nvSpPr>
        <p:spPr>
          <a:xfrm>
            <a:off x="6640560" y="1693800"/>
            <a:ext cx="351324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e système «CESI optimisé»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gaz est de type séparé instantané aﬁn de limiter les déperditions. Au contraire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est intégré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17" name="Picture 36" descr=""/>
          <p:cNvPicPr/>
          <p:nvPr/>
        </p:nvPicPr>
        <p:blipFill>
          <a:blip r:embed="rId4"/>
          <a:stretch/>
        </p:blipFill>
        <p:spPr>
          <a:xfrm>
            <a:off x="1670040" y="3403440"/>
            <a:ext cx="3746520" cy="3438720"/>
          </a:xfrm>
          <a:prstGeom prst="rect">
            <a:avLst/>
          </a:prstGeom>
          <a:ln cap="sq" w="38160">
            <a:solidFill>
              <a:srgbClr val="003366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18" name="Picture 29" descr="Travail:1 GRAPHISME:GRDF:FICHES_BET_CEGIBAT_GrDF:FICHES_PRODUIT:ELEMENTS_OK:F1_BBS:fleche.png"/>
          <p:cNvPicPr/>
          <p:nvPr/>
        </p:nvPicPr>
        <p:blipFill>
          <a:blip r:embed="rId5"/>
          <a:stretch/>
        </p:blipFill>
        <p:spPr>
          <a:xfrm>
            <a:off x="1981080" y="2239920"/>
            <a:ext cx="865440" cy="2028960"/>
          </a:xfrm>
          <a:prstGeom prst="rect">
            <a:avLst/>
          </a:prstGeom>
          <a:ln w="0">
            <a:noFill/>
          </a:ln>
        </p:spPr>
      </p:pic>
      <p:sp>
        <p:nvSpPr>
          <p:cNvPr id="519" name="Freeform 24"/>
          <p:cNvSpPr/>
          <p:nvPr/>
        </p:nvSpPr>
        <p:spPr>
          <a:xfrm flipV="1">
            <a:off x="4911840" y="5141880"/>
            <a:ext cx="3657600" cy="49680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496800"/>
              <a:gd name="textAreaBottom" fmla="*/ 497520 h 4968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0" name="Text Box 25"/>
          <p:cNvSpPr/>
          <p:nvPr/>
        </p:nvSpPr>
        <p:spPr>
          <a:xfrm>
            <a:off x="6496200" y="4718160"/>
            <a:ext cx="363348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 volume du ballon est plus faible dans un système «CESI optimisé» que dans un système «CESI classique» aﬁn de limiter les pert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21" name="Picture 27" descr=""/>
          <p:cNvPicPr/>
          <p:nvPr/>
        </p:nvPicPr>
        <p:blipFill>
          <a:blip r:embed="rId6"/>
          <a:stretch/>
        </p:blipFill>
        <p:spPr>
          <a:xfrm>
            <a:off x="2895480" y="1595520"/>
            <a:ext cx="1440000" cy="162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7" descr=""/>
          <p:cNvPicPr/>
          <p:nvPr/>
        </p:nvPicPr>
        <p:blipFill>
          <a:blip r:embed="rId7"/>
          <a:stretch/>
        </p:blipFill>
        <p:spPr>
          <a:xfrm>
            <a:off x="2895480" y="1963800"/>
            <a:ext cx="1440000" cy="16200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49"/>
          <p:cNvSpPr/>
          <p:nvPr/>
        </p:nvSpPr>
        <p:spPr>
          <a:xfrm>
            <a:off x="2895480" y="160344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Zelios Compact CD1 15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4" name="Text Box 49"/>
          <p:cNvSpPr/>
          <p:nvPr/>
        </p:nvSpPr>
        <p:spPr>
          <a:xfrm>
            <a:off x="2895480" y="1963800"/>
            <a:ext cx="19814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5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Zelios Compact CD1 15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5" name="Text Box 44"/>
          <p:cNvSpPr/>
          <p:nvPr/>
        </p:nvSpPr>
        <p:spPr>
          <a:xfrm>
            <a:off x="3474000" y="6427800"/>
            <a:ext cx="3877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0.00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6" name="Espace réservé du texte 4"/>
          <p:cNvSpPr/>
          <p:nvPr/>
        </p:nvSpPr>
        <p:spPr>
          <a:xfrm>
            <a:off x="2027160" y="260280"/>
            <a:ext cx="81424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système de stockage «Zelios Compact CD1 150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7" name="Espace réservé du numéro de diapositive 3"/>
          <p:cNvSpPr/>
          <p:nvPr/>
        </p:nvSpPr>
        <p:spPr>
          <a:xfrm>
            <a:off x="973620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E99B-F6BE-4EFA-AAA1-8013834E2F74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0" descr=""/>
          <p:cNvPicPr/>
          <p:nvPr/>
        </p:nvPicPr>
        <p:blipFill>
          <a:blip r:embed="rId1"/>
          <a:stretch/>
        </p:blipFill>
        <p:spPr>
          <a:xfrm>
            <a:off x="808200" y="2197080"/>
            <a:ext cx="5591160" cy="63828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9"/>
          <p:cNvSpPr/>
          <p:nvPr/>
        </p:nvSpPr>
        <p:spPr>
          <a:xfrm>
            <a:off x="6837480" y="237492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30" name="AutoShape 12"/>
          <p:cNvCxnSpPr/>
          <p:nvPr/>
        </p:nvCxnSpPr>
        <p:spPr>
          <a:xfrm flipH="1" rot="16200000">
            <a:off x="6477120" y="300960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531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32" name="Freeform 23"/>
          <p:cNvSpPr/>
          <p:nvPr/>
        </p:nvSpPr>
        <p:spPr>
          <a:xfrm flipV="1">
            <a:off x="5105520" y="2190600"/>
            <a:ext cx="1600200" cy="860400"/>
          </a:xfrm>
          <a:custGeom>
            <a:avLst/>
            <a:gdLst>
              <a:gd name="textAreaLeft" fmla="*/ 0 w 1600200"/>
              <a:gd name="textAreaRight" fmla="*/ 1600560 w 16002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3" name="Text Box 24"/>
          <p:cNvSpPr/>
          <p:nvPr/>
        </p:nvSpPr>
        <p:spPr>
          <a:xfrm>
            <a:off x="736560" y="1714680"/>
            <a:ext cx="8496360" cy="2613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’objet </a:t>
            </a: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«Emission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 (       ) : on indique la présence du circulateur et la puissance de ce dernier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34" name="Picture 26" descr="Travail:1 GRAPHISME:GRDF:FICHES_BET_CEGIBAT_GrDF:FICHES_PRODUIT:ELEMENTS_OK:F1_BBS:EMISSION.jpg"/>
          <p:cNvPicPr/>
          <p:nvPr/>
        </p:nvPicPr>
        <p:blipFill>
          <a:blip r:embed="rId2"/>
          <a:stretch/>
        </p:blipFill>
        <p:spPr>
          <a:xfrm>
            <a:off x="2451240" y="1765440"/>
            <a:ext cx="228600" cy="1998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8"/>
          <p:cNvSpPr/>
          <p:nvPr/>
        </p:nvSpPr>
        <p:spPr>
          <a:xfrm>
            <a:off x="3687840" y="2413080"/>
            <a:ext cx="194292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Selon projet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6" name="Espace réservé du texte 4"/>
          <p:cNvSpPr/>
          <p:nvPr/>
        </p:nvSpPr>
        <p:spPr>
          <a:xfrm>
            <a:off x="2027160" y="260280"/>
            <a:ext cx="81424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Focus : La saisie du circulateur du réseau de distribu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7" name="Espace réservé du numéro de diapositive 3"/>
          <p:cNvSpPr/>
          <p:nvPr/>
        </p:nvSpPr>
        <p:spPr>
          <a:xfrm>
            <a:off x="973620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062D-85B6-450B-80B7-292DFE1FF554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8" name="Text Box 40"/>
          <p:cNvSpPr/>
          <p:nvPr/>
        </p:nvSpPr>
        <p:spPr>
          <a:xfrm>
            <a:off x="3760920" y="2629080"/>
            <a:ext cx="60012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21,5 W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9" name="Text Box 40"/>
          <p:cNvSpPr/>
          <p:nvPr/>
        </p:nvSpPr>
        <p:spPr>
          <a:xfrm>
            <a:off x="3832200" y="2197080"/>
            <a:ext cx="60012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45 Helvetica Light"/>
              </a:rPr>
              <a:t>21,5 W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0:54:17Z</dcterms:modified>
  <cp:revision>158</cp:revision>
  <dc:subject/>
  <dc:title>Présentation PowerPoint</dc:title>
</cp:coreProperties>
</file>