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839520" y="767880"/>
            <a:ext cx="541980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move the slide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4443-A417-4BF0-9D7C-0500ACD1ED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839880" y="768240"/>
            <a:ext cx="541980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EAD8-A6EB-477B-AADD-9B3214A1C7B2}" type="slidenum">
              <a:rPr b="0" lang="fr-FR" sz="1200" spc="-1" strike="noStrike">
                <a:solidFill>
                  <a:srgbClr val="000000"/>
                </a:solidFill>
                <a:latin typeface="Avenir LT Std 55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A84-C029-4B37-AFFD-1BE47443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855-7112-49DD-96B8-F324720F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FFB23-9ADB-4506-9D92-F49094D1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B1E91-56C1-4A7D-A1D3-8EE12F1F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5E75D-0FBF-4CB6-838C-662045B5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B8982-A27C-483A-BC88-1250CA3F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7ECD1-605C-4498-BF54-C35C8DD1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17717-2958-4055-AC69-806BA3D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72B01-0591-41DC-A96D-0A36B164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F0E88-4A48-4424-972E-069D2120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2E8EE-4F1D-4757-9F04-67F8F4FE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0D8-A987-425D-B59F-2512F5EE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FC3-0EC2-4FC1-8E0F-2733DDAC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DE16-383E-46B0-9EA3-AD6FA62A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3D4C-AD24-46D8-8D9A-1946FDB8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4AA8-1306-4B05-AAA5-15A07748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8130-CAB5-49E3-ABB1-14FF7A8C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9CFC-5688-4D33-B367-C46C2BB1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19B5-D7B6-4C73-A48A-8041E935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FF61-1B49-421A-8FB5-DFA8F94C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4F7-5AC0-4870-8680-08A24768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587F-38CA-4DDD-814A-9C879F05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5550-8D82-441E-91AE-9E6FBA0F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EC3E-281F-451D-A68D-5A687D23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F7CE-A2BF-4258-B259-96B65175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9CC1-DF91-4DF1-A03D-910AD695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DB5A5-8C60-430C-B053-C36A7194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D5873-D702-4B84-B572-8A3B2DF3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827A-5F8F-4DE6-B3AB-F7C7D267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3EB5A-DFC5-467B-B482-0A05F7B5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2EE0-3685-4F72-9CC0-D7D01788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A02-B738-43BB-81DC-8BCC65AB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58C6C-9207-43C1-9155-6C811362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F08D0-3EB7-4373-898B-128BBF39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99FC7-F4CF-44B5-8A85-B8E62945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25043-E41C-4EC9-A1C0-3C9F1170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7244-418C-4F65-94E2-ECA725C9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A37B8-CFBA-46A6-8DBD-083AAA3E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AEDD-0553-4CEB-A3BB-8DA3EFC8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45CEA-0B07-4349-97AF-AEBA9A98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3C804-B8C1-45D7-8CE0-F56DFE55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876D6-AD3A-4891-8140-6037D340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AAD-1B45-4AA2-8DE5-D306C536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2B5D4-DBD4-481E-A9B3-97B4B3F4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A5E5D-E71D-480C-A070-CD0838B0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17BCC-5AA8-4941-8062-22E9256D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8486A-A37F-4E03-8425-4EEF5109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6A37E-B3C3-4B19-B6F7-04A290D5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2ABDB-BCE9-4AEF-9769-1C973AA1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2111F-DD2A-4DD5-B0DE-63B1713B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DEC17-8665-4BCD-9107-D8E8C58B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C3976-69BB-4A52-85F6-BA6B9DA8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333C1-40B2-49FC-9D19-A06BFA94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091-B55A-4A3D-9C69-54A2595E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B1F81-6D7B-4533-A700-AA0872D0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370BF-C8E3-434E-9ED7-B76482C7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844E8-98FA-4777-B292-FB522150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4463F-583C-40D1-9BBD-2EA642ED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E8560-6A3C-4AFD-B0B8-8BA5C15D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E1E22-A73B-4354-8214-D37E70D4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B8BC7-0F8D-4F83-A492-F0C2A24A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35E27-BFA9-43B4-9588-725590DD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2A4B7-B8E6-484A-BC77-4650F724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01909-EC90-47D9-80A6-06E11389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C9B-1420-4F46-AF49-ABD74F89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49887-5EEA-4922-B1C8-F0492DDF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6CCEC-CB9E-4739-B587-BBCB3ABE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FA935-8B79-4AD1-BBA3-75BA95E7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55850-F3AC-4B21-8D76-97E14A0F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CAF3A-FD09-4513-84B8-AC1069DC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09FCB-5577-4EB2-9CBA-DAFC0D0E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0C2C0-2F8C-4FEE-86C8-FCD9192D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63380-D2F2-4D16-A7DF-825D3271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28D76-DB4A-42C4-92AF-459A9A26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D1358-396B-40BF-AC39-FE938009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E3D-136F-46B8-B625-B7831E09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F6B30-F43C-4686-A2B5-120AF74D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F6FBE-7F5A-49A0-8770-F583F829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61595-E0D1-45F0-82F3-ED644E0C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94837-0231-486E-A57E-6DF0B8CB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0528B-DD34-4E50-91BE-CD233789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68521-D05D-4E0E-9C54-BD90ACA7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6CAF0-7E8E-437D-B4B7-D6998854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9557B-6194-4174-87AC-424E23D0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6A75D-A39F-45FF-BC8E-E2F3150D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561FA-3E63-4198-B4CD-C1DC2561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D89-6E40-4A50-AFF7-50715951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AF994-2F5F-4A6E-8F08-E133011A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4B24A-EAF3-42BF-B0E0-2013C5A2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6ECCD-B938-456F-8C9A-0634B85A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315FF-9AC3-4AA9-8DF3-92C31204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D7F70-2B86-46BC-BC47-A9217F35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353A8-41CD-45FD-8067-DC92123D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9F650-4FCD-44BA-B686-E56ECFEA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3E8CE-0F9F-48FE-98F6-71FA497A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C91AB-0F92-4DED-85EC-F5BC1210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0C84B-8F2C-4F16-8B12-32E601AD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60E-869F-42B1-A35C-95DC143A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C7C0F-0221-4BF1-B006-76644C1E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D4536-6557-49F4-82B4-99D7D2AD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F1E05-CC94-4E9C-BC4A-BBD7E9C9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BE14D-09C8-48F0-867E-F9DC6F9E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D33DC-2068-461E-B423-D933D65F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BE948-E7C4-4B7A-87F5-CB4EC989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2300C-7AA3-4AC1-BE6F-738ABD1B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B1F9B-C044-47EB-8885-616F58D6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8FCA1-2A4E-4F20-AFB3-E6999AF6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93C8B-CA8D-4199-863F-F7A9A014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8A86-E46F-4601-8A59-6DE27FB8E3D0}" type="slidenum">
              <a:rPr b="0" lang="fr-FR" sz="8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F84C-6CAA-4190-9753-28778BC9E5A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B482-9B38-480D-8DD2-4AACBAC5699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2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8807-9105-426A-9824-951E53C62B3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7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E347-6502-4D14-9D80-9EB5E4A7AD3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1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15DF-114E-4240-B73F-AEF6A9B7644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6108-B6D9-4DE6-8C4C-854F8738858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09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4392-C7D3-43D9-A4F8-DD18F16F32E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4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1FB6-154D-4DCE-BA0E-DAE9381BD07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  <a:ea typeface="MS PGothic"/>
              </a:rPr>
              <a:t>PRODUIT</a:t>
            </a:r>
            <a:endParaRPr b="0" lang="en-US" sz="16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1852560" y="2612520"/>
            <a:ext cx="6983640" cy="20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Chauffe-Eau Thermodynamique hybride</a:t>
            </a:r>
            <a:br>
              <a:rPr sz="2900"/>
            </a:b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DE DIETRICH</a:t>
            </a:r>
            <a:endParaRPr b="0" lang="en-US" sz="2900" spc="-1" strike="noStrike">
              <a:solidFill>
                <a:srgbClr val="662483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0"/>
          <p:cNvSpPr/>
          <p:nvPr/>
        </p:nvSpPr>
        <p:spPr>
          <a:xfrm>
            <a:off x="952560" y="1260360"/>
            <a:ext cx="864072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Le présent document décrit la saisie et la prise en compte d’un chauffe-eau thermodynamique hybride du fabricant De Dietrich dans le logiciel d’application de la RT 2012 Climawi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e chauffe-eau thermodynamique hybride De Dietrich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est composée des éléments suivant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Avenir LT Std 55 Roman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(        ) 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éléments suivants 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e la chaudière gaz à condensation (         ) assurant une fonction de chauffage et d’appoint pour l’ECS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stockage décrivant les caractéristiques du ballon de stockage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u CET (        ) assurant une fonction de production d’EC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8" name="Rectangle 69"/>
          <p:cNvSpPr/>
          <p:nvPr/>
        </p:nvSpPr>
        <p:spPr>
          <a:xfrm>
            <a:off x="385272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455840" y="2197080"/>
          <a:ext cx="7848360" cy="547560"/>
        </p:xfrm>
        <a:graphic>
          <a:graphicData uri="http://schemas.openxmlformats.org/drawingml/2006/table">
            <a:tbl>
              <a:tblPr/>
              <a:tblGrid>
                <a:gridCol w="3316320"/>
                <a:gridCol w="4532040"/>
              </a:tblGrid>
              <a:tr h="28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ffe-eau thermodynam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KALIK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dière gaz à condens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NANE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1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885E-AD59-4927-9A3A-0C3966BDFAC8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2" name="ZoneTexte 19"/>
          <p:cNvSpPr/>
          <p:nvPr/>
        </p:nvSpPr>
        <p:spPr>
          <a:xfrm>
            <a:off x="952560" y="4429080"/>
            <a:ext cx="583236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1 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e l’objet « Génération »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2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u générateur « Chaudière à condensation (ECS &amp; chauffage) »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3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générateur « CET hybride (ECS seul) » 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4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générateur « CET » 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13" name="Object 16"/>
          <p:cNvGraphicFramePr/>
          <p:nvPr/>
        </p:nvGraphicFramePr>
        <p:xfrm>
          <a:off x="4643280" y="3098880"/>
          <a:ext cx="184320" cy="18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3098880"/>
                    <a:ext cx="18432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17"/>
          <p:cNvGraphicFramePr/>
          <p:nvPr/>
        </p:nvGraphicFramePr>
        <p:xfrm>
          <a:off x="6135840" y="3489480"/>
          <a:ext cx="177480" cy="20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5840" y="3489480"/>
                    <a:ext cx="1774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4"/>
          <p:cNvGraphicFramePr/>
          <p:nvPr/>
        </p:nvGraphicFramePr>
        <p:xfrm>
          <a:off x="4475160" y="4133880"/>
          <a:ext cx="177840" cy="20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1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5160" y="4133880"/>
                    <a:ext cx="1778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9" name="Picture 22" descr=""/>
          <p:cNvPicPr/>
          <p:nvPr/>
        </p:nvPicPr>
        <p:blipFill>
          <a:blip r:embed="rId7"/>
          <a:stretch/>
        </p:blipFill>
        <p:spPr>
          <a:xfrm>
            <a:off x="7000920" y="4502160"/>
            <a:ext cx="2600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0" name="AutoShape 41"/>
          <p:cNvCxnSpPr/>
          <p:nvPr/>
        </p:nvCxnSpPr>
        <p:spPr>
          <a:xfrm flipH="1" flipV="1" rot="10800000">
            <a:off x="70200" y="406764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1" name="Text Box 33"/>
          <p:cNvSpPr/>
          <p:nvPr/>
        </p:nvSpPr>
        <p:spPr>
          <a:xfrm>
            <a:off x="7072200" y="3053880"/>
            <a:ext cx="314640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Paramétrage classique RT 2012 d’une cascade. Un emplacement en volume chauffé permet de réduire les consommations par rapport à un emplacement hors volume chauffé. À choisir en fonction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2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’objet « Génération 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DEB2-8987-4244-81BA-CB9FC220945F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24" name="Picture 8" descr=""/>
          <p:cNvPicPr/>
          <p:nvPr/>
        </p:nvPicPr>
        <p:blipFill>
          <a:blip r:embed="rId1"/>
          <a:stretch/>
        </p:blipFill>
        <p:spPr>
          <a:xfrm>
            <a:off x="376200" y="2557440"/>
            <a:ext cx="5904000" cy="2122560"/>
          </a:xfrm>
          <a:prstGeom prst="rect">
            <a:avLst/>
          </a:prstGeom>
          <a:ln w="0">
            <a:noFill/>
          </a:ln>
        </p:spPr>
      </p:pic>
      <p:cxnSp>
        <p:nvCxnSpPr>
          <p:cNvPr id="425" name="Connecteur en angle 29"/>
          <p:cNvCxnSpPr>
            <a:stCxn id="421" idx="1"/>
          </p:cNvCxnSpPr>
          <p:nvPr/>
        </p:nvCxnSpPr>
        <p:spPr>
          <a:xfrm rot="10800000">
            <a:off x="4335480" y="3493440"/>
            <a:ext cx="2737080" cy="108720"/>
          </a:xfrm>
          <a:prstGeom prst="bentConnector3">
            <a:avLst>
              <a:gd name="adj1" fmla="val 5000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7"/>
          <p:cNvSpPr/>
          <p:nvPr/>
        </p:nvSpPr>
        <p:spPr>
          <a:xfrm>
            <a:off x="6799320" y="250524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27" name="AutoShape 12"/>
          <p:cNvCxnSpPr/>
          <p:nvPr/>
        </p:nvCxnSpPr>
        <p:spPr>
          <a:xfrm flipH="1" flipV="1" rot="10800000">
            <a:off x="-360" y="435744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8" name="Text Box 33"/>
          <p:cNvSpPr/>
          <p:nvPr/>
        </p:nvSpPr>
        <p:spPr>
          <a:xfrm>
            <a:off x="7236000" y="1836720"/>
            <a:ext cx="3168360" cy="24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référence produit peut être trouver dans la base de données EDIBATE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hoix entre les différentes chaudières NANEO  dépend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9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chaudière gaz à condensation (chauffage &amp; ECS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0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E32D-CE8E-4E20-BDDC-E2E803A3FD11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1" name="Text Box 33"/>
          <p:cNvSpPr/>
          <p:nvPr/>
        </p:nvSpPr>
        <p:spPr>
          <a:xfrm>
            <a:off x="160200" y="1550160"/>
            <a:ext cx="31464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Dans l’outil de saisie des Générateurs, on indique les fonctions de la chaudièr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32" name="Picture 10" descr=""/>
          <p:cNvPicPr/>
          <p:nvPr/>
        </p:nvPicPr>
        <p:blipFill>
          <a:blip r:embed="rId1"/>
          <a:stretch/>
        </p:blipFill>
        <p:spPr>
          <a:xfrm>
            <a:off x="179280" y="2125800"/>
            <a:ext cx="6620040" cy="599760"/>
          </a:xfrm>
          <a:prstGeom prst="rect">
            <a:avLst/>
          </a:prstGeom>
          <a:ln w="0">
            <a:noFill/>
          </a:ln>
        </p:spPr>
      </p:pic>
      <p:cxnSp>
        <p:nvCxnSpPr>
          <p:cNvPr id="433" name="Connecteur en angle 18"/>
          <p:cNvCxnSpPr>
            <a:stCxn id="431" idx="3"/>
          </p:cNvCxnSpPr>
          <p:nvPr/>
        </p:nvCxnSpPr>
        <p:spPr>
          <a:xfrm flipH="1">
            <a:off x="2247120" y="1765080"/>
            <a:ext cx="1059480" cy="864360"/>
          </a:xfrm>
          <a:prstGeom prst="bentConnector3">
            <a:avLst>
              <a:gd name="adj1" fmla="val -7511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cxnSp>
        <p:nvCxnSpPr>
          <p:cNvPr id="434" name="Connecteur en angle 18"/>
          <p:cNvCxnSpPr>
            <a:stCxn id="428" idx="1"/>
          </p:cNvCxnSpPr>
          <p:nvPr/>
        </p:nvCxnSpPr>
        <p:spPr>
          <a:xfrm rot="10800000">
            <a:off x="5415840" y="2556720"/>
            <a:ext cx="1820160" cy="504000"/>
          </a:xfrm>
          <a:prstGeom prst="bentConnector3">
            <a:avLst>
              <a:gd name="adj1" fmla="val 4999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35" name="Text Box 33"/>
          <p:cNvSpPr/>
          <p:nvPr/>
        </p:nvSpPr>
        <p:spPr>
          <a:xfrm>
            <a:off x="7216920" y="4429080"/>
            <a:ext cx="3168360" cy="129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valeurs présentées sont pour le système EMC-M24/28 MI VH 8 et sont arrondies par Climawin. Le système à choisir dépend de chaque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Code couleur dans Climawin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c00000"/>
                </a:solidFill>
                <a:latin typeface="Avenir LT Std 55 Roman"/>
              </a:rPr>
              <a:t>Roug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: aucune valeur n’a été changé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Gris : une valeur au moins a été changé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36" name="Picture 14" descr=""/>
          <p:cNvPicPr/>
          <p:nvPr/>
        </p:nvPicPr>
        <p:blipFill>
          <a:blip r:embed="rId2"/>
          <a:stretch/>
        </p:blipFill>
        <p:spPr>
          <a:xfrm>
            <a:off x="7792920" y="2629080"/>
            <a:ext cx="1971720" cy="15523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3"/>
          <a:stretch/>
        </p:blipFill>
        <p:spPr>
          <a:xfrm>
            <a:off x="801720" y="2917800"/>
            <a:ext cx="419256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4984920" y="2917800"/>
          <a:ext cx="720720" cy="39607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23.8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8.0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36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99.10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110.50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35 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40.0 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3.00 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0" descr=""/>
          <p:cNvPicPr/>
          <p:nvPr/>
        </p:nvPicPr>
        <p:blipFill>
          <a:blip r:embed="rId1"/>
          <a:stretch/>
        </p:blipFill>
        <p:spPr>
          <a:xfrm>
            <a:off x="231840" y="2125800"/>
            <a:ext cx="6619680" cy="599760"/>
          </a:xfrm>
          <a:prstGeom prst="rect">
            <a:avLst/>
          </a:prstGeom>
          <a:ln w="0">
            <a:noFill/>
          </a:ln>
        </p:spPr>
      </p:pic>
      <p:cxnSp>
        <p:nvCxnSpPr>
          <p:cNvPr id="440" name="AutoShape 10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1" name="AutoShape 11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2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3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4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4915-7D34-4A29-B2E1-2E3897FC7C26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45" name="Picture 11" descr=""/>
          <p:cNvPicPr/>
          <p:nvPr/>
        </p:nvPicPr>
        <p:blipFill>
          <a:blip r:embed="rId2"/>
          <a:stretch/>
        </p:blipFill>
        <p:spPr>
          <a:xfrm>
            <a:off x="212760" y="2486160"/>
            <a:ext cx="6619680" cy="2188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33"/>
          <p:cNvSpPr/>
          <p:nvPr/>
        </p:nvSpPr>
        <p:spPr>
          <a:xfrm>
            <a:off x="231840" y="1478520"/>
            <a:ext cx="31464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Dans l’outil de saisie des Générateurs, on indique les fonctions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7" name="Connecteur en angle 18"/>
          <p:cNvCxnSpPr>
            <a:stCxn id="446" idx="3"/>
          </p:cNvCxnSpPr>
          <p:nvPr/>
        </p:nvCxnSpPr>
        <p:spPr>
          <a:xfrm flipH="1">
            <a:off x="2102760" y="1692360"/>
            <a:ext cx="1275480" cy="937440"/>
          </a:xfrm>
          <a:prstGeom prst="bentConnector3">
            <a:avLst>
              <a:gd name="adj1" fmla="val -4573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48" name="Text Box 33"/>
          <p:cNvSpPr/>
          <p:nvPr/>
        </p:nvSpPr>
        <p:spPr>
          <a:xfrm>
            <a:off x="7072200" y="1549440"/>
            <a:ext cx="3292560" cy="25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référence produit peut être trouver dans la base de données EDIBATE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hoix entre les différents CET Kaliko dépend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9" name="Connecteur en angle 18"/>
          <p:cNvCxnSpPr>
            <a:stCxn id="448" idx="1"/>
          </p:cNvCxnSpPr>
          <p:nvPr/>
        </p:nvCxnSpPr>
        <p:spPr>
          <a:xfrm rot="10800000">
            <a:off x="5776200" y="2628360"/>
            <a:ext cx="1296000" cy="216360"/>
          </a:xfrm>
          <a:prstGeom prst="bentConnector3">
            <a:avLst>
              <a:gd name="adj1" fmla="val 49986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pic>
        <p:nvPicPr>
          <p:cNvPr id="450" name="Picture 14" descr=""/>
          <p:cNvPicPr/>
          <p:nvPr/>
        </p:nvPicPr>
        <p:blipFill>
          <a:blip r:embed="rId3"/>
          <a:stretch/>
        </p:blipFill>
        <p:spPr>
          <a:xfrm>
            <a:off x="7935840" y="2268360"/>
            <a:ext cx="14954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6" descr=""/>
          <p:cNvPicPr/>
          <p:nvPr/>
        </p:nvPicPr>
        <p:blipFill>
          <a:blip r:embed="rId1"/>
          <a:stretch/>
        </p:blipFill>
        <p:spPr>
          <a:xfrm>
            <a:off x="376200" y="1260360"/>
            <a:ext cx="3987720" cy="5343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7" descr=""/>
          <p:cNvPicPr/>
          <p:nvPr/>
        </p:nvPicPr>
        <p:blipFill>
          <a:blip r:embed="rId2"/>
          <a:stretch/>
        </p:blipFill>
        <p:spPr>
          <a:xfrm>
            <a:off x="376200" y="5726160"/>
            <a:ext cx="4016520" cy="1289160"/>
          </a:xfrm>
          <a:prstGeom prst="rect">
            <a:avLst/>
          </a:prstGeom>
          <a:ln w="0">
            <a:noFill/>
          </a:ln>
        </p:spPr>
      </p:pic>
      <p:cxnSp>
        <p:nvCxnSpPr>
          <p:cNvPr id="453" name="AutoShape 10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54" name="AutoShape 11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55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6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7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4CD4-0A6C-41F7-816B-5B3F97DEABDA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8" name="Text Box 33"/>
          <p:cNvSpPr/>
          <p:nvPr/>
        </p:nvSpPr>
        <p:spPr>
          <a:xfrm>
            <a:off x="5848200" y="3565440"/>
            <a:ext cx="4104000" cy="4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Attention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Ici, on indique un système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Sans appoint intégré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59" name="Connecteur en angle 18"/>
          <p:cNvCxnSpPr>
            <a:stCxn id="458" idx="1"/>
          </p:cNvCxnSpPr>
          <p:nvPr/>
        </p:nvCxnSpPr>
        <p:spPr>
          <a:xfrm flipV="1" rot="10800000">
            <a:off x="3687120" y="3781080"/>
            <a:ext cx="2161080" cy="937440"/>
          </a:xfrm>
          <a:prstGeom prst="bentConnector3">
            <a:avLst>
              <a:gd name="adj1" fmla="val 5000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60" name="Text Box 33"/>
          <p:cNvSpPr/>
          <p:nvPr/>
        </p:nvSpPr>
        <p:spPr>
          <a:xfrm>
            <a:off x="5848200" y="1549440"/>
            <a:ext cx="4104000" cy="15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Bien renseigner les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limites amont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source froide) et 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aval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production d’eau chaude) de température du CET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bornes admissibles sont fixées dans la fiche d’application « Saisie des chauffe-eau thermodynamiques à compression électrique et à appoint hydraulique » disponible sur le site rt-batiment.fr  à savoir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aximum 7°C en amont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inimum 30°C en aval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61" name="Connecteur en angle 18"/>
          <p:cNvCxnSpPr>
            <a:stCxn id="460" idx="1"/>
          </p:cNvCxnSpPr>
          <p:nvPr/>
        </p:nvCxnSpPr>
        <p:spPr>
          <a:xfrm flipV="1" rot="10800000">
            <a:off x="3326760" y="2341080"/>
            <a:ext cx="2521440" cy="1153440"/>
          </a:xfrm>
          <a:prstGeom prst="bentConnector3">
            <a:avLst>
              <a:gd name="adj1" fmla="val 19848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62" name="Accolade fermante 33"/>
          <p:cNvSpPr/>
          <p:nvPr/>
        </p:nvSpPr>
        <p:spPr>
          <a:xfrm>
            <a:off x="2968560" y="3276720"/>
            <a:ext cx="216000" cy="4316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431640"/>
              <a:gd name="textAreaBottom" fmla="*/ 426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a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3" name="Text Box 33"/>
          <p:cNvSpPr/>
          <p:nvPr/>
        </p:nvSpPr>
        <p:spPr>
          <a:xfrm>
            <a:off x="5848200" y="4213080"/>
            <a:ext cx="410544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« Chauffage de nuit » possibl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si les conditions de la fiche d’application « Saisie des chauffe-eau thermodynamiques à compression électrique » (rt-batiment.fr) sont réuni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ET dispose d’un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relais Heures Pleines / Heures Creuses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pour piloter le fonctionnement de la PA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montée en températur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du ballon (correspondant à th dans la norme NF EN 16147) est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inférieure à 8h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Sinon, il faut indiquer « 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chauffage permanent 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». La régulation du CET «  chauffage de nuit » implique un transfert d’une partie des consommations du CET vers la chaudière d’appoint vu que le CET est restreint dans sa période de fonctionne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64" name="Connecteur en angle 18"/>
          <p:cNvCxnSpPr>
            <a:stCxn id="463" idx="1"/>
          </p:cNvCxnSpPr>
          <p:nvPr/>
        </p:nvCxnSpPr>
        <p:spPr>
          <a:xfrm flipV="1" rot="10800000">
            <a:off x="3615480" y="5185440"/>
            <a:ext cx="2232720" cy="611640"/>
          </a:xfrm>
          <a:prstGeom prst="bentConnector3">
            <a:avLst>
              <a:gd name="adj1" fmla="val 49991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65" name="Text Box 33"/>
          <p:cNvSpPr/>
          <p:nvPr/>
        </p:nvSpPr>
        <p:spPr>
          <a:xfrm>
            <a:off x="5848200" y="1117440"/>
            <a:ext cx="4104000" cy="27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valeurs présentées ici sont celles du Kaliko TWH 200 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4335480" y="2341440"/>
          <a:ext cx="720720" cy="7207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23976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0.33 k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3.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certifi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5" descr=""/>
          <p:cNvPicPr/>
          <p:nvPr/>
        </p:nvPicPr>
        <p:blipFill>
          <a:blip r:embed="rId1"/>
          <a:stretch/>
        </p:blipFill>
        <p:spPr>
          <a:xfrm>
            <a:off x="952560" y="4789440"/>
            <a:ext cx="7734240" cy="18003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4" descr=""/>
          <p:cNvPicPr/>
          <p:nvPr/>
        </p:nvPicPr>
        <p:blipFill>
          <a:blip r:embed="rId2"/>
          <a:stretch/>
        </p:blipFill>
        <p:spPr>
          <a:xfrm>
            <a:off x="3544920" y="3276720"/>
            <a:ext cx="6897600" cy="11937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3" descr=""/>
          <p:cNvPicPr/>
          <p:nvPr/>
        </p:nvPicPr>
        <p:blipFill>
          <a:blip r:embed="rId3"/>
          <a:stretch/>
        </p:blipFill>
        <p:spPr>
          <a:xfrm>
            <a:off x="519120" y="1836720"/>
            <a:ext cx="2171520" cy="1057320"/>
          </a:xfrm>
          <a:prstGeom prst="rect">
            <a:avLst/>
          </a:prstGeom>
          <a:ln w="0">
            <a:noFill/>
          </a:ln>
        </p:spPr>
      </p:pic>
      <p:cxnSp>
        <p:nvCxnSpPr>
          <p:cNvPr id="470" name="AutoShape 12"/>
          <p:cNvCxnSpPr/>
          <p:nvPr/>
        </p:nvCxnSpPr>
        <p:spPr>
          <a:xfrm flipH="1" flipV="1" rot="10800000">
            <a:off x="-360" y="392472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71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2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9EF3-A66C-4CA2-9118-A1E16C6513F2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3" name="Text Box 33"/>
          <p:cNvSpPr/>
          <p:nvPr/>
        </p:nvSpPr>
        <p:spPr>
          <a:xfrm>
            <a:off x="447840" y="1477800"/>
            <a:ext cx="32922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On saisit les composants chaudières et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74" name="Connecteur en angle 18"/>
          <p:cNvCxnSpPr/>
          <p:nvPr/>
        </p:nvCxnSpPr>
        <p:spPr>
          <a:xfrm>
            <a:off x="2679840" y="2628720"/>
            <a:ext cx="4304160" cy="648360"/>
          </a:xfrm>
          <a:prstGeom prst="bentConnector2">
            <a:avLst/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cxnSp>
        <p:nvCxnSpPr>
          <p:cNvPr id="475" name="Connecteur en angle 18"/>
          <p:cNvCxnSpPr/>
          <p:nvPr/>
        </p:nvCxnSpPr>
        <p:spPr>
          <a:xfrm rot="5400000">
            <a:off x="-5760" y="3728880"/>
            <a:ext cx="2850480" cy="1081800"/>
          </a:xfrm>
          <a:prstGeom prst="bentConnector4">
            <a:avLst>
              <a:gd name="adj1" fmla="val 34116"/>
              <a:gd name="adj2" fmla="val 121138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76" name="Text Box 33"/>
          <p:cNvSpPr/>
          <p:nvPr/>
        </p:nvSpPr>
        <p:spPr>
          <a:xfrm>
            <a:off x="4695840" y="5437080"/>
            <a:ext cx="1657440" cy="50508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7" name="Text Box 33"/>
          <p:cNvSpPr/>
          <p:nvPr/>
        </p:nvSpPr>
        <p:spPr>
          <a:xfrm>
            <a:off x="6927840" y="4286160"/>
            <a:ext cx="289080" cy="28728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8" name="ZoneTexte 12"/>
          <p:cNvSpPr/>
          <p:nvPr/>
        </p:nvSpPr>
        <p:spPr>
          <a:xfrm>
            <a:off x="4840200" y="6373800"/>
            <a:ext cx="505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venir LT Std 55 Roman"/>
              </a:rPr>
              <a:t>0 W</a:t>
            </a:r>
            <a:endParaRPr b="0" lang="en-US" sz="10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Rapeneau Igor (GDF SUEZ SA)</dc:creator>
  <dc:description/>
  <dc:language>en-US</dc:language>
  <cp:lastModifiedBy>RAPENEAU Igor (Gaz Réseau Distribution France)</cp:lastModifiedBy>
  <cp:lastPrinted>2014-02-20T07:11:44Z</cp:lastPrinted>
  <dcterms:modified xsi:type="dcterms:W3CDTF">2018-11-23T14:06:28Z</dcterms:modified>
  <cp:revision>192</cp:revision>
  <dc:subject/>
  <dc:title>Présentation PowerPoint</dc:title>
</cp:coreProperties>
</file>