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C629-F04F-4310-A37C-A8A68C06C249}" type="slidenum"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26C-5E10-4181-938F-3BD1C5FBB242}" type="slidenum">
              <a:rPr b="0" lang="fr-FR" sz="1200" spc="-1" strike="noStrike">
                <a:solidFill>
                  <a:srgbClr val="1f497d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BBC-A19A-4444-9BAF-C1B47CD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8FA-5EC8-4CA7-8515-E641CFA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7C7BC-7D18-4798-98C4-596D4BC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BC61F-7159-480C-8129-8E73ED76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E9E0D-0387-411A-B555-5C37587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6D63-12D3-4F10-89CA-53AE1E4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A7584-86CA-46D6-9910-B3062ED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0209-EA62-49CE-862B-289F1E6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4A84-AD55-4A82-B4C6-702214F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76C3-2EF8-452A-B954-D8861224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D55A-B27E-44AA-848D-788CEF87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E21-FC82-444B-9F30-44F269D5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D86-C824-4302-98D3-6A099DE9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DF4C-1B1A-45D5-BBFC-B5FFF06F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7CB-8A20-4CA4-951E-5A3D778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0EB5-C6F8-4324-A199-C70357C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C55-F25A-4F49-8B90-5C08A3B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60B-8D4D-493C-BF1D-65B66CF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C61-E5B1-4C0C-A5D1-E006BE12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9AC-51BD-434F-9804-6B6B0A57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1FA-5BC0-4CC5-A41B-EFF0685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F30-964D-441E-B07C-BFE6C2F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CC3-8020-4E26-9A0B-DE73B5D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C22F-4348-450C-A7DC-95C4AC2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1D39-C585-4281-833D-4FDA57BD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CD9F-577F-44CB-B3B2-1C463596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842F-9694-4929-9DB9-AD5490EE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5484-923A-4DF9-9F53-CE5A0E7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9BE8-A33F-4AD4-AF0F-CCAA6F0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6AB5-C0F9-4009-9A9F-9A5722F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FF8F-7B43-48EB-9E52-80A0877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BEE-D938-46D5-8A56-11761C4E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1E2E-C5BA-43CE-8FF5-6D32B0E3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785A-FE9F-4F98-8DAE-3DBA974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2788-22EA-44C4-80D8-116DCD2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142B-5FA6-4471-9FC5-FB7E00A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1BDF-8E0E-4B12-AA2D-863FCEA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A21C-B6B2-49F4-8D4C-7DB2E988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7688-FE15-4C82-B986-92B43E2D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5E98-D61E-4463-BA0D-1D10FD65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C7A8-861B-4DDD-A34C-C8AD8E6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533A-8246-443D-BCDF-776C1C9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5DC-82E1-4878-ABB3-C33D3E9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AFD71-3187-4125-8E62-1AA9FD8F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B10E-D8F9-41DB-A3CB-1926AED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2F29-7021-4DE9-9E42-4076F320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35B3-33F0-44AF-A5A3-982B4EF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4911-ACA0-43A3-B04A-5706B2A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7201-1387-47E3-93B0-32A7D27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BA2E-A059-4467-91BF-D3F7AAE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AC9F-7926-45C6-B467-8B6E5E9C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1116-9269-4326-BC94-F34C3676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FE14-53E0-4807-898D-6F586553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C8B-DB7F-4C8B-9B05-527BBC9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D62D-FD3A-4FF6-A827-3949FAE3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FBF9-3CAB-4E9A-BC1C-D91553A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D246-1A36-42A2-A7ED-1F6146C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BBB4-AFE2-49ED-BD11-B94B276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B9BE-6934-4635-ABAC-FC64546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558C-BF5A-425E-8A18-B328F63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C269-8B36-4CA7-B5BE-3797A5B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3911-B629-431B-8009-D434941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6D9F-F65E-4172-8F7B-4FA9FB0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314BF-78F8-4194-8071-C578C4DF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C74-5CE3-4CCF-8192-D705C43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2CEA-0446-4E22-AB15-9437268C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88B4-3A26-4684-A92D-55D4C88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7139-56B8-411C-86EC-754043F4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DF1F-E7F6-41F1-8E5B-B7AA850F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BFE6-DA5A-4337-B223-FC4163E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1EAF-D00A-49B4-B3A4-D2E94263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F177-B7F3-4C38-9E89-9257D5C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A4BE-7E50-4730-A140-802D7EB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4325-C1CB-4315-82D8-A94E9FC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DC41-33D6-4464-9837-03F0E9E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5FC-AB60-4201-A5A0-48E21C4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0E13-8B50-41B2-B1E1-B2B0CD0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ACE5-80B5-47BD-85DD-0BFEFA4F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178F-376B-4DAC-B1BB-34870F2E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A283-F7FB-4FAF-88D1-DBB1B5FD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96C1-246E-4227-9BA9-F5249D9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70A6-900F-48D2-89B2-1D9BF801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083F-A2D8-482B-90E6-02CB139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F480-8BBC-460F-B056-FD77359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B62A3-27C1-4294-88F8-52752AAE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D1F4D-F499-410C-98FE-3CE65F0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996-F31E-42B1-B781-5B02633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100C-B96F-479B-99F5-3CEB9430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4AEC-7F0C-4438-A744-35A4B8E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C07A-975D-425E-9981-37BF2CF3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5B06-E25D-4F1A-88F7-007D26BF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0CE84-2596-4FB3-8070-4F7DDE23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8D2D2-8D84-4CF3-9253-72AD0F38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167C-54A3-45A0-B41B-F6D27014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4E83-0827-444E-BA45-1A8719F6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1B2D-C8C1-4C97-A81F-D8959FF6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975C-D603-4923-8D37-61A0B72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7D9-6246-414F-AECF-B8A1A29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6AD8-3224-40CF-A8EC-B479560B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4C4A8-04F6-43CE-A785-9649119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5E627-68A3-4EE1-A5DA-D58A3B8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24E0-E7C7-4780-8347-69F24864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24BAA-6687-4EAC-9BC4-3A4E245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A22F-D352-408E-95A5-7229F47B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56E04-682B-4B45-92C6-395977BA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9B097-DFCC-41D4-B027-95C71705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BA1DF-082E-44A0-8DBA-6536126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42C57-12B0-4125-937A-AB961529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577-2B56-410F-85FB-D54B9ECB297D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3EA6-1C1A-47CC-80A4-EA286A1249A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F6C-5619-49E5-9BBD-54AB0C09435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AA26-1D8B-480C-B27B-20812BE705C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3CD-85A7-4390-A833-3BA6479FDCC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841-6A3C-46C0-B065-18FD32A8AB3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761-605B-4C8B-825E-68A846E91D2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72D0-A1F0-4F7E-A855-24398828DC4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EABA-729B-4CBB-952E-38516EE5720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s://techniqueuniclima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SAUNIER DUVAL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0"/>
          <p:cNvSpPr/>
          <p:nvPr/>
        </p:nvSpPr>
        <p:spPr>
          <a:xfrm>
            <a:off x="1438200" y="1582560"/>
            <a:ext cx="79344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une chaudière à condensation avec un chauffe-eau solaire optimisé du fabricant SAUNIER DUVAL dans le logiciel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La chaudière à condensation + CESI optimisé SAUNIER DUVAL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ThemaPlus Condens F25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système de stockage «Stockage HelioSet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capteur solaire thermique «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HelioPlan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SRD 2.3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9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10" name="Picture 302" descr="Travail:1 GRAPHISME:GRDF:FICHES_BET_CEGIBAT_GrDF:FICHES_PRODUIT:ELEMENTS_OK:PICTOS:GENERATEUR.jpg"/>
          <p:cNvPicPr/>
          <p:nvPr/>
        </p:nvPicPr>
        <p:blipFill>
          <a:blip r:embed="rId1"/>
          <a:stretch/>
        </p:blipFill>
        <p:spPr>
          <a:xfrm>
            <a:off x="7007400" y="40053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38960" y="361620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05" descr="Travail:1 GRAPHISME:GRDF:FICHES_BET_CEGIBAT_GrDF:FICHES_PRODUIT:ELEMENTS_OK:PICTOS:SYST_STOCK.jpg"/>
          <p:cNvPicPr/>
          <p:nvPr/>
        </p:nvPicPr>
        <p:blipFill>
          <a:blip r:embed="rId3"/>
          <a:stretch/>
        </p:blipFill>
        <p:spPr>
          <a:xfrm>
            <a:off x="3262320" y="445464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ThemaPlus Condens F25 Performance RT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HelioSet 150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HelioPlan SRD 2.3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4" name="Image 22" descr="Arborescence perrenoud - Atlantic.PNG"/>
          <p:cNvPicPr/>
          <p:nvPr/>
        </p:nvPicPr>
        <p:blipFill>
          <a:blip r:embed="rId4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6" name="ZoneTexte 15"/>
          <p:cNvSpPr/>
          <p:nvPr/>
        </p:nvSpPr>
        <p:spPr>
          <a:xfrm>
            <a:off x="8369280" y="6229440"/>
            <a:ext cx="1655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Stockage HelioSet 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ZoneTexte 16"/>
          <p:cNvSpPr/>
          <p:nvPr/>
        </p:nvSpPr>
        <p:spPr>
          <a:xfrm>
            <a:off x="8153280" y="6084720"/>
            <a:ext cx="19432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ThemaPlus Condens F25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8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3319-4EC5-40B1-909C-6CDC943FF69D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808200" y="1693800"/>
            <a:ext cx="5257800" cy="4821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1" name="Text Box 14"/>
          <p:cNvSpPr/>
          <p:nvPr/>
        </p:nvSpPr>
        <p:spPr>
          <a:xfrm>
            <a:off x="6959520" y="243036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2" name="AutoShape 16"/>
          <p:cNvCxnSpPr/>
          <p:nvPr/>
        </p:nvCxnSpPr>
        <p:spPr>
          <a:xfrm flipV="1" rot="16200000">
            <a:off x="6764400" y="24573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3" name="AutoShape 19"/>
          <p:cNvCxnSpPr/>
          <p:nvPr/>
        </p:nvCxnSpPr>
        <p:spPr>
          <a:xfrm flipV="1" rot="16200000">
            <a:off x="6764400" y="24573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4" name="AutoShape 24"/>
          <p:cNvCxnSpPr/>
          <p:nvPr/>
        </p:nvCxnSpPr>
        <p:spPr>
          <a:xfrm flipV="1" rot="16200000">
            <a:off x="6599880" y="30672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sp>
        <p:nvSpPr>
          <p:cNvPr id="425" name="Freeform 25"/>
          <p:cNvSpPr/>
          <p:nvPr/>
        </p:nvSpPr>
        <p:spPr>
          <a:xfrm flipV="1">
            <a:off x="5684760" y="3293280"/>
            <a:ext cx="2362320" cy="28260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6778800" y="30038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2635560" y="58086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4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8" name="Picture 18" descr=""/>
          <p:cNvPicPr/>
          <p:nvPr/>
        </p:nvPicPr>
        <p:blipFill>
          <a:blip r:embed="rId2"/>
          <a:stretch/>
        </p:blipFill>
        <p:spPr>
          <a:xfrm>
            <a:off x="2441520" y="3116160"/>
            <a:ext cx="685800" cy="1238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9"/>
          <p:cNvSpPr/>
          <p:nvPr/>
        </p:nvSpPr>
        <p:spPr>
          <a:xfrm>
            <a:off x="2340360" y="304488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0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6F8F-7370-419B-B241-31321232590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08200" y="165744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3" name="Text Box 7"/>
          <p:cNvSpPr/>
          <p:nvPr/>
        </p:nvSpPr>
        <p:spPr>
          <a:xfrm>
            <a:off x="6959520" y="239544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4" name="AutoShape 8"/>
          <p:cNvCxnSpPr/>
          <p:nvPr/>
        </p:nvCxnSpPr>
        <p:spPr>
          <a:xfrm flipV="1" rot="16200000">
            <a:off x="6779520" y="210744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5" name="AutoShape 9"/>
          <p:cNvCxnSpPr/>
          <p:nvPr/>
        </p:nvCxnSpPr>
        <p:spPr>
          <a:xfrm flipV="1" rot="16200000">
            <a:off x="6779520" y="210744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6" name="AutoShape 10"/>
          <p:cNvCxnSpPr/>
          <p:nvPr/>
        </p:nvCxnSpPr>
        <p:spPr>
          <a:xfrm flipH="1" rot="16200000">
            <a:off x="6598080" y="303012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7" name="AutoShape 12"/>
          <p:cNvCxnSpPr/>
          <p:nvPr/>
        </p:nvCxnSpPr>
        <p:spPr>
          <a:xfrm flipH="1" flipV="1" rot="10800000">
            <a:off x="75960" y="382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8" name="Text Box 6"/>
          <p:cNvSpPr/>
          <p:nvPr/>
        </p:nvSpPr>
        <p:spPr>
          <a:xfrm>
            <a:off x="1828800" y="45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 VAG Rounded Light"/>
              </a:rPr>
              <a:t>Création du générateur «Chaudière à condensation»</a:t>
            </a:r>
            <a:endParaRPr b="0" lang="en-US" sz="1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48"/>
          <p:cNvSpPr/>
          <p:nvPr/>
        </p:nvSpPr>
        <p:spPr>
          <a:xfrm>
            <a:off x="3701880" y="38178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8,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3701880" y="40356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7,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50"/>
          <p:cNvSpPr/>
          <p:nvPr/>
        </p:nvSpPr>
        <p:spPr>
          <a:xfrm>
            <a:off x="3701520" y="4478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3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51"/>
          <p:cNvSpPr/>
          <p:nvPr/>
        </p:nvSpPr>
        <p:spPr>
          <a:xfrm>
            <a:off x="3701880" y="470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5,4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52"/>
          <p:cNvSpPr/>
          <p:nvPr/>
        </p:nvSpPr>
        <p:spPr>
          <a:xfrm>
            <a:off x="3701520" y="49356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8,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54"/>
          <p:cNvSpPr/>
          <p:nvPr/>
        </p:nvSpPr>
        <p:spPr>
          <a:xfrm>
            <a:off x="3824280" y="56023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55"/>
          <p:cNvSpPr/>
          <p:nvPr/>
        </p:nvSpPr>
        <p:spPr>
          <a:xfrm>
            <a:off x="3809160" y="581832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,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56"/>
          <p:cNvSpPr/>
          <p:nvPr/>
        </p:nvSpPr>
        <p:spPr>
          <a:xfrm>
            <a:off x="4752000" y="4035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57"/>
          <p:cNvSpPr/>
          <p:nvPr/>
        </p:nvSpPr>
        <p:spPr>
          <a:xfrm>
            <a:off x="5683680" y="381780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4752000" y="4935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61"/>
          <p:cNvSpPr/>
          <p:nvPr/>
        </p:nvSpPr>
        <p:spPr>
          <a:xfrm>
            <a:off x="3530160" y="645948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0" name="Picture 29" descr=""/>
          <p:cNvPicPr/>
          <p:nvPr/>
        </p:nvPicPr>
        <p:blipFill>
          <a:blip r:embed="rId2"/>
          <a:stretch/>
        </p:blipFill>
        <p:spPr>
          <a:xfrm>
            <a:off x="3738600" y="6189840"/>
            <a:ext cx="595440" cy="20448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54"/>
          <p:cNvSpPr/>
          <p:nvPr/>
        </p:nvSpPr>
        <p:spPr>
          <a:xfrm>
            <a:off x="3992400" y="62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1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6896160" y="210492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3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57DB-FE31-4713-8576-776A6347443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4624560" y="3637080"/>
            <a:ext cx="5486400" cy="86184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8"/>
          <p:cNvSpPr/>
          <p:nvPr/>
        </p:nvSpPr>
        <p:spPr>
          <a:xfrm>
            <a:off x="6856560" y="3852720"/>
            <a:ext cx="343692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477800"/>
            <a:ext cx="5587920" cy="4956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8" name="AutoShape 11"/>
          <p:cNvCxnSpPr/>
          <p:nvPr/>
        </p:nvCxnSpPr>
        <p:spPr>
          <a:xfrm flipH="1" rot="16200000">
            <a:off x="6527520" y="284904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9" name="AutoShape 12"/>
          <p:cNvCxnSpPr/>
          <p:nvPr/>
        </p:nvCxnSpPr>
        <p:spPr>
          <a:xfrm flipH="1" flipV="1" rot="10800000">
            <a:off x="75960" y="3846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0" name="Text Box 34"/>
          <p:cNvSpPr/>
          <p:nvPr/>
        </p:nvSpPr>
        <p:spPr>
          <a:xfrm>
            <a:off x="4721040" y="399240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35"/>
          <p:cNvSpPr/>
          <p:nvPr/>
        </p:nvSpPr>
        <p:spPr>
          <a:xfrm>
            <a:off x="3552840" y="4221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50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36"/>
          <p:cNvSpPr/>
          <p:nvPr/>
        </p:nvSpPr>
        <p:spPr>
          <a:xfrm>
            <a:off x="2851560" y="444960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3559320" y="46782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19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2836440" y="49068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3665160" y="534816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5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0"/>
          <p:cNvSpPr/>
          <p:nvPr/>
        </p:nvSpPr>
        <p:spPr>
          <a:xfrm>
            <a:off x="5306760" y="589752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8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1"/>
          <p:cNvSpPr/>
          <p:nvPr/>
        </p:nvSpPr>
        <p:spPr>
          <a:xfrm>
            <a:off x="5307480" y="61261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Freeform 42"/>
          <p:cNvSpPr/>
          <p:nvPr/>
        </p:nvSpPr>
        <p:spPr>
          <a:xfrm>
            <a:off x="5689440" y="193500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6707160" y="15541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Freeform 43"/>
          <p:cNvSpPr/>
          <p:nvPr/>
        </p:nvSpPr>
        <p:spPr>
          <a:xfrm>
            <a:off x="4394160" y="391644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6707160" y="36115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Freeform 46"/>
          <p:cNvSpPr/>
          <p:nvPr/>
        </p:nvSpPr>
        <p:spPr>
          <a:xfrm>
            <a:off x="4165560" y="4754520"/>
            <a:ext cx="2895480" cy="9907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824" h="624">
                <a:moveTo>
                  <a:pt x="1824" y="624"/>
                </a:moveTo>
                <a:lnTo>
                  <a:pt x="1440" y="624"/>
                </a:lnTo>
                <a:lnTo>
                  <a:pt x="1440" y="144"/>
                </a:lnTo>
                <a:lnTo>
                  <a:pt x="144" y="144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6707160" y="551664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Text Box 37"/>
          <p:cNvSpPr/>
          <p:nvPr/>
        </p:nvSpPr>
        <p:spPr>
          <a:xfrm>
            <a:off x="5396400" y="470844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,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5" name="Picture 28" descr=""/>
          <p:cNvPicPr/>
          <p:nvPr/>
        </p:nvPicPr>
        <p:blipFill>
          <a:blip r:embed="rId2"/>
          <a:stretch/>
        </p:blipFill>
        <p:spPr>
          <a:xfrm>
            <a:off x="3451320" y="5075280"/>
            <a:ext cx="1224000" cy="23796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9"/>
          <p:cNvSpPr/>
          <p:nvPr/>
        </p:nvSpPr>
        <p:spPr>
          <a:xfrm>
            <a:off x="3665520" y="51325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7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Ballon HelioSet S-FE 150/3 SE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8DC-28F4-4A0A-AABD-0D5539C0AD9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736560" y="1405080"/>
            <a:ext cx="5262480" cy="564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80" name="AutoShape 10"/>
          <p:cNvCxnSpPr/>
          <p:nvPr/>
        </p:nvCxnSpPr>
        <p:spPr>
          <a:xfrm flipH="1" flipV="1" rot="10800000">
            <a:off x="6706800" y="7129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1" name="AutoShape 11"/>
          <p:cNvCxnSpPr/>
          <p:nvPr/>
        </p:nvCxnSpPr>
        <p:spPr>
          <a:xfrm flipH="1" flipV="1" rot="10800000">
            <a:off x="6706800" y="7129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2" name="AutoShape 12"/>
          <p:cNvCxnSpPr/>
          <p:nvPr/>
        </p:nvCxnSpPr>
        <p:spPr>
          <a:xfrm flipH="1" rot="16200000">
            <a:off x="6527880" y="27763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3" name="AutoShape 13"/>
          <p:cNvCxnSpPr/>
          <p:nvPr/>
        </p:nvCxnSpPr>
        <p:spPr>
          <a:xfrm flipH="1" flipV="1" rot="10800000">
            <a:off x="72720" y="3870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4" name="Text Box 22"/>
          <p:cNvSpPr/>
          <p:nvPr/>
        </p:nvSpPr>
        <p:spPr>
          <a:xfrm>
            <a:off x="6707160" y="3309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Freeform 23"/>
          <p:cNvSpPr/>
          <p:nvPr/>
        </p:nvSpPr>
        <p:spPr>
          <a:xfrm flipV="1">
            <a:off x="5156280" y="181548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Freeform 24"/>
          <p:cNvSpPr/>
          <p:nvPr/>
        </p:nvSpPr>
        <p:spPr>
          <a:xfrm>
            <a:off x="4851360" y="3995640"/>
            <a:ext cx="4572000" cy="990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707160" y="460548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Freeform 24"/>
          <p:cNvSpPr/>
          <p:nvPr/>
        </p:nvSpPr>
        <p:spPr>
          <a:xfrm flipV="1">
            <a:off x="4927680" y="2927880"/>
            <a:ext cx="4267080" cy="609480"/>
          </a:xfrm>
          <a:custGeom>
            <a:avLst/>
            <a:gdLst>
              <a:gd name="textAreaLeft" fmla="*/ 0 w 4267080"/>
              <a:gd name="textAreaRight" fmla="*/ 4267440 w 42670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6721560" y="1770120"/>
            <a:ext cx="34257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7160" y="26240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52"/>
          <p:cNvSpPr/>
          <p:nvPr/>
        </p:nvSpPr>
        <p:spPr>
          <a:xfrm>
            <a:off x="4224600" y="4591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80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52"/>
          <p:cNvSpPr/>
          <p:nvPr/>
        </p:nvSpPr>
        <p:spPr>
          <a:xfrm>
            <a:off x="4241520" y="48434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,7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187880" y="50655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,012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52"/>
          <p:cNvSpPr/>
          <p:nvPr/>
        </p:nvSpPr>
        <p:spPr>
          <a:xfrm>
            <a:off x="3116160" y="534672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52"/>
          <p:cNvSpPr/>
          <p:nvPr/>
        </p:nvSpPr>
        <p:spPr>
          <a:xfrm>
            <a:off x="4165920" y="55990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4145760" y="5850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52"/>
          <p:cNvSpPr/>
          <p:nvPr/>
        </p:nvSpPr>
        <p:spPr>
          <a:xfrm>
            <a:off x="4145760" y="60674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8" name="Picture 27" descr=""/>
          <p:cNvPicPr/>
          <p:nvPr/>
        </p:nvPicPr>
        <p:blipFill>
          <a:blip r:embed="rId2"/>
          <a:stretch/>
        </p:blipFill>
        <p:spPr>
          <a:xfrm>
            <a:off x="4362480" y="6283440"/>
            <a:ext cx="1104840" cy="2286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55"/>
          <p:cNvSpPr/>
          <p:nvPr/>
        </p:nvSpPr>
        <p:spPr>
          <a:xfrm>
            <a:off x="4601520" y="63565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6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0" name="Picture 28" descr=""/>
          <p:cNvPicPr/>
          <p:nvPr/>
        </p:nvPicPr>
        <p:blipFill>
          <a:blip r:embed="rId3"/>
          <a:stretch/>
        </p:blipFill>
        <p:spPr>
          <a:xfrm>
            <a:off x="2684520" y="3227400"/>
            <a:ext cx="838080" cy="1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2"/>
          <p:cNvSpPr/>
          <p:nvPr/>
        </p:nvSpPr>
        <p:spPr>
          <a:xfrm>
            <a:off x="2674800" y="3193920"/>
            <a:ext cx="99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RD 2.3 Horizonta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2" name="Picture 29" descr=""/>
          <p:cNvPicPr/>
          <p:nvPr/>
        </p:nvPicPr>
        <p:blipFill>
          <a:blip r:embed="rId4"/>
          <a:stretch/>
        </p:blipFill>
        <p:spPr>
          <a:xfrm>
            <a:off x="4027320" y="659772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9" descr=""/>
          <p:cNvPicPr/>
          <p:nvPr/>
        </p:nvPicPr>
        <p:blipFill>
          <a:blip r:embed="rId5"/>
          <a:stretch/>
        </p:blipFill>
        <p:spPr>
          <a:xfrm>
            <a:off x="4027320" y="6742080"/>
            <a:ext cx="181080" cy="190440"/>
          </a:xfrm>
          <a:prstGeom prst="rect">
            <a:avLst/>
          </a:prstGeom>
          <a:ln w="0">
            <a:noFill/>
          </a:ln>
        </p:spPr>
      </p:pic>
      <p:cxnSp>
        <p:nvCxnSpPr>
          <p:cNvPr id="504" name="Connecteur en angle 33"/>
          <p:cNvCxnSpPr/>
          <p:nvPr/>
        </p:nvCxnSpPr>
        <p:spPr>
          <a:xfrm flipV="1" rot="10800000">
            <a:off x="4242600" y="6426360"/>
            <a:ext cx="2592720" cy="289440"/>
          </a:xfrm>
          <a:prstGeom prst="bentConnector3">
            <a:avLst>
              <a:gd name="adj1" fmla="val 49993"/>
            </a:avLst>
          </a:prstGeom>
          <a:ln w="1908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05" name="Rectangle 16"/>
          <p:cNvSpPr/>
          <p:nvPr/>
        </p:nvSpPr>
        <p:spPr>
          <a:xfrm>
            <a:off x="6721560" y="6283440"/>
            <a:ext cx="342576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 fonc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Création de l</a:t>
            </a:r>
            <a:r>
              <a:rPr b="0" lang="ja-JP" sz="2900" spc="-1" strike="noStrike">
                <a:solidFill>
                  <a:srgbClr val="662483"/>
                </a:solidFill>
                <a:latin typeface="45 Helvetica Light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objet boucle solaire «HelioPlan SRD 2.3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4F53-67C4-4F62-AE84-27808A43148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6710400" y="5564160"/>
            <a:ext cx="33670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9" name="Connecteur en angle 32"/>
          <p:cNvCxnSpPr>
            <a:stCxn id="508" idx="1"/>
          </p:cNvCxnSpPr>
          <p:nvPr/>
        </p:nvCxnSpPr>
        <p:spPr>
          <a:xfrm rot="10800000">
            <a:off x="5250600" y="5419080"/>
            <a:ext cx="1459800" cy="445320"/>
          </a:xfrm>
          <a:prstGeom prst="bentConnector3">
            <a:avLst>
              <a:gd name="adj1" fmla="val 2735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879480" y="234144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1" name="Text Box 9"/>
          <p:cNvSpPr/>
          <p:nvPr/>
        </p:nvSpPr>
        <p:spPr>
          <a:xfrm>
            <a:off x="685656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2" name="AutoShape 12"/>
          <p:cNvCxnSpPr/>
          <p:nvPr/>
        </p:nvCxnSpPr>
        <p:spPr>
          <a:xfrm flipH="1" rot="16200000">
            <a:off x="6652440" y="28746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13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Freeform 23"/>
          <p:cNvSpPr/>
          <p:nvPr/>
        </p:nvSpPr>
        <p:spPr>
          <a:xfrm flipV="1">
            <a:off x="5246640" y="2117880"/>
            <a:ext cx="1600200" cy="8618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922320" y="1693800"/>
            <a:ext cx="53546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2386080" y="285912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5586480" y="264636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4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Text Box 33"/>
          <p:cNvSpPr/>
          <p:nvPr/>
        </p:nvSpPr>
        <p:spPr>
          <a:xfrm>
            <a:off x="2386080" y="264636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9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722680" y="1746360"/>
            <a:ext cx="142920" cy="144360"/>
          </a:xfrm>
          <a:prstGeom prst="rect">
            <a:avLst/>
          </a:prstGeom>
          <a:ln w="0">
            <a:noFill/>
          </a:ln>
        </p:spPr>
      </p:pic>
      <p:sp>
        <p:nvSpPr>
          <p:cNvPr id="520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781-080E-455D-B7F1-298BEDE01A6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42Z</dcterms:modified>
  <cp:revision>106</cp:revision>
  <dc:subject/>
  <dc:title>Présentation PowerPoint</dc:title>
</cp:coreProperties>
</file>