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839520" y="767880"/>
            <a:ext cx="541980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move the slide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3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B3D1-F605-45DC-B68C-7BD07DE6CA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839880" y="768240"/>
            <a:ext cx="5419800" cy="3837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FBCD-812D-4B8A-9AEA-7A168913ADAB}" type="slidenum">
              <a:rPr b="0" lang="fr-FR" sz="1200" spc="-1" strike="noStrike">
                <a:solidFill>
                  <a:srgbClr val="000000"/>
                </a:solidFill>
                <a:latin typeface="Avenir LT Std 55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19B-B425-4352-81F1-33F15513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FCF-0768-43D1-AD81-7D9B7668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C6B93-B565-4FCC-AA94-0CBCF16A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6A2BE-79D0-4EE9-9529-47A944AB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1CD87-68CB-436B-AD38-9B964811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18759-B8E6-4C84-90DB-735C3CFF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E35BF-D2FC-4CE1-90EB-447B7957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5FEE4-FAFF-488C-AEFA-14678AD3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1478B-CEA2-4B7D-860F-64F71ED1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8F700-80FB-4D77-B36C-E2D708EF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ABE2B-CC49-460F-91CC-F4844C27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09E6-8738-4387-96B0-34AEA872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8E5F-243D-48C8-81FB-6A1BE308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11AE-1F4C-4BF7-99A9-B05B6D4C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28D0-2DE8-44A0-B040-E4347C1C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9A4E-1224-4B99-B04B-1B571A68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54E5-208C-46C5-A443-81A04092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02A8-BFB8-4531-92F7-ACFD70BD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CB26-795D-4C80-9F6E-41DAE0D8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76E3-277C-4DA0-AF59-D0CF2FD6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8A8-296A-4B48-A1E8-6FFCC514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F483-BA99-4054-B64E-9797AE90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E1E3-1911-455E-88C7-EBD180DE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91EC-9A45-4CB3-80FE-3258EAF8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D727-B679-45FB-B556-4A6B46D9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E774-DF84-48F6-9AF8-7D4D0153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DC0A5-A364-4577-AD52-88C24740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00E27-A763-4363-A9D0-62861F0B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94122-D555-43AD-B65F-8718AC2E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584A3-E417-44DE-A39C-63BCC8E0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3A0CA-867E-467D-AA17-4B876840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01C-DF1B-4A39-B025-9CCA5D5D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57049-A844-4FD3-8D8A-8B7CDAC0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6988B-0517-4072-80B3-1BC8B179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DE196-56F2-4A6F-B420-495D0AFA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EB15-B8A4-4043-89D8-F76D557E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3C120-288E-400A-A523-8AF51F16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94DC3-7D5F-4DE4-AA58-2E7874DE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0C305-77D3-4F25-A5BD-636B319D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78E8D-9DCA-40A6-B232-60D65C2C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74F94-8E36-41E8-9F0C-CF8545E6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EFD16-1C48-41DF-95FB-FC0A2CA3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3551-72B2-4197-AB0E-47029400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573B5-AEBD-4A49-BC90-22FA164E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63104-6F1C-40A7-A418-E01CDB9F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0D338-EAE4-484E-971E-DC6E40D4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EBAC8-2D12-4657-9764-C38A9DD2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95866-F0C0-4E32-B9A7-8B8039F5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3045C-9411-4807-9C01-DA5CBC92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94B64-A1EC-44BE-A7B8-CFF979A9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50667-6501-40B0-8121-9AC40ABF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75440-03B0-4802-8506-4E57E0F4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F18C0-AAD6-4508-83C4-06848602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85AB-C407-4E4A-A34D-D68918D1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38CDC-BA04-462F-91D6-89910CA7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073AB-E638-460A-8474-9E700EC7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3C3BD-FC7D-47AF-8536-02C25EF0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C4375-A915-4AFD-9AB5-7BED6D23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02F4B-C6B3-41FC-AD99-B7B51F9C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FD11B-4253-4B45-B33C-BAB614F6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66168-3F4D-4104-BE9B-C4AFA547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D4710-5D48-428B-9026-936C2793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71EF9-1F03-4742-9E2A-B60748E4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7E60F-E714-4F56-81E8-22F115AE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9A3-B1D1-47E2-B835-219CF6E2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35B8A-733A-4339-BB2E-A1511F17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1BB09-3EC7-42A9-9669-868C45AD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50BCE-9EC7-40E3-B7B5-F5A37667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39612-F412-470B-AB8C-9576E1DA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693EC-A832-4B36-903F-3802D80C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E8BC2-28A6-46B8-BF42-2023EBB4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B3D34-9141-4BCD-B581-B5D4FA4A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87084-6621-4A8B-8969-1F88476B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4E894-EA5D-4CD0-8834-DA2E2C9A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60BF0-F9FA-4684-8971-24344246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FFEB-57A4-4C83-96AF-DFBFF68C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A83FA-10B2-41BE-BF24-522E4A97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7AC70-CE0D-47FD-BD18-CBBAB2EC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3862E-190B-481F-8AA7-AB99C9DE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512A6-1944-4F52-A28A-D7C9DA75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525EA-E164-4605-A27A-B7EBE7AF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88ED4-43AE-45F2-97FF-D42C6EB8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0D105-3E42-4459-B496-D6E75A91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ACF60-B8B9-459A-B95C-03E72A50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7F716-FC6E-4227-8DBD-6514AB46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3E028-8458-41F3-9642-83BECFEC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F34-6FAA-4EE1-8CCE-F7EACBEA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55208-44A5-4B2F-A4F4-43BF851E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310ED-AA30-4304-B61F-9EE513E8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7B5D7-D52D-4062-A410-C4B02872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62F5E-689E-46E9-961A-0A519BE1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A8B0F-F4A4-4A55-8D78-36AF6C8B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7BD10-7E41-4BB8-9867-AFADD512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90258-059A-4005-92BD-230A2443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53411-639A-4CDF-BA19-AA253724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4166D-A744-4A9F-99C9-F0701AD2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7E689-3883-4396-A17B-AE52934A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D4A-7DFE-4834-8A5C-22B00708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B4195-9B40-47BF-A9AB-68B038D8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70F5C-C34C-4F7B-B239-B5F1D83F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4ECD8-B27E-494A-A145-1B2CF157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88387-92BB-4D66-81BA-CA00862E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1B63F-0F64-4374-88BA-AEE66CA4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9D828-4467-4959-A825-E36D396D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1C917-38BA-43F7-B3FF-0BC36821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3BBD2-C2B9-43E5-B4CF-C2D1AA0F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9134E-FCA0-4406-AE05-1293277E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67AB8-D6C9-40ED-9297-EC8148A6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A9E5-13AB-406B-9D8C-F0D5FFC2CD66}" type="slidenum">
              <a:rPr b="0" lang="fr-FR" sz="8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3BEA-C97D-4724-B0EF-2BE54E3E0FF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D485-1C94-4765-B327-8887550F3CF3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2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D581-A482-4328-BC33-645F34E9006D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7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B15D-7FBD-4B3F-BEC2-49A800E28FF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1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4871-A76D-4109-8CDD-EBCA4643C96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F13A-24E9-4B91-8785-E2F9AA48D0E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09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1EA8-EA87-434D-896D-5DA85EB1279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4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0CDC-3548-409B-8A0F-26336563487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  <a:ea typeface="MS PGothic"/>
              </a:rPr>
              <a:t>PRODUIT</a:t>
            </a:r>
            <a:endParaRPr b="0" lang="en-US" sz="16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9796a3"/>
                </a:solidFill>
                <a:latin typeface="Avenir LT Std 55 Roman"/>
              </a:rPr>
              <a:t>Chauffe-Eau Thermodynamique hybride</a:t>
            </a:r>
            <a:br>
              <a:rPr sz="2900"/>
            </a:br>
            <a:r>
              <a:rPr b="0" lang="fr-FR" sz="2900" spc="-1" strike="noStrike">
                <a:solidFill>
                  <a:srgbClr val="9796a3"/>
                </a:solidFill>
                <a:latin typeface="Avenir LT Std 55 Roman"/>
              </a:rPr>
              <a:t>ATLANTIC</a:t>
            </a:r>
            <a:endParaRPr b="0" lang="en-US" sz="29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1852560" y="2658240"/>
            <a:ext cx="6983640" cy="19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U22win de PERRENOUD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45 Helvetica Light"/>
                <a:ea typeface="MS PGothic"/>
              </a:rPr>
              <a:t>Version 5.1.36 du 06/07/2018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45 Helvetica Light"/>
                <a:ea typeface="MS PGothic"/>
              </a:rPr>
              <a:t>Moteur Th-BCE : version 7.5.0.3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0"/>
          <p:cNvSpPr/>
          <p:nvPr/>
        </p:nvSpPr>
        <p:spPr>
          <a:xfrm>
            <a:off x="447840" y="1260360"/>
            <a:ext cx="9864720" cy="39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Le présent document décrit la saisie et la prise en compte d’un chauffe-eau thermodynamique hybride du fabricant Atlantic dans le logiciel d’application de la RT 2012 U22win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Le chauffe-eau thermodynamique hybride Atlantic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est composée des éléments suivant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’ensemble du système est décrit dans les objets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« Bâtiment »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 ) et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« génération »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 )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’objet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« Bâtiment » 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) contient :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résultats des Cep et Bbio,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Zone (        )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’objet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« génération »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) contient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 générateur » décrivant les caractéristiques de la chaudière gaz à condensation (         ) assurant une fonction de chauffage et d’appoint pour l’ECS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stockage décrivant les caractéristiques du ballon de stockage du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 générateur » décrivant les caractéristiques du CET (        ) assurant une fonction de production d’EC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8" name="Rectangle 69"/>
          <p:cNvSpPr/>
          <p:nvPr/>
        </p:nvSpPr>
        <p:spPr>
          <a:xfrm>
            <a:off x="385272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879480" y="2197080"/>
          <a:ext cx="9217080" cy="519120"/>
        </p:xfrm>
        <a:graphic>
          <a:graphicData uri="http://schemas.openxmlformats.org/drawingml/2006/table">
            <a:tbl>
              <a:tblPr/>
              <a:tblGrid>
                <a:gridCol w="3894120"/>
                <a:gridCol w="5322960"/>
              </a:tblGrid>
              <a:tr h="26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  <a:ea typeface="MS PGothic"/>
                        </a:rPr>
                        <a:t>Chauffe-eau thermodynam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RIVEO 200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  <a:ea typeface="MS PGothic"/>
                        </a:rPr>
                        <a:t>Chaudière gaz à condens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NAIA MIC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0" name="Image 13" descr=""/>
          <p:cNvPicPr/>
          <p:nvPr/>
        </p:nvPicPr>
        <p:blipFill>
          <a:blip r:embed="rId1"/>
          <a:stretch/>
        </p:blipFill>
        <p:spPr>
          <a:xfrm>
            <a:off x="1797120" y="3490920"/>
            <a:ext cx="230040" cy="250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03" descr="Travail:1 GRAPHISME:GRDF:FICHES_BET_CEGIBAT_GrDF:FICHES_PRODUIT:ELEMENTS_OK:PICTOS:GENERATION.jpg"/>
          <p:cNvPicPr/>
          <p:nvPr/>
        </p:nvPicPr>
        <p:blipFill>
          <a:blip r:embed="rId2"/>
          <a:stretch/>
        </p:blipFill>
        <p:spPr>
          <a:xfrm>
            <a:off x="5527800" y="3133800"/>
            <a:ext cx="237960" cy="218880"/>
          </a:xfrm>
          <a:prstGeom prst="rect">
            <a:avLst/>
          </a:prstGeom>
          <a:ln w="0">
            <a:noFill/>
          </a:ln>
        </p:spPr>
      </p:pic>
      <p:pic>
        <p:nvPicPr>
          <p:cNvPr id="412" name="Image 15" descr=""/>
          <p:cNvPicPr/>
          <p:nvPr/>
        </p:nvPicPr>
        <p:blipFill>
          <a:blip r:embed="rId3"/>
          <a:stretch/>
        </p:blipFill>
        <p:spPr>
          <a:xfrm>
            <a:off x="4146480" y="3114720"/>
            <a:ext cx="219240" cy="2379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03" descr="Travail:1 GRAPHISME:GRDF:FICHES_BET_CEGIBAT_GrDF:FICHES_PRODUIT:ELEMENTS_OK:PICTOS:GENERATION.jpg"/>
          <p:cNvPicPr/>
          <p:nvPr/>
        </p:nvPicPr>
        <p:blipFill>
          <a:blip r:embed="rId4"/>
          <a:stretch/>
        </p:blipFill>
        <p:spPr>
          <a:xfrm>
            <a:off x="1895400" y="4211640"/>
            <a:ext cx="238320" cy="217440"/>
          </a:xfrm>
          <a:prstGeom prst="rect">
            <a:avLst/>
          </a:prstGeom>
          <a:ln w="0">
            <a:noFill/>
          </a:ln>
        </p:spPr>
      </p:pic>
      <p:pic>
        <p:nvPicPr>
          <p:cNvPr id="414" name="Image 17" descr=""/>
          <p:cNvPicPr/>
          <p:nvPr/>
        </p:nvPicPr>
        <p:blipFill>
          <a:blip r:embed="rId5"/>
          <a:stretch/>
        </p:blipFill>
        <p:spPr>
          <a:xfrm>
            <a:off x="5621400" y="440856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415" name="Image 18" descr=""/>
          <p:cNvPicPr/>
          <p:nvPr/>
        </p:nvPicPr>
        <p:blipFill>
          <a:blip r:embed="rId6"/>
          <a:stretch/>
        </p:blipFill>
        <p:spPr>
          <a:xfrm>
            <a:off x="3975120" y="4782960"/>
            <a:ext cx="218880" cy="247680"/>
          </a:xfrm>
          <a:prstGeom prst="rect">
            <a:avLst/>
          </a:prstGeom>
          <a:ln w="0">
            <a:noFill/>
          </a:ln>
        </p:spPr>
      </p:pic>
      <p:pic>
        <p:nvPicPr>
          <p:cNvPr id="416" name="Image 19" descr=""/>
          <p:cNvPicPr/>
          <p:nvPr/>
        </p:nvPicPr>
        <p:blipFill>
          <a:blip r:embed="rId7"/>
          <a:stretch/>
        </p:blipFill>
        <p:spPr>
          <a:xfrm>
            <a:off x="1239840" y="3817800"/>
            <a:ext cx="219240" cy="209520"/>
          </a:xfrm>
          <a:prstGeom prst="rect">
            <a:avLst/>
          </a:prstGeom>
          <a:ln w="0">
            <a:noFill/>
          </a:ln>
        </p:spPr>
      </p:pic>
      <p:sp>
        <p:nvSpPr>
          <p:cNvPr id="417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B3C4-CAE7-41F8-8C42-19A4F7F173ED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19" name="Image 18" descr=""/>
          <p:cNvPicPr/>
          <p:nvPr/>
        </p:nvPicPr>
        <p:blipFill>
          <a:blip r:embed="rId8"/>
          <a:srcRect l="0" t="0" r="33795" b="0"/>
          <a:stretch/>
        </p:blipFill>
        <p:spPr>
          <a:xfrm>
            <a:off x="6640560" y="5149800"/>
            <a:ext cx="3384360" cy="2019240"/>
          </a:xfrm>
          <a:prstGeom prst="rect">
            <a:avLst/>
          </a:prstGeom>
          <a:ln w="0">
            <a:noFill/>
          </a:ln>
        </p:spPr>
      </p:pic>
      <p:sp>
        <p:nvSpPr>
          <p:cNvPr id="420" name="ZoneTexte 19"/>
          <p:cNvSpPr/>
          <p:nvPr/>
        </p:nvSpPr>
        <p:spPr>
          <a:xfrm>
            <a:off x="447840" y="5221440"/>
            <a:ext cx="583236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1 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: Création de l’objet génération libre « CET hybride»;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2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: Création du générateur « Chaudière à condensation (fonction chauffage et ECS) » en personnalisation du « nouveau générateur » créé à l’étape 1;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3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: Création du système de stockage ECS commun « Ballon de stockage » au niveau de la génération « CET hybride » précédemment définie à l’étape 1 (ECS) ;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4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: Création du générateur « CET (fonction ECS) » au niveau du « stockage ECS commun »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1" name="AutoShape 41"/>
          <p:cNvCxnSpPr/>
          <p:nvPr/>
        </p:nvCxnSpPr>
        <p:spPr>
          <a:xfrm flipH="1" flipV="1" rot="10800000">
            <a:off x="70200" y="4067640"/>
            <a:ext cx="252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2" name="Text Box 33"/>
          <p:cNvSpPr/>
          <p:nvPr/>
        </p:nvSpPr>
        <p:spPr>
          <a:xfrm>
            <a:off x="6856560" y="1613880"/>
            <a:ext cx="314640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Paramétrage classique RT 2012 d’une cascade. Un emplacement en volume chauffé permet de réduire les consommations par rapport à un emplacement hors volume chauffé. À choisir en fonction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3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’objet génération « CET hybride 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4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D883-2216-463A-BF5C-877E074D9DBF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25" name="Image 27" descr=""/>
          <p:cNvPicPr/>
          <p:nvPr/>
        </p:nvPicPr>
        <p:blipFill>
          <a:blip r:embed="rId1"/>
          <a:stretch/>
        </p:blipFill>
        <p:spPr>
          <a:xfrm>
            <a:off x="519120" y="1836720"/>
            <a:ext cx="5513400" cy="4451400"/>
          </a:xfrm>
          <a:prstGeom prst="rect">
            <a:avLst/>
          </a:prstGeom>
          <a:ln w="0">
            <a:noFill/>
          </a:ln>
        </p:spPr>
      </p:pic>
      <p:cxnSp>
        <p:nvCxnSpPr>
          <p:cNvPr id="426" name="Connecteur en angle 29"/>
          <p:cNvCxnSpPr>
            <a:stCxn id="422" idx="1"/>
          </p:cNvCxnSpPr>
          <p:nvPr/>
        </p:nvCxnSpPr>
        <p:spPr>
          <a:xfrm flipV="1" rot="10800000">
            <a:off x="3110760" y="2161800"/>
            <a:ext cx="3745800" cy="1404000"/>
          </a:xfrm>
          <a:prstGeom prst="bentConnector3">
            <a:avLst>
              <a:gd name="adj1" fmla="val 11947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  <p:sp>
        <p:nvSpPr>
          <p:cNvPr id="427" name="Text Box 33"/>
          <p:cNvSpPr/>
          <p:nvPr/>
        </p:nvSpPr>
        <p:spPr>
          <a:xfrm>
            <a:off x="6927840" y="4923000"/>
            <a:ext cx="30114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Ne concerne que les générateurs d’ECS instantanés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(dans les autres cas, n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intervient pas dans le calcul)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28" name="Connecteur en angle 29"/>
          <p:cNvCxnSpPr>
            <a:stCxn id="427" idx="1"/>
          </p:cNvCxnSpPr>
          <p:nvPr/>
        </p:nvCxnSpPr>
        <p:spPr>
          <a:xfrm flipV="1" rot="10800000">
            <a:off x="2607480" y="5220360"/>
            <a:ext cx="4320360" cy="361080"/>
          </a:xfrm>
          <a:prstGeom prst="bentConnector3">
            <a:avLst>
              <a:gd name="adj1" fmla="val 50000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9" name="AutoShape 12"/>
          <p:cNvCxnSpPr/>
          <p:nvPr/>
        </p:nvCxnSpPr>
        <p:spPr>
          <a:xfrm flipH="1" flipV="1" rot="10800000">
            <a:off x="5220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30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chaudière gaz à condensation (chauffage &amp; ECS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1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0AF5-AE4F-43C1-B94D-1015D64308E0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6851520" y="1928880"/>
            <a:ext cx="1800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3" name="Text Box 33"/>
          <p:cNvSpPr/>
          <p:nvPr/>
        </p:nvSpPr>
        <p:spPr>
          <a:xfrm>
            <a:off x="7165800" y="2759400"/>
            <a:ext cx="3219480" cy="1265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Paramétrage classique RT 2012 d’une chaudière gaz à condensation. Ne pas oublier de sélectionner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 « Chauffage et ECS » 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afin que la chaudière soit bien en appoint du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s chiffres sont donnés pour le système NAIA MICRO 25 et sont à modifier en fonction du produit réel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34" name="Image 15" descr=""/>
          <p:cNvPicPr/>
          <p:nvPr/>
        </p:nvPicPr>
        <p:blipFill>
          <a:blip r:embed="rId1"/>
          <a:stretch/>
        </p:blipFill>
        <p:spPr>
          <a:xfrm>
            <a:off x="592200" y="1693800"/>
            <a:ext cx="5511600" cy="5295960"/>
          </a:xfrm>
          <a:prstGeom prst="rect">
            <a:avLst/>
          </a:prstGeom>
          <a:ln w="0">
            <a:noFill/>
          </a:ln>
        </p:spPr>
      </p:pic>
      <p:cxnSp>
        <p:nvCxnSpPr>
          <p:cNvPr id="435" name="Connecteur en angle 18"/>
          <p:cNvCxnSpPr>
            <a:stCxn id="433" idx="1"/>
          </p:cNvCxnSpPr>
          <p:nvPr/>
        </p:nvCxnSpPr>
        <p:spPr>
          <a:xfrm rot="10800000">
            <a:off x="3326760" y="2988720"/>
            <a:ext cx="3839040" cy="403920"/>
          </a:xfrm>
          <a:prstGeom prst="bentConnector3">
            <a:avLst>
              <a:gd name="adj1" fmla="val 49995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36" name="Rectangle 12"/>
          <p:cNvSpPr/>
          <p:nvPr/>
        </p:nvSpPr>
        <p:spPr>
          <a:xfrm>
            <a:off x="3255840" y="3781440"/>
            <a:ext cx="4320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18.8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7" name="Rectangle 13"/>
          <p:cNvSpPr/>
          <p:nvPr/>
        </p:nvSpPr>
        <p:spPr>
          <a:xfrm>
            <a:off x="3255840" y="3997440"/>
            <a:ext cx="4320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97.9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8" name="Rectangle 15"/>
          <p:cNvSpPr/>
          <p:nvPr/>
        </p:nvSpPr>
        <p:spPr>
          <a:xfrm>
            <a:off x="3184560" y="442908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0.035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3184560" y="464508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6.3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0" name="Rectangle 18"/>
          <p:cNvSpPr/>
          <p:nvPr/>
        </p:nvSpPr>
        <p:spPr>
          <a:xfrm>
            <a:off x="3184560" y="486108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108.7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1" name="Rectangle 19"/>
          <p:cNvSpPr/>
          <p:nvPr/>
        </p:nvSpPr>
        <p:spPr>
          <a:xfrm>
            <a:off x="3255840" y="5510160"/>
            <a:ext cx="505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27.0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2" name="Rectangle 20"/>
          <p:cNvSpPr/>
          <p:nvPr/>
        </p:nvSpPr>
        <p:spPr>
          <a:xfrm>
            <a:off x="3255840" y="5726160"/>
            <a:ext cx="505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3.00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3" name="Rectangle 21"/>
          <p:cNvSpPr/>
          <p:nvPr/>
        </p:nvSpPr>
        <p:spPr>
          <a:xfrm>
            <a:off x="2535120" y="2125800"/>
            <a:ext cx="165744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Chaudière NAIA MICRO 25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4" name="Rectangle 22"/>
          <p:cNvSpPr/>
          <p:nvPr/>
        </p:nvSpPr>
        <p:spPr>
          <a:xfrm>
            <a:off x="3255840" y="6084720"/>
            <a:ext cx="505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45" name="AutoShape 10"/>
          <p:cNvCxnSpPr/>
          <p:nvPr/>
        </p:nvCxnSpPr>
        <p:spPr>
          <a:xfrm flipH="1" flipV="1" rot="10800000">
            <a:off x="6646680" y="73054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6" name="AutoShape 11"/>
          <p:cNvCxnSpPr/>
          <p:nvPr/>
        </p:nvCxnSpPr>
        <p:spPr>
          <a:xfrm flipH="1" flipV="1" rot="10800000">
            <a:off x="6646680" y="73054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47" name="Espace réservé du texte 4"/>
          <p:cNvSpPr/>
          <p:nvPr/>
        </p:nvSpPr>
        <p:spPr>
          <a:xfrm>
            <a:off x="2027160" y="260280"/>
            <a:ext cx="8501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stockage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8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9178-5B43-4325-86DC-670D67A4E90D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6910560" y="244800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50" name="Image 27" descr=""/>
          <p:cNvPicPr/>
          <p:nvPr/>
        </p:nvPicPr>
        <p:blipFill>
          <a:blip r:embed="rId1"/>
          <a:stretch/>
        </p:blipFill>
        <p:spPr>
          <a:xfrm>
            <a:off x="447840" y="1260360"/>
            <a:ext cx="5511600" cy="520560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33"/>
          <p:cNvSpPr/>
          <p:nvPr/>
        </p:nvSpPr>
        <p:spPr>
          <a:xfrm>
            <a:off x="6568920" y="1335960"/>
            <a:ext cx="388800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« Base plus appoint séparé instantané » 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à sélectionner : la chaudière n’est pas directement reliée au stockage mais vient assurer le complément en sortie du ballon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52" name="Connecteur en angle 29"/>
          <p:cNvCxnSpPr>
            <a:stCxn id="451" idx="1"/>
          </p:cNvCxnSpPr>
          <p:nvPr/>
        </p:nvCxnSpPr>
        <p:spPr>
          <a:xfrm flipV="1" rot="10800000">
            <a:off x="4263480" y="1716480"/>
            <a:ext cx="2305440" cy="335880"/>
          </a:xfrm>
          <a:prstGeom prst="bentConnector3">
            <a:avLst>
              <a:gd name="adj1" fmla="val 49992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53" name="Text Box 33"/>
          <p:cNvSpPr/>
          <p:nvPr/>
        </p:nvSpPr>
        <p:spPr>
          <a:xfrm>
            <a:off x="6568920" y="3216240"/>
            <a:ext cx="3888000" cy="2270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« Chauffage de nuit » possible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si les conditions de la fiche d’application « Saisie des chauffe-eau thermodynamiques à compression électrique » (rt-batiment.fr) sont réunie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 CET dispose d’un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relais Heures Pleines / Heures Creuses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pour piloter le fonctionnement de la PAC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a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montée en température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du ballon (correspondant à th dans la norme NF EN 16147) est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inférieure à 8h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Sinon, il faut indiquer « chauffage permanent ». La régulation du CET «  chauffage de nuit » implique un transfert d’une partie des consommations du CET vers la chaudière d’appoint vu que le CET est restreint dans sa période de fonctionnemen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4" name="Text Box 33"/>
          <p:cNvSpPr/>
          <p:nvPr/>
        </p:nvSpPr>
        <p:spPr>
          <a:xfrm>
            <a:off x="6568920" y="2200320"/>
            <a:ext cx="388800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Caractéristique déterminée à partir des données issues de la NF EN 16147 via l’outil idCET ou alors directement disponible sur la base de données Edibatec. Impacte la consommation d’EC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55" name="Connecteur en angle 43"/>
          <p:cNvCxnSpPr>
            <a:stCxn id="454" idx="1"/>
          </p:cNvCxnSpPr>
          <p:nvPr/>
        </p:nvCxnSpPr>
        <p:spPr>
          <a:xfrm flipV="1" rot="10800000">
            <a:off x="4984200" y="2580840"/>
            <a:ext cx="1584720" cy="1705680"/>
          </a:xfrm>
          <a:prstGeom prst="bentConnector2">
            <a:avLst/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56" name="Text Box 33"/>
          <p:cNvSpPr/>
          <p:nvPr/>
        </p:nvSpPr>
        <p:spPr>
          <a:xfrm>
            <a:off x="6568920" y="5727960"/>
            <a:ext cx="38880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'hystérésis correspond à une « tolérance » autour de la valeur de consigne du ballon. Cette valeur importante impacte les consommations d'EC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57" name="Connecteur en angle 52"/>
          <p:cNvCxnSpPr>
            <a:stCxn id="456" idx="1"/>
          </p:cNvCxnSpPr>
          <p:nvPr/>
        </p:nvCxnSpPr>
        <p:spPr>
          <a:xfrm rot="10800000">
            <a:off x="3399840" y="5149080"/>
            <a:ext cx="3169080" cy="876960"/>
          </a:xfrm>
          <a:prstGeom prst="bentConnector3">
            <a:avLst>
              <a:gd name="adj1" fmla="val 14758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58" name="Rectangle 26"/>
          <p:cNvSpPr/>
          <p:nvPr/>
        </p:nvSpPr>
        <p:spPr>
          <a:xfrm>
            <a:off x="2319480" y="1620720"/>
            <a:ext cx="266544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CET RIVEO 200L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9" name="Rectangle 27"/>
          <p:cNvSpPr/>
          <p:nvPr/>
        </p:nvSpPr>
        <p:spPr>
          <a:xfrm>
            <a:off x="3040200" y="3852720"/>
            <a:ext cx="504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200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60" name="Rectangle 28"/>
          <p:cNvSpPr/>
          <p:nvPr/>
        </p:nvSpPr>
        <p:spPr>
          <a:xfrm>
            <a:off x="2392200" y="4645080"/>
            <a:ext cx="12240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Chauffage permanent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61" name="Rectangle 29"/>
          <p:cNvSpPr/>
          <p:nvPr/>
        </p:nvSpPr>
        <p:spPr>
          <a:xfrm>
            <a:off x="4695840" y="4286160"/>
            <a:ext cx="5047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2.44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62" name="Connecteur en angle 34"/>
          <p:cNvCxnSpPr>
            <a:stCxn id="453" idx="1"/>
            <a:endCxn id="460" idx="3"/>
          </p:cNvCxnSpPr>
          <p:nvPr/>
        </p:nvCxnSpPr>
        <p:spPr>
          <a:xfrm flipV="1" rot="10800000">
            <a:off x="3615480" y="4350240"/>
            <a:ext cx="2953440" cy="367560"/>
          </a:xfrm>
          <a:prstGeom prst="bentConnector3">
            <a:avLst>
              <a:gd name="adj1" fmla="val 49993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63" name="Rectangle 32"/>
          <p:cNvSpPr/>
          <p:nvPr/>
        </p:nvSpPr>
        <p:spPr>
          <a:xfrm>
            <a:off x="4624560" y="5797440"/>
            <a:ext cx="504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Zone 1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4" name="AutoShape 10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65" name="AutoShape 11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66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67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68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81FC-330D-4C05-B401-A405565D9D8B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69" name="Text Box 33"/>
          <p:cNvSpPr/>
          <p:nvPr/>
        </p:nvSpPr>
        <p:spPr>
          <a:xfrm>
            <a:off x="6424560" y="4354560"/>
            <a:ext cx="3888000" cy="1935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Bien renseigner les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limites amont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(côté source froide) et 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aval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(côté production d’eau chaude) de température du CET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s bornes admissibles sont fixées dans la fiche d’application « Saisie des chauffe-eau thermodynamiques à compression électrique et à appoint hydraulique » disponible sur le site rt-batiment.fr  à savoir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maximum 7°C en amont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minimum 30°C en aval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70" name="Connecteur en angle 24"/>
          <p:cNvCxnSpPr>
            <a:stCxn id="469" idx="1"/>
          </p:cNvCxnSpPr>
          <p:nvPr/>
        </p:nvCxnSpPr>
        <p:spPr>
          <a:xfrm flipV="1" rot="10800000">
            <a:off x="4263480" y="5320080"/>
            <a:ext cx="2161080" cy="693000"/>
          </a:xfrm>
          <a:prstGeom prst="bentConnector3">
            <a:avLst>
              <a:gd name="adj1" fmla="val 50000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pic>
        <p:nvPicPr>
          <p:cNvPr id="471" name="Image 22" descr=""/>
          <p:cNvPicPr/>
          <p:nvPr/>
        </p:nvPicPr>
        <p:blipFill>
          <a:blip r:embed="rId1"/>
          <a:srcRect l="-3" t="0" r="38947" b="0"/>
          <a:stretch/>
        </p:blipFill>
        <p:spPr>
          <a:xfrm>
            <a:off x="303120" y="1405080"/>
            <a:ext cx="5689800" cy="509580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11"/>
          <p:cNvSpPr/>
          <p:nvPr/>
        </p:nvSpPr>
        <p:spPr>
          <a:xfrm>
            <a:off x="3687840" y="5149800"/>
            <a:ext cx="4316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0.4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3" name="Rectangle 12"/>
          <p:cNvSpPr/>
          <p:nvPr/>
        </p:nvSpPr>
        <p:spPr>
          <a:xfrm>
            <a:off x="3687840" y="6013440"/>
            <a:ext cx="4316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4" name="Rectangle 13"/>
          <p:cNvSpPr/>
          <p:nvPr/>
        </p:nvSpPr>
        <p:spPr>
          <a:xfrm>
            <a:off x="1671480" y="1765440"/>
            <a:ext cx="2016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CET RIVEO 200L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5" name="Rectangle 15"/>
          <p:cNvSpPr/>
          <p:nvPr/>
        </p:nvSpPr>
        <p:spPr>
          <a:xfrm>
            <a:off x="3687840" y="5797440"/>
            <a:ext cx="43164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6" name="AutoShape 12"/>
          <p:cNvCxnSpPr/>
          <p:nvPr/>
        </p:nvCxnSpPr>
        <p:spPr>
          <a:xfrm flipH="1" flipV="1" rot="10800000">
            <a:off x="-360" y="392472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77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8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1EB0-264B-4410-A55D-C40182A800D1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79" name="Image 22" descr=""/>
          <p:cNvPicPr/>
          <p:nvPr/>
        </p:nvPicPr>
        <p:blipFill>
          <a:blip r:embed="rId1"/>
          <a:stretch/>
        </p:blipFill>
        <p:spPr>
          <a:xfrm>
            <a:off x="2392200" y="1693800"/>
            <a:ext cx="5627880" cy="1994040"/>
          </a:xfrm>
          <a:prstGeom prst="rect">
            <a:avLst/>
          </a:prstGeom>
          <a:ln w="0">
            <a:noFill/>
          </a:ln>
        </p:spPr>
      </p:pic>
      <p:pic>
        <p:nvPicPr>
          <p:cNvPr id="480" name="Image 23" descr=""/>
          <p:cNvPicPr/>
          <p:nvPr/>
        </p:nvPicPr>
        <p:blipFill>
          <a:blip r:embed="rId2"/>
          <a:srcRect l="0" t="0" r="0" b="7789"/>
          <a:stretch/>
        </p:blipFill>
        <p:spPr>
          <a:xfrm>
            <a:off x="2392200" y="4141800"/>
            <a:ext cx="5600880" cy="208764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6"/>
          <p:cNvSpPr/>
          <p:nvPr/>
        </p:nvSpPr>
        <p:spPr>
          <a:xfrm>
            <a:off x="4192560" y="5510160"/>
            <a:ext cx="576360" cy="432000"/>
          </a:xfrm>
          <a:prstGeom prst="rect">
            <a:avLst/>
          </a:prstGeom>
          <a:solidFill>
            <a:srgbClr val="cceb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0.29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3.39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Certifiée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Rapeneau Igor (GDF SUEZ SA)</dc:creator>
  <dc:description/>
  <dc:language>en-US</dc:language>
  <cp:lastModifiedBy>RAPENEAU Igor (Gaz Réseau Distribution France)</cp:lastModifiedBy>
  <cp:lastPrinted>2014-02-20T07:11:44Z</cp:lastPrinted>
  <dcterms:modified xsi:type="dcterms:W3CDTF">2018-11-23T14:06:04Z</dcterms:modified>
  <cp:revision>160</cp:revision>
  <dc:subject/>
  <dc:title>Présentation PowerPoint</dc:title>
</cp:coreProperties>
</file>