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8E4-37A0-4E2A-89D4-B86981CC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D70E-EC9C-48A6-86EF-EE3437E6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D5789-B830-42F1-9C58-C0968107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F2FFD-4456-4E08-83DF-A7C88047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AA322-CEEE-41E2-95AC-62BF8F77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966B4-3C4A-4A8D-97D8-AB68DBA9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7DC4A-EED0-41F1-9C7B-94CD0E63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90469-6B5C-4F8C-9FAF-621C13F8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F321D-8E38-49F6-A704-A73F1740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3910B-9BB6-45FE-9201-7B8FCE61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2E20C-52B4-4742-B422-E5F4F49A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286E-F178-47A8-B9E6-131C48C6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87C4-43C4-4AAD-AC5D-11818BA3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8A2C-8FBF-45F9-B74E-76FE5912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1C9E-CDC2-4F82-AFC8-ADEFD16E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284A-3462-43E0-8163-10955A3A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A4BA-52B5-4279-A3A2-2EB71251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27BE-AE3B-4FB8-B16F-69690877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DF93-83CA-42AC-89B0-ED6D47E9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A99C-1113-4532-B7F2-174B9418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C61A-B310-4BD8-9888-BE1E53A5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7CCB-328B-4675-B817-F9576D35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C7B9-C77B-44D9-A92E-62A6ABE8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A81E-9AAB-4496-825B-B1AE03D5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38B6-845A-4B8C-85A4-151696D7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1E14-A795-4CA6-A5C0-740D4B15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8516C-C834-40B8-9E7F-B294A8BB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7355D-D0C6-4AEE-A218-DA38F152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C2AAF-3A72-43DE-8045-CFE2E11D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7C582-A60F-429C-9CF9-0F16A78F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E2925-131D-4C90-B2D7-FF053BFE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BADA-FB77-4BB9-8F76-93E80F34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B7F22-1420-4440-84AD-44307E3F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0442C-ECEF-4E56-B53C-581932CA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30721-9AF2-49B1-BAB0-A3D24F20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3285F-F15C-440B-A929-50D00CAE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49350-C920-4C52-BC20-2C8D2B33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DF6D3-2285-4CDE-9698-0BBD2B11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29A45-1CBF-4E3C-B5BA-94145CDC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A9DD9-3561-4AC6-8AC0-8B197C17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1C7EE-C790-4D68-B947-A94C7446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0EF82-87A0-4FDC-9E19-5C717C04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B80E-C3B3-4810-AF98-E8F1EC00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67CDF-577A-4E64-ACB6-215BDDD6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41623-3077-4A6B-9C26-42F7595E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F68EC-46E4-4462-BC57-B8C03A0E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8A2E0-EB48-499A-80F6-B231AE3A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CBED7-2973-42C8-8502-3C11D305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C0FC5-C50D-4A94-88C5-94F0D353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CC4DD-EAC1-418B-AE94-017EB1E9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5F4DA-5E77-4307-A55C-BBEED217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E82EE-ACCB-4D1E-AF8C-4C22DB42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CDDFF-7CD7-4A27-8F60-26EA791B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150D-63DB-4944-BD66-A0243C10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9C627-B090-4A5D-BE07-8B8BB9A7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71215-E872-432F-B7B7-3143A0FD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061CA-DEDC-4F01-8CE6-48867B64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252F1-088E-4425-93A5-7B89F564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0AA87-48EE-4198-8228-83317753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BE51C-C699-4DB3-9E24-97872B90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44B3D-E7A3-46E8-902B-46875320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D5D14-4600-4030-A222-BAB8A854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39629-1E1A-4B39-812D-8C5590FA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C283A-771F-498A-839D-5AD4A0F9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01A-9815-436E-BB03-BFA82FE3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3B545-3F78-47FE-B05D-74843A4B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2EAD3-A50F-4B66-A9C8-583F35BC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852A5-47D3-447C-9912-576D180D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62227-A861-4C1E-BA39-1BC191D3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0329D-C938-4BE8-ADEE-1D3CCC4E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406B9-103E-4F3E-9C8B-76FB1E89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D0353-F037-47A2-8A75-697ADA64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A1CB7-2E0F-49F5-AED0-9F6650F0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60950-0402-48FB-85C8-0D749C58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C2344-5EF2-4A58-9620-8FB287B9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35A1-2C4D-4FA6-A030-CB95325F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B0265-BB87-4B61-A9A5-CBECBC37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FB46C-3B79-4B76-AA68-2CCD8EA4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22C16-F603-477B-86DA-40FA189C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4A746-5C0E-4B71-B05F-416D1C11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7065C-F74C-48CB-BD44-3C890DEA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1FC25-676E-44BB-9224-C9397026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A8A23-2BB7-4435-A151-9C965898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C430E-1DBD-432E-86A7-0A9C051A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B96C6-028A-4AF1-9CA1-72637450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130AD-DBE1-4699-8CBD-17415F54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26B7-68CF-4E43-897C-857CDDF2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7800C-7D65-454B-97BF-AFD7548D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02B5B-8032-4EAB-8927-32DA46C0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F99E5-1D38-4405-8DE6-77F0C9AF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45A14-B1EA-4D2E-A478-8E6F94A8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EB6E6-8031-41F7-94E0-5606BBDA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062B2-8AC5-4D5D-BD20-5304612B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0E2F3-3A5D-4E47-AE60-0DF9C279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6655A-2FB3-4911-B1EA-997DE8D8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CB0E9-0DFC-46AD-9D63-2D816971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CB549-BD85-43D2-B452-52756396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8BE4-55A0-4F18-A007-A8EE52E8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91275-E222-436D-8F20-CE7FA9D2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669A0-091B-4483-A0B4-5DD949EA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BDA2C-AADC-4664-B07B-15009DF9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D84BC-5457-42A1-8294-078E62F9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C5CE5-ED27-4222-B07F-C8E1D71D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6E347-C0BF-486E-971F-5865B693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1CED5-C399-48EE-9A7C-6CDB07B1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4BBD0-8363-4674-B9AC-E8270674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66429-2A44-470E-9E7C-73D4F4DB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CA534-1215-4C7C-90BB-83897140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097F-2045-4091-A727-E7711459E849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B7E6-D249-42D3-A5DD-85A68883823C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0570-DD85-429C-ADEF-99264C8BC885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2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87A5-6B92-43AC-8435-E7E2BD270745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7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B912-F238-4413-AF5B-38D332EC9B1F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1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0D6A-A45D-415A-BBC6-6CEADC3B4E13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46B5-7CDC-4964-A0D6-AE0E86A6EDD4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09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5E99-735B-479E-BEFD-041C0B611013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4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07B6-41D7-4BD3-B62C-9D500F4B0CA7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s://techniqueuniclima.com/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700" spc="-1" strike="noStrike">
                <a:solidFill>
                  <a:srgbClr val="9796a3"/>
                </a:solidFill>
                <a:latin typeface="Avenir LT Std 55 Roman"/>
              </a:rPr>
              <a:t>Chaudière à condensation + CESI optimisé</a:t>
            </a:r>
            <a:br>
              <a:rPr sz="2700"/>
            </a:br>
            <a:r>
              <a:rPr b="0" lang="fr-FR" sz="2700" spc="-1" strike="noStrike">
                <a:solidFill>
                  <a:srgbClr val="9796a3"/>
                </a:solidFill>
                <a:latin typeface="Avenir LT Std 55 Roman"/>
              </a:rPr>
              <a:t>ATLANTIC</a:t>
            </a:r>
            <a:endParaRPr b="0" lang="en-US" sz="27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U22win de PERRENOUD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5.1.36 du 06/07/2018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829476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</a:rPr>
              <a:t>PRODUIT</a:t>
            </a:r>
            <a:endParaRPr b="0" lang="en-US" sz="16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Image 22" descr="Arborescence perrenoud - Atlantic.PNG"/>
          <p:cNvPicPr/>
          <p:nvPr/>
        </p:nvPicPr>
        <p:blipFill>
          <a:blip r:embed="rId1"/>
          <a:stretch/>
        </p:blipFill>
        <p:spPr>
          <a:xfrm>
            <a:off x="7719840" y="4213080"/>
            <a:ext cx="2513160" cy="226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1" name="Text Box 10"/>
          <p:cNvSpPr/>
          <p:nvPr/>
        </p:nvSpPr>
        <p:spPr>
          <a:xfrm>
            <a:off x="1438200" y="1582560"/>
            <a:ext cx="7934400" cy="43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75 Helvetica Bold"/>
              </a:rPr>
              <a:t>Le présent document décrit la saisie et la prise en compte d’une chaudière à condensation avec un chauffe-eau solaire optimisé du fabricant ATLANTIC dans le logiciel d’application de la RT 2012 U22wi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b1af"/>
                </a:solidFill>
                <a:latin typeface="75 Helvetica Bold"/>
              </a:rPr>
              <a:t>La chaudière à condensation + CESI optimisé </a:t>
            </a:r>
            <a:r>
              <a:rPr b="0" lang="fr-FR" sz="1100" spc="-1" strike="noStrike">
                <a:solidFill>
                  <a:srgbClr val="00b1af"/>
                </a:solidFill>
                <a:latin typeface="75 Helvetica Bold"/>
              </a:rPr>
              <a:t>ATLANTIC est composée des 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générateur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écrivant les caractéristiques de la chaudière gaz à condensation ( 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système de stockage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écrivant les caractéristiques du ballon de stockage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  et du système solaire (      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étapes de la saisie du système sont les suivantes :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1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objet génération «CD + CESI opt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2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u générateur «Chaudière à condensation </a:t>
            </a:r>
            <a:r>
              <a:rPr b="0" lang="fr-FR" sz="1100" spc="-1" strike="noStrike">
                <a:solidFill>
                  <a:srgbClr val="000000"/>
                </a:solidFill>
                <a:latin typeface="55 Helvetica Roman"/>
                <a:ea typeface="ＭＳ Ｐゴシック"/>
              </a:rPr>
              <a:t>Naia Micro 25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3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u système de stockage «Solerio Optimum 2 MV 150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4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u capteur solaire thermique «Solerio Optimum Vertical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focus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saisie du circulateur du circuit de distributio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2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2/7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3" name="Rectangle 83"/>
          <p:cNvSpPr/>
          <p:nvPr/>
        </p:nvSpPr>
        <p:spPr>
          <a:xfrm>
            <a:off x="1447920" y="3230640"/>
            <a:ext cx="183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4" name="Rectangle 69"/>
          <p:cNvSpPr/>
          <p:nvPr/>
        </p:nvSpPr>
        <p:spPr>
          <a:xfrm>
            <a:off x="426708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05" name="Picture 302" descr="Travail:1 GRAPHISME:GRDF:FICHES_BET_CEGIBAT_GrDF:FICHES_PRODUIT:ELEMENTS_OK:PICTOS:GENERATEUR.jpg"/>
          <p:cNvPicPr/>
          <p:nvPr/>
        </p:nvPicPr>
        <p:blipFill>
          <a:blip r:embed="rId2"/>
          <a:stretch/>
        </p:blipFill>
        <p:spPr>
          <a:xfrm>
            <a:off x="7078680" y="385272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03" descr="Travail:1 GRAPHISME:GRDF:FICHES_BET_CEGIBAT_GrDF:FICHES_PRODUIT:ELEMENTS_OK:PICTOS:GENERATION.jpg"/>
          <p:cNvPicPr/>
          <p:nvPr/>
        </p:nvPicPr>
        <p:blipFill>
          <a:blip r:embed="rId3"/>
          <a:stretch/>
        </p:blipFill>
        <p:spPr>
          <a:xfrm>
            <a:off x="5538960" y="3494160"/>
            <a:ext cx="237960" cy="217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05" descr="Travail:1 GRAPHISME:GRDF:FICHES_BET_CEGIBAT_GrDF:FICHES_PRODUIT:ELEMENTS_OK:PICTOS:SYST_STOCK.jpg"/>
          <p:cNvPicPr/>
          <p:nvPr/>
        </p:nvPicPr>
        <p:blipFill>
          <a:blip r:embed="rId4"/>
          <a:stretch/>
        </p:blipFill>
        <p:spPr>
          <a:xfrm>
            <a:off x="3262320" y="4286160"/>
            <a:ext cx="209520" cy="19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8" name=""/>
          <p:cNvGraphicFramePr/>
          <p:nvPr/>
        </p:nvGraphicFramePr>
        <p:xfrm>
          <a:off x="1523880" y="2438280"/>
          <a:ext cx="7917120" cy="822600"/>
        </p:xfrm>
        <a:graphic>
          <a:graphicData uri="http://schemas.openxmlformats.org/drawingml/2006/table">
            <a:tbl>
              <a:tblPr/>
              <a:tblGrid>
                <a:gridCol w="2514600"/>
                <a:gridCol w="5402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haudière à condensation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Chaudière gaz à condensation Naia Micro 25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Un système de stockage d</a:t>
                      </a:r>
                      <a:r>
                        <a:rPr b="0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EC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Un ballon de stockage Solerio Optimum 2 MV 150 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apteurs solaire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1 capteur Solerio Optimum Vercital</a:t>
                      </a:r>
                      <a:endParaRPr b="0" lang="en-US" sz="12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9" name="Picture 27" descr=""/>
          <p:cNvPicPr/>
          <p:nvPr/>
        </p:nvPicPr>
        <p:blipFill>
          <a:blip r:embed="rId5"/>
          <a:stretch/>
        </p:blipFill>
        <p:spPr>
          <a:xfrm>
            <a:off x="5110200" y="3710160"/>
            <a:ext cx="466560" cy="142560"/>
          </a:xfrm>
          <a:prstGeom prst="rect">
            <a:avLst/>
          </a:prstGeom>
          <a:ln w="0">
            <a:noFill/>
          </a:ln>
        </p:spPr>
      </p:pic>
      <p:sp>
        <p:nvSpPr>
          <p:cNvPr id="410" name="Espace réservé du texte 4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1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D7E2-9CE2-4A67-A56C-B1F17CD48F88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2" name="ZoneTexte 23"/>
          <p:cNvSpPr/>
          <p:nvPr/>
        </p:nvSpPr>
        <p:spPr>
          <a:xfrm>
            <a:off x="8801280" y="4357800"/>
            <a:ext cx="1079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45 Helvetica Light"/>
              </a:rPr>
              <a:t>72,2 / BbioMax = 76,3</a:t>
            </a: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45 Helvetica Light"/>
              </a:rPr>
              <a:t>64,1 / CepMax = 64,3</a:t>
            </a: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3" name="Rectangle 14"/>
          <p:cNvSpPr/>
          <p:nvPr/>
        </p:nvSpPr>
        <p:spPr>
          <a:xfrm>
            <a:off x="8153280" y="6157800"/>
            <a:ext cx="1871640" cy="7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55 Helvetica Roman"/>
              </a:rPr>
              <a:t>Naia Micro 25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7" descr="LaCie Disk:1 GRAPHISME:ELEMENTS_OK_FICHES_BET_PRODUIT:F3_PER:F3_P_2.jpg"/>
          <p:cNvPicPr/>
          <p:nvPr/>
        </p:nvPicPr>
        <p:blipFill>
          <a:blip r:embed="rId1"/>
          <a:stretch/>
        </p:blipFill>
        <p:spPr>
          <a:xfrm>
            <a:off x="808200" y="1620720"/>
            <a:ext cx="5257800" cy="48214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cxnSp>
        <p:nvCxnSpPr>
          <p:cNvPr id="415" name="AutoShape 16"/>
          <p:cNvCxnSpPr/>
          <p:nvPr/>
        </p:nvCxnSpPr>
        <p:spPr>
          <a:xfrm flipV="1" rot="16200000">
            <a:off x="6764400" y="2384280"/>
            <a:ext cx="252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16" name="AutoShape 19"/>
          <p:cNvCxnSpPr/>
          <p:nvPr/>
        </p:nvCxnSpPr>
        <p:spPr>
          <a:xfrm flipV="1" rot="16200000">
            <a:off x="6764400" y="2384280"/>
            <a:ext cx="252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17" name="AutoShape 24"/>
          <p:cNvCxnSpPr/>
          <p:nvPr/>
        </p:nvCxnSpPr>
        <p:spPr>
          <a:xfrm flipH="1" rot="16200000">
            <a:off x="6598080" y="2991960"/>
            <a:ext cx="2520" cy="252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18" name="AutoShape 41"/>
          <p:cNvCxnSpPr/>
          <p:nvPr/>
        </p:nvCxnSpPr>
        <p:spPr>
          <a:xfrm flipH="1" flipV="1" rot="10800000">
            <a:off x="75960" y="38383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19" name="Freeform 25"/>
          <p:cNvSpPr/>
          <p:nvPr/>
        </p:nvSpPr>
        <p:spPr>
          <a:xfrm flipV="1">
            <a:off x="5684760" y="3220200"/>
            <a:ext cx="2362320" cy="282600"/>
          </a:xfrm>
          <a:custGeom>
            <a:avLst/>
            <a:gdLst>
              <a:gd name="textAreaLeft" fmla="*/ 0 w 2362320"/>
              <a:gd name="textAreaRight" fmla="*/ 2362680 w 2362320"/>
              <a:gd name="textAreaTop" fmla="*/ -360 h 282600"/>
              <a:gd name="textAreaBottom" fmla="*/ 282600 h 2826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0" name="Text Box 33"/>
          <p:cNvSpPr/>
          <p:nvPr/>
        </p:nvSpPr>
        <p:spPr>
          <a:xfrm>
            <a:off x="6778800" y="293076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 emplacement en volume chauffé permet de réduire les consommations par rapport à un emplacement hors volume chauffé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1" name="Text Box 19"/>
          <p:cNvSpPr/>
          <p:nvPr/>
        </p:nvSpPr>
        <p:spPr>
          <a:xfrm>
            <a:off x="2635560" y="573552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b1af"/>
                </a:solidFill>
                <a:latin typeface="55 Helvetica Roman"/>
              </a:rPr>
              <a:t>49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22" name="Picture 18" descr=""/>
          <p:cNvPicPr/>
          <p:nvPr/>
        </p:nvPicPr>
        <p:blipFill>
          <a:blip r:embed="rId2"/>
          <a:stretch/>
        </p:blipFill>
        <p:spPr>
          <a:xfrm>
            <a:off x="2370240" y="2979720"/>
            <a:ext cx="1728720" cy="208080"/>
          </a:xfrm>
          <a:prstGeom prst="rect">
            <a:avLst/>
          </a:prstGeom>
          <a:ln w="0">
            <a:noFill/>
          </a:ln>
        </p:spPr>
      </p:pic>
      <p:sp>
        <p:nvSpPr>
          <p:cNvPr id="423" name="Espace réservé du texte 4"/>
          <p:cNvSpPr/>
          <p:nvPr/>
        </p:nvSpPr>
        <p:spPr>
          <a:xfrm>
            <a:off x="2027160" y="260280"/>
            <a:ext cx="83581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génération «CD + CESI opt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4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F7C6-1522-4FA9-929F-D442C49A47A6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45" descr="LaCie Disk:1 GRAPHISME:ELEMENTS_OK_FICHES_BET_PRODUIT:F3_PER:F3_P_3.jpg"/>
          <p:cNvPicPr/>
          <p:nvPr/>
        </p:nvPicPr>
        <p:blipFill>
          <a:blip r:embed="rId1"/>
          <a:stretch/>
        </p:blipFill>
        <p:spPr>
          <a:xfrm>
            <a:off x="879480" y="1405080"/>
            <a:ext cx="5560920" cy="5483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26" name="Text Box 7"/>
          <p:cNvSpPr/>
          <p:nvPr/>
        </p:nvSpPr>
        <p:spPr>
          <a:xfrm>
            <a:off x="7031160" y="2143080"/>
            <a:ext cx="18000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27" name="AutoShape 8"/>
          <p:cNvCxnSpPr/>
          <p:nvPr/>
        </p:nvCxnSpPr>
        <p:spPr>
          <a:xfrm flipH="1" flipV="1" rot="10800000">
            <a:off x="6849720" y="185400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28" name="AutoShape 9"/>
          <p:cNvCxnSpPr/>
          <p:nvPr/>
        </p:nvCxnSpPr>
        <p:spPr>
          <a:xfrm flipH="1" flipV="1" rot="10800000">
            <a:off x="6849720" y="185400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29" name="AutoShape 10"/>
          <p:cNvCxnSpPr/>
          <p:nvPr/>
        </p:nvCxnSpPr>
        <p:spPr>
          <a:xfrm flipH="1" rot="16200000">
            <a:off x="6670800" y="277776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30" name="AutoShape 12"/>
          <p:cNvCxnSpPr/>
          <p:nvPr/>
        </p:nvCxnSpPr>
        <p:spPr>
          <a:xfrm flipH="1" flipV="1" rot="10800000">
            <a:off x="193320" y="419616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31" name="Text Box 48"/>
          <p:cNvSpPr/>
          <p:nvPr/>
        </p:nvSpPr>
        <p:spPr>
          <a:xfrm>
            <a:off x="3773160" y="35654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8,8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2" name="Text Box 49"/>
          <p:cNvSpPr/>
          <p:nvPr/>
        </p:nvSpPr>
        <p:spPr>
          <a:xfrm>
            <a:off x="3773160" y="378288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97,9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3" name="Text Box 50"/>
          <p:cNvSpPr/>
          <p:nvPr/>
        </p:nvSpPr>
        <p:spPr>
          <a:xfrm>
            <a:off x="3772800" y="4226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,03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4" name="Text Box 51"/>
          <p:cNvSpPr/>
          <p:nvPr/>
        </p:nvSpPr>
        <p:spPr>
          <a:xfrm>
            <a:off x="3774240" y="4454640"/>
            <a:ext cx="16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6,3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5" name="Text Box 52"/>
          <p:cNvSpPr/>
          <p:nvPr/>
        </p:nvSpPr>
        <p:spPr>
          <a:xfrm>
            <a:off x="3772800" y="46832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08,7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6" name="Text Box 54"/>
          <p:cNvSpPr/>
          <p:nvPr/>
        </p:nvSpPr>
        <p:spPr>
          <a:xfrm>
            <a:off x="3875400" y="536400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7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7" name="Text Box 55"/>
          <p:cNvSpPr/>
          <p:nvPr/>
        </p:nvSpPr>
        <p:spPr>
          <a:xfrm>
            <a:off x="3875400" y="5597640"/>
            <a:ext cx="6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8" name="Text Box 56"/>
          <p:cNvSpPr/>
          <p:nvPr/>
        </p:nvSpPr>
        <p:spPr>
          <a:xfrm>
            <a:off x="4823640" y="378288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9" name="Text Box 57"/>
          <p:cNvSpPr/>
          <p:nvPr/>
        </p:nvSpPr>
        <p:spPr>
          <a:xfrm>
            <a:off x="5755680" y="3565440"/>
            <a:ext cx="6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0" name="Text Box 58"/>
          <p:cNvSpPr/>
          <p:nvPr/>
        </p:nvSpPr>
        <p:spPr>
          <a:xfrm>
            <a:off x="4823640" y="468324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1" name="Text Box 18"/>
          <p:cNvSpPr/>
          <p:nvPr/>
        </p:nvSpPr>
        <p:spPr>
          <a:xfrm>
            <a:off x="6850080" y="1482840"/>
            <a:ext cx="3292560" cy="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Toutes les caractéristiques de performances des générateurs sont disponibles sur le site du fabricant, EDIBATEC et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75 Helvetica Bold"/>
                <a:hlinkClick r:id="rId2"/>
              </a:rPr>
              <a:t>la base de données ATITA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 (techniqueuniclima.com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2" name="Text Box 48"/>
          <p:cNvSpPr/>
          <p:nvPr/>
        </p:nvSpPr>
        <p:spPr>
          <a:xfrm>
            <a:off x="3017880" y="1862280"/>
            <a:ext cx="1871640" cy="10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Naia Micro 2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43" name="Picture 31" descr=""/>
          <p:cNvPicPr/>
          <p:nvPr/>
        </p:nvPicPr>
        <p:blipFill>
          <a:blip r:embed="rId3"/>
          <a:stretch/>
        </p:blipFill>
        <p:spPr>
          <a:xfrm>
            <a:off x="3738600" y="5969160"/>
            <a:ext cx="1096920" cy="2235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1" descr=""/>
          <p:cNvPicPr/>
          <p:nvPr/>
        </p:nvPicPr>
        <p:blipFill>
          <a:blip r:embed="rId4"/>
          <a:stretch/>
        </p:blipFill>
        <p:spPr>
          <a:xfrm>
            <a:off x="3738600" y="6207120"/>
            <a:ext cx="1096920" cy="22212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34"/>
          <p:cNvSpPr/>
          <p:nvPr/>
        </p:nvSpPr>
        <p:spPr>
          <a:xfrm>
            <a:off x="3954600" y="6249960"/>
            <a:ext cx="21564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6" name="Rectangle 35"/>
          <p:cNvSpPr/>
          <p:nvPr/>
        </p:nvSpPr>
        <p:spPr>
          <a:xfrm>
            <a:off x="3832200" y="6013440"/>
            <a:ext cx="5032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7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«Chaudière à condensation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8" name="Text Box 54"/>
          <p:cNvSpPr/>
          <p:nvPr/>
        </p:nvSpPr>
        <p:spPr>
          <a:xfrm>
            <a:off x="3969000" y="600228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9" name="Text Box 54"/>
          <p:cNvSpPr/>
          <p:nvPr/>
        </p:nvSpPr>
        <p:spPr>
          <a:xfrm>
            <a:off x="3967920" y="621360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8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0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720E-3023-45B3-B365-999F6F47FECD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33" descr="LaCie Disk:1 GRAPHISME:ELEMENTS_OK_FICHES_BET_PRODUIT:F3_PER:F3_P_4.jpg"/>
          <p:cNvPicPr/>
          <p:nvPr/>
        </p:nvPicPr>
        <p:blipFill>
          <a:blip r:embed="rId1"/>
          <a:stretch/>
        </p:blipFill>
        <p:spPr>
          <a:xfrm>
            <a:off x="736560" y="1477800"/>
            <a:ext cx="5587920" cy="49564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52" name="Text Box 8"/>
          <p:cNvSpPr/>
          <p:nvPr/>
        </p:nvSpPr>
        <p:spPr>
          <a:xfrm>
            <a:off x="6888240" y="2214720"/>
            <a:ext cx="1879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53" name="AutoShape 11"/>
          <p:cNvCxnSpPr/>
          <p:nvPr/>
        </p:nvCxnSpPr>
        <p:spPr>
          <a:xfrm flipH="1" rot="16200000">
            <a:off x="6527520" y="2849040"/>
            <a:ext cx="252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54" name="AutoShape 12"/>
          <p:cNvCxnSpPr/>
          <p:nvPr/>
        </p:nvCxnSpPr>
        <p:spPr>
          <a:xfrm flipH="1" flipV="1" rot="10800000">
            <a:off x="75960" y="384696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55" name="Text Box 34"/>
          <p:cNvSpPr/>
          <p:nvPr/>
        </p:nvSpPr>
        <p:spPr>
          <a:xfrm>
            <a:off x="4452840" y="3992400"/>
            <a:ext cx="1302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Ballon de base – MV 15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6" name="Text Box 35"/>
          <p:cNvSpPr/>
          <p:nvPr/>
        </p:nvSpPr>
        <p:spPr>
          <a:xfrm>
            <a:off x="3552840" y="4221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50.0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7" name="Text Box 36"/>
          <p:cNvSpPr/>
          <p:nvPr/>
        </p:nvSpPr>
        <p:spPr>
          <a:xfrm>
            <a:off x="2849760" y="444960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8" name="Text Box 38"/>
          <p:cNvSpPr/>
          <p:nvPr/>
        </p:nvSpPr>
        <p:spPr>
          <a:xfrm>
            <a:off x="2836440" y="4906800"/>
            <a:ext cx="1181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Chauffage perman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9" name="Text Box 39"/>
          <p:cNvSpPr/>
          <p:nvPr/>
        </p:nvSpPr>
        <p:spPr>
          <a:xfrm>
            <a:off x="3722400" y="5348160"/>
            <a:ext cx="16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5,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0" name="Text Box 40"/>
          <p:cNvSpPr/>
          <p:nvPr/>
        </p:nvSpPr>
        <p:spPr>
          <a:xfrm>
            <a:off x="5249520" y="58532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,29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1" name="Text Box 41"/>
          <p:cNvSpPr/>
          <p:nvPr/>
        </p:nvSpPr>
        <p:spPr>
          <a:xfrm>
            <a:off x="5307480" y="6126120"/>
            <a:ext cx="6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2" name="Freeform 42"/>
          <p:cNvSpPr/>
          <p:nvPr/>
        </p:nvSpPr>
        <p:spPr>
          <a:xfrm>
            <a:off x="5689440" y="1935000"/>
            <a:ext cx="1295640" cy="4572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816" h="288">
                <a:moveTo>
                  <a:pt x="816" y="0"/>
                </a:moveTo>
                <a:lnTo>
                  <a:pt x="480" y="0"/>
                </a:lnTo>
                <a:lnTo>
                  <a:pt x="480" y="288"/>
                </a:lnTo>
                <a:lnTo>
                  <a:pt x="0" y="288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3" name="Text Box 25"/>
          <p:cNvSpPr/>
          <p:nvPr/>
        </p:nvSpPr>
        <p:spPr>
          <a:xfrm>
            <a:off x="6707160" y="1554120"/>
            <a:ext cx="343692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e système «CESI optimisé»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gaz est de type séparé instantané aﬁ n de limiter les déperditions. Au contraire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est intégré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4" name="Freeform 43"/>
          <p:cNvSpPr/>
          <p:nvPr/>
        </p:nvSpPr>
        <p:spPr>
          <a:xfrm>
            <a:off x="4394160" y="3916440"/>
            <a:ext cx="3505320" cy="38088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816" h="288">
                <a:moveTo>
                  <a:pt x="816" y="0"/>
                </a:moveTo>
                <a:lnTo>
                  <a:pt x="480" y="0"/>
                </a:lnTo>
                <a:lnTo>
                  <a:pt x="480" y="288"/>
                </a:lnTo>
                <a:lnTo>
                  <a:pt x="0" y="288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5" name="Text Box 25"/>
          <p:cNvSpPr/>
          <p:nvPr/>
        </p:nvSpPr>
        <p:spPr>
          <a:xfrm>
            <a:off x="6707160" y="361152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 volume du ballon est plus faible dans un système «CESI optimisé» que dans un système «CESI classique» aﬁn de limiter les pert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6" name="Text Box 48"/>
          <p:cNvSpPr/>
          <p:nvPr/>
        </p:nvSpPr>
        <p:spPr>
          <a:xfrm>
            <a:off x="3019320" y="2108160"/>
            <a:ext cx="2448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Ballon 150 L + capteur solerio Optimum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67" name="Picture 32" descr=""/>
          <p:cNvPicPr/>
          <p:nvPr/>
        </p:nvPicPr>
        <p:blipFill>
          <a:blip r:embed="rId2"/>
          <a:stretch/>
        </p:blipFill>
        <p:spPr>
          <a:xfrm>
            <a:off x="3451320" y="4629240"/>
            <a:ext cx="1079280" cy="2156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3" descr=""/>
          <p:cNvPicPr/>
          <p:nvPr/>
        </p:nvPicPr>
        <p:blipFill>
          <a:blip r:embed="rId3"/>
          <a:stretch/>
        </p:blipFill>
        <p:spPr>
          <a:xfrm>
            <a:off x="3451320" y="5060880"/>
            <a:ext cx="1152360" cy="23832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39"/>
          <p:cNvSpPr/>
          <p:nvPr/>
        </p:nvSpPr>
        <p:spPr>
          <a:xfrm>
            <a:off x="3722760" y="513864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8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0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u système de stockage «Solerio Optimum 2 MV 150» 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1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BAB1-05C7-4F1B-B4A1-504A07FEFF38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36" descr="LaCie Disk:1 GRAPHISME:ELEMENTS_OK_FICHES_BET_PRODUIT:F3_PER:F3_P_5.jpg"/>
          <p:cNvPicPr/>
          <p:nvPr/>
        </p:nvPicPr>
        <p:blipFill>
          <a:blip r:embed="rId1"/>
          <a:stretch/>
        </p:blipFill>
        <p:spPr>
          <a:xfrm>
            <a:off x="736560" y="1405080"/>
            <a:ext cx="5262480" cy="5646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73" name="Text Box 6"/>
          <p:cNvSpPr/>
          <p:nvPr/>
        </p:nvSpPr>
        <p:spPr>
          <a:xfrm>
            <a:off x="1744560" y="-68256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74" name="AutoShape 12"/>
          <p:cNvCxnSpPr/>
          <p:nvPr/>
        </p:nvCxnSpPr>
        <p:spPr>
          <a:xfrm flipV="1" rot="16200000">
            <a:off x="6528240" y="277812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75" name="AutoShape 13"/>
          <p:cNvCxnSpPr/>
          <p:nvPr/>
        </p:nvCxnSpPr>
        <p:spPr>
          <a:xfrm flipH="1" flipV="1" rot="10800000">
            <a:off x="72720" y="387000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76" name="Freeform 23"/>
          <p:cNvSpPr/>
          <p:nvPr/>
        </p:nvSpPr>
        <p:spPr>
          <a:xfrm flipV="1">
            <a:off x="5156280" y="1815480"/>
            <a:ext cx="1600200" cy="11430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7" name="Freeform 24"/>
          <p:cNvSpPr/>
          <p:nvPr/>
        </p:nvSpPr>
        <p:spPr>
          <a:xfrm>
            <a:off x="4851360" y="3995640"/>
            <a:ext cx="4572000" cy="99072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8" name="Text Box 25"/>
          <p:cNvSpPr/>
          <p:nvPr/>
        </p:nvSpPr>
        <p:spPr>
          <a:xfrm>
            <a:off x="6707160" y="4605480"/>
            <a:ext cx="336708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 à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rientation des panneaux qui a un fort impact sur la produc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 Une orientation au Nord (cas extrême) peut augmenter la consommation d’un proje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9" name="Freeform 24"/>
          <p:cNvSpPr/>
          <p:nvPr/>
        </p:nvSpPr>
        <p:spPr>
          <a:xfrm flipV="1">
            <a:off x="4927680" y="2927880"/>
            <a:ext cx="4267080" cy="609480"/>
          </a:xfrm>
          <a:custGeom>
            <a:avLst/>
            <a:gdLst>
              <a:gd name="textAreaLeft" fmla="*/ 0 w 4267080"/>
              <a:gd name="textAreaRight" fmla="*/ 4267440 w 4267080"/>
              <a:gd name="textAreaTop" fmla="*/ -360 h 609480"/>
              <a:gd name="textAreaBottom" fmla="*/ 609480 h 6094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0" name="Rectangle 16"/>
          <p:cNvSpPr/>
          <p:nvPr/>
        </p:nvSpPr>
        <p:spPr>
          <a:xfrm>
            <a:off x="6640560" y="1549440"/>
            <a:ext cx="32814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45 Helvetica Light"/>
              </a:rPr>
              <a:t>Les caractéristiques de performances des capteurs solaires sont données dans les avis techniques ou les PV Keymark des produit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1" name="Text Box 25"/>
          <p:cNvSpPr/>
          <p:nvPr/>
        </p:nvSpPr>
        <p:spPr>
          <a:xfrm>
            <a:off x="6707160" y="2624040"/>
            <a:ext cx="336708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a surface des capteurs solaires est plus faible dans un système «CESI optimisé» que dans un système «CESI classique».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2" name="Text Box 52"/>
          <p:cNvSpPr/>
          <p:nvPr/>
        </p:nvSpPr>
        <p:spPr>
          <a:xfrm>
            <a:off x="4241160" y="46339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,804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3" name="Text Box 52"/>
          <p:cNvSpPr/>
          <p:nvPr/>
        </p:nvSpPr>
        <p:spPr>
          <a:xfrm>
            <a:off x="4241160" y="4843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,23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4" name="Text Box 52"/>
          <p:cNvSpPr/>
          <p:nvPr/>
        </p:nvSpPr>
        <p:spPr>
          <a:xfrm>
            <a:off x="4168080" y="50655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,0117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3116160" y="5346720"/>
            <a:ext cx="1645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égulation sur  la températur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6" name="Text Box 52"/>
          <p:cNvSpPr/>
          <p:nvPr/>
        </p:nvSpPr>
        <p:spPr>
          <a:xfrm>
            <a:off x="4165920" y="559908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7" name="Text Box 52"/>
          <p:cNvSpPr/>
          <p:nvPr/>
        </p:nvSpPr>
        <p:spPr>
          <a:xfrm>
            <a:off x="4145760" y="585000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8" name="Text Box 48"/>
          <p:cNvSpPr/>
          <p:nvPr/>
        </p:nvSpPr>
        <p:spPr>
          <a:xfrm>
            <a:off x="2658960" y="1932120"/>
            <a:ext cx="2448000" cy="10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Ballon 150 L + capteur solerio Optimum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9" name="Text Box 48"/>
          <p:cNvSpPr/>
          <p:nvPr/>
        </p:nvSpPr>
        <p:spPr>
          <a:xfrm>
            <a:off x="1938240" y="3228840"/>
            <a:ext cx="2448000" cy="10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Capteur solerio Optimum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0" name="ZoneTexte 29"/>
          <p:cNvSpPr/>
          <p:nvPr/>
        </p:nvSpPr>
        <p:spPr>
          <a:xfrm>
            <a:off x="4122720" y="3443400"/>
            <a:ext cx="50472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45 Helvetica Light"/>
              </a:rPr>
              <a:t>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6710400" y="5564160"/>
            <a:ext cx="336708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e manière générale, la régulation de la boucle solaire s’effectue sur le température en maison individuell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92" name="Connecteur en angle 32"/>
          <p:cNvCxnSpPr>
            <a:stCxn id="491" idx="1"/>
          </p:cNvCxnSpPr>
          <p:nvPr/>
        </p:nvCxnSpPr>
        <p:spPr>
          <a:xfrm rot="10800000">
            <a:off x="5250600" y="5419080"/>
            <a:ext cx="1459800" cy="445320"/>
          </a:xfrm>
          <a:prstGeom prst="bentConnector3">
            <a:avLst>
              <a:gd name="adj1" fmla="val 27355"/>
            </a:avLst>
          </a:prstGeom>
          <a:ln w="9360">
            <a:solidFill>
              <a:srgbClr val="4e3073"/>
            </a:solidFill>
            <a:miter/>
            <a:tailEnd len="med" type="triangle" w="med"/>
          </a:ln>
        </p:spPr>
      </p:cxnSp>
      <p:pic>
        <p:nvPicPr>
          <p:cNvPr id="493" name="Picture 31" descr=""/>
          <p:cNvPicPr/>
          <p:nvPr/>
        </p:nvPicPr>
        <p:blipFill>
          <a:blip r:embed="rId2"/>
          <a:stretch/>
        </p:blipFill>
        <p:spPr>
          <a:xfrm>
            <a:off x="4311720" y="6067440"/>
            <a:ext cx="650880" cy="2239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1" descr=""/>
          <p:cNvPicPr/>
          <p:nvPr/>
        </p:nvPicPr>
        <p:blipFill>
          <a:blip r:embed="rId3"/>
          <a:stretch/>
        </p:blipFill>
        <p:spPr>
          <a:xfrm>
            <a:off x="4311720" y="6348240"/>
            <a:ext cx="650880" cy="22392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52"/>
          <p:cNvSpPr/>
          <p:nvPr/>
        </p:nvSpPr>
        <p:spPr>
          <a:xfrm>
            <a:off x="4528800" y="61452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,94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6" name="Text Box 52"/>
          <p:cNvSpPr/>
          <p:nvPr/>
        </p:nvSpPr>
        <p:spPr>
          <a:xfrm>
            <a:off x="4459320" y="643428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9,5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97" name="Picture 32" descr=""/>
          <p:cNvPicPr/>
          <p:nvPr/>
        </p:nvPicPr>
        <p:blipFill>
          <a:blip r:embed="rId4"/>
          <a:stretch/>
        </p:blipFill>
        <p:spPr>
          <a:xfrm>
            <a:off x="4027320" y="6572160"/>
            <a:ext cx="190800" cy="181080"/>
          </a:xfrm>
          <a:prstGeom prst="rect">
            <a:avLst/>
          </a:prstGeom>
          <a:ln w="0">
            <a:noFill/>
          </a:ln>
        </p:spPr>
      </p:pic>
      <p:sp>
        <p:nvSpPr>
          <p:cNvPr id="498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capteur solaire thermique «Solerio Optimum Vertical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9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2E75-9642-49EC-88EF-65C1018E5978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8" descr="LaCie Disk:1 GRAPHISME:ELEMENTS_OK_FICHES_BET_PRODUIT:F1_P:F1_P_10.jpg"/>
          <p:cNvPicPr/>
          <p:nvPr/>
        </p:nvPicPr>
        <p:blipFill>
          <a:blip r:embed="rId1"/>
          <a:stretch/>
        </p:blipFill>
        <p:spPr>
          <a:xfrm>
            <a:off x="781200" y="2266920"/>
            <a:ext cx="5432400" cy="90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01" name="Text Box 9"/>
          <p:cNvSpPr/>
          <p:nvPr/>
        </p:nvSpPr>
        <p:spPr>
          <a:xfrm>
            <a:off x="6858000" y="2303640"/>
            <a:ext cx="1800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02" name="AutoShape 12"/>
          <p:cNvCxnSpPr/>
          <p:nvPr/>
        </p:nvCxnSpPr>
        <p:spPr>
          <a:xfrm flipH="1" rot="16200000">
            <a:off x="6571440" y="2800080"/>
            <a:ext cx="2160" cy="252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503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504" name="Text Box 22"/>
          <p:cNvSpPr/>
          <p:nvPr/>
        </p:nvSpPr>
        <p:spPr>
          <a:xfrm>
            <a:off x="6656400" y="2895480"/>
            <a:ext cx="329256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5" name="Text Box 24"/>
          <p:cNvSpPr/>
          <p:nvPr/>
        </p:nvSpPr>
        <p:spPr>
          <a:xfrm>
            <a:off x="803160" y="1700280"/>
            <a:ext cx="5356440" cy="42876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bjet </a:t>
            </a: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«Emission»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 (       ) =&gt; Onglet «Réseau Chaud»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n indique la présence du circulateur et la puissance de ce dernier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6" name="Text Box 28"/>
          <p:cNvSpPr/>
          <p:nvPr/>
        </p:nvSpPr>
        <p:spPr>
          <a:xfrm>
            <a:off x="2305080" y="2784600"/>
            <a:ext cx="2971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Selon proje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7" name="Text Box 29"/>
          <p:cNvSpPr/>
          <p:nvPr/>
        </p:nvSpPr>
        <p:spPr>
          <a:xfrm>
            <a:off x="5505480" y="257184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6 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8" name="Text Box 33"/>
          <p:cNvSpPr/>
          <p:nvPr/>
        </p:nvSpPr>
        <p:spPr>
          <a:xfrm>
            <a:off x="2305080" y="2571840"/>
            <a:ext cx="11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OUI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09" name="Picture 27" descr="LaCie Disk:1 GRAPHISME:ELEMENTS_OK_FICHES_BET_PRODUIT:PICTOS:EMISSION_2.jpg"/>
          <p:cNvPicPr/>
          <p:nvPr/>
        </p:nvPicPr>
        <p:blipFill>
          <a:blip r:embed="rId2"/>
          <a:stretch/>
        </p:blipFill>
        <p:spPr>
          <a:xfrm>
            <a:off x="2532240" y="1752480"/>
            <a:ext cx="207720" cy="209520"/>
          </a:xfrm>
          <a:prstGeom prst="rect">
            <a:avLst/>
          </a:prstGeom>
          <a:ln w="0">
            <a:noFill/>
          </a:ln>
        </p:spPr>
      </p:pic>
      <p:sp>
        <p:nvSpPr>
          <p:cNvPr id="510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Focus : La saisie du circulateur du réseau de distribu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1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125F-92D4-48BE-8454-6B178A3E5DD1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3:53:16Z</dcterms:modified>
  <cp:revision>133</cp:revision>
  <dc:subject/>
  <dc:title>Présentation PowerPoint</dc:title>
</cp:coreProperties>
</file>