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23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10688638" cy="7562850"/>
  <p:notesSz cx="7099300" cy="10234613"/>
</p:presentation>
</file>

<file path=ppt/commentAuthors.xml><?xml version="1.0" encoding="utf-8"?>
<p:cmAuthorLst xmlns:p="http://schemas.openxmlformats.org/presentationml/2006/main">
  <p:cmAuthor id="0" name="PARCHEMINOU  Marie" initials="P 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<Relationship Id="rId21" Type="http://schemas.openxmlformats.org/officeDocument/2006/relationships/commentAuthors" Target="commentAuthors.xml"/>
</Relationships>
</file>

<file path=ppt/comments/comment7.xml><?xml version="1.0" encoding="utf-8"?>
<p:cmLst xmlns:p="http://schemas.openxmlformats.org/presentationml/2006/main">
  <p:cm authorId="0" dt="2018-05-04T13:57:47.169000000" idx="1">
    <p:pos x="6175" y="2339"/>
    <p:text>ok, à voir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dt" idx="28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Img"/>
          </p:nvPr>
        </p:nvSpPr>
        <p:spPr>
          <a:xfrm>
            <a:off x="839520" y="767880"/>
            <a:ext cx="541980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move the slide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29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 type="sldNum" idx="30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71D0-7BED-4AA5-9467-30D9376F06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839880" y="768240"/>
            <a:ext cx="5419800" cy="38372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F572-FF26-4FD0-B18D-D76CB001B8FF}" type="slidenum">
              <a:rPr b="0" lang="fr-FR" sz="1200" spc="-1" strike="noStrike">
                <a:solidFill>
                  <a:srgbClr val="000000"/>
                </a:solidFill>
                <a:latin typeface="Avenir LT Std 55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09D1-0B4E-41C2-9F95-907E6A6C9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0321-A8EB-45DB-95F8-DC0C3096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BC7AA-323C-4F46-8D2E-4D204A9F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30B2A-2016-4A71-BCF0-99978360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DAA40-838D-489B-A572-0AC3F38B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0C49E-C78A-4600-A45F-074DEB2D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AE532-508E-44E6-B4AA-A38883BE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D3121-7579-47B7-8C98-AB21784A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AE256-D963-496F-9022-4F09CE6B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2EC7E-5727-441B-BDD8-EE4C580E9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9F2FB-D971-4EBD-8C7F-DF8863C5C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C4DD-3AFE-4EF6-A914-F235C5F32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F6B4-52C1-4E95-9CF0-B01776CE7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E3C1-F664-4C0F-AFCE-26363448E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3C4D-93C5-4B31-9464-2FFBDB75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0F67-38CE-4C36-A73E-9084B6F1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9088-7FE8-4006-B98A-85D5147F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4907-8B76-474B-A612-8262A0A6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3EEF-5D85-4109-89EB-19E5992E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04E7-23E8-40B7-B9E7-CAF3150E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D979-6873-4B49-B96C-51BEB9FA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20E8-2EA8-4618-84AC-A732CA9B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5471-C576-4C7C-9A69-CA2704C5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1C2C-5218-433D-8202-25053C02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924E-8446-46D7-B013-54F880775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07A6-8512-47D3-B368-76C411286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DA825-DBFA-4A2F-897B-7CE26970A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D5810-08E9-42F7-A074-A200376C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B85BD-446F-4944-B2FD-E9B373E6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895B4-F58F-4882-9137-34EC6F68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6D344-F0C5-435C-8FC4-CCF8A965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015F-0BE0-4BE2-A701-C2539B66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4067E-017C-4B9B-9D2A-4FA1F2A3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4E006-C095-4BD3-A0F8-D0B10825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28B29-1F88-405F-B8F4-2A995568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F7542-7188-4C61-A6B9-4C4BDA72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37977-9006-49C1-B4A8-5E14186E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815B5-029F-4CAE-8013-2ADB5C410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98950-F786-43FD-AF35-B5F3BC73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127B8-0449-444D-A476-20DC95406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43967-623A-4FA2-886E-BFADA3C2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747B0-DF17-4652-BFCD-13F86647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D652-57A5-4567-9BAF-E16B5682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4356D-5289-4B12-BD73-D70573F2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951B0-0D90-4F27-A193-5763C493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41465-B983-4CA7-B969-B6757036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4C6DD-74B5-4941-B2F8-5CC7D8C6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922F7-18AA-4661-82D2-C4B4C45A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6F581-DDE9-43D5-BEAC-C643EB12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481D5-F5A5-4D5C-B0C4-9AD03B60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0EE4A-F5B6-4051-B179-DB42613A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AC550-1717-4E02-92FB-00D11BAAA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C363C-0D56-4094-A777-4F9133EC4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276C-614F-497A-8B53-5E454DBA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6FC33-B61A-4BBC-AA0B-B21A89DF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BAA98-A33D-4819-8267-A119F9FE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4BE51-8643-424C-A2AF-926588AC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0365A-19AB-447F-90B6-DE558774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90947-1098-4C71-BAC0-068B3E6C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126E3-7C3B-4036-9CD5-7A57E7F3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93A87-8E7C-46C5-B11C-5DFAA261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15304-EF25-46E2-BEB4-9ED06E9E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519BD-11D4-463B-9984-FD852514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BCCBC-1661-42E3-9286-8DE3667EE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28C6-0BF8-4314-9F00-0BEE63BE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27844-09F9-4A39-856D-5E74B03AE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D40A9-D5AD-4CE0-BF26-8D346E922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595C8-7B82-4ADE-BC84-C6F3480B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D9D53-6EAE-40AE-9459-FD5B1A84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DE695-3649-4854-886F-BAB5954C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569F6-0EAC-438B-B173-AC1EBBFA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02DC3-9709-4355-AFA6-2537F932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0111F-47B8-4CEA-B09A-06139BE1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8C456-91F8-46BB-9CE8-6C47BB94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F732C-AC14-462E-A55C-EAA843C9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39B4-AD7F-4FF7-8DC4-C71736E7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818AF-BC38-46DB-9D89-747CD256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56179-241E-4E2D-A61E-25DCD8120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E6344-750B-4A75-9E5B-E2E2D6088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0EB37-C65F-4A02-B1B8-4369F86F3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0F01D-DEF3-49F5-BBBF-29BBE166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05A9F-81DF-464E-AA3E-7BA6E26F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E6F70-E831-4AD7-9B69-2CEF059E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F8C99-629A-4027-8080-64230975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A9553-1907-454B-BC99-5CD66538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ACA95-50C5-4A9C-A327-FEC83B7B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93A5-7CA6-494C-BEAE-9D30DD0E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000D8-EBCF-43AD-9D28-0DF8EB3E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4A9E5-0326-4E34-ACF4-67994405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D1524-6E0F-4ED9-A1AA-5ABFDC7E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20BF6-2672-4377-BBAE-57BAC2A9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D1F4A-B40A-47FE-BD96-53E4B1F32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FCA34-D8C7-4004-99AE-713FFB290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48A9C-37C1-45D1-BB80-BA390409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821DF-C12A-404C-8221-E8B49423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3E01D-CF85-466D-B1BD-34C1638E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19FB9-BBC9-4069-AD9F-4AAFB2AC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599E-9784-420C-9C21-B243225F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7F214-C5ED-4A8E-A6D1-6B9E3920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78D37-5E23-4673-8A00-67BE88F9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7A7CB-7D4E-4958-B5B4-F4C117C9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266B3-E49A-4673-B824-0465BEF9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C15F4-3274-4514-8438-2ED20E35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74D6F-C55C-49D5-A679-1E11DEF95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FF721-7A25-4C6F-AD12-0094AF939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98B61-17B0-490E-9773-253B31153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74C21-BA51-4721-AF39-D6840911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206A0-11A0-4215-BE61-352CE34F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8" descr=""/>
          <p:cNvPicPr/>
          <p:nvPr/>
        </p:nvPicPr>
        <p:blipFill>
          <a:blip r:embed="rId2"/>
          <a:stretch/>
        </p:blipFill>
        <p:spPr>
          <a:xfrm>
            <a:off x="0" y="6967440"/>
            <a:ext cx="10688760" cy="595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61720" y="6967440"/>
            <a:ext cx="82486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9796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069B-D02B-4E51-BACB-F8947993882F}" type="slidenum">
              <a:rPr b="0" lang="fr-FR" sz="800" spc="-1" strike="noStrike">
                <a:solidFill>
                  <a:srgbClr val="9796a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mage 10" descr="logo_texte.png"/>
          <p:cNvPicPr/>
          <p:nvPr/>
        </p:nvPicPr>
        <p:blipFill>
          <a:blip r:embed="rId3"/>
          <a:stretch/>
        </p:blipFill>
        <p:spPr>
          <a:xfrm>
            <a:off x="0" y="0"/>
            <a:ext cx="189396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à coins arrondis 12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4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5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6DE4-C8E6-47D7-8C64-6CE10A78699A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88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89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DA1A-6B0E-4C02-B904-359E43922332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à coins arrondis 11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32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133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68E6-927D-44F6-A8BC-CF4C180BAA5A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76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77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178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4A80-8036-48A9-933E-2BE9315F359B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à coins arrondis 12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21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222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9092-1A18-4BF0-9984-D2C612089727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65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266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9608-8F98-480E-853D-08E0439B86A0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à coins arrondis 11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09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310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18C8-D7AC-4E13-B3C0-7F1B6F152E82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24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53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54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355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43D5-CF2B-4D3C-B902-648BB33A78BB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7"/>
          <p:cNvSpPr/>
          <p:nvPr/>
        </p:nvSpPr>
        <p:spPr>
          <a:xfrm>
            <a:off x="8294760" y="50292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L VAG Rounded Light"/>
                <a:ea typeface="ＭＳ Ｐゴシック"/>
              </a:rPr>
              <a:t>PRODUIT</a:t>
            </a:r>
            <a:endParaRPr b="0" lang="en-US" sz="16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05" name="Text Box 11"/>
          <p:cNvSpPr/>
          <p:nvPr/>
        </p:nvSpPr>
        <p:spPr>
          <a:xfrm>
            <a:off x="1816200" y="2712600"/>
            <a:ext cx="6983280" cy="23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Fiche d</a:t>
            </a:r>
            <a:r>
              <a:rPr b="0" lang="ja-JP" sz="2200" spc="-1" strike="noStrike">
                <a:solidFill>
                  <a:srgbClr val="9796a3"/>
                </a:solidFill>
                <a:latin typeface="Avenir LT Std 55 Roman"/>
              </a:rPr>
              <a:t>’</a:t>
            </a: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intégration </a:t>
            </a:r>
            <a:br>
              <a:rPr sz="2200"/>
            </a:b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dans le logiciel RT 2012 :</a:t>
            </a:r>
            <a:endParaRPr b="0" lang="en-US" sz="22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U22win de PERRENOUD</a:t>
            </a:r>
            <a:endParaRPr b="0" lang="en-US" sz="22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Version 5.1.36 du 06/07/2018</a:t>
            </a:r>
            <a:endParaRPr b="0" lang="en-US" sz="22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Moteur Th-BCE : version 7.5.0.3</a:t>
            </a:r>
            <a:endParaRPr b="0" lang="en-US" sz="22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12680" y="404640"/>
            <a:ext cx="8397720" cy="22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9796a3"/>
                </a:solidFill>
                <a:latin typeface="Avenir LT Std 55 Roman"/>
              </a:rPr>
              <a:t>Chaudière à condensation + Kit photovoltaïque</a:t>
            </a:r>
            <a:br>
              <a:rPr sz="2900"/>
            </a:br>
            <a:r>
              <a:rPr b="0" lang="fr-FR" sz="2900" spc="-1" strike="noStrike">
                <a:solidFill>
                  <a:srgbClr val="9796a3"/>
                </a:solidFill>
                <a:latin typeface="Avenir LT Std 55 Roman"/>
              </a:rPr>
              <a:t>VIESSMANN</a:t>
            </a:r>
            <a:endParaRPr b="0" lang="en-US" sz="2900" spc="-1" strike="noStrike">
              <a:solidFill>
                <a:srgbClr val="662483"/>
              </a:solidFill>
              <a:latin typeface="Avenir LT Std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0"/>
          <p:cNvSpPr/>
          <p:nvPr/>
        </p:nvSpPr>
        <p:spPr>
          <a:xfrm>
            <a:off x="1023840" y="1260360"/>
            <a:ext cx="8640720" cy="60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Le présent document décrit la saisie et la prise en compte d’une chaudière à condensation + kit photovoltaïque du fabricant VIESSMANN dans le logiciel d’application de la RT 2012 U22win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La chaudière à condensation + Kit photovoltaïque VIESSMANN </a:t>
            </a: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est composée des éléments suivants 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’ensemble du système est décrit dans les objets 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« Bâtiment »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(       ) et 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« génération »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(       ). 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’objet 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« Bâtiment » 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(       ) contient : 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s résultats des Cep et Bbio, 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a Zone (        )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 Capteur solaire Photovoltaïque décrivant les caractéristiques du capteur solaire (       )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’objet 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« génération »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(       ) contient 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un « générateur » décrivant les caractéristiques de la chaudière à condensation (       )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un « système de stockage » décrivant les caractéristiques du ballon de stockage(        )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s étapes de la saisie du système sont les suivantes 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étape 1 :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Création de l’objet «Panneaux Photovoltaïques» 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étape 2 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 Création de l’objet génération « Chaudière à condensation + Kit photovoltaïque »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étape 3 – cas sans stockage :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Création de l’objet générateur « Chaudière gaz à condensation»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étape 3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– cas avec stockage :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Création de l’objet générateur « Chaudière gaz à condensation»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étape 4 – cas avec stockage :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Création du ballon de stockage « Production Stockage » 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focus 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 Création du « Circulateur du réseau de distribution de groupe » 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08" name="Rectangle 83"/>
          <p:cNvSpPr/>
          <p:nvPr/>
        </p:nvSpPr>
        <p:spPr>
          <a:xfrm>
            <a:off x="1033560" y="3230640"/>
            <a:ext cx="183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09" name="Rectangle 69"/>
          <p:cNvSpPr/>
          <p:nvPr/>
        </p:nvSpPr>
        <p:spPr>
          <a:xfrm>
            <a:off x="3852720" y="2550960"/>
            <a:ext cx="522612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879480" y="2197080"/>
          <a:ext cx="8275680" cy="946080"/>
        </p:xfrm>
        <a:graphic>
          <a:graphicData uri="http://schemas.openxmlformats.org/drawingml/2006/table">
            <a:tbl>
              <a:tblPr/>
              <a:tblGrid>
                <a:gridCol w="2160720"/>
                <a:gridCol w="2952720"/>
                <a:gridCol w="316224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  <a:ea typeface="ＭＳ Ｐゴシック"/>
                        </a:rPr>
                        <a:t>Chaudière à condens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83c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Chaudière à condensation Vitodens 222-F  Type B2S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Chaudière à condensation  murale Vitodens 100-W B1K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  <a:ea typeface="ＭＳ Ｐゴシック"/>
                        </a:rPr>
                        <a:t>Un système de stockage E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83c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Ballon de stockage 100 ou 130 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  <a:ea typeface="ＭＳ Ｐゴシック"/>
                        </a:rPr>
                        <a:t>Capteurs solai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e3073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Module Vitovolt 300 P255J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11" name="Image 13" descr=""/>
          <p:cNvPicPr/>
          <p:nvPr/>
        </p:nvPicPr>
        <p:blipFill>
          <a:blip r:embed="rId1"/>
          <a:stretch/>
        </p:blipFill>
        <p:spPr>
          <a:xfrm>
            <a:off x="7288200" y="3421080"/>
            <a:ext cx="3191040" cy="2676600"/>
          </a:xfrm>
          <a:prstGeom prst="rect">
            <a:avLst/>
          </a:prstGeom>
          <a:ln w="28440">
            <a:solidFill>
              <a:srgbClr val="4e3073"/>
            </a:solidFill>
            <a:miter/>
          </a:ln>
        </p:spPr>
      </p:pic>
      <p:pic>
        <p:nvPicPr>
          <p:cNvPr id="412" name="Image 13" descr=""/>
          <p:cNvPicPr/>
          <p:nvPr/>
        </p:nvPicPr>
        <p:blipFill>
          <a:blip r:embed="rId2"/>
          <a:stretch/>
        </p:blipFill>
        <p:spPr>
          <a:xfrm>
            <a:off x="2554200" y="3638520"/>
            <a:ext cx="219240" cy="2383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03" descr="Travail:1 GRAPHISME:GRDF:FICHES_BET_CEGIBAT_GrDF:FICHES_PRODUIT:ELEMENTS_OK:PICTOS:GENERATION.jpg"/>
          <p:cNvPicPr/>
          <p:nvPr/>
        </p:nvPicPr>
        <p:blipFill>
          <a:blip r:embed="rId3"/>
          <a:stretch/>
        </p:blipFill>
        <p:spPr>
          <a:xfrm>
            <a:off x="6657840" y="3278160"/>
            <a:ext cx="238320" cy="219240"/>
          </a:xfrm>
          <a:prstGeom prst="rect">
            <a:avLst/>
          </a:prstGeom>
          <a:ln w="0">
            <a:noFill/>
          </a:ln>
        </p:spPr>
      </p:pic>
      <p:pic>
        <p:nvPicPr>
          <p:cNvPr id="414" name="Image 15" descr=""/>
          <p:cNvPicPr/>
          <p:nvPr/>
        </p:nvPicPr>
        <p:blipFill>
          <a:blip r:embed="rId4"/>
          <a:stretch/>
        </p:blipFill>
        <p:spPr>
          <a:xfrm>
            <a:off x="5146560" y="3278160"/>
            <a:ext cx="219240" cy="2383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03" descr="Travail:1 GRAPHISME:GRDF:FICHES_BET_CEGIBAT_GrDF:FICHES_PRODUIT:ELEMENTS_OK:PICTOS:GENERATION.jpg"/>
          <p:cNvPicPr/>
          <p:nvPr/>
        </p:nvPicPr>
        <p:blipFill>
          <a:blip r:embed="rId5"/>
          <a:stretch/>
        </p:blipFill>
        <p:spPr>
          <a:xfrm>
            <a:off x="2625840" y="4718160"/>
            <a:ext cx="237960" cy="217440"/>
          </a:xfrm>
          <a:prstGeom prst="rect">
            <a:avLst/>
          </a:prstGeom>
          <a:ln w="0">
            <a:noFill/>
          </a:ln>
        </p:spPr>
      </p:pic>
      <p:pic>
        <p:nvPicPr>
          <p:cNvPr id="416" name="Image 17" descr=""/>
          <p:cNvPicPr/>
          <p:nvPr/>
        </p:nvPicPr>
        <p:blipFill>
          <a:blip r:embed="rId6"/>
          <a:stretch/>
        </p:blipFill>
        <p:spPr>
          <a:xfrm>
            <a:off x="6370560" y="4933800"/>
            <a:ext cx="209520" cy="209880"/>
          </a:xfrm>
          <a:prstGeom prst="rect">
            <a:avLst/>
          </a:prstGeom>
          <a:ln w="0">
            <a:noFill/>
          </a:ln>
        </p:spPr>
      </p:pic>
      <p:pic>
        <p:nvPicPr>
          <p:cNvPr id="417" name="Image 18" descr=""/>
          <p:cNvPicPr/>
          <p:nvPr/>
        </p:nvPicPr>
        <p:blipFill>
          <a:blip r:embed="rId7"/>
          <a:stretch/>
        </p:blipFill>
        <p:spPr>
          <a:xfrm>
            <a:off x="6442200" y="5149800"/>
            <a:ext cx="218880" cy="247680"/>
          </a:xfrm>
          <a:prstGeom prst="rect">
            <a:avLst/>
          </a:prstGeom>
          <a:ln w="0">
            <a:noFill/>
          </a:ln>
        </p:spPr>
      </p:pic>
      <p:pic>
        <p:nvPicPr>
          <p:cNvPr id="418" name="Image 19" descr=""/>
          <p:cNvPicPr/>
          <p:nvPr/>
        </p:nvPicPr>
        <p:blipFill>
          <a:blip r:embed="rId8"/>
          <a:stretch/>
        </p:blipFill>
        <p:spPr>
          <a:xfrm>
            <a:off x="1905120" y="3998880"/>
            <a:ext cx="218880" cy="209520"/>
          </a:xfrm>
          <a:prstGeom prst="rect">
            <a:avLst/>
          </a:prstGeom>
          <a:ln w="0">
            <a:noFill/>
          </a:ln>
        </p:spPr>
      </p:pic>
      <p:pic>
        <p:nvPicPr>
          <p:cNvPr id="419" name="Image 20" descr=""/>
          <p:cNvPicPr/>
          <p:nvPr/>
        </p:nvPicPr>
        <p:blipFill>
          <a:blip r:embed="rId9"/>
          <a:stretch/>
        </p:blipFill>
        <p:spPr>
          <a:xfrm>
            <a:off x="6513480" y="4214880"/>
            <a:ext cx="219240" cy="218880"/>
          </a:xfrm>
          <a:prstGeom prst="rect">
            <a:avLst/>
          </a:prstGeom>
          <a:ln w="0">
            <a:noFill/>
          </a:ln>
        </p:spPr>
      </p:pic>
      <p:sp>
        <p:nvSpPr>
          <p:cNvPr id="420" name="Espace réservé du texte 4"/>
          <p:cNvSpPr/>
          <p:nvPr/>
        </p:nvSpPr>
        <p:spPr>
          <a:xfrm>
            <a:off x="2027160" y="287280"/>
            <a:ext cx="67928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Présentation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21" name="Espace réservé du numéro de diapositive 2"/>
          <p:cNvSpPr/>
          <p:nvPr/>
        </p:nvSpPr>
        <p:spPr>
          <a:xfrm>
            <a:off x="9809280" y="7410600"/>
            <a:ext cx="576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F708-279F-4DD5-924E-6350C7298D74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22" name="AutoShape 41"/>
          <p:cNvCxnSpPr/>
          <p:nvPr/>
        </p:nvCxnSpPr>
        <p:spPr>
          <a:xfrm flipH="1" flipV="1" rot="10800000">
            <a:off x="70200" y="4067640"/>
            <a:ext cx="252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pic>
        <p:nvPicPr>
          <p:cNvPr id="423" name="Image 16" descr=""/>
          <p:cNvPicPr/>
          <p:nvPr/>
        </p:nvPicPr>
        <p:blipFill>
          <a:blip r:embed="rId1"/>
          <a:stretch/>
        </p:blipFill>
        <p:spPr>
          <a:xfrm>
            <a:off x="736560" y="1477800"/>
            <a:ext cx="5345280" cy="5400720"/>
          </a:xfrm>
          <a:prstGeom prst="rect">
            <a:avLst/>
          </a:prstGeom>
          <a:ln w="9360">
            <a:solidFill>
              <a:srgbClr val="4e3073"/>
            </a:solidFill>
            <a:miter/>
          </a:ln>
        </p:spPr>
      </p:pic>
      <p:sp>
        <p:nvSpPr>
          <p:cNvPr id="424" name="Freeform 25"/>
          <p:cNvSpPr/>
          <p:nvPr/>
        </p:nvSpPr>
        <p:spPr>
          <a:xfrm flipV="1">
            <a:off x="4842000" y="4125240"/>
            <a:ext cx="2361960" cy="304920"/>
          </a:xfrm>
          <a:custGeom>
            <a:avLst/>
            <a:gdLst>
              <a:gd name="textAreaLeft" fmla="*/ 0 w 2361960"/>
              <a:gd name="textAreaRight" fmla="*/ 2362320 w 236196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25" name="Text Box 33"/>
          <p:cNvSpPr/>
          <p:nvPr/>
        </p:nvSpPr>
        <p:spPr>
          <a:xfrm>
            <a:off x="7165800" y="3886200"/>
            <a:ext cx="300528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En « Face arrière confiné » la production d’EnR est diminuée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26" name="Picture 22" descr=""/>
          <p:cNvPicPr/>
          <p:nvPr/>
        </p:nvPicPr>
        <p:blipFill>
          <a:blip r:embed="rId2"/>
          <a:stretch/>
        </p:blipFill>
        <p:spPr>
          <a:xfrm>
            <a:off x="4562640" y="3854520"/>
            <a:ext cx="1358640" cy="21600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17"/>
          <p:cNvSpPr/>
          <p:nvPr/>
        </p:nvSpPr>
        <p:spPr>
          <a:xfrm>
            <a:off x="4681080" y="3854520"/>
            <a:ext cx="986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Valeur certifiée</a:t>
            </a:r>
            <a:endParaRPr b="0" lang="en-US" sz="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28" name="Connecteur droit 25"/>
          <p:cNvSpPr/>
          <p:nvPr/>
        </p:nvSpPr>
        <p:spPr>
          <a:xfrm>
            <a:off x="3544920" y="3925800"/>
            <a:ext cx="288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29" name="Connecteur droit 27"/>
          <p:cNvSpPr/>
          <p:nvPr/>
        </p:nvSpPr>
        <p:spPr>
          <a:xfrm>
            <a:off x="3544920" y="3925800"/>
            <a:ext cx="2887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30" name="Picture 23" descr=""/>
          <p:cNvPicPr/>
          <p:nvPr/>
        </p:nvPicPr>
        <p:blipFill>
          <a:blip r:embed="rId3"/>
          <a:stretch/>
        </p:blipFill>
        <p:spPr>
          <a:xfrm>
            <a:off x="3576600" y="3925800"/>
            <a:ext cx="257040" cy="7164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17"/>
          <p:cNvSpPr/>
          <p:nvPr/>
        </p:nvSpPr>
        <p:spPr>
          <a:xfrm>
            <a:off x="3521160" y="38401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46</a:t>
            </a:r>
            <a:endParaRPr b="0" lang="en-US" sz="9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32" name="Picture 24" descr=""/>
          <p:cNvPicPr/>
          <p:nvPr/>
        </p:nvPicPr>
        <p:blipFill>
          <a:blip r:embed="rId4"/>
          <a:stretch/>
        </p:blipFill>
        <p:spPr>
          <a:xfrm>
            <a:off x="3473280" y="6230880"/>
            <a:ext cx="438480" cy="123840"/>
          </a:xfrm>
          <a:prstGeom prst="rect">
            <a:avLst/>
          </a:prstGeom>
          <a:ln w="0">
            <a:noFill/>
          </a:ln>
        </p:spPr>
      </p:pic>
      <p:sp>
        <p:nvSpPr>
          <p:cNvPr id="433" name="ZoneTexte 34"/>
          <p:cNvSpPr/>
          <p:nvPr/>
        </p:nvSpPr>
        <p:spPr>
          <a:xfrm>
            <a:off x="3257640" y="6157800"/>
            <a:ext cx="934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b1af"/>
                </a:solidFill>
                <a:latin typeface="45 Helvetica Light"/>
                <a:ea typeface="ＭＳ Ｐゴシック"/>
              </a:rPr>
              <a:t>Valeur par défaut</a:t>
            </a:r>
            <a:endParaRPr b="0" lang="en-US" sz="7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34" name="Connecteur droit 38"/>
          <p:cNvSpPr/>
          <p:nvPr/>
        </p:nvSpPr>
        <p:spPr>
          <a:xfrm>
            <a:off x="3618000" y="623088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35" name="Picture 25" descr=""/>
          <p:cNvPicPr/>
          <p:nvPr/>
        </p:nvPicPr>
        <p:blipFill>
          <a:blip r:embed="rId5"/>
          <a:stretch/>
        </p:blipFill>
        <p:spPr>
          <a:xfrm>
            <a:off x="3438360" y="5151600"/>
            <a:ext cx="466920" cy="14256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17"/>
          <p:cNvSpPr/>
          <p:nvPr/>
        </p:nvSpPr>
        <p:spPr>
          <a:xfrm>
            <a:off x="3521520" y="5135400"/>
            <a:ext cx="3117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33</a:t>
            </a:r>
            <a:endParaRPr b="0" lang="en-US" sz="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37" name="Text Box 33"/>
          <p:cNvSpPr/>
          <p:nvPr/>
        </p:nvSpPr>
        <p:spPr>
          <a:xfrm>
            <a:off x="7165800" y="5199120"/>
            <a:ext cx="3005280" cy="2613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1 onduleur par module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38" name="Connecteur en angle 29"/>
          <p:cNvCxnSpPr>
            <a:stCxn id="437" idx="1"/>
          </p:cNvCxnSpPr>
          <p:nvPr/>
        </p:nvCxnSpPr>
        <p:spPr>
          <a:xfrm flipV="1" rot="10800000">
            <a:off x="4191840" y="5329800"/>
            <a:ext cx="2973960" cy="756360"/>
          </a:xfrm>
          <a:prstGeom prst="bentConnector3">
            <a:avLst>
              <a:gd name="adj1" fmla="val 50000"/>
            </a:avLst>
          </a:prstGeom>
          <a:ln w="12600">
            <a:solidFill>
              <a:srgbClr val="4e3073"/>
            </a:solidFill>
            <a:miter/>
            <a:tailEnd len="med" type="triangle" w="med"/>
          </a:ln>
        </p:spPr>
      </p:cxnSp>
      <p:sp>
        <p:nvSpPr>
          <p:cNvPr id="439" name="Espace réservé du texte 4"/>
          <p:cNvSpPr/>
          <p:nvPr/>
        </p:nvSpPr>
        <p:spPr>
          <a:xfrm>
            <a:off x="2027160" y="260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1 : Création de l</a:t>
            </a:r>
            <a:r>
              <a:rPr b="0" lang="ja-JP" sz="2900" spc="-1" strike="noStrike">
                <a:solidFill>
                  <a:srgbClr val="662483"/>
                </a:solidFill>
                <a:latin typeface="Avenir LT Std 55 Roman"/>
              </a:rPr>
              <a:t>’</a:t>
            </a: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objet génération «Panneaux Photovoltaïques»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40" name="Accolade fermante 3"/>
          <p:cNvSpPr/>
          <p:nvPr/>
        </p:nvSpPr>
        <p:spPr>
          <a:xfrm>
            <a:off x="6064200" y="4213080"/>
            <a:ext cx="650880" cy="1235160"/>
          </a:xfrm>
          <a:custGeom>
            <a:avLst/>
            <a:gdLst>
              <a:gd name="textAreaLeft" fmla="*/ 0 w 650880"/>
              <a:gd name="textAreaRight" fmla="*/ 235080 w 650880"/>
              <a:gd name="textAreaTop" fmla="*/ 16920 h 1235160"/>
              <a:gd name="textAreaBottom" fmla="*/ 1218240 h 123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74"/>
                  <a:pt x="10800" y="948"/>
                </a:cubicBezTo>
                <a:lnTo>
                  <a:pt x="10800" y="9852"/>
                </a:lnTo>
                <a:cubicBezTo>
                  <a:pt x="10800" y="10326"/>
                  <a:pt x="16200" y="10800"/>
                  <a:pt x="21600" y="10800"/>
                </a:cubicBezTo>
                <a:cubicBezTo>
                  <a:pt x="16200" y="10800"/>
                  <a:pt x="10800" y="11274"/>
                  <a:pt x="10800" y="11748"/>
                </a:cubicBezTo>
                <a:lnTo>
                  <a:pt x="10800" y="20652"/>
                </a:lnTo>
                <a:cubicBezTo>
                  <a:pt x="10800" y="2112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41" name="ZoneTexte 4"/>
          <p:cNvSpPr/>
          <p:nvPr/>
        </p:nvSpPr>
        <p:spPr>
          <a:xfrm>
            <a:off x="6640560" y="4718160"/>
            <a:ext cx="1584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b1af"/>
                </a:solidFill>
                <a:latin typeface="45 Helvetica Light"/>
                <a:ea typeface="ＭＳ Ｐゴシック"/>
              </a:rPr>
              <a:t>Fonction projet</a:t>
            </a:r>
            <a:endParaRPr b="0" lang="en-US" sz="10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42" name="ZoneTexte 32"/>
          <p:cNvSpPr/>
          <p:nvPr/>
        </p:nvSpPr>
        <p:spPr>
          <a:xfrm>
            <a:off x="3471840" y="3565440"/>
            <a:ext cx="43200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venir LT Std 55 Roman"/>
              </a:rPr>
              <a:t>270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43" name="ZoneTexte 33"/>
          <p:cNvSpPr/>
          <p:nvPr/>
        </p:nvSpPr>
        <p:spPr>
          <a:xfrm>
            <a:off x="3544920" y="6661080"/>
            <a:ext cx="43164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venir LT Std 55 Roman"/>
              </a:rPr>
              <a:t>95,7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44" name="Espace réservé du numéro de diapositive 2"/>
          <p:cNvSpPr/>
          <p:nvPr/>
        </p:nvSpPr>
        <p:spPr>
          <a:xfrm>
            <a:off x="9809280" y="7410600"/>
            <a:ext cx="576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308A-40DC-41DD-B344-952F10DBFFBB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45" name="Picture 23" descr=""/>
          <p:cNvPicPr/>
          <p:nvPr/>
        </p:nvPicPr>
        <p:blipFill>
          <a:blip r:embed="rId6"/>
          <a:stretch/>
        </p:blipFill>
        <p:spPr>
          <a:xfrm>
            <a:off x="2031840" y="2629080"/>
            <a:ext cx="1224000" cy="144360"/>
          </a:xfrm>
          <a:prstGeom prst="rect">
            <a:avLst/>
          </a:prstGeom>
          <a:ln w="0">
            <a:noFill/>
          </a:ln>
        </p:spPr>
      </p:pic>
      <p:sp>
        <p:nvSpPr>
          <p:cNvPr id="446" name="ZoneTexte 24"/>
          <p:cNvSpPr/>
          <p:nvPr/>
        </p:nvSpPr>
        <p:spPr>
          <a:xfrm>
            <a:off x="2031840" y="262908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venir LT Std 55 Roman"/>
              </a:rPr>
              <a:t>VITOVOLT 300 P270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7"/>
          <p:cNvSpPr/>
          <p:nvPr/>
        </p:nvSpPr>
        <p:spPr>
          <a:xfrm>
            <a:off x="6851520" y="1928880"/>
            <a:ext cx="1800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48" name="AutoShape 8"/>
          <p:cNvCxnSpPr/>
          <p:nvPr/>
        </p:nvCxnSpPr>
        <p:spPr>
          <a:xfrm flipH="1" flipV="1" rot="10800000">
            <a:off x="6729120" y="194292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49" name="AutoShape 9"/>
          <p:cNvCxnSpPr/>
          <p:nvPr/>
        </p:nvCxnSpPr>
        <p:spPr>
          <a:xfrm flipH="1" flipV="1" rot="10800000">
            <a:off x="6729120" y="194292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50" name="AutoShape 10"/>
          <p:cNvCxnSpPr/>
          <p:nvPr/>
        </p:nvCxnSpPr>
        <p:spPr>
          <a:xfrm flipH="1" rot="16200000">
            <a:off x="6550200" y="286668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51" name="AutoShape 12"/>
          <p:cNvCxnSpPr/>
          <p:nvPr/>
        </p:nvCxnSpPr>
        <p:spPr>
          <a:xfrm flipH="1" flipV="1" rot="10800000">
            <a:off x="5220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pic>
        <p:nvPicPr>
          <p:cNvPr id="452" name="Image 38" descr=""/>
          <p:cNvPicPr/>
          <p:nvPr/>
        </p:nvPicPr>
        <p:blipFill>
          <a:blip r:embed="rId1"/>
          <a:stretch/>
        </p:blipFill>
        <p:spPr>
          <a:xfrm>
            <a:off x="736560" y="1549440"/>
            <a:ext cx="5762520" cy="5329080"/>
          </a:xfrm>
          <a:prstGeom prst="rect">
            <a:avLst/>
          </a:prstGeom>
          <a:ln w="9360">
            <a:solidFill>
              <a:srgbClr val="4e3073"/>
            </a:solidFill>
            <a:miter/>
          </a:ln>
        </p:spPr>
      </p:pic>
      <p:sp>
        <p:nvSpPr>
          <p:cNvPr id="453" name="Freeform 25"/>
          <p:cNvSpPr/>
          <p:nvPr/>
        </p:nvSpPr>
        <p:spPr>
          <a:xfrm flipV="1">
            <a:off x="6072120" y="3404520"/>
            <a:ext cx="2362320" cy="304920"/>
          </a:xfrm>
          <a:custGeom>
            <a:avLst/>
            <a:gdLst>
              <a:gd name="textAreaLeft" fmla="*/ 0 w 2362320"/>
              <a:gd name="textAreaRight" fmla="*/ 2362680 w 236232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54" name="Text Box 33"/>
          <p:cNvSpPr/>
          <p:nvPr/>
        </p:nvSpPr>
        <p:spPr>
          <a:xfrm>
            <a:off x="7165800" y="3010680"/>
            <a:ext cx="302436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Un emplacement en volume chauffé permet de réduire les consommations par rapport à un emplacement hors volume chauffé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55" name="Text Box 36"/>
          <p:cNvSpPr/>
          <p:nvPr/>
        </p:nvSpPr>
        <p:spPr>
          <a:xfrm>
            <a:off x="7184880" y="6135840"/>
            <a:ext cx="302436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Ne concerne que les générateurs ECS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instantanés (sans objet si un stockage est considéré)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56" name="AutoShape 27"/>
          <p:cNvSpPr/>
          <p:nvPr/>
        </p:nvSpPr>
        <p:spPr>
          <a:xfrm>
            <a:off x="6929280" y="6087960"/>
            <a:ext cx="176400" cy="719280"/>
          </a:xfrm>
          <a:custGeom>
            <a:avLst/>
            <a:gdLst>
              <a:gd name="textAreaLeft" fmla="*/ 0 w 176400"/>
              <a:gd name="textAreaRight" fmla="*/ 63720 w 17640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57" name="Espace réservé du texte 4"/>
          <p:cNvSpPr/>
          <p:nvPr/>
        </p:nvSpPr>
        <p:spPr>
          <a:xfrm>
            <a:off x="2027160" y="260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2 : Création de l</a:t>
            </a:r>
            <a:r>
              <a:rPr b="0" lang="ja-JP" sz="2900" spc="-1" strike="noStrike">
                <a:solidFill>
                  <a:srgbClr val="662483"/>
                </a:solidFill>
                <a:latin typeface="Avenir LT Std 55 Roman"/>
              </a:rPr>
              <a:t>’</a:t>
            </a: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objet générateur « Chaudière condensation + Kit photovoltaïque »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58" name="Rectangle 16"/>
          <p:cNvSpPr/>
          <p:nvPr/>
        </p:nvSpPr>
        <p:spPr>
          <a:xfrm>
            <a:off x="2459880" y="1535040"/>
            <a:ext cx="253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Chaudière gaz à condensation 100W – B1KA</a:t>
            </a:r>
            <a:endParaRPr b="0" lang="en-US" sz="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59" name="Espace réservé du numéro de diapositive 2"/>
          <p:cNvSpPr/>
          <p:nvPr/>
        </p:nvSpPr>
        <p:spPr>
          <a:xfrm>
            <a:off x="9809280" y="7410600"/>
            <a:ext cx="576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9A0A-C2AD-4305-A932-97961B391D9A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24"/>
          <p:cNvSpPr/>
          <p:nvPr/>
        </p:nvSpPr>
        <p:spPr>
          <a:xfrm>
            <a:off x="3213000" y="6999120"/>
            <a:ext cx="457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5/6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6910560" y="2448000"/>
            <a:ext cx="18000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62" name="AutoShape 10"/>
          <p:cNvCxnSpPr/>
          <p:nvPr/>
        </p:nvCxnSpPr>
        <p:spPr>
          <a:xfrm flipH="1" flipV="1" rot="10800000">
            <a:off x="6646680" y="73054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63" name="AutoShape 11"/>
          <p:cNvCxnSpPr/>
          <p:nvPr/>
        </p:nvCxnSpPr>
        <p:spPr>
          <a:xfrm flipH="1" flipV="1" rot="10800000">
            <a:off x="6646680" y="73054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64" name="AutoShape 12"/>
          <p:cNvCxnSpPr/>
          <p:nvPr/>
        </p:nvCxnSpPr>
        <p:spPr>
          <a:xfrm flipH="1" rot="16200000">
            <a:off x="7340400" y="3298320"/>
            <a:ext cx="252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65" name="AutoShape 13"/>
          <p:cNvCxnSpPr/>
          <p:nvPr/>
        </p:nvCxnSpPr>
        <p:spPr>
          <a:xfrm flipH="1" flipV="1" rot="10800000">
            <a:off x="81360" y="3911400"/>
            <a:ext cx="252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66" name="Freeform 23"/>
          <p:cNvSpPr/>
          <p:nvPr/>
        </p:nvSpPr>
        <p:spPr>
          <a:xfrm flipV="1">
            <a:off x="5969160" y="2337840"/>
            <a:ext cx="1600200" cy="1143000"/>
          </a:xfrm>
          <a:custGeom>
            <a:avLst/>
            <a:gdLst>
              <a:gd name="textAreaLeft" fmla="*/ 0 w 1600200"/>
              <a:gd name="textAreaRight" fmla="*/ 1600560 w 1600200"/>
              <a:gd name="textAreaTop" fmla="*/ -360 h 1143000"/>
              <a:gd name="textAreaBottom" fmla="*/ 1143000 h 114300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67" name="Image 14" descr=""/>
          <p:cNvPicPr/>
          <p:nvPr/>
        </p:nvPicPr>
        <p:blipFill>
          <a:blip r:embed="rId1"/>
          <a:stretch/>
        </p:blipFill>
        <p:spPr>
          <a:xfrm>
            <a:off x="1527120" y="1909800"/>
            <a:ext cx="5761080" cy="5126040"/>
          </a:xfrm>
          <a:prstGeom prst="rect">
            <a:avLst/>
          </a:prstGeom>
          <a:ln cap="sq" w="28440">
            <a:solidFill>
              <a:srgbClr val="4e307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68" name="Picture 16" descr=""/>
          <p:cNvPicPr/>
          <p:nvPr/>
        </p:nvPicPr>
        <p:blipFill>
          <a:blip r:embed="rId2"/>
          <a:stretch/>
        </p:blipFill>
        <p:spPr>
          <a:xfrm>
            <a:off x="3255840" y="2381400"/>
            <a:ext cx="2219400" cy="10476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16"/>
          <p:cNvSpPr/>
          <p:nvPr/>
        </p:nvSpPr>
        <p:spPr>
          <a:xfrm>
            <a:off x="3241800" y="2341440"/>
            <a:ext cx="2533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Chaudière gaz à condensation 100W – B1KC</a:t>
            </a:r>
            <a:endParaRPr b="0" lang="en-US" sz="9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70" name="Picture 17" descr=""/>
          <p:cNvPicPr/>
          <p:nvPr/>
        </p:nvPicPr>
        <p:blipFill>
          <a:blip r:embed="rId3"/>
          <a:srcRect l="0" t="0" r="80552" b="0"/>
          <a:stretch/>
        </p:blipFill>
        <p:spPr>
          <a:xfrm>
            <a:off x="4479840" y="4468680"/>
            <a:ext cx="432000" cy="1047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7" descr=""/>
          <p:cNvPicPr/>
          <p:nvPr/>
        </p:nvPicPr>
        <p:blipFill>
          <a:blip r:embed="rId4"/>
          <a:srcRect l="0" t="0" r="80552" b="0"/>
          <a:stretch/>
        </p:blipFill>
        <p:spPr>
          <a:xfrm>
            <a:off x="4479840" y="5405400"/>
            <a:ext cx="432000" cy="10476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19"/>
          <p:cNvSpPr/>
          <p:nvPr/>
        </p:nvSpPr>
        <p:spPr>
          <a:xfrm>
            <a:off x="4480560" y="4430880"/>
            <a:ext cx="40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97,8</a:t>
            </a:r>
            <a:endParaRPr b="0" lang="en-US" sz="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73" name="Rectangle 20"/>
          <p:cNvSpPr/>
          <p:nvPr/>
        </p:nvSpPr>
        <p:spPr>
          <a:xfrm>
            <a:off x="4439160" y="5365800"/>
            <a:ext cx="47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108,5</a:t>
            </a:r>
            <a:endParaRPr b="0" lang="en-US" sz="9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74" name="Picture 19" descr=""/>
          <p:cNvPicPr/>
          <p:nvPr/>
        </p:nvPicPr>
        <p:blipFill>
          <a:blip r:embed="rId5"/>
          <a:stretch/>
        </p:blipFill>
        <p:spPr>
          <a:xfrm>
            <a:off x="4479840" y="6135840"/>
            <a:ext cx="466920" cy="9504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9" descr=""/>
          <p:cNvPicPr/>
          <p:nvPr/>
        </p:nvPicPr>
        <p:blipFill>
          <a:blip r:embed="rId6"/>
          <a:stretch/>
        </p:blipFill>
        <p:spPr>
          <a:xfrm>
            <a:off x="4479840" y="6373800"/>
            <a:ext cx="466920" cy="9540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24"/>
          <p:cNvSpPr/>
          <p:nvPr/>
        </p:nvSpPr>
        <p:spPr>
          <a:xfrm>
            <a:off x="4502880" y="6086520"/>
            <a:ext cx="40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27,9</a:t>
            </a:r>
            <a:endParaRPr b="0" lang="en-US" sz="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77" name="Rectangle 25"/>
          <p:cNvSpPr/>
          <p:nvPr/>
        </p:nvSpPr>
        <p:spPr>
          <a:xfrm>
            <a:off x="4552920" y="6359400"/>
            <a:ext cx="246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78" name="Espace réservé du texte 4"/>
          <p:cNvSpPr/>
          <p:nvPr/>
        </p:nvSpPr>
        <p:spPr>
          <a:xfrm>
            <a:off x="2027160" y="260280"/>
            <a:ext cx="8501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3 – cas sans stockage : Création de l’objet générateur « Chaudière gaz à condensation »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79" name="Picture 17" descr=""/>
          <p:cNvPicPr/>
          <p:nvPr/>
        </p:nvPicPr>
        <p:blipFill>
          <a:blip r:embed="rId7"/>
          <a:srcRect l="0" t="0" r="80552" b="0"/>
          <a:stretch/>
        </p:blipFill>
        <p:spPr>
          <a:xfrm>
            <a:off x="4479840" y="4213080"/>
            <a:ext cx="432000" cy="10476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19"/>
          <p:cNvSpPr/>
          <p:nvPr/>
        </p:nvSpPr>
        <p:spPr>
          <a:xfrm>
            <a:off x="4480560" y="4141800"/>
            <a:ext cx="40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23,8</a:t>
            </a:r>
            <a:endParaRPr b="0" lang="en-US" sz="9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81" name="Picture 17" descr=""/>
          <p:cNvPicPr/>
          <p:nvPr/>
        </p:nvPicPr>
        <p:blipFill>
          <a:blip r:embed="rId8"/>
          <a:srcRect l="0" t="0" r="80552" b="0"/>
          <a:stretch/>
        </p:blipFill>
        <p:spPr>
          <a:xfrm>
            <a:off x="4479840" y="4933800"/>
            <a:ext cx="432000" cy="10476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19"/>
          <p:cNvSpPr/>
          <p:nvPr/>
        </p:nvSpPr>
        <p:spPr>
          <a:xfrm>
            <a:off x="4480560" y="4896000"/>
            <a:ext cx="40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0,07</a:t>
            </a:r>
            <a:endParaRPr b="0" lang="en-US" sz="9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83" name="Picture 17" descr=""/>
          <p:cNvPicPr/>
          <p:nvPr/>
        </p:nvPicPr>
        <p:blipFill>
          <a:blip r:embed="rId9"/>
          <a:srcRect l="0" t="0" r="80552" b="0"/>
          <a:stretch/>
        </p:blipFill>
        <p:spPr>
          <a:xfrm>
            <a:off x="4479840" y="5149800"/>
            <a:ext cx="432000" cy="104760"/>
          </a:xfrm>
          <a:prstGeom prst="rect">
            <a:avLst/>
          </a:prstGeom>
          <a:ln w="0">
            <a:noFill/>
          </a:ln>
        </p:spPr>
      </p:pic>
      <p:sp>
        <p:nvSpPr>
          <p:cNvPr id="484" name="Rectangle 19"/>
          <p:cNvSpPr/>
          <p:nvPr/>
        </p:nvSpPr>
        <p:spPr>
          <a:xfrm>
            <a:off x="4480560" y="5111640"/>
            <a:ext cx="40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7,90</a:t>
            </a:r>
            <a:endParaRPr b="0" lang="en-US" sz="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85" name="Espace réservé du numéro de diapositive 2"/>
          <p:cNvSpPr/>
          <p:nvPr/>
        </p:nvSpPr>
        <p:spPr>
          <a:xfrm>
            <a:off x="9809280" y="7410600"/>
            <a:ext cx="576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77DD-D227-4158-A7DF-98E042F82892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6" name="AutoShape 10"/>
          <p:cNvCxnSpPr/>
          <p:nvPr/>
        </p:nvCxnSpPr>
        <p:spPr>
          <a:xfrm flipH="1" flipV="1" rot="10800000">
            <a:off x="7232400" y="693072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87" name="AutoShape 11"/>
          <p:cNvCxnSpPr/>
          <p:nvPr/>
        </p:nvCxnSpPr>
        <p:spPr>
          <a:xfrm flipH="1" flipV="1" rot="10800000">
            <a:off x="7232400" y="693072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88" name="AutoShape 13"/>
          <p:cNvCxnSpPr/>
          <p:nvPr/>
        </p:nvCxnSpPr>
        <p:spPr>
          <a:xfrm flipH="1" flipV="1" rot="10800000">
            <a:off x="-36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pic>
        <p:nvPicPr>
          <p:cNvPr id="489" name="Image 26" descr=""/>
          <p:cNvPicPr/>
          <p:nvPr/>
        </p:nvPicPr>
        <p:blipFill>
          <a:blip r:embed="rId1"/>
          <a:stretch/>
        </p:blipFill>
        <p:spPr>
          <a:xfrm>
            <a:off x="1311120" y="1909800"/>
            <a:ext cx="5721480" cy="5040360"/>
          </a:xfrm>
          <a:prstGeom prst="rect">
            <a:avLst/>
          </a:prstGeom>
          <a:ln w="9360">
            <a:solidFill>
              <a:srgbClr val="4e3073"/>
            </a:solidFill>
            <a:miter/>
          </a:ln>
        </p:spPr>
      </p:pic>
      <p:sp>
        <p:nvSpPr>
          <p:cNvPr id="490" name="Espace réservé du texte 4"/>
          <p:cNvSpPr/>
          <p:nvPr/>
        </p:nvSpPr>
        <p:spPr>
          <a:xfrm>
            <a:off x="2027160" y="260280"/>
            <a:ext cx="842976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3 – cas avec stockage : Création de l’objet générateur « Chaudière gaz à condensation »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91" name="Picture 17" descr=""/>
          <p:cNvPicPr/>
          <p:nvPr/>
        </p:nvPicPr>
        <p:blipFill>
          <a:blip r:embed="rId2"/>
          <a:srcRect l="0" t="0" r="80552" b="0"/>
          <a:stretch/>
        </p:blipFill>
        <p:spPr>
          <a:xfrm>
            <a:off x="3687840" y="4141800"/>
            <a:ext cx="431640" cy="1047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7" descr=""/>
          <p:cNvPicPr/>
          <p:nvPr/>
        </p:nvPicPr>
        <p:blipFill>
          <a:blip r:embed="rId3"/>
          <a:srcRect l="0" t="0" r="80552" b="0"/>
          <a:stretch/>
        </p:blipFill>
        <p:spPr>
          <a:xfrm>
            <a:off x="3687840" y="4357800"/>
            <a:ext cx="431640" cy="14436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19"/>
          <p:cNvSpPr/>
          <p:nvPr/>
        </p:nvSpPr>
        <p:spPr>
          <a:xfrm>
            <a:off x="3687840" y="4068720"/>
            <a:ext cx="40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12,1</a:t>
            </a:r>
            <a:endParaRPr b="0" lang="en-US" sz="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94" name="Rectangle 19"/>
          <p:cNvSpPr/>
          <p:nvPr/>
        </p:nvSpPr>
        <p:spPr>
          <a:xfrm>
            <a:off x="3687840" y="4357800"/>
            <a:ext cx="47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98,40</a:t>
            </a:r>
            <a:endParaRPr b="0" lang="en-US" sz="9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95" name="Picture 17" descr=""/>
          <p:cNvPicPr/>
          <p:nvPr/>
        </p:nvPicPr>
        <p:blipFill>
          <a:blip r:embed="rId4"/>
          <a:srcRect l="0" t="0" r="80552" b="0"/>
          <a:stretch/>
        </p:blipFill>
        <p:spPr>
          <a:xfrm>
            <a:off x="3687840" y="4861080"/>
            <a:ext cx="431640" cy="10476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19"/>
          <p:cNvSpPr/>
          <p:nvPr/>
        </p:nvSpPr>
        <p:spPr>
          <a:xfrm>
            <a:off x="3687840" y="4789440"/>
            <a:ext cx="47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0,058</a:t>
            </a:r>
            <a:endParaRPr b="0" lang="en-US" sz="9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97" name="Picture 17" descr=""/>
          <p:cNvPicPr/>
          <p:nvPr/>
        </p:nvPicPr>
        <p:blipFill>
          <a:blip r:embed="rId5"/>
          <a:srcRect l="0" t="0" r="80552" b="0"/>
          <a:stretch/>
        </p:blipFill>
        <p:spPr>
          <a:xfrm>
            <a:off x="3687840" y="5076720"/>
            <a:ext cx="431640" cy="104760"/>
          </a:xfrm>
          <a:prstGeom prst="rect">
            <a:avLst/>
          </a:prstGeom>
          <a:ln w="0">
            <a:noFill/>
          </a:ln>
        </p:spPr>
      </p:pic>
      <p:sp>
        <p:nvSpPr>
          <p:cNvPr id="498" name="Rectangle 19"/>
          <p:cNvSpPr/>
          <p:nvPr/>
        </p:nvSpPr>
        <p:spPr>
          <a:xfrm>
            <a:off x="3688560" y="5005440"/>
            <a:ext cx="40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3,90</a:t>
            </a:r>
            <a:endParaRPr b="0" lang="en-US" sz="9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99" name="Picture 17" descr=""/>
          <p:cNvPicPr/>
          <p:nvPr/>
        </p:nvPicPr>
        <p:blipFill>
          <a:blip r:embed="rId6"/>
          <a:srcRect l="0" t="0" r="80552" b="0"/>
          <a:stretch/>
        </p:blipFill>
        <p:spPr>
          <a:xfrm>
            <a:off x="3687840" y="5294160"/>
            <a:ext cx="431640" cy="17640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19"/>
          <p:cNvSpPr/>
          <p:nvPr/>
        </p:nvSpPr>
        <p:spPr>
          <a:xfrm>
            <a:off x="3687480" y="5294160"/>
            <a:ext cx="53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108,78</a:t>
            </a:r>
            <a:endParaRPr b="0" lang="en-US" sz="9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501" name="Picture 17" descr=""/>
          <p:cNvPicPr/>
          <p:nvPr/>
        </p:nvPicPr>
        <p:blipFill>
          <a:blip r:embed="rId7"/>
          <a:srcRect l="0" t="0" r="80552" b="0"/>
          <a:stretch/>
        </p:blipFill>
        <p:spPr>
          <a:xfrm>
            <a:off x="3687840" y="6013440"/>
            <a:ext cx="431640" cy="10476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19"/>
          <p:cNvSpPr/>
          <p:nvPr/>
        </p:nvSpPr>
        <p:spPr>
          <a:xfrm>
            <a:off x="3761280" y="5942160"/>
            <a:ext cx="31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503" name="Picture 17" descr=""/>
          <p:cNvPicPr/>
          <p:nvPr/>
        </p:nvPicPr>
        <p:blipFill>
          <a:blip r:embed="rId8"/>
          <a:srcRect l="0" t="0" r="80552" b="0"/>
          <a:stretch/>
        </p:blipFill>
        <p:spPr>
          <a:xfrm>
            <a:off x="3760920" y="6229440"/>
            <a:ext cx="431640" cy="17784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19"/>
          <p:cNvSpPr/>
          <p:nvPr/>
        </p:nvSpPr>
        <p:spPr>
          <a:xfrm>
            <a:off x="3833640" y="6229440"/>
            <a:ext cx="246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505" name="Espace réservé du numéro de diapositive 2"/>
          <p:cNvSpPr/>
          <p:nvPr/>
        </p:nvSpPr>
        <p:spPr>
          <a:xfrm>
            <a:off x="9880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9AFB-4457-46F1-B902-484052924897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8"/>
          <p:cNvSpPr/>
          <p:nvPr/>
        </p:nvSpPr>
        <p:spPr>
          <a:xfrm>
            <a:off x="6838920" y="2195640"/>
            <a:ext cx="1800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507" name="AutoShape 11"/>
          <p:cNvCxnSpPr/>
          <p:nvPr/>
        </p:nvCxnSpPr>
        <p:spPr>
          <a:xfrm flipH="1" rot="16200000">
            <a:off x="6478560" y="283032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508" name="AutoShape 12"/>
          <p:cNvCxnSpPr/>
          <p:nvPr/>
        </p:nvCxnSpPr>
        <p:spPr>
          <a:xfrm flipH="1" flipV="1" rot="10800000">
            <a:off x="-360" y="392472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pic>
        <p:nvPicPr>
          <p:cNvPr id="509" name="Image 27" descr=""/>
          <p:cNvPicPr/>
          <p:nvPr/>
        </p:nvPicPr>
        <p:blipFill>
          <a:blip r:embed="rId1"/>
          <a:stretch/>
        </p:blipFill>
        <p:spPr>
          <a:xfrm>
            <a:off x="736560" y="1441440"/>
            <a:ext cx="5311800" cy="5472000"/>
          </a:xfrm>
          <a:prstGeom prst="rect">
            <a:avLst/>
          </a:prstGeom>
          <a:ln w="9360">
            <a:solidFill>
              <a:srgbClr val="4e3073"/>
            </a:solidFill>
            <a:miter/>
          </a:ln>
        </p:spPr>
      </p:pic>
      <p:sp>
        <p:nvSpPr>
          <p:cNvPr id="510" name="Freeform 31"/>
          <p:cNvSpPr/>
          <p:nvPr/>
        </p:nvSpPr>
        <p:spPr>
          <a:xfrm>
            <a:off x="1982880" y="3111480"/>
            <a:ext cx="5029200" cy="457200"/>
          </a:xfrm>
          <a:custGeom>
            <a:avLst/>
            <a:gdLst>
              <a:gd name="textAreaLeft" fmla="*/ 0 w 5029200"/>
              <a:gd name="textAreaRight" fmla="*/ 5029560 w 50292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3168" h="288">
                <a:moveTo>
                  <a:pt x="3168" y="288"/>
                </a:moveTo>
                <a:lnTo>
                  <a:pt x="2784" y="288"/>
                </a:lnTo>
                <a:lnTo>
                  <a:pt x="2784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511" name="Rectangle 16"/>
          <p:cNvSpPr/>
          <p:nvPr/>
        </p:nvSpPr>
        <p:spPr>
          <a:xfrm>
            <a:off x="6707160" y="3263760"/>
            <a:ext cx="34639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b1af"/>
                </a:solidFill>
                <a:latin typeface="45 Helvetica Light"/>
                <a:ea typeface="ＭＳ Ｐゴシック"/>
              </a:rPr>
              <a:t>Les caractéristiques des systèmes de stockage ECS sont disponibles dans la base de données EDIBATEC ou sur les sites des fabricants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512" name="Freeform 24"/>
          <p:cNvSpPr/>
          <p:nvPr/>
        </p:nvSpPr>
        <p:spPr>
          <a:xfrm>
            <a:off x="4649760" y="5186520"/>
            <a:ext cx="5029200" cy="380880"/>
          </a:xfrm>
          <a:custGeom>
            <a:avLst/>
            <a:gdLst>
              <a:gd name="textAreaLeft" fmla="*/ 0 w 5029200"/>
              <a:gd name="textAreaRight" fmla="*/ 5029560 w 50292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513" name="Text Box 25"/>
          <p:cNvSpPr/>
          <p:nvPr/>
        </p:nvSpPr>
        <p:spPr>
          <a:xfrm>
            <a:off x="6734160" y="5186520"/>
            <a:ext cx="347508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b1af"/>
                </a:solidFill>
                <a:latin typeface="45 Helvetica Light"/>
                <a:ea typeface="ＭＳ Ｐゴシック"/>
              </a:rPr>
              <a:t>L</a:t>
            </a:r>
            <a:r>
              <a:rPr b="0" lang="ja-JP" sz="1100" spc="-1" strike="noStrike">
                <a:solidFill>
                  <a:srgbClr val="00b1af"/>
                </a:solidFill>
                <a:latin typeface="45 Helvetica Light"/>
                <a:ea typeface="ＭＳ Ｐゴシック"/>
              </a:rPr>
              <a:t>’</a:t>
            </a:r>
            <a:r>
              <a:rPr b="0" lang="fr-FR" sz="1100" spc="-1" strike="noStrike">
                <a:solidFill>
                  <a:srgbClr val="00b1af"/>
                </a:solidFill>
                <a:latin typeface="45 Helvetica Light"/>
                <a:ea typeface="ＭＳ Ｐゴシック"/>
              </a:rPr>
              <a:t>hystérésis correspond à une «tolérance» </a:t>
            </a:r>
            <a:br>
              <a:rPr sz="1100"/>
            </a:br>
            <a:r>
              <a:rPr b="0" lang="fr-FR" sz="1100" spc="-1" strike="noStrike">
                <a:solidFill>
                  <a:srgbClr val="00b1af"/>
                </a:solidFill>
                <a:latin typeface="45 Helvetica Light"/>
                <a:ea typeface="ＭＳ Ｐゴシック"/>
              </a:rPr>
              <a:t>autour de la valeur de consigne du ballon. </a:t>
            </a:r>
            <a:br>
              <a:rPr sz="1100"/>
            </a:br>
            <a:r>
              <a:rPr b="0" lang="fr-FR" sz="1100" spc="-1" strike="noStrike">
                <a:solidFill>
                  <a:srgbClr val="00b1af"/>
                </a:solidFill>
                <a:latin typeface="45 Helvetica Light"/>
                <a:ea typeface="ＭＳ Ｐゴシック"/>
              </a:rPr>
              <a:t>Cette valeur peut avoir un impact important sur les consommations d</a:t>
            </a:r>
            <a:r>
              <a:rPr b="0" lang="ja-JP" sz="1100" spc="-1" strike="noStrike">
                <a:solidFill>
                  <a:srgbClr val="00b1af"/>
                </a:solidFill>
                <a:latin typeface="45 Helvetica Light"/>
                <a:ea typeface="ＭＳ Ｐゴシック"/>
              </a:rPr>
              <a:t>’</a:t>
            </a:r>
            <a:r>
              <a:rPr b="0" lang="fr-FR" sz="1100" spc="-1" strike="noStrike">
                <a:solidFill>
                  <a:srgbClr val="00b1af"/>
                </a:solidFill>
                <a:latin typeface="45 Helvetica Light"/>
                <a:ea typeface="ＭＳ Ｐゴシック"/>
              </a:rPr>
              <a:t>ECS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514" name="Rectangle 25"/>
          <p:cNvSpPr/>
          <p:nvPr/>
        </p:nvSpPr>
        <p:spPr>
          <a:xfrm>
            <a:off x="8298000" y="3817800"/>
            <a:ext cx="1873080" cy="39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0000"/>
                </a:solidFill>
                <a:latin typeface="45 Helvetica Light"/>
                <a:ea typeface="ＭＳ Ｐゴシック"/>
              </a:rPr>
              <a:t>Proposition de modification du commentaire</a:t>
            </a:r>
            <a:endParaRPr b="0" lang="en-US" sz="10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515" name="Espace réservé du texte 4"/>
          <p:cNvSpPr/>
          <p:nvPr/>
        </p:nvSpPr>
        <p:spPr>
          <a:xfrm>
            <a:off x="2027160" y="260280"/>
            <a:ext cx="842976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4 – cas avec stockage : Création de l’objet « Production Stockage »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516" name="Picture 17" descr=""/>
          <p:cNvPicPr/>
          <p:nvPr/>
        </p:nvPicPr>
        <p:blipFill>
          <a:blip r:embed="rId2"/>
          <a:srcRect l="0" t="0" r="80552" b="0"/>
          <a:stretch/>
        </p:blipFill>
        <p:spPr>
          <a:xfrm>
            <a:off x="3400560" y="4502160"/>
            <a:ext cx="431640" cy="14292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19"/>
          <p:cNvSpPr/>
          <p:nvPr/>
        </p:nvSpPr>
        <p:spPr>
          <a:xfrm>
            <a:off x="3400560" y="4429080"/>
            <a:ext cx="40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0,18</a:t>
            </a:r>
            <a:endParaRPr b="0" lang="en-US" sz="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5127480" y="4429080"/>
            <a:ext cx="505080" cy="144360"/>
          </a:xfrm>
          <a:prstGeom prst="rect">
            <a:avLst/>
          </a:prstGeom>
          <a:solidFill>
            <a:srgbClr val="c1c0c8"/>
          </a:solidFill>
          <a:ln w="25560">
            <a:solidFill>
              <a:srgbClr val="c1c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519" name="Rectangle 19"/>
          <p:cNvSpPr/>
          <p:nvPr/>
        </p:nvSpPr>
        <p:spPr>
          <a:xfrm>
            <a:off x="5200560" y="4429080"/>
            <a:ext cx="47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0,990</a:t>
            </a:r>
            <a:endParaRPr b="0" lang="en-US" sz="9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520" name="Picture 17" descr=""/>
          <p:cNvPicPr/>
          <p:nvPr/>
        </p:nvPicPr>
        <p:blipFill>
          <a:blip r:embed="rId3"/>
          <a:srcRect l="0" t="0" r="80552" b="0"/>
          <a:stretch/>
        </p:blipFill>
        <p:spPr>
          <a:xfrm>
            <a:off x="2679840" y="4718160"/>
            <a:ext cx="1152360" cy="14292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19"/>
          <p:cNvSpPr/>
          <p:nvPr/>
        </p:nvSpPr>
        <p:spPr>
          <a:xfrm>
            <a:off x="2648880" y="4645080"/>
            <a:ext cx="136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Chauffage permanent</a:t>
            </a:r>
            <a:endParaRPr b="0" lang="en-US" sz="9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522" name="Picture 17" descr=""/>
          <p:cNvPicPr/>
          <p:nvPr/>
        </p:nvPicPr>
        <p:blipFill>
          <a:blip r:embed="rId4"/>
          <a:srcRect l="0" t="0" r="80552" b="0"/>
          <a:stretch/>
        </p:blipFill>
        <p:spPr>
          <a:xfrm>
            <a:off x="4984920" y="5653080"/>
            <a:ext cx="431640" cy="14436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19"/>
          <p:cNvSpPr/>
          <p:nvPr/>
        </p:nvSpPr>
        <p:spPr>
          <a:xfrm>
            <a:off x="4984920" y="5653080"/>
            <a:ext cx="40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0,56</a:t>
            </a:r>
            <a:endParaRPr b="0" lang="en-US" sz="9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524" name="Picture 17" descr=""/>
          <p:cNvPicPr/>
          <p:nvPr/>
        </p:nvPicPr>
        <p:blipFill>
          <a:blip r:embed="rId5"/>
          <a:srcRect l="0" t="0" r="80552" b="0"/>
          <a:stretch/>
        </p:blipFill>
        <p:spPr>
          <a:xfrm>
            <a:off x="5056200" y="5869080"/>
            <a:ext cx="431640" cy="14436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19"/>
          <p:cNvSpPr/>
          <p:nvPr/>
        </p:nvSpPr>
        <p:spPr>
          <a:xfrm>
            <a:off x="5057640" y="5869080"/>
            <a:ext cx="246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526" name="Espace réservé du numéro de diapositive 2"/>
          <p:cNvSpPr/>
          <p:nvPr/>
        </p:nvSpPr>
        <p:spPr>
          <a:xfrm>
            <a:off x="9880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403D-F346-4795-A39C-928B8836DA6F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4"/>
          <p:cNvSpPr/>
          <p:nvPr/>
        </p:nvSpPr>
        <p:spPr>
          <a:xfrm>
            <a:off x="3213000" y="6999120"/>
            <a:ext cx="457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7/7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528" name="Picture 28" descr="LaCie Disk:1 GRAPHISME:ELEMENTS_OK_FICHES_BET_PRODUIT:F1_P:F1_P_10.jpg"/>
          <p:cNvPicPr/>
          <p:nvPr/>
        </p:nvPicPr>
        <p:blipFill>
          <a:blip r:embed="rId1"/>
          <a:stretch/>
        </p:blipFill>
        <p:spPr>
          <a:xfrm>
            <a:off x="519120" y="2917800"/>
            <a:ext cx="5432400" cy="90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529" name="Text Box 28"/>
          <p:cNvSpPr/>
          <p:nvPr/>
        </p:nvSpPr>
        <p:spPr>
          <a:xfrm>
            <a:off x="2063880" y="3435480"/>
            <a:ext cx="2971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  <a:ea typeface="ＭＳ Ｐゴシック"/>
              </a:rPr>
              <a:t>Vitesse variable et pression différentielle variable</a:t>
            </a:r>
            <a:endParaRPr b="0" lang="en-US" sz="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530" name="Text Box 29"/>
          <p:cNvSpPr/>
          <p:nvPr/>
        </p:nvSpPr>
        <p:spPr>
          <a:xfrm>
            <a:off x="5127480" y="3205080"/>
            <a:ext cx="12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  <a:ea typeface="ＭＳ Ｐゴシック"/>
              </a:rPr>
              <a:t>8 </a:t>
            </a:r>
            <a:endParaRPr b="0" lang="en-US" sz="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531" name="Text Box 33"/>
          <p:cNvSpPr/>
          <p:nvPr/>
        </p:nvSpPr>
        <p:spPr>
          <a:xfrm>
            <a:off x="2063880" y="3222720"/>
            <a:ext cx="11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  <a:ea typeface="ＭＳ Ｐゴシック"/>
              </a:rPr>
              <a:t>OUI</a:t>
            </a:r>
            <a:endParaRPr b="0" lang="en-US" sz="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532" name="Text Box 24"/>
          <p:cNvSpPr/>
          <p:nvPr/>
        </p:nvSpPr>
        <p:spPr>
          <a:xfrm>
            <a:off x="592200" y="1765440"/>
            <a:ext cx="5398920" cy="428760"/>
          </a:xfrm>
          <a:prstGeom prst="rect">
            <a:avLst/>
          </a:prstGeom>
          <a:noFill/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Dans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objet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  <a:ea typeface="ＭＳ Ｐゴシック"/>
              </a:rPr>
              <a:t>«Emission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(        ) =&gt; Onglet «Réseau Chaud»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on indique la présence du circulateur et la puissance de ce dernier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533" name="Picture 27" descr="LaCie Disk:1 GRAPHISME:ELEMENTS_OK_FICHES_BET_PRODUIT:PICTOS:EMISSION_2.jpg"/>
          <p:cNvPicPr/>
          <p:nvPr/>
        </p:nvPicPr>
        <p:blipFill>
          <a:blip r:embed="rId2"/>
          <a:stretch/>
        </p:blipFill>
        <p:spPr>
          <a:xfrm>
            <a:off x="2390760" y="1785960"/>
            <a:ext cx="144360" cy="14616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28" descr="LaCie Disk:1 GRAPHISME:ELEMENTS_OK_FICHES_BET_PRODUIT:F1_P:F1_P_10.jpg"/>
          <p:cNvPicPr/>
          <p:nvPr/>
        </p:nvPicPr>
        <p:blipFill>
          <a:blip r:embed="rId3"/>
          <a:stretch/>
        </p:blipFill>
        <p:spPr>
          <a:xfrm>
            <a:off x="519120" y="4429080"/>
            <a:ext cx="5432400" cy="90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535" name="Text Box 28"/>
          <p:cNvSpPr/>
          <p:nvPr/>
        </p:nvSpPr>
        <p:spPr>
          <a:xfrm>
            <a:off x="2043000" y="4946760"/>
            <a:ext cx="2971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  <a:ea typeface="ＭＳ Ｐゴシック"/>
              </a:rPr>
              <a:t>Vitesse variable et pression différentielle variable</a:t>
            </a:r>
            <a:endParaRPr b="0" lang="en-US" sz="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536" name="Text Box 29"/>
          <p:cNvSpPr/>
          <p:nvPr/>
        </p:nvSpPr>
        <p:spPr>
          <a:xfrm>
            <a:off x="5243400" y="4734000"/>
            <a:ext cx="12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  <a:ea typeface="ＭＳ Ｐゴシック"/>
              </a:rPr>
              <a:t>20 </a:t>
            </a:r>
            <a:endParaRPr b="0" lang="en-US" sz="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537" name="Text Box 33"/>
          <p:cNvSpPr/>
          <p:nvPr/>
        </p:nvSpPr>
        <p:spPr>
          <a:xfrm>
            <a:off x="2043000" y="4734000"/>
            <a:ext cx="11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  <a:ea typeface="ＭＳ Ｐゴシック"/>
              </a:rPr>
              <a:t>OUI</a:t>
            </a:r>
            <a:endParaRPr b="0" lang="en-US" sz="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538" name="Espace réservé du texte 4"/>
          <p:cNvSpPr/>
          <p:nvPr/>
        </p:nvSpPr>
        <p:spPr>
          <a:xfrm>
            <a:off x="2027160" y="260280"/>
            <a:ext cx="842976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Focus : La saisie du circulateur du réseau de distribution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539" name="ZoneTexte 42"/>
          <p:cNvSpPr/>
          <p:nvPr/>
        </p:nvSpPr>
        <p:spPr>
          <a:xfrm>
            <a:off x="519120" y="2629080"/>
            <a:ext cx="410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venir LT Std 55 Roman"/>
              </a:rPr>
              <a:t>Cas avec stockage</a:t>
            </a:r>
            <a:endParaRPr b="0" lang="en-US" sz="12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540" name="ZoneTexte 43"/>
          <p:cNvSpPr/>
          <p:nvPr/>
        </p:nvSpPr>
        <p:spPr>
          <a:xfrm>
            <a:off x="519120" y="4141800"/>
            <a:ext cx="410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venir LT Std 55 Roman"/>
              </a:rPr>
              <a:t>Cas sans stockage</a:t>
            </a:r>
            <a:endParaRPr b="0" lang="en-US" sz="12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541" name="Espace réservé du numéro de diapositive 2"/>
          <p:cNvSpPr/>
          <p:nvPr/>
        </p:nvSpPr>
        <p:spPr>
          <a:xfrm>
            <a:off x="9809280" y="7410600"/>
            <a:ext cx="576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03ED-4C45-405D-A7AB-66ED3DF8F778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4:36:31Z</dcterms:created>
  <dc:creator>jcd heron</dc:creator>
  <dc:description/>
  <dc:language>en-US</dc:language>
  <cp:lastModifiedBy>caroline.saller</cp:lastModifiedBy>
  <cp:lastPrinted>2014-02-20T07:11:44Z</cp:lastPrinted>
  <dcterms:modified xsi:type="dcterms:W3CDTF">2018-10-10T13:54:35Z</dcterms:modified>
  <cp:revision>143</cp:revision>
  <dc:subject/>
  <dc:title>Présentation PowerPoint</dc:title>
</cp:coreProperties>
</file>