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6.jpeg" ContentType="image/jpeg"/>
  <Override PartName="/ppt/media/image10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0C56-B853-4F3A-83B3-BBB97C712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BE0F-BDA5-4E16-90DA-BD43FAF4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19BE1-4426-4871-BC0D-56061853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A3651-42B5-45BD-86A7-A215019F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C75E9-43F1-4733-BEFD-CE3F9FB1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D2516-656B-40DA-9F1E-C1D9DD1A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44964-34CA-452B-A12F-53DE8E98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B5B3D-7D9C-4324-B74F-974A6B62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E9BC1-5555-4A4F-BD52-60829304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24191-FC34-4ED7-939B-78EFB333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150DC-C074-47A3-A6F9-54946842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37F2-04FD-4EFE-AE0F-366DFD22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9A35-B51B-42A8-9AFF-EAA108CB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6386-6823-4339-97D5-CAA5EAED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C094-7E59-4401-B205-C5E97DD9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E37B-4F2E-44E9-8B03-4D997673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49C2-2552-47F3-97FC-291BA8B2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DE3C-E10A-4FBA-8D95-09F21C6C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BB95-EE6E-4AFA-938D-EF65E97C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DF3C-C7B2-4DA8-86EF-6395ACDE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DFFA-4B91-4B03-8A36-18064C5D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2758-6413-4395-8A75-0BF8EA14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4B05-FF77-423A-901E-EDA91E34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70EE-D859-42AB-B57D-A66DDC1E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4D05-CA0C-41B8-8080-04643779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EA0C-4E1E-4986-9C60-955CADBF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89067-E5D6-47A5-82A0-D51993A8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08D1C-A30A-476C-A24D-F0B2580A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EB0E8-2138-4E28-9F6F-D98987BA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D0740-8A2D-44B9-A97B-1F412D78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9113C-B7AB-4DA4-B2FA-48D7D3B2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A65-026F-4F34-9F98-C911E582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E1EEF-5FB8-42F4-B670-9977CA15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FE455-A366-4E73-AB6C-5C4707F6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08303-1974-436B-A4E2-5890A414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92F1F-FF64-42E3-835F-E8F95081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2ABE7-4D4A-422E-A943-958572DB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F7D2E-5D64-4CB1-A570-8192E6A3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BA6C3-7B3A-4117-B711-D7081FDD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73576-1B04-4252-8DE7-9E6EA846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9CB97-00E2-4A40-AF8B-EECB9351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A0235-6F6E-4E74-8952-ACD4FCAD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E4BE-DE5C-4185-A8CF-831DC74B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89057-3AC5-442E-B3C4-362572F4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10351-65D4-41A5-AD1D-22662E31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D33A0-C776-41B8-9643-D09E4F9D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CA339-5754-4E00-96EA-DF49A1E3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C573B-836F-402E-AC8E-14A5D8CE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B4F68-52EB-4439-90D4-8D2778C2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B9AB7-2128-4D68-B382-3FB7053B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7C5B3-354C-4095-A356-9E4AF1DF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835C5-8997-4D15-B639-AB527426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2859F-5DB2-4BAD-A22A-9986F992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0BF6-F737-4AFE-9883-51690B38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7C600-1E72-4EA7-8075-74A6F394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585B7-9126-4C3D-82FA-4F753B0F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4B406-EF25-424F-BAC2-11B76D06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A0E50-97E0-4B1E-9D0D-A1352A75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4117B-0EA1-43C3-A35E-FF2F2721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566FD-19DF-4160-8C75-A8395886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1CA63-1B3F-487C-A8DA-7385ABA8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BB312-6DE5-4CEC-9532-5EC63D8B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E2D83-8C90-4531-A434-901C34FF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0C89B-0266-49AB-8021-F816E59E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2FBD-1C0E-4270-A230-541B5CF6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97466-AE4C-4ED8-8CD7-034B15C9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38A1F-CE54-4A70-894E-F87FB1CB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73C0F-D71A-4B7D-9995-C6F87750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5EF7E-2FE6-46E3-996F-B7288340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789DA-0349-4212-9C6A-F3E65293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A7416-6FF3-4FA4-AD7F-169820DF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CAF32-3811-4BA5-BAFB-3E1FE386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18826-2953-4BA2-97F9-2259ABCC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F892E-D2CA-47C7-928F-664396CC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460AC-6269-4A0D-A8BA-6E0004D2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09A7-1FB1-4E52-B5F2-C560130B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D6110-F221-43E5-AEFE-54861898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BB5B7-5CCE-4DA0-9F37-3B24BB76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67445-F219-4CAC-8846-28E307BA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4E85F-DAE3-4DE6-BB22-E6D35E22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8084B-9E67-4748-A2B3-D67CF305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46839-BD50-4B8D-98F0-973D2A9C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C662C-AF8A-464C-9D08-69D29273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BBC1F-D16E-48BC-9170-3C8EFB22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AC57A-6F2D-4AD0-9888-A3A93DC3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00133-EECC-4FED-9DB1-2F279D0D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4513-EDD3-4DCC-80DE-2DAC19CA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3299E-D4B3-4680-9A22-CD6272C3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FD8AC-F7F0-43A5-B234-CA14A44E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82A28-A7D3-4B8E-AA6E-6FB70F3B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87926-A919-4BB7-8592-4BB91D65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85887-3085-40D8-8192-D830DB53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64B19-A9BE-40B5-B35D-572FA054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6A298-BEFD-4EE1-88CA-451C6904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84C44-6841-4F54-AAFA-F62DFCCE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26B91-C068-4608-A407-2B5466C1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FC028-FF63-4606-B02C-62B78F81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847-29D4-4E24-B061-A22EC414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99207-A2CF-42AA-9B02-6E75752B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35BEB-CF1C-47E7-80A0-19ABCB61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A2DF8-F422-4CBD-8541-40C6CE2C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26A19-4278-4873-9DDD-313E197D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7A262-41CA-4393-8D73-ED30BAB2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6211A-23FE-4863-8936-D35114CF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39658-AEC8-4D51-9343-FAD16811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1FF1B-67A9-4F42-9E9F-BDEE8532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7E1B2-3508-4501-8A6C-3E8A0C46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611F1-F0ED-4E49-8876-CEFFDDA7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D8C8-5242-4F24-A23E-D715A99E9804}" type="slidenum">
              <a:rPr b="0" lang="fr-FR" sz="9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FC05-69DD-4B0F-93F8-579300875B48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7A77-966B-4E35-AD54-4FFAF02C4C79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2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FBC8-C4B9-4628-8B62-074707072642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7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2A67-4905-4706-A650-5ABDF8C00E73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1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0136-6BAD-46C3-ADA7-DCBC97F753E4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3795-6491-4D5B-B89A-3FEE22DA1A46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09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2727-9162-4F41-BEB1-DBD944DF09A9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4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A806-85EF-4664-A264-4DC0AB7C6659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s://techniqueuniclima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200" spc="-1" strike="noStrike">
                <a:solidFill>
                  <a:srgbClr val="9796a3"/>
                </a:solidFill>
                <a:latin typeface="Avenir LT Std 55 Roman"/>
              </a:rPr>
              <a:t>Chaudière à condensation + CESI optimisé</a:t>
            </a:r>
            <a:br>
              <a:rPr sz="3200"/>
            </a:br>
            <a:r>
              <a:rPr b="0" lang="fr-FR" sz="3200" spc="-1" strike="noStrike">
                <a:solidFill>
                  <a:srgbClr val="9796a3"/>
                </a:solidFill>
                <a:latin typeface="Avenir LT Std 55 Roman"/>
              </a:rPr>
              <a:t>CHAFFOTEAUX</a:t>
            </a:r>
            <a:endParaRPr b="0" lang="en-US" sz="32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912680" y="2719440"/>
            <a:ext cx="8397720" cy="25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0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000"/>
            </a:b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0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U22win de PERRENOUD</a:t>
            </a:r>
            <a:endParaRPr b="0" lang="en-US" sz="20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Version 5.1.36 du 06/07/2018</a:t>
            </a:r>
            <a:endParaRPr b="0" lang="en-US" sz="20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000" spc="-1" strike="noStrike">
              <a:solidFill>
                <a:srgbClr val="009bc4"/>
              </a:solidFill>
              <a:latin typeface="Avenir LT Std 65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Image 22" descr="Arborescence perrenoud - Atlantic.PNG"/>
          <p:cNvPicPr/>
          <p:nvPr/>
        </p:nvPicPr>
        <p:blipFill>
          <a:blip r:embed="rId1"/>
          <a:stretch/>
        </p:blipFill>
        <p:spPr>
          <a:xfrm>
            <a:off x="7577280" y="4357800"/>
            <a:ext cx="2663640" cy="239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0" name="Text Box 10"/>
          <p:cNvSpPr/>
          <p:nvPr/>
        </p:nvSpPr>
        <p:spPr>
          <a:xfrm>
            <a:off x="1438200" y="1582560"/>
            <a:ext cx="7934400" cy="44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Le présent document décrit la saisie et la prise en compte d’une chaudière à condensation avec un chauffe-eau solaire optimisé du fabricant CHAFFOTEAUX dans le logiciel d’application de la RT 2012 U22wi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b1af"/>
                </a:solidFill>
                <a:latin typeface="45 Helvetica Light"/>
              </a:rPr>
              <a:t>La chaudière à condensation + CESI optimisé CHAFFOTEAUX </a:t>
            </a: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est composée des 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nsemble du système est décrit dans un objet </a:t>
            </a:r>
            <a:r>
              <a:rPr b="0" lang="fr-FR" sz="1100" spc="-1" strike="noStrike">
                <a:solidFill>
                  <a:srgbClr val="002060"/>
                </a:solidFill>
                <a:latin typeface="75 Helvetica Bold"/>
              </a:rPr>
              <a:t>«génération»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 (       ). Cet objet contient les 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ＭＳ Ｐゴシック"/>
              </a:rPr>
              <a:t>•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ＭＳ Ｐゴシック"/>
              </a:rPr>
              <a:t>un </a:t>
            </a:r>
            <a:r>
              <a:rPr b="0" lang="fr-FR" sz="1100" spc="-1" strike="noStrike">
                <a:solidFill>
                  <a:srgbClr val="002060"/>
                </a:solidFill>
                <a:latin typeface="75 Helvetica Bold"/>
                <a:ea typeface="ＭＳ Ｐゴシック"/>
              </a:rPr>
              <a:t>«générateur»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ＭＳ Ｐゴシック"/>
              </a:rPr>
              <a:t> décrivant les caractéristiques de la chaudière gaz à condensation (      )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ＭＳ Ｐゴシック"/>
              </a:rPr>
              <a:t>•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ＭＳ Ｐゴシック"/>
              </a:rPr>
              <a:t>un </a:t>
            </a:r>
            <a:r>
              <a:rPr b="0" lang="fr-FR" sz="1100" spc="-1" strike="noStrike">
                <a:solidFill>
                  <a:srgbClr val="002060"/>
                </a:solidFill>
                <a:latin typeface="75 Helvetica Bold"/>
                <a:ea typeface="ＭＳ Ｐゴシック"/>
              </a:rPr>
              <a:t>«système de stockage»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ＭＳ Ｐゴシック"/>
              </a:rPr>
              <a:t> décrivant les caractéristiques du ballon de stockage 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ＭＳ Ｐゴシック"/>
              </a:rPr>
              <a:t>   et du système solaire (      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s étapes de la saisie du système sont les suivantes :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ＭＳ Ｐゴシック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ＭＳ Ｐゴシック"/>
              </a:rPr>
              <a:t>étape 1 </a:t>
            </a:r>
            <a:r>
              <a:rPr b="0" lang="fr-FR" sz="1100" spc="-1" strike="noStrike">
                <a:solidFill>
                  <a:srgbClr val="002060"/>
                </a:solidFill>
                <a:latin typeface="B VAG Rounded Bold"/>
                <a:ea typeface="ＭＳ Ｐゴシック"/>
              </a:rPr>
              <a:t>: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ＭＳ Ｐゴシック"/>
              </a:rPr>
              <a:t> création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ＭＳ Ｐゴシック"/>
              </a:rPr>
              <a:t>objet génération «CD + CESI opt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ＭＳ Ｐゴシック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ＭＳ Ｐゴシック"/>
              </a:rPr>
              <a:t>étape 2 </a:t>
            </a:r>
            <a:r>
              <a:rPr b="0" lang="fr-FR" sz="1100" spc="-1" strike="noStrike">
                <a:solidFill>
                  <a:srgbClr val="002060"/>
                </a:solidFill>
                <a:latin typeface="B VAG Rounded Bold"/>
                <a:ea typeface="ＭＳ Ｐゴシック"/>
              </a:rPr>
              <a:t>: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ＭＳ Ｐゴシック"/>
              </a:rPr>
              <a:t> création du générateur «Chaudière à condensation Mira C Green 25 FF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ＭＳ Ｐゴシック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ＭＳ Ｐゴシック"/>
              </a:rPr>
              <a:t>étape 3 </a:t>
            </a:r>
            <a:r>
              <a:rPr b="0" lang="fr-FR" sz="1100" spc="-1" strike="noStrike">
                <a:solidFill>
                  <a:srgbClr val="002060"/>
                </a:solidFill>
                <a:latin typeface="B VAG Rounded Bold"/>
                <a:ea typeface="ＭＳ Ｐゴシック"/>
              </a:rPr>
              <a:t>: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ＭＳ Ｐゴシック"/>
              </a:rPr>
              <a:t> création du système de stockage «Zelios compact CD1 150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ＭＳ Ｐゴシック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ＭＳ Ｐゴシック"/>
              </a:rPr>
              <a:t>étape 4 </a:t>
            </a:r>
            <a:r>
              <a:rPr b="0" lang="fr-FR" sz="1100" spc="-1" strike="noStrike">
                <a:solidFill>
                  <a:srgbClr val="002060"/>
                </a:solidFill>
                <a:latin typeface="B VAG Rounded Bold"/>
                <a:ea typeface="ＭＳ Ｐゴシック"/>
              </a:rPr>
              <a:t>: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ＭＳ Ｐゴシック"/>
              </a:rPr>
              <a:t> création du capteur solaire thermique «Zelios 2.3 V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ＭＳ Ｐゴシック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ＭＳ Ｐゴシック"/>
              </a:rPr>
              <a:t>focus</a:t>
            </a:r>
            <a:r>
              <a:rPr b="0" lang="fr-FR" sz="1100" spc="-1" strike="noStrike">
                <a:solidFill>
                  <a:srgbClr val="002060"/>
                </a:solidFill>
                <a:latin typeface="B VAG Rounded Bold"/>
                <a:ea typeface="ＭＳ Ｐゴシック"/>
              </a:rPr>
              <a:t> :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ＭＳ Ｐゴシック"/>
              </a:rPr>
              <a:t> saisie du circulateur du circuit de distributio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1" name="Rectangle 83"/>
          <p:cNvSpPr/>
          <p:nvPr/>
        </p:nvSpPr>
        <p:spPr>
          <a:xfrm>
            <a:off x="1447920" y="3230640"/>
            <a:ext cx="183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2" name="Rectangle 69"/>
          <p:cNvSpPr/>
          <p:nvPr/>
        </p:nvSpPr>
        <p:spPr>
          <a:xfrm>
            <a:off x="426708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03" name="Picture 302" descr="Travail:1 GRAPHISME:GRDF:FICHES_BET_CEGIBAT_GrDF:FICHES_PRODUIT:ELEMENTS_OK:PICTOS:GENERATEUR.jpg"/>
          <p:cNvPicPr/>
          <p:nvPr/>
        </p:nvPicPr>
        <p:blipFill>
          <a:blip r:embed="rId2"/>
          <a:stretch/>
        </p:blipFill>
        <p:spPr>
          <a:xfrm>
            <a:off x="7000920" y="393228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03" descr="Travail:1 GRAPHISME:GRDF:FICHES_BET_CEGIBAT_GrDF:FICHES_PRODUIT:ELEMENTS_OK:PICTOS:GENERATION.jpg"/>
          <p:cNvPicPr/>
          <p:nvPr/>
        </p:nvPicPr>
        <p:blipFill>
          <a:blip r:embed="rId3"/>
          <a:stretch/>
        </p:blipFill>
        <p:spPr>
          <a:xfrm>
            <a:off x="5465880" y="3564000"/>
            <a:ext cx="237960" cy="217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05" descr="Travail:1 GRAPHISME:GRDF:FICHES_BET_CEGIBAT_GrDF:FICHES_PRODUIT:ELEMENTS_OK:PICTOS:SYST_STOCK.jpg"/>
          <p:cNvPicPr/>
          <p:nvPr/>
        </p:nvPicPr>
        <p:blipFill>
          <a:blip r:embed="rId4"/>
          <a:stretch/>
        </p:blipFill>
        <p:spPr>
          <a:xfrm>
            <a:off x="3255840" y="4383000"/>
            <a:ext cx="209520" cy="19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6" name=""/>
          <p:cNvGraphicFramePr/>
          <p:nvPr/>
        </p:nvGraphicFramePr>
        <p:xfrm>
          <a:off x="1523880" y="2438280"/>
          <a:ext cx="7917120" cy="822600"/>
        </p:xfrm>
        <a:graphic>
          <a:graphicData uri="http://schemas.openxmlformats.org/drawingml/2006/table">
            <a:tbl>
              <a:tblPr/>
              <a:tblGrid>
                <a:gridCol w="2514600"/>
                <a:gridCol w="5402520"/>
              </a:tblGrid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haudière à condensation</a:t>
                      </a:r>
                      <a:endParaRPr b="0" lang="en-US" sz="12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Chaudière gaz à condensation Mira C Green 25 FF</a:t>
                      </a:r>
                      <a:endParaRPr b="0" lang="en-US" sz="12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Un système de stockage d</a:t>
                      </a:r>
                      <a:r>
                        <a:rPr b="0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EC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Un ballon de stockage Zelios compact CD1 150</a:t>
                      </a:r>
                      <a:endParaRPr b="0" lang="en-US" sz="12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apteurs solaire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1 capteur Zelio 2,3 V</a:t>
                      </a:r>
                      <a:endParaRPr b="0" lang="en-US" sz="12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Légende encadrée 1 1"/>
          <p:cNvSpPr/>
          <p:nvPr/>
        </p:nvSpPr>
        <p:spPr>
          <a:xfrm>
            <a:off x="7000920" y="1765440"/>
            <a:ext cx="183960" cy="86184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8" name="Légende encadrée 1 2"/>
          <p:cNvSpPr/>
          <p:nvPr/>
        </p:nvSpPr>
        <p:spPr>
          <a:xfrm>
            <a:off x="6353280" y="1405080"/>
            <a:ext cx="183960" cy="86184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09" name="Connecteur droit avec flèche 5"/>
          <p:cNvCxnSpPr/>
          <p:nvPr/>
        </p:nvCxnSpPr>
        <p:spPr>
          <a:xfrm flipH="1">
            <a:off x="7209720" y="1622160"/>
            <a:ext cx="1135800" cy="11516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10" name="Connecteur droit avec flèche 7"/>
          <p:cNvCxnSpPr/>
          <p:nvPr/>
        </p:nvCxnSpPr>
        <p:spPr>
          <a:xfrm flipH="1">
            <a:off x="159840" y="1268280"/>
            <a:ext cx="720000" cy="354960"/>
          </a:xfrm>
          <a:prstGeom prst="straightConnector1">
            <a:avLst/>
          </a:prstGeom>
          <a:ln w="0">
            <a:noFill/>
          </a:ln>
        </p:spPr>
      </p:cxnSp>
      <p:sp>
        <p:nvSpPr>
          <p:cNvPr id="411" name="Rectangle 21"/>
          <p:cNvSpPr/>
          <p:nvPr/>
        </p:nvSpPr>
        <p:spPr>
          <a:xfrm>
            <a:off x="8224920" y="6518160"/>
            <a:ext cx="194472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45 Helvetica Light"/>
              </a:rPr>
              <a:t>Stockage Zelios compact CD1 150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2" name="Espace réservé du texte 4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3" name="Rectangle 21"/>
          <p:cNvSpPr/>
          <p:nvPr/>
        </p:nvSpPr>
        <p:spPr>
          <a:xfrm>
            <a:off x="8008920" y="6373800"/>
            <a:ext cx="194328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45 Helvetica Light"/>
              </a:rPr>
              <a:t>Chaudière Mira C Green 25 FF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4" name="ZoneTexte 23"/>
          <p:cNvSpPr/>
          <p:nvPr/>
        </p:nvSpPr>
        <p:spPr>
          <a:xfrm>
            <a:off x="8728200" y="4502160"/>
            <a:ext cx="1079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45 Helvetica Light"/>
              </a:rPr>
              <a:t>72,2 / BbioMax = 76,3</a:t>
            </a:r>
            <a:endParaRPr b="0" lang="en-US" sz="6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45 Helvetica Light"/>
              </a:rPr>
              <a:t>64,1 / CepMax = 64,3</a:t>
            </a:r>
            <a:endParaRPr b="0" lang="en-US" sz="6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5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C8D1-DA4E-48F5-B014-5854FE43C8EB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7" descr="LaCie Disk:1 GRAPHISME:ELEMENTS_OK_FICHES_BET_PRODUIT:F3_PER:F3_P_2.jpg"/>
          <p:cNvPicPr/>
          <p:nvPr/>
        </p:nvPicPr>
        <p:blipFill>
          <a:blip r:embed="rId1"/>
          <a:stretch/>
        </p:blipFill>
        <p:spPr>
          <a:xfrm>
            <a:off x="685800" y="1549440"/>
            <a:ext cx="5257800" cy="4821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17" name="Text Box 14"/>
          <p:cNvSpPr/>
          <p:nvPr/>
        </p:nvSpPr>
        <p:spPr>
          <a:xfrm>
            <a:off x="6837480" y="2286000"/>
            <a:ext cx="19206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18" name="AutoShape 16"/>
          <p:cNvCxnSpPr/>
          <p:nvPr/>
        </p:nvCxnSpPr>
        <p:spPr>
          <a:xfrm flipV="1" rot="16200000">
            <a:off x="6642720" y="231300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19" name="AutoShape 19"/>
          <p:cNvCxnSpPr/>
          <p:nvPr/>
        </p:nvCxnSpPr>
        <p:spPr>
          <a:xfrm flipV="1" rot="16200000">
            <a:off x="6642720" y="231300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20" name="AutoShape 24"/>
          <p:cNvCxnSpPr/>
          <p:nvPr/>
        </p:nvCxnSpPr>
        <p:spPr>
          <a:xfrm flipH="1" rot="16200000">
            <a:off x="6477120" y="292068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21" name="AutoShape 41"/>
          <p:cNvCxnSpPr/>
          <p:nvPr/>
        </p:nvCxnSpPr>
        <p:spPr>
          <a:xfrm flipH="1" flipV="1" rot="10800000">
            <a:off x="-360" y="433908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22" name="Freeform 25"/>
          <p:cNvSpPr/>
          <p:nvPr/>
        </p:nvSpPr>
        <p:spPr>
          <a:xfrm flipV="1">
            <a:off x="5562720" y="3148920"/>
            <a:ext cx="2361960" cy="282600"/>
          </a:xfrm>
          <a:custGeom>
            <a:avLst/>
            <a:gdLst>
              <a:gd name="textAreaLeft" fmla="*/ 0 w 2361960"/>
              <a:gd name="textAreaRight" fmla="*/ 2362320 w 2361960"/>
              <a:gd name="textAreaTop" fmla="*/ -360 h 282600"/>
              <a:gd name="textAreaBottom" fmla="*/ 282600 h 2826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656400" y="285948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Un emplacement en volume chauffé permet de réduire les consommations par rapport à un emplacement hors volume chauffé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4" name="Text Box 19"/>
          <p:cNvSpPr/>
          <p:nvPr/>
        </p:nvSpPr>
        <p:spPr>
          <a:xfrm>
            <a:off x="2513160" y="5664240"/>
            <a:ext cx="13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5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5" name="Espace réservé du texte 4"/>
          <p:cNvSpPr/>
          <p:nvPr/>
        </p:nvSpPr>
        <p:spPr>
          <a:xfrm>
            <a:off x="2027160" y="260280"/>
            <a:ext cx="835812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génération «CD + CESI opt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6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01ED-25A1-4E7D-AFB9-3CACC62DE704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5" descr="LaCie Disk:1 GRAPHISME:ELEMENTS_OK_FICHES_BET_PRODUIT:F3_PER:F3_P_3.jpg"/>
          <p:cNvPicPr/>
          <p:nvPr/>
        </p:nvPicPr>
        <p:blipFill>
          <a:blip r:embed="rId1"/>
          <a:stretch/>
        </p:blipFill>
        <p:spPr>
          <a:xfrm>
            <a:off x="736560" y="1405080"/>
            <a:ext cx="5560920" cy="5483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28" name="Text Box 24"/>
          <p:cNvSpPr/>
          <p:nvPr/>
        </p:nvSpPr>
        <p:spPr>
          <a:xfrm>
            <a:off x="321300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4/7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6837480" y="178920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30" name="AutoShape 12"/>
          <p:cNvCxnSpPr/>
          <p:nvPr/>
        </p:nvCxnSpPr>
        <p:spPr>
          <a:xfrm flipH="1" flipV="1" rot="10800000">
            <a:off x="-360" y="384300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31" name="Text Box 48"/>
          <p:cNvSpPr/>
          <p:nvPr/>
        </p:nvSpPr>
        <p:spPr>
          <a:xfrm>
            <a:off x="3665160" y="358128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1,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2" name="Text Box 49"/>
          <p:cNvSpPr/>
          <p:nvPr/>
        </p:nvSpPr>
        <p:spPr>
          <a:xfrm>
            <a:off x="3657240" y="379872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97,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3" name="Text Box 50"/>
          <p:cNvSpPr/>
          <p:nvPr/>
        </p:nvSpPr>
        <p:spPr>
          <a:xfrm>
            <a:off x="3664800" y="42418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,039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4" name="Text Box 51"/>
          <p:cNvSpPr/>
          <p:nvPr/>
        </p:nvSpPr>
        <p:spPr>
          <a:xfrm>
            <a:off x="3744720" y="447048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6,4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5" name="Text Box 52"/>
          <p:cNvSpPr/>
          <p:nvPr/>
        </p:nvSpPr>
        <p:spPr>
          <a:xfrm>
            <a:off x="3664440" y="46990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09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6" name="Text Box 54"/>
          <p:cNvSpPr/>
          <p:nvPr/>
        </p:nvSpPr>
        <p:spPr>
          <a:xfrm>
            <a:off x="3732480" y="5380200"/>
            <a:ext cx="13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7" name="Text Box 55"/>
          <p:cNvSpPr/>
          <p:nvPr/>
        </p:nvSpPr>
        <p:spPr>
          <a:xfrm>
            <a:off x="3732840" y="5613480"/>
            <a:ext cx="16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4,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8" name="Text Box 56"/>
          <p:cNvSpPr/>
          <p:nvPr/>
        </p:nvSpPr>
        <p:spPr>
          <a:xfrm>
            <a:off x="4680720" y="379872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9" name="Text Box 57"/>
          <p:cNvSpPr/>
          <p:nvPr/>
        </p:nvSpPr>
        <p:spPr>
          <a:xfrm>
            <a:off x="5612040" y="3581280"/>
            <a:ext cx="6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0" name="Text Box 58"/>
          <p:cNvSpPr/>
          <p:nvPr/>
        </p:nvSpPr>
        <p:spPr>
          <a:xfrm>
            <a:off x="4680720" y="469908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1" name="Text Box 60"/>
          <p:cNvSpPr/>
          <p:nvPr/>
        </p:nvSpPr>
        <p:spPr>
          <a:xfrm>
            <a:off x="3458880" y="6005520"/>
            <a:ext cx="835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2" name="Text Box 61"/>
          <p:cNvSpPr/>
          <p:nvPr/>
        </p:nvSpPr>
        <p:spPr>
          <a:xfrm>
            <a:off x="3458880" y="6222960"/>
            <a:ext cx="835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3" name="Rectangle 29"/>
          <p:cNvSpPr/>
          <p:nvPr/>
        </p:nvSpPr>
        <p:spPr>
          <a:xfrm>
            <a:off x="2946240" y="1857240"/>
            <a:ext cx="1297080" cy="12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4" name="Text Box 48"/>
          <p:cNvSpPr/>
          <p:nvPr/>
        </p:nvSpPr>
        <p:spPr>
          <a:xfrm>
            <a:off x="2514600" y="1878120"/>
            <a:ext cx="2305080" cy="10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Chaudière Mira C Green 25 FF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5" name="Text Box 18"/>
          <p:cNvSpPr/>
          <p:nvPr/>
        </p:nvSpPr>
        <p:spPr>
          <a:xfrm>
            <a:off x="6850080" y="1482840"/>
            <a:ext cx="3292560" cy="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Toutes les caractéristiques de performances des générateurs sont disponibles sur le site du fabricant, EDIBATEC et 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75 Helvetica Bold"/>
                <a:hlinkClick r:id="rId2"/>
              </a:rPr>
              <a:t>la base de données ATITA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 (https://techniqueuniclima.com/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6" name="Espace réservé du texte 4"/>
          <p:cNvSpPr/>
          <p:nvPr/>
        </p:nvSpPr>
        <p:spPr>
          <a:xfrm>
            <a:off x="2027160" y="287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«Chaudière à condensation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7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02C1-8796-418D-9D86-4203E44DF340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8"/>
          <p:cNvSpPr/>
          <p:nvPr/>
        </p:nvSpPr>
        <p:spPr>
          <a:xfrm>
            <a:off x="7054920" y="237492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49" name="AutoShape 11"/>
          <p:cNvCxnSpPr/>
          <p:nvPr/>
        </p:nvCxnSpPr>
        <p:spPr>
          <a:xfrm flipH="1" rot="16200000">
            <a:off x="6550200" y="300960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50" name="AutoShape 12"/>
          <p:cNvCxnSpPr/>
          <p:nvPr/>
        </p:nvCxnSpPr>
        <p:spPr>
          <a:xfrm flipH="1" flipV="1" rot="10800000">
            <a:off x="75960" y="385416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51" name="Text Box 34"/>
          <p:cNvSpPr/>
          <p:nvPr/>
        </p:nvSpPr>
        <p:spPr>
          <a:xfrm>
            <a:off x="4744440" y="4152960"/>
            <a:ext cx="550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Ballon n°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2" name="Text Box 35"/>
          <p:cNvSpPr/>
          <p:nvPr/>
        </p:nvSpPr>
        <p:spPr>
          <a:xfrm>
            <a:off x="3575160" y="43815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50.0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3" name="Text Box 36"/>
          <p:cNvSpPr/>
          <p:nvPr/>
        </p:nvSpPr>
        <p:spPr>
          <a:xfrm>
            <a:off x="2874240" y="461016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4" name="Text Box 37"/>
          <p:cNvSpPr/>
          <p:nvPr/>
        </p:nvSpPr>
        <p:spPr>
          <a:xfrm>
            <a:off x="3582360" y="483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,20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5" name="Text Box 38"/>
          <p:cNvSpPr/>
          <p:nvPr/>
        </p:nvSpPr>
        <p:spPr>
          <a:xfrm>
            <a:off x="2859840" y="5067360"/>
            <a:ext cx="1181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Chauffage perman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6" name="Text Box 39"/>
          <p:cNvSpPr/>
          <p:nvPr/>
        </p:nvSpPr>
        <p:spPr>
          <a:xfrm>
            <a:off x="3653640" y="5524560"/>
            <a:ext cx="16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5,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7" name="Text Box 40"/>
          <p:cNvSpPr/>
          <p:nvPr/>
        </p:nvSpPr>
        <p:spPr>
          <a:xfrm>
            <a:off x="5329080" y="605808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,57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8" name="Text Box 41"/>
          <p:cNvSpPr/>
          <p:nvPr/>
        </p:nvSpPr>
        <p:spPr>
          <a:xfrm>
            <a:off x="5329440" y="6286680"/>
            <a:ext cx="6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9" name="Text Box 40"/>
          <p:cNvSpPr/>
          <p:nvPr/>
        </p:nvSpPr>
        <p:spPr>
          <a:xfrm>
            <a:off x="5415120" y="48672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,25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60" name="Picture 28" descr=""/>
          <p:cNvPicPr/>
          <p:nvPr/>
        </p:nvPicPr>
        <p:blipFill>
          <a:blip r:embed="rId1"/>
          <a:stretch/>
        </p:blipFill>
        <p:spPr>
          <a:xfrm>
            <a:off x="3473280" y="5505480"/>
            <a:ext cx="1152720" cy="2188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3" descr=""/>
          <p:cNvPicPr/>
          <p:nvPr/>
        </p:nvPicPr>
        <p:blipFill>
          <a:blip r:embed="rId2"/>
          <a:stretch/>
        </p:blipFill>
        <p:spPr>
          <a:xfrm>
            <a:off x="736560" y="1620720"/>
            <a:ext cx="5738760" cy="4967280"/>
          </a:xfrm>
          <a:prstGeom prst="rect">
            <a:avLst/>
          </a:prstGeom>
          <a:ln cap="sq" w="3816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62" name="Text Box 48"/>
          <p:cNvSpPr/>
          <p:nvPr/>
        </p:nvSpPr>
        <p:spPr>
          <a:xfrm>
            <a:off x="2968560" y="2139840"/>
            <a:ext cx="26640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Stockage Zelios compact CD1 et capteur Zelio 2.3 V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3" name="Freeform 42"/>
          <p:cNvSpPr/>
          <p:nvPr/>
        </p:nvSpPr>
        <p:spPr>
          <a:xfrm>
            <a:off x="5856120" y="2095560"/>
            <a:ext cx="1295640" cy="4572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816" h="288">
                <a:moveTo>
                  <a:pt x="816" y="0"/>
                </a:moveTo>
                <a:lnTo>
                  <a:pt x="480" y="0"/>
                </a:lnTo>
                <a:lnTo>
                  <a:pt x="480" y="288"/>
                </a:lnTo>
                <a:lnTo>
                  <a:pt x="0" y="288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4" name="Text Box 25"/>
          <p:cNvSpPr/>
          <p:nvPr/>
        </p:nvSpPr>
        <p:spPr>
          <a:xfrm>
            <a:off x="6873840" y="1714680"/>
            <a:ext cx="329256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e système «CESI optimisé»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gaz est de type séparé instantané aﬁ n de limiter les déperditions. Au contraire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est intégré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5" name="Freeform 43"/>
          <p:cNvSpPr/>
          <p:nvPr/>
        </p:nvSpPr>
        <p:spPr>
          <a:xfrm>
            <a:off x="4560840" y="4076640"/>
            <a:ext cx="3505320" cy="38124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816" h="288">
                <a:moveTo>
                  <a:pt x="816" y="0"/>
                </a:moveTo>
                <a:lnTo>
                  <a:pt x="480" y="0"/>
                </a:lnTo>
                <a:lnTo>
                  <a:pt x="480" y="288"/>
                </a:lnTo>
                <a:lnTo>
                  <a:pt x="0" y="288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6" name="Text Box 25"/>
          <p:cNvSpPr/>
          <p:nvPr/>
        </p:nvSpPr>
        <p:spPr>
          <a:xfrm>
            <a:off x="6873840" y="3772080"/>
            <a:ext cx="329256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 volume du ballon est plus faible dans un système «CESI optimisé» que dans un système «CESI classique» aﬁn de limiter les pert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7" name="Espace réservé du texte 4"/>
          <p:cNvSpPr/>
          <p:nvPr/>
        </p:nvSpPr>
        <p:spPr>
          <a:xfrm>
            <a:off x="2027160" y="287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u système de stockage «Zelios compact CD1 150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8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DA1F-5D66-470D-8B4B-333983E97167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9" name="Text Box 44"/>
          <p:cNvSpPr/>
          <p:nvPr/>
        </p:nvSpPr>
        <p:spPr>
          <a:xfrm>
            <a:off x="5414760" y="6084720"/>
            <a:ext cx="22788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,3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4"/>
          <p:cNvSpPr/>
          <p:nvPr/>
        </p:nvSpPr>
        <p:spPr>
          <a:xfrm>
            <a:off x="321300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6/7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71" name="AutoShape 12"/>
          <p:cNvCxnSpPr/>
          <p:nvPr/>
        </p:nvCxnSpPr>
        <p:spPr>
          <a:xfrm flipV="1" rot="16200000">
            <a:off x="6550920" y="3083760"/>
            <a:ext cx="1080" cy="10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72" name="AutoShape 13"/>
          <p:cNvCxnSpPr/>
          <p:nvPr/>
        </p:nvCxnSpPr>
        <p:spPr>
          <a:xfrm flipH="1" flipV="1" rot="10800000">
            <a:off x="72720" y="389376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73" name="Text Box 22"/>
          <p:cNvSpPr/>
          <p:nvPr/>
        </p:nvSpPr>
        <p:spPr>
          <a:xfrm>
            <a:off x="6729480" y="3616200"/>
            <a:ext cx="375912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4" name="Freeform 23"/>
          <p:cNvSpPr/>
          <p:nvPr/>
        </p:nvSpPr>
        <p:spPr>
          <a:xfrm flipV="1">
            <a:off x="5178600" y="2121840"/>
            <a:ext cx="1600200" cy="1143000"/>
          </a:xfrm>
          <a:custGeom>
            <a:avLst/>
            <a:gdLst>
              <a:gd name="textAreaLeft" fmla="*/ 0 w 1600200"/>
              <a:gd name="textAreaRight" fmla="*/ 1600560 w 160020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5" name="Rectangle 16"/>
          <p:cNvSpPr/>
          <p:nvPr/>
        </p:nvSpPr>
        <p:spPr>
          <a:xfrm>
            <a:off x="6280200" y="1838160"/>
            <a:ext cx="37465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45 Helvetica Light"/>
              </a:rPr>
              <a:t>Les caractéristiques de performances des capteurs solaires sont données dans les avis techniques ou les PV Keymark des produit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76" name="Picture 31" descr=""/>
          <p:cNvPicPr/>
          <p:nvPr/>
        </p:nvPicPr>
        <p:blipFill>
          <a:blip r:embed="rId1"/>
          <a:stretch/>
        </p:blipFill>
        <p:spPr>
          <a:xfrm>
            <a:off x="736560" y="1654200"/>
            <a:ext cx="4824360" cy="5256360"/>
          </a:xfrm>
          <a:prstGeom prst="rect">
            <a:avLst/>
          </a:prstGeom>
          <a:ln cap="sq" w="3816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77" name="Freeform 24"/>
          <p:cNvSpPr/>
          <p:nvPr/>
        </p:nvSpPr>
        <p:spPr>
          <a:xfrm>
            <a:off x="4552920" y="4133880"/>
            <a:ext cx="4500720" cy="861840"/>
          </a:xfrm>
          <a:custGeom>
            <a:avLst/>
            <a:gdLst>
              <a:gd name="textAreaLeft" fmla="*/ 0 w 4500720"/>
              <a:gd name="textAreaRight" fmla="*/ 4501080 w 4500720"/>
              <a:gd name="textAreaTop" fmla="*/ 0 h 861840"/>
              <a:gd name="textAreaBottom" fmla="*/ 862200 h 86184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8" name="Text Box 25"/>
          <p:cNvSpPr/>
          <p:nvPr/>
        </p:nvSpPr>
        <p:spPr>
          <a:xfrm>
            <a:off x="6337440" y="4680000"/>
            <a:ext cx="375912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ttention à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rientation des panneaux qui a un fort impact sur la production d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. Une orientation au Nord (cas extrême) peut augmenter la consommation d’un proje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9" name="Freeform 24"/>
          <p:cNvSpPr/>
          <p:nvPr/>
        </p:nvSpPr>
        <p:spPr>
          <a:xfrm flipV="1">
            <a:off x="4557600" y="3066480"/>
            <a:ext cx="4267440" cy="609480"/>
          </a:xfrm>
          <a:custGeom>
            <a:avLst/>
            <a:gdLst>
              <a:gd name="textAreaLeft" fmla="*/ 0 w 4267440"/>
              <a:gd name="textAreaRight" fmla="*/ 4267800 w 4267440"/>
              <a:gd name="textAreaTop" fmla="*/ -360 h 609480"/>
              <a:gd name="textAreaBottom" fmla="*/ 609480 h 60948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0" name="Text Box 25"/>
          <p:cNvSpPr/>
          <p:nvPr/>
        </p:nvSpPr>
        <p:spPr>
          <a:xfrm>
            <a:off x="6337440" y="2762280"/>
            <a:ext cx="37591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a surface des capteurs solaires est plus faible dans un système «CESI optimisé» que dans un système «CESI classique».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1" name="Text Box 25"/>
          <p:cNvSpPr/>
          <p:nvPr/>
        </p:nvSpPr>
        <p:spPr>
          <a:xfrm>
            <a:off x="6340320" y="5583240"/>
            <a:ext cx="375948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e manière générale, la régulation de la boucle solaire s’effectue sur le température en maison individuell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82" name="Connecteur en angle 32"/>
          <p:cNvCxnSpPr>
            <a:stCxn id="481" idx="1"/>
          </p:cNvCxnSpPr>
          <p:nvPr/>
        </p:nvCxnSpPr>
        <p:spPr>
          <a:xfrm rot="10800000">
            <a:off x="4880880" y="5438160"/>
            <a:ext cx="1459440" cy="361080"/>
          </a:xfrm>
          <a:prstGeom prst="bentConnector3">
            <a:avLst>
              <a:gd name="adj1" fmla="val 49987"/>
            </a:avLst>
          </a:prstGeom>
          <a:ln w="936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483" name="Connecteur droit 22"/>
          <p:cNvSpPr/>
          <p:nvPr/>
        </p:nvSpPr>
        <p:spPr>
          <a:xfrm flipV="1">
            <a:off x="2825640" y="2125800"/>
            <a:ext cx="827280" cy="7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4" name="Text Box 48"/>
          <p:cNvSpPr/>
          <p:nvPr/>
        </p:nvSpPr>
        <p:spPr>
          <a:xfrm>
            <a:off x="2320920" y="2125800"/>
            <a:ext cx="2664000" cy="20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e3073"/>
                </a:solidFill>
                <a:latin typeface="55 Helvetica Roman"/>
              </a:rPr>
              <a:t>Stockage Zelios compact CD1 et capteur Zelio 2.3 V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5" name="Espace réservé du texte 4"/>
          <p:cNvSpPr/>
          <p:nvPr/>
        </p:nvSpPr>
        <p:spPr>
          <a:xfrm>
            <a:off x="2027160" y="287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: création du capteur solaire thermique «Zelios 2.3 V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6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558B-AEE6-4269-8E70-B5D72CC2DA8C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9"/>
          <p:cNvSpPr/>
          <p:nvPr/>
        </p:nvSpPr>
        <p:spPr>
          <a:xfrm>
            <a:off x="6837480" y="172728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88" name="AutoShape 12"/>
          <p:cNvCxnSpPr/>
          <p:nvPr/>
        </p:nvCxnSpPr>
        <p:spPr>
          <a:xfrm flipH="1" rot="16200000">
            <a:off x="6522840" y="3107880"/>
            <a:ext cx="252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89" name="AutoShape 13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90" name="Text Box 22"/>
          <p:cNvSpPr/>
          <p:nvPr/>
        </p:nvSpPr>
        <p:spPr>
          <a:xfrm>
            <a:off x="6656400" y="2895480"/>
            <a:ext cx="329256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1" name="Freeform 23"/>
          <p:cNvSpPr/>
          <p:nvPr/>
        </p:nvSpPr>
        <p:spPr>
          <a:xfrm flipV="1">
            <a:off x="5151600" y="2147040"/>
            <a:ext cx="1600200" cy="1143000"/>
          </a:xfrm>
          <a:custGeom>
            <a:avLst/>
            <a:gdLst>
              <a:gd name="textAreaLeft" fmla="*/ 0 w 1600200"/>
              <a:gd name="textAreaRight" fmla="*/ 1600560 w 160020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2" name="Text Box 24"/>
          <p:cNvSpPr/>
          <p:nvPr/>
        </p:nvSpPr>
        <p:spPr>
          <a:xfrm>
            <a:off x="782640" y="1790640"/>
            <a:ext cx="5856120" cy="42876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bjet </a:t>
            </a:r>
            <a:r>
              <a:rPr b="0" lang="fr-FR" sz="1100" spc="-1" strike="noStrike">
                <a:solidFill>
                  <a:srgbClr val="002060"/>
                </a:solidFill>
                <a:latin typeface="75 Helvetica Bold"/>
              </a:rPr>
              <a:t>«Emission»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 (       )  =&gt; Onglet «Réseau Chaud»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n indique la présence du circulateur et la puissance de ce dernier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93" name="Picture 27" descr="LaCie Disk:1 GRAPHISME:ELEMENTS_OK_FICHES_BET_PRODUIT:PICTOS:EMISSION_2.jpg"/>
          <p:cNvPicPr/>
          <p:nvPr/>
        </p:nvPicPr>
        <p:blipFill>
          <a:blip r:embed="rId1"/>
          <a:stretch/>
        </p:blipFill>
        <p:spPr>
          <a:xfrm>
            <a:off x="2509920" y="187020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9" descr=""/>
          <p:cNvPicPr/>
          <p:nvPr/>
        </p:nvPicPr>
        <p:blipFill>
          <a:blip r:embed="rId2"/>
          <a:stretch/>
        </p:blipFill>
        <p:spPr>
          <a:xfrm>
            <a:off x="808200" y="2486160"/>
            <a:ext cx="5819760" cy="838080"/>
          </a:xfrm>
          <a:prstGeom prst="rect">
            <a:avLst/>
          </a:prstGeom>
          <a:ln cap="sq"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95" name="ZoneTexte 15"/>
          <p:cNvSpPr/>
          <p:nvPr/>
        </p:nvSpPr>
        <p:spPr>
          <a:xfrm>
            <a:off x="2319480" y="2989440"/>
            <a:ext cx="2305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060"/>
                </a:solidFill>
                <a:latin typeface="45 Helvetica Light"/>
              </a:rPr>
              <a:t>Selon projet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6" name="Espace réservé du texte 4"/>
          <p:cNvSpPr/>
          <p:nvPr/>
        </p:nvSpPr>
        <p:spPr>
          <a:xfrm>
            <a:off x="2027160" y="287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Focus : La saisie du circulateur du réseau de distribu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7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0B5B-C25E-440B-8A61-E565360F5950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jcd heron</dc:creator>
  <dc:description/>
  <dc:language>en-US</dc:language>
  <cp:lastModifiedBy>caroline.saller</cp:lastModifiedBy>
  <cp:lastPrinted>2014-02-20T07:11:44Z</cp:lastPrinted>
  <dcterms:modified xsi:type="dcterms:W3CDTF">2018-10-10T13:55:23Z</dcterms:modified>
  <cp:revision>136</cp:revision>
  <dc:subject/>
  <dc:title>Présentation PowerPoint</dc:title>
</cp:coreProperties>
</file>