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2BE-4DED-4CD6-B56C-EA43F10D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5DA-9F40-4E1D-82F2-4ABE9537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0D25B-31DD-471A-A586-10BB283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E611-6A75-4CA3-8DC9-9657858A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98017-6A9C-4250-A9FE-B8E3FCD8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11415-40C1-4A4D-A826-6045ABA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9054-26A8-4ECF-A3D1-E85DBB3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DABC7-9732-4381-AF9E-00B650D4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26BD6-D01A-4842-957B-26D6FF82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68913-8201-40F1-A774-1D780DB7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27C56-E57C-4D4C-A786-68303129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957-224E-4602-8031-CEDF149B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182-0D78-4479-BDF9-5C7EFB32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9C1-9C64-448B-A310-8723267E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681-B687-432E-BC60-9C2AAE2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EB5B-D6DD-47A5-9DE5-E1418647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05F-A89E-4A86-A80A-6504D07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73B6-8EF7-4A33-BB1A-D318932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8D8-0967-4AC4-96AC-5CB2C66B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CCA2-5D15-42C0-B5FE-B2515A9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895-8B5A-4DB1-AB2B-99BA512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9063-6C15-4E09-B236-C924536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8FC9-334D-4CFB-B5EF-A804A17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3632-E793-4725-B618-11C63FA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7B61-A8B4-49F4-8305-57DA8A45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D48-494C-4F2F-844C-2570844F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28DC-B504-4006-9A1D-C53D8F0D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C0DF-5149-4C2F-B2D2-DE2A1DD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2B04-2D7A-45EE-93B6-8F9C988A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C505-6E15-435F-9B89-6551D453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19DE-B962-46E1-BF1C-ABE65A1F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E06-B567-444C-9DA3-75102D10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1A21-7CD6-4531-83B9-5336748F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7289-3CF1-49D0-AD2D-18F21D5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3B75-F8C7-4509-BEB0-7D973B5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6FF8-4243-41B2-BB19-858D727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1CA8-A832-4F56-9AB8-3AF87E1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CF14-DB0E-4AD6-A4E7-DAA28E18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86B0-9911-4A34-92B1-572EEF3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F88A-F094-4BDA-9982-321A972A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2904-43FC-481C-A07D-4036EEA3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E23E-AD4F-45FC-9F12-6CDFEA25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967-96FE-448A-9804-5EDEB03F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4580-8D8C-4E65-A5D5-26C449F4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A8CB-FC4A-4F63-9EF7-9279308A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78B7-7CAE-4BAB-B6AD-CB57B893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2A90-7B5F-4A21-9310-9972D45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F0EB-5260-4E26-A561-A2540C85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46EB-E76C-464D-8EA4-AAADDD2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E3A3-B9E3-48F3-BD64-42344FEA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0DF1-48A5-46D0-9C2B-05BAF04B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62B1-7619-4090-91B2-E75A6929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31BB1-85C3-4C1F-829C-4492EC58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8BC-49D3-480A-8713-29B7F10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336CA-7261-43C4-A013-788C234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CE73-5694-4E47-84F0-A04A41EF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9177A-1D9B-4248-9CE5-5A2929A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877A-1F2A-4E88-8FDB-6FFAB67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2817-E806-455A-918F-A83E1E18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D338-B23A-4B88-BD59-944C017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3C7D3-0C1F-4AEF-8046-8A11B05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501D-BE23-4427-8F47-A9BFFBB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DECB9-5CFF-4665-B563-AD9BF24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1A0BD-A0F2-43FF-9E15-CC29F870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C24-7D36-4E78-A47D-31F22ACF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4E91-06D2-4BB3-8378-BB6C29AD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6242-B382-426C-AF5A-EEF90FE8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A88F-17B5-413B-83CB-A31D7A7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0487-619C-496D-B94D-804D2F5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364F-27FA-4C77-8F81-C51E669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40A25-92D2-46FE-8271-6A5F2551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6632-36AE-4E4A-B08F-41AF52A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7B8D-C1F9-40EB-9460-821B53F3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74E7B-2FED-47FA-9910-6388F5B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6269-650C-4FA7-99E7-8B9F68D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821-491B-465D-BA35-E5DAEBC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1CF66-6B2D-4EAA-8E13-5C94DABE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C92D-9154-4823-BC30-9E7A33E7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4BF9-AA62-4A40-B070-7DA46207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F114D-05A1-45DD-8DA9-A634CF54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F566-DD20-43FB-9F7F-D32BFFDB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5A87-9195-4630-BBA6-9B75C84F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D788E-9170-4933-A991-31838BD0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DDBC-E200-4C66-801C-68CF273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4A85F-7E06-4B49-BEC9-19F19FB4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211B-2566-443C-B9CA-C29A495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D11-1683-4DED-98DC-61BCCE1C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07C02-B94E-487B-ACD5-8197FDF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284E-7C63-40A6-89E4-353AE97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CE613-A17A-4392-9597-B0D90F9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8306D-364F-4CA4-A0A6-F8B1836A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59F4-58B8-4D6B-B170-20BB543C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F6E7-B74F-4860-B7F0-7564CCCF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FC57-ABFB-4F4A-B2EC-83569A8E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25C4-C430-41FB-A846-29A61D3A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B5240-13B1-4719-977E-1C0F8072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003A-E860-4F03-8D55-4A0D3D7E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B84-0EE0-4F14-A622-E8161585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52544-C029-45D0-AB31-86F04AEB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A766-DFCE-48E2-9D37-0385FA0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23ACE-FACE-4BD9-A259-2C1F308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20955-D4A2-445D-A66E-8ED2B820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58EAE-3292-4228-9928-645CEC91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F85EC-EBC6-4598-8367-BFBDB00B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18428-3818-4305-93D1-0E364E0E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E62EA-E5DE-478A-9157-DDAD1920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C55F3-0139-49A8-850D-B29EC134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B4717-8E86-4874-B20F-6274CA0C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072-E330-4E2E-8802-9CCAC139EB74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781-D9CD-4ED0-80CE-0BA110F8F4D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43DB-59F8-4AA4-894E-66E5070417F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490-1C09-4840-AA87-2548FF3B856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7427-E419-4A4C-B6DB-15D0FCFDEC0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CF8-84D7-46F1-A564-C8F17607DA8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563D-3819-4DB1-96EF-0E9C4DAF26D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074E-C7F4-4EBE-B402-62613B2F552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3B53-AF0B-4D4E-BCC5-71C14AD735F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techniqueuniclima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PPEE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0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000"/>
            </a:b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Image 22" descr="Arborescence perrenoud - Atlantic.PNG"/>
          <p:cNvPicPr/>
          <p:nvPr/>
        </p:nvPicPr>
        <p:blipFill>
          <a:blip r:embed="rId1"/>
          <a:stretch/>
        </p:blipFill>
        <p:spPr>
          <a:xfrm>
            <a:off x="7719840" y="4213080"/>
            <a:ext cx="25131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ZoneTexte 23"/>
          <p:cNvSpPr/>
          <p:nvPr/>
        </p:nvSpPr>
        <p:spPr>
          <a:xfrm>
            <a:off x="8801280" y="435780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438200" y="1582560"/>
            <a:ext cx="793440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CHAPPEE dans le logiciel d’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CHAPPEE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générateur «Chaudière à condensation Initia Plus HTE 2.29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système de stockage «Stockage SOLAR Wsi 150 L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création du capteur solaire thermique «SOL 20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36400" y="453960"/>
            <a:ext cx="9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 VAG Rounded Light"/>
              </a:rPr>
              <a:t>Présentation</a:t>
            </a:r>
            <a:endParaRPr b="0" lang="en-US" sz="1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5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7" name="Picture 302" descr="Travail:1 GRAPHISME:GRDF:FICHES_BET_CEGIBAT_GrDF:FICHES_PRODUIT:ELEMENTS_OK:PICTOS:GENERATEUR.jpg"/>
          <p:cNvPicPr/>
          <p:nvPr/>
        </p:nvPicPr>
        <p:blipFill>
          <a:blip r:embed="rId2"/>
          <a:stretch/>
        </p:blipFill>
        <p:spPr>
          <a:xfrm>
            <a:off x="7000920" y="38527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03" descr="Travail:1 GRAPHISME:GRDF:FICHES_BET_CEGIBAT_GrDF:FICHES_PRODUIT:ELEMENTS_OK:PICTOS:GENERATION.jpg"/>
          <p:cNvPicPr/>
          <p:nvPr/>
        </p:nvPicPr>
        <p:blipFill>
          <a:blip r:embed="rId3"/>
          <a:stretch/>
        </p:blipFill>
        <p:spPr>
          <a:xfrm>
            <a:off x="5487840" y="3494160"/>
            <a:ext cx="238320" cy="217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5" descr="Travail:1 GRAPHISME:GRDF:FICHES_BET_CEGIBAT_GrDF:FICHES_PRODUIT:ELEMENTS_OK:PICTOS:SYST_STOCK.jpg"/>
          <p:cNvPicPr/>
          <p:nvPr/>
        </p:nvPicPr>
        <p:blipFill>
          <a:blip r:embed="rId4"/>
          <a:stretch/>
        </p:blipFill>
        <p:spPr>
          <a:xfrm>
            <a:off x="3262320" y="428616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Initia Plus HTE 2.29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Wsi 150 L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SOL 200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13"/>
          <p:cNvSpPr/>
          <p:nvPr/>
        </p:nvSpPr>
        <p:spPr>
          <a:xfrm>
            <a:off x="8369280" y="6229440"/>
            <a:ext cx="1655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Wsi 150 L + capteur SOL20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8153280" y="6084720"/>
            <a:ext cx="2016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haudière Initia+HTE 2.2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BC8F-CA99-42AA-B973-B5992D9C476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736560" y="1477800"/>
            <a:ext cx="5257800" cy="4821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6" name="Text Box 14"/>
          <p:cNvSpPr/>
          <p:nvPr/>
        </p:nvSpPr>
        <p:spPr>
          <a:xfrm>
            <a:off x="6888240" y="2214720"/>
            <a:ext cx="187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7" name="AutoShape 16"/>
          <p:cNvCxnSpPr/>
          <p:nvPr/>
        </p:nvCxnSpPr>
        <p:spPr>
          <a:xfrm flipV="1" rot="16200000">
            <a:off x="6693840" y="224100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18" name="AutoShape 19"/>
          <p:cNvCxnSpPr/>
          <p:nvPr/>
        </p:nvCxnSpPr>
        <p:spPr>
          <a:xfrm flipV="1" rot="16200000">
            <a:off x="6693840" y="224100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19" name="AutoShape 24"/>
          <p:cNvCxnSpPr/>
          <p:nvPr/>
        </p:nvCxnSpPr>
        <p:spPr>
          <a:xfrm flipH="1" rot="16200000">
            <a:off x="6527520" y="284904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20" name="AutoShape 41"/>
          <p:cNvCxnSpPr/>
          <p:nvPr/>
        </p:nvCxnSpPr>
        <p:spPr>
          <a:xfrm flipH="1" flipV="1" rot="10800000">
            <a:off x="75960" y="39114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Freeform 25"/>
          <p:cNvSpPr/>
          <p:nvPr/>
        </p:nvSpPr>
        <p:spPr>
          <a:xfrm flipV="1">
            <a:off x="5613480" y="3077280"/>
            <a:ext cx="2361960" cy="282600"/>
          </a:xfrm>
          <a:custGeom>
            <a:avLst/>
            <a:gdLst>
              <a:gd name="textAreaLeft" fmla="*/ 0 w 2361960"/>
              <a:gd name="textAreaRight" fmla="*/ 2362320 w 236196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6707160" y="27878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2563200" y="55926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BB4-B49F-4952-8E03-77E69728817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808200" y="154944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27" name="AutoShape 8"/>
          <p:cNvCxnSpPr/>
          <p:nvPr/>
        </p:nvCxnSpPr>
        <p:spPr>
          <a:xfrm flipV="1" rot="16200000">
            <a:off x="6778800" y="200016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8" name="AutoShape 9"/>
          <p:cNvCxnSpPr/>
          <p:nvPr/>
        </p:nvCxnSpPr>
        <p:spPr>
          <a:xfrm flipV="1" rot="16200000">
            <a:off x="6778800" y="200016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9" name="AutoShape 10"/>
          <p:cNvCxnSpPr/>
          <p:nvPr/>
        </p:nvCxnSpPr>
        <p:spPr>
          <a:xfrm flipH="1" rot="16200000">
            <a:off x="6598080" y="292212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0" name="AutoShape 12"/>
          <p:cNvCxnSpPr/>
          <p:nvPr/>
        </p:nvCxnSpPr>
        <p:spPr>
          <a:xfrm flipH="1" flipV="1" rot="10800000">
            <a:off x="75960" y="3897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1" name="Text Box 48"/>
          <p:cNvSpPr/>
          <p:nvPr/>
        </p:nvSpPr>
        <p:spPr>
          <a:xfrm>
            <a:off x="3808440" y="371016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49"/>
          <p:cNvSpPr/>
          <p:nvPr/>
        </p:nvSpPr>
        <p:spPr>
          <a:xfrm>
            <a:off x="3701880" y="39276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,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50"/>
          <p:cNvSpPr/>
          <p:nvPr/>
        </p:nvSpPr>
        <p:spPr>
          <a:xfrm>
            <a:off x="370152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3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51"/>
          <p:cNvSpPr/>
          <p:nvPr/>
        </p:nvSpPr>
        <p:spPr>
          <a:xfrm>
            <a:off x="3816000" y="4599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8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52"/>
          <p:cNvSpPr/>
          <p:nvPr/>
        </p:nvSpPr>
        <p:spPr>
          <a:xfrm>
            <a:off x="3760200" y="48276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,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54"/>
          <p:cNvSpPr/>
          <p:nvPr/>
        </p:nvSpPr>
        <p:spPr>
          <a:xfrm>
            <a:off x="3803760" y="55087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55"/>
          <p:cNvSpPr/>
          <p:nvPr/>
        </p:nvSpPr>
        <p:spPr>
          <a:xfrm>
            <a:off x="3804120" y="574200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56"/>
          <p:cNvSpPr/>
          <p:nvPr/>
        </p:nvSpPr>
        <p:spPr>
          <a:xfrm>
            <a:off x="4752000" y="3927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57"/>
          <p:cNvSpPr/>
          <p:nvPr/>
        </p:nvSpPr>
        <p:spPr>
          <a:xfrm>
            <a:off x="5683680" y="371016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58"/>
          <p:cNvSpPr/>
          <p:nvPr/>
        </p:nvSpPr>
        <p:spPr>
          <a:xfrm>
            <a:off x="4752000" y="4827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60"/>
          <p:cNvSpPr/>
          <p:nvPr/>
        </p:nvSpPr>
        <p:spPr>
          <a:xfrm>
            <a:off x="3530160" y="613404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3530160" y="635148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3017880" y="1986120"/>
            <a:ext cx="12970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48"/>
          <p:cNvSpPr/>
          <p:nvPr/>
        </p:nvSpPr>
        <p:spPr>
          <a:xfrm>
            <a:off x="2585880" y="2006640"/>
            <a:ext cx="230508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Initia Plus HTE 2.2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6856560" y="1693800"/>
            <a:ext cx="329220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2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4702-F7EA-4FF3-82A1-ED17F51346B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3" descr="LaCie Disk:1 GRAPHISME:ELEMENTS_OK_FICHES_BET_PRODUIT:F3_PER:F3_P_4.jpg"/>
          <p:cNvPicPr/>
          <p:nvPr/>
        </p:nvPicPr>
        <p:blipFill>
          <a:blip r:embed="rId1"/>
          <a:stretch/>
        </p:blipFill>
        <p:spPr>
          <a:xfrm>
            <a:off x="736560" y="1405080"/>
            <a:ext cx="5587920" cy="49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9" name="Text Box 8"/>
          <p:cNvSpPr/>
          <p:nvPr/>
        </p:nvSpPr>
        <p:spPr>
          <a:xfrm>
            <a:off x="6888240" y="2141640"/>
            <a:ext cx="187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0" name="AutoShape 11"/>
          <p:cNvCxnSpPr/>
          <p:nvPr/>
        </p:nvCxnSpPr>
        <p:spPr>
          <a:xfrm flipH="1" rot="16200000">
            <a:off x="6527160" y="2777040"/>
            <a:ext cx="360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1" name="AutoShape 12"/>
          <p:cNvCxnSpPr/>
          <p:nvPr/>
        </p:nvCxnSpPr>
        <p:spPr>
          <a:xfrm flipH="1" flipV="1" rot="10800000">
            <a:off x="75960" y="3919320"/>
            <a:ext cx="2160" cy="360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2" name="Text Box 34"/>
          <p:cNvSpPr/>
          <p:nvPr/>
        </p:nvSpPr>
        <p:spPr>
          <a:xfrm>
            <a:off x="4721040" y="391968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n°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35"/>
          <p:cNvSpPr/>
          <p:nvPr/>
        </p:nvSpPr>
        <p:spPr>
          <a:xfrm>
            <a:off x="3552840" y="41482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2851560" y="437688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2836440" y="483408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3630240" y="529128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40"/>
          <p:cNvSpPr/>
          <p:nvPr/>
        </p:nvSpPr>
        <p:spPr>
          <a:xfrm>
            <a:off x="5307480" y="582444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41"/>
          <p:cNvSpPr/>
          <p:nvPr/>
        </p:nvSpPr>
        <p:spPr>
          <a:xfrm>
            <a:off x="5307480" y="605304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Freeform 42"/>
          <p:cNvSpPr/>
          <p:nvPr/>
        </p:nvSpPr>
        <p:spPr>
          <a:xfrm>
            <a:off x="5689440" y="186228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6707160" y="148104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Freeform 43"/>
          <p:cNvSpPr/>
          <p:nvPr/>
        </p:nvSpPr>
        <p:spPr>
          <a:xfrm>
            <a:off x="4394160" y="384336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6707160" y="35384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Rectangle 30"/>
          <p:cNvSpPr/>
          <p:nvPr/>
        </p:nvSpPr>
        <p:spPr>
          <a:xfrm>
            <a:off x="3378240" y="2036880"/>
            <a:ext cx="158436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48"/>
          <p:cNvSpPr/>
          <p:nvPr/>
        </p:nvSpPr>
        <p:spPr>
          <a:xfrm>
            <a:off x="3019320" y="2036880"/>
            <a:ext cx="2448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WSI 150+ capteur SOL 2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35"/>
          <p:cNvSpPr/>
          <p:nvPr/>
        </p:nvSpPr>
        <p:spPr>
          <a:xfrm>
            <a:off x="3614400" y="45734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2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ystème de stockage «Stockage SOLAR Wsi 150 L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766-5A8D-4C7D-A5E4-4D568EF6F1C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35"/>
          <p:cNvSpPr/>
          <p:nvPr/>
        </p:nvSpPr>
        <p:spPr>
          <a:xfrm>
            <a:off x="5415480" y="457344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6" descr="LaCie Disk:1 GRAPHISME:ELEMENTS_OK_FICHES_BET_PRODUIT:F3_PER:F3_P_5.jpg"/>
          <p:cNvPicPr/>
          <p:nvPr/>
        </p:nvPicPr>
        <p:blipFill>
          <a:blip r:embed="rId1"/>
          <a:stretch/>
        </p:blipFill>
        <p:spPr>
          <a:xfrm>
            <a:off x="808200" y="1333440"/>
            <a:ext cx="5262480" cy="5646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70" name="AutoShape 12"/>
          <p:cNvCxnSpPr/>
          <p:nvPr/>
        </p:nvCxnSpPr>
        <p:spPr>
          <a:xfrm flipH="1" rot="16200000">
            <a:off x="6598080" y="270468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1" name="AutoShape 13"/>
          <p:cNvCxnSpPr/>
          <p:nvPr/>
        </p:nvCxnSpPr>
        <p:spPr>
          <a:xfrm flipH="1" flipV="1" rot="10800000">
            <a:off x="72720" y="3870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2" name="Text Box 22"/>
          <p:cNvSpPr/>
          <p:nvPr/>
        </p:nvSpPr>
        <p:spPr>
          <a:xfrm>
            <a:off x="6778800" y="3238560"/>
            <a:ext cx="336708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Freeform 23"/>
          <p:cNvSpPr/>
          <p:nvPr/>
        </p:nvSpPr>
        <p:spPr>
          <a:xfrm flipV="1">
            <a:off x="5227560" y="17438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Freeform 24"/>
          <p:cNvSpPr/>
          <p:nvPr/>
        </p:nvSpPr>
        <p:spPr>
          <a:xfrm>
            <a:off x="4923000" y="3924360"/>
            <a:ext cx="4572000" cy="9907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25"/>
          <p:cNvSpPr/>
          <p:nvPr/>
        </p:nvSpPr>
        <p:spPr>
          <a:xfrm>
            <a:off x="6778800" y="4533840"/>
            <a:ext cx="33670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Freeform 24"/>
          <p:cNvSpPr/>
          <p:nvPr/>
        </p:nvSpPr>
        <p:spPr>
          <a:xfrm flipV="1">
            <a:off x="4998960" y="2856600"/>
            <a:ext cx="4267440" cy="609480"/>
          </a:xfrm>
          <a:custGeom>
            <a:avLst/>
            <a:gdLst>
              <a:gd name="textAreaLeft" fmla="*/ 0 w 4267440"/>
              <a:gd name="textAreaRight" fmla="*/ 4267800 w 426744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6792840" y="1460520"/>
            <a:ext cx="3355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6778800" y="2552760"/>
            <a:ext cx="33670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4311000" y="44845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81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52"/>
          <p:cNvSpPr/>
          <p:nvPr/>
        </p:nvSpPr>
        <p:spPr>
          <a:xfrm>
            <a:off x="4312800" y="477216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7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52"/>
          <p:cNvSpPr/>
          <p:nvPr/>
        </p:nvSpPr>
        <p:spPr>
          <a:xfrm>
            <a:off x="4260240" y="49942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1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3187440" y="5275440"/>
            <a:ext cx="164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52"/>
          <p:cNvSpPr/>
          <p:nvPr/>
        </p:nvSpPr>
        <p:spPr>
          <a:xfrm>
            <a:off x="4237200" y="55278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4217400" y="57783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4217400" y="59961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2730600" y="1860480"/>
            <a:ext cx="2448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WSI 150 + capteur SOL2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48"/>
          <p:cNvSpPr/>
          <p:nvPr/>
        </p:nvSpPr>
        <p:spPr>
          <a:xfrm>
            <a:off x="2009880" y="3157560"/>
            <a:ext cx="24480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ES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ZoneTexte 29"/>
          <p:cNvSpPr/>
          <p:nvPr/>
        </p:nvSpPr>
        <p:spPr>
          <a:xfrm>
            <a:off x="4194000" y="3371760"/>
            <a:ext cx="505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1,8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25"/>
          <p:cNvSpPr/>
          <p:nvPr/>
        </p:nvSpPr>
        <p:spPr>
          <a:xfrm>
            <a:off x="6781680" y="5492880"/>
            <a:ext cx="33670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0" name="Connecteur en angle 32"/>
          <p:cNvCxnSpPr>
            <a:stCxn id="489" idx="1"/>
          </p:cNvCxnSpPr>
          <p:nvPr/>
        </p:nvCxnSpPr>
        <p:spPr>
          <a:xfrm rot="10800000">
            <a:off x="5322240" y="5347440"/>
            <a:ext cx="1459440" cy="445320"/>
          </a:xfrm>
          <a:prstGeom prst="bentConnector3">
            <a:avLst>
              <a:gd name="adj1" fmla="val 27658"/>
            </a:avLst>
          </a:prstGeom>
          <a:ln w="19080">
            <a:solidFill>
              <a:srgbClr val="4e3073"/>
            </a:solidFill>
            <a:miter/>
            <a:tailEnd len="med" type="triangle" w="med"/>
          </a:ln>
        </p:spPr>
      </p:cxnSp>
      <p:pic>
        <p:nvPicPr>
          <p:cNvPr id="491" name="Picture 31" descr=""/>
          <p:cNvPicPr/>
          <p:nvPr/>
        </p:nvPicPr>
        <p:blipFill>
          <a:blip r:embed="rId2"/>
          <a:stretch/>
        </p:blipFill>
        <p:spPr>
          <a:xfrm>
            <a:off x="4241880" y="6211800"/>
            <a:ext cx="628560" cy="21924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52"/>
          <p:cNvSpPr/>
          <p:nvPr/>
        </p:nvSpPr>
        <p:spPr>
          <a:xfrm>
            <a:off x="4386600" y="62848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3" name="Picture 32" descr=""/>
          <p:cNvPicPr/>
          <p:nvPr/>
        </p:nvPicPr>
        <p:blipFill>
          <a:blip r:embed="rId3"/>
          <a:stretch/>
        </p:blipFill>
        <p:spPr>
          <a:xfrm>
            <a:off x="4098960" y="6500880"/>
            <a:ext cx="193680" cy="181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2" descr=""/>
          <p:cNvPicPr/>
          <p:nvPr/>
        </p:nvPicPr>
        <p:blipFill>
          <a:blip r:embed="rId4"/>
          <a:stretch/>
        </p:blipFill>
        <p:spPr>
          <a:xfrm>
            <a:off x="4098960" y="6680160"/>
            <a:ext cx="193680" cy="181080"/>
          </a:xfrm>
          <a:prstGeom prst="rect">
            <a:avLst/>
          </a:prstGeom>
          <a:ln w="0">
            <a:noFill/>
          </a:ln>
        </p:spPr>
      </p:pic>
      <p:sp>
        <p:nvSpPr>
          <p:cNvPr id="495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capteur solaire thermique «SOL 200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2DA-23B8-4EA8-8B06-BA3D566CF1D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808200" y="226836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8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9" name="AutoShape 12"/>
          <p:cNvCxnSpPr/>
          <p:nvPr/>
        </p:nvCxnSpPr>
        <p:spPr>
          <a:xfrm flipH="1" rot="16200000">
            <a:off x="6598080" y="280152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00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Freeform 23"/>
          <p:cNvSpPr/>
          <p:nvPr/>
        </p:nvSpPr>
        <p:spPr>
          <a:xfrm flipV="1">
            <a:off x="5227560" y="184068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830160" y="1557360"/>
            <a:ext cx="53564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28"/>
          <p:cNvSpPr/>
          <p:nvPr/>
        </p:nvSpPr>
        <p:spPr>
          <a:xfrm>
            <a:off x="2332080" y="278604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29"/>
          <p:cNvSpPr/>
          <p:nvPr/>
        </p:nvSpPr>
        <p:spPr>
          <a:xfrm>
            <a:off x="5532480" y="25732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21,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2332080" y="257328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OU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6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558880" y="160344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50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6238-0791-4F43-ABFE-A56D01D9443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5:10Z</dcterms:modified>
  <cp:revision>111</cp:revision>
  <dc:subject/>
  <dc:title>Présentation PowerPoint</dc:title>
</cp:coreProperties>
</file>