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A53-9ADB-4E86-AA53-2FBCC016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062-B886-4EF8-B15D-1821A34C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86CFC-4234-44C1-98C5-3146ABCA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525DA-8261-4574-8067-733B5D4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B7C6F-D334-414F-AF93-5E67C1B0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E3915-BF34-40D3-BE8E-2537803B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90315-4DF9-4B69-A6AF-43FE1B1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AB34D-B6C1-4591-A108-C0E8CA3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51764-B0D0-4D82-B377-E1F49766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CD7E6-7278-43DE-B103-3623FCD1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B9FA7-4C14-41DF-9415-A3FB62BE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5BC-2CEC-4165-8847-BCDB1A05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B05-9818-4E06-963F-62AC2DC3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A53C-89C9-49DE-9202-6E9C70ED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F474-2A70-462E-8021-300D8DA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D4F-8BD8-40A4-B535-36A7FC30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C8B-7FBB-4859-AE5F-BABD8693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0B3-0537-4C04-9AF6-62E9535C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F81-FDE1-4D8C-B4A4-E3F781FD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6ADB-B17D-4F2D-8B82-5C22C00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6C7-467F-419F-BC2C-14BDBFE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21D4-A0B7-4FD8-9372-7757C2D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4CE1-3A10-43A5-8049-40C31D4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BB32-D1B1-43D9-B46B-F689674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36B4-5225-4FDF-B17D-E496B83D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D4F-147F-49E7-9205-4C617A9C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ED51-10CC-44D2-82A2-D2E7E4FC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72C6-138B-44B9-877C-14456D7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5170-14F7-4A23-A067-519A384C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6874-66E6-412C-9E32-0081181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5685-E068-4F3A-9F1D-D224E8F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1F4-A006-4766-AF15-39FA057C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3A92-ADDF-447C-941E-6993F7E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054F-3A59-410C-AF9D-C2272BE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3D0C-47C4-4544-B81C-C4A1FBA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2BA3-C753-4618-88FC-4A6B2FF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496D-D8CA-49A0-9EA4-80CE193C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2125-3361-43E8-970D-C7E8A4DF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2E96-80E8-4095-B4CB-14639B56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06D8-856F-46F4-AD85-93385805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804A-7282-4B74-9DD5-B0EC52A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8B7C-334C-4CFB-A651-CBF1E73D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AF3-5F5B-4F77-B1C5-B332158C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8E6D-E59F-4578-BBA0-5362C91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1E19-0A38-4CCF-8793-14F17156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122E-17F0-4EB0-9B9E-E5398229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326A-F04B-465F-AD8D-5BB77DB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359D-4F4C-4D76-8F64-1DF83FA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61FE-2CFB-4C9D-9CE6-01FFA39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BE0C-BE58-4E84-B695-90FA3F1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B618-4584-401B-BFA1-DEDA33D5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A36B-8B2E-4FB9-8C85-50A670F0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5CE3-E0C4-4907-B728-C5D5B5EE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D6C-B6B8-4FF3-8F54-8BE03A2F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3594B-B549-4280-8482-B2DA35B9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D4A0-FA6F-446F-9575-3A4F8BD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1548-2F61-4D20-8E1B-4EDB5F1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CBA5-5401-45E4-B60C-7CC5566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4A61-4660-4963-B020-531924C1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23E9-4958-4139-8E0A-4B81257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B2CB6-887B-4F8A-8571-46B41A3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D04C-CE52-463A-829A-FBDED85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91696-1987-4E70-A6FD-EAD591D5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E25A-6D54-4F50-8917-58F76254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FCA-E182-4D0A-8034-9D60224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4EEC-4539-4BE5-AA8B-A5C3E48F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7F18-BC3F-4850-873A-FB734D6C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B4A56-F817-44F7-923A-607CA723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E0A7A-FC2E-4A14-8E42-782F6FD3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38ED-A396-4389-ADC0-9FF4A63E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F549-91BA-43C1-8DAF-D8E5C542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8843-99AD-4538-8A5C-21AD957E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561C-E12F-466E-BDD6-8B28272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E55AB-BF28-42E2-98F1-29BEFF0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1B50-099E-4564-9E0C-8701CF8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789-6597-4B2B-867F-069BF1B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18BA-515A-4A43-9051-C08D96B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6721-01A8-474C-87BE-A54FEA37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6D3C-E957-49FD-BF7B-9B4D1E8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19C9-8BC8-4377-A8B0-DB291A90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61852-F967-4BDC-BB0C-100F88B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0C8D-4BE4-4767-8A1F-09636F12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FCAA-E99F-493F-8D9E-713E2978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2A1F-6C8B-4B14-A205-C7D28CA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8CA8E-250A-4C79-864D-4AFA56A2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A988-2E93-4BDD-9968-38501E5D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367-D988-4761-A49A-A1CF9F44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BBBE-06B9-4B42-9906-597DD8C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8257C-830A-405C-B14F-A9C36615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2E51-DD0D-4632-89B0-56BF498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79B5-9D29-4763-B195-98D62D7D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139FF-E64F-46C7-A44A-7A743D7D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F60B-73B3-4F4F-AF7B-2C84E62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9B50-8FDA-4382-95AF-8CAFEE1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EB7F7-8C06-4BCC-A071-D5183E99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D0F8-660F-402C-8C25-D5AB5A72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8F919-B85D-4CF5-A398-CB6440D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022-DC7A-4675-9439-A6C62E2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712C1-9549-42D3-BD0B-C8CA20B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DFF7-5181-46CF-A318-9184F37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E03F6-B30C-43D6-A945-B93234A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1D1A-C96A-44CA-80A8-FAEF53B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977E-189B-4C5A-AC37-757926D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0A78-B63D-4F6B-A384-DA9C37AD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B3A7-56E7-40A8-A98A-B194A8EC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559E-2F3C-4EB0-B9D3-B1012889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C263A-9F63-4AF4-8FDC-D364218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CD2D0-9FBD-461A-AED9-7392C72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553-B58C-471D-A960-CAC3873F84F9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4171-D032-4548-A50C-013E4789473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ADE-902F-4996-B363-9967A2A3C41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9BC7-98A0-4B87-9A67-AD19D6AA9B3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63BD-126A-4AED-93F3-AC493AB81AC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C6B-2596-404D-AE2E-C9304030040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403-B19D-471C-B5A8-ED1A8869AFF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3AC2-A2AE-4151-8575-6F2780B7BCB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88C5-F3C7-43E1-B17D-631CF74C9D7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ertita.org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’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HYSAE HYBRID GAZ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maine d’applic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438200" y="1582560"/>
            <a:ext cx="7939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La modélisation de ce système est basée sur le Titre V relatif à la prise en compte du «Générateur Hybride» dans la </a:t>
            </a:r>
            <a:br>
              <a:rPr sz="1100"/>
            </a:b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RT 2012 (arrêté du 13 août 2015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titre V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uniquement 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maisons individuell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ou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ccolé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oumises aux exigences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rrêté du 26 octobre 2010. Il ne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qu</a:t>
            </a:r>
            <a:r>
              <a:rPr b="0" lang="ja-JP" sz="1100" spc="-1" strike="noStrike">
                <a:solidFill>
                  <a:srgbClr val="000000"/>
                </a:solidFill>
                <a:latin typeface="75 Helvetica Bold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ux générateurs hybrides associés à des radiateurs à eau chaude et/ou à des planchers chauffants sur vecteur eau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Il concerne les générateurs hybrides composés d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PAC électrique A/E de puissance utile nominale inférieure à 5 kW à 7/35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chaudière à condensation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système de régulation permettant une commutation entre les deux générateurs en fonction de leurs performances en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énergie primai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1603080" y="2153880"/>
            <a:ext cx="9085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 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078-4BF4-4144-AE41-8882C8AA0148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1438200" y="1582560"/>
            <a:ext cx="793440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présent document décrit la saisie et la prise en compte de la chaudière Hysaé d’ATLANTIC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cation de la RT 2012 U22win. Seule la saisie de la «génération chauffage &amp; ECS» est décrite ; un focus spécifique sur la saisie du circulateur est également réalis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a chaudière hybride Hysaé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pompe à chaleur ( 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haudière hybride Hysaé 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PAC (fonction chauffage)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saisie de la régulation et du circulateur de la partie « Emission » 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83"/>
          <p:cNvSpPr/>
          <p:nvPr/>
        </p:nvSpPr>
        <p:spPr>
          <a:xfrm>
            <a:off x="1447920" y="32306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7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523880" y="2576520"/>
          <a:ext cx="7917120" cy="51768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micro-accumulée Hysaé Hybrid gaz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Pompe à chaleur électrique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Pac à compression électrique air/eau Inverter Fujitsu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Picture 302" descr="Travail:1 GRAPHISME:GRDF:FICHES_BET_CEGIBAT_GrDF:FICHES_PRODUIT:ELEMENTS_OK:PICTOS:GENERATEUR.jpg"/>
          <p:cNvPicPr/>
          <p:nvPr/>
        </p:nvPicPr>
        <p:blipFill>
          <a:blip r:embed="rId1"/>
          <a:stretch/>
        </p:blipFill>
        <p:spPr>
          <a:xfrm>
            <a:off x="6208560" y="421308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38960" y="378144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04" descr="Travail:1 GRAPHISME:GRDF:FICHES_BET_CEGIBAT_GrDF:FICHES_PRODUIT:ELEMENTS_OK:PICTOS:GENERATEUR.jpg"/>
          <p:cNvPicPr/>
          <p:nvPr/>
        </p:nvPicPr>
        <p:blipFill>
          <a:blip r:embed="rId3"/>
          <a:stretch/>
        </p:blipFill>
        <p:spPr>
          <a:xfrm>
            <a:off x="7078680" y="436392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3"/>
          <p:cNvSpPr/>
          <p:nvPr/>
        </p:nvSpPr>
        <p:spPr>
          <a:xfrm>
            <a:off x="7577280" y="4573440"/>
            <a:ext cx="2303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13" name="Image 14" descr=""/>
          <p:cNvPicPr/>
          <p:nvPr/>
        </p:nvPicPr>
        <p:blipFill>
          <a:blip r:embed="rId4"/>
          <a:srcRect l="0" t="0" r="0" b="6541"/>
          <a:stretch/>
        </p:blipFill>
        <p:spPr>
          <a:xfrm>
            <a:off x="7581960" y="3421080"/>
            <a:ext cx="2514600" cy="3240000"/>
          </a:xfrm>
          <a:prstGeom prst="rect">
            <a:avLst/>
          </a:prstGeom>
          <a:ln cap="sq" w="3816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4" name="Rectangle 22"/>
          <p:cNvSpPr/>
          <p:nvPr/>
        </p:nvSpPr>
        <p:spPr>
          <a:xfrm>
            <a:off x="8153280" y="342108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5" name="Connecteur droit 24"/>
          <p:cNvSpPr/>
          <p:nvPr/>
        </p:nvSpPr>
        <p:spPr>
          <a:xfrm>
            <a:off x="8080200" y="342108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6" name="Connecteur droit 26"/>
          <p:cNvSpPr/>
          <p:nvPr/>
        </p:nvSpPr>
        <p:spPr>
          <a:xfrm>
            <a:off x="8153280" y="3421080"/>
            <a:ext cx="685800" cy="0"/>
          </a:xfrm>
          <a:prstGeom prst="line">
            <a:avLst/>
          </a:prstGeom>
          <a:ln w="93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990B-389E-4AA6-B6CD-3E85EFC19708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e l’objet génération «Chaudière hybride Hysaé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6981840" y="235260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0" name="AutoShape 16"/>
          <p:cNvCxnSpPr/>
          <p:nvPr/>
        </p:nvCxnSpPr>
        <p:spPr>
          <a:xfrm flipH="1" flipV="1" rot="10800000">
            <a:off x="6786360" y="237780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1" name="AutoShape 19"/>
          <p:cNvCxnSpPr/>
          <p:nvPr/>
        </p:nvCxnSpPr>
        <p:spPr>
          <a:xfrm flipH="1" flipV="1" rot="10800000">
            <a:off x="6786360" y="237780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2" name="AutoShape 24"/>
          <p:cNvCxnSpPr/>
          <p:nvPr/>
        </p:nvCxnSpPr>
        <p:spPr>
          <a:xfrm flipH="1" rot="16200000">
            <a:off x="6621480" y="30254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23" name="AutoShape 41"/>
          <p:cNvCxnSpPr/>
          <p:nvPr/>
        </p:nvCxnSpPr>
        <p:spPr>
          <a:xfrm flipH="1" flipV="1" rot="10800000">
            <a:off x="143280" y="43628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4" name="Text Box 15"/>
          <p:cNvSpPr/>
          <p:nvPr/>
        </p:nvSpPr>
        <p:spPr>
          <a:xfrm>
            <a:off x="7072200" y="2425680"/>
            <a:ext cx="32925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générateurs sont sollicités par ordre de priorité jusqu’à la limite de leur puissance uti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7072200" y="4001040"/>
            <a:ext cx="329256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emplacement en volume chauffé permet de réduire significativement les consommation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7072200" y="3052800"/>
            <a:ext cx="3292560" cy="76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orsque les réseaux hydrauliques au niveau de la production peuvent être condamnés de façon indépendante, le raccordement est considéré comme isolé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7" name="Text Box 33"/>
          <p:cNvSpPr/>
          <p:nvPr/>
        </p:nvSpPr>
        <p:spPr>
          <a:xfrm>
            <a:off x="7072200" y="6397920"/>
            <a:ext cx="329256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chaudière hybride hysaé produit l’ECS en micro-accumulée (pas de stockage ballon) et atteint 28 kW  - 14L/mn en mode ECS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63480" y="1433520"/>
            <a:ext cx="5545080" cy="5829120"/>
          </a:xfrm>
          <a:prstGeom prst="rect">
            <a:avLst/>
          </a:prstGeom>
          <a:ln w="19080">
            <a:solidFill>
              <a:srgbClr val="4e307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429" name="Connecteur en angle 28"/>
          <p:cNvCxnSpPr/>
          <p:nvPr/>
        </p:nvCxnSpPr>
        <p:spPr>
          <a:xfrm rot="10800000">
            <a:off x="4479120" y="3985560"/>
            <a:ext cx="2592720" cy="288000"/>
          </a:xfrm>
          <a:prstGeom prst="bentConnector3">
            <a:avLst>
              <a:gd name="adj1" fmla="val 8679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30" name="Connecteur en angle 25"/>
          <p:cNvCxnSpPr/>
          <p:nvPr/>
        </p:nvCxnSpPr>
        <p:spPr>
          <a:xfrm rot="10800000">
            <a:off x="4479120" y="3409200"/>
            <a:ext cx="2592720" cy="1080"/>
          </a:xfrm>
          <a:prstGeom prst="bentConnector3">
            <a:avLst>
              <a:gd name="adj1" fmla="val 49993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31" name="Connecteur en angle 21"/>
          <p:cNvCxnSpPr/>
          <p:nvPr/>
        </p:nvCxnSpPr>
        <p:spPr>
          <a:xfrm flipV="1" rot="10800000">
            <a:off x="5919120" y="2638800"/>
            <a:ext cx="1152720" cy="288360"/>
          </a:xfrm>
          <a:prstGeom prst="bentConnector3">
            <a:avLst>
              <a:gd name="adj1" fmla="val 1865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32" name="Connecteur en angle 34"/>
          <p:cNvCxnSpPr/>
          <p:nvPr/>
        </p:nvCxnSpPr>
        <p:spPr>
          <a:xfrm rot="10800000">
            <a:off x="4479120" y="6827040"/>
            <a:ext cx="2592720" cy="1080"/>
          </a:xfrm>
          <a:prstGeom prst="bentConnector3">
            <a:avLst>
              <a:gd name="adj1" fmla="val 49993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33" name="ZoneTexte 36"/>
          <p:cNvSpPr/>
          <p:nvPr/>
        </p:nvSpPr>
        <p:spPr>
          <a:xfrm>
            <a:off x="2595600" y="360504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ZoneTexte 37"/>
          <p:cNvSpPr/>
          <p:nvPr/>
        </p:nvSpPr>
        <p:spPr>
          <a:xfrm>
            <a:off x="2595600" y="389268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ZoneTexte 38"/>
          <p:cNvSpPr/>
          <p:nvPr/>
        </p:nvSpPr>
        <p:spPr>
          <a:xfrm>
            <a:off x="2735640" y="647064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9750-BEC1-4654-900F-A2FF6C305BE2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6913440" y="216072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9" name="AutoShape 8"/>
          <p:cNvCxnSpPr/>
          <p:nvPr/>
        </p:nvCxnSpPr>
        <p:spPr>
          <a:xfrm flipV="1" rot="16200000">
            <a:off x="6732720" y="18730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40" name="AutoShape 9"/>
          <p:cNvCxnSpPr/>
          <p:nvPr/>
        </p:nvCxnSpPr>
        <p:spPr>
          <a:xfrm flipV="1" rot="16200000">
            <a:off x="6732720" y="18730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41" name="AutoShape 10"/>
          <p:cNvCxnSpPr/>
          <p:nvPr/>
        </p:nvCxnSpPr>
        <p:spPr>
          <a:xfrm flipH="1" rot="16200000">
            <a:off x="6552360" y="27954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2" name="AutoShape 12"/>
          <p:cNvCxnSpPr/>
          <p:nvPr/>
        </p:nvCxnSpPr>
        <p:spPr>
          <a:xfrm flipH="1" flipV="1" rot="10800000">
            <a:off x="759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3" name="Text Box 31"/>
          <p:cNvSpPr/>
          <p:nvPr/>
        </p:nvSpPr>
        <p:spPr>
          <a:xfrm>
            <a:off x="7000920" y="5654520"/>
            <a:ext cx="3436920" cy="126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température limite amont dépend de la température départ chauffag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04"/>
          <p:cNvSpPr/>
          <p:nvPr/>
        </p:nvSpPr>
        <p:spPr>
          <a:xfrm>
            <a:off x="4800600" y="6608880"/>
            <a:ext cx="30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1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6927840" y="2054160"/>
            <a:ext cx="3218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Les paramètres relatifs à la température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(3 dernières lignes) caractérisent la régulation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sur énergie primaire du produi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7000920" y="3927600"/>
            <a:ext cx="343692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Valeur issue du titre V RT 2012; la totalité des consommations des auxiliaires de génération est regroupée au niveau de la chaudiè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7000920" y="4719600"/>
            <a:ext cx="3436920" cy="76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puissances de la PAC connues sont les puissances absorbées. Il est possible de renseigner les puissances fournies en sachant que Pfou = COP x Pab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448" name="Groupe 37"/>
          <p:cNvGrpSpPr/>
          <p:nvPr/>
        </p:nvGrpSpPr>
        <p:grpSpPr>
          <a:xfrm>
            <a:off x="7143840" y="6086520"/>
            <a:ext cx="3241440" cy="743400"/>
            <a:chOff x="7143840" y="6086520"/>
            <a:chExt cx="3241440" cy="743400"/>
          </a:xfrm>
        </p:grpSpPr>
        <p:pic>
          <p:nvPicPr>
            <p:cNvPr id="449" name="Picture 61" descr="Travail:1 GRAPHISME:GRDF:FICHES_BET_CEGIBAT_GrDF:FICHES_PRODUIT:ELEMENTS_OK:F1_BBS:TABLO.jpg"/>
            <p:cNvPicPr/>
            <p:nvPr/>
          </p:nvPicPr>
          <p:blipFill>
            <a:blip r:embed="rId1"/>
            <a:srcRect l="0" t="0" r="16247" b="0"/>
            <a:stretch/>
          </p:blipFill>
          <p:spPr>
            <a:xfrm>
              <a:off x="7143840" y="6111720"/>
              <a:ext cx="315504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62"/>
            <p:cNvSpPr/>
            <p:nvPr/>
          </p:nvSpPr>
          <p:spPr>
            <a:xfrm>
              <a:off x="8547840" y="6086520"/>
              <a:ext cx="183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Emetteurs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1" name="Text Box 64"/>
            <p:cNvSpPr/>
            <p:nvPr/>
          </p:nvSpPr>
          <p:spPr>
            <a:xfrm>
              <a:off x="7143840" y="6264360"/>
              <a:ext cx="11509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dépar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2" name="Text Box 65"/>
            <p:cNvSpPr/>
            <p:nvPr/>
          </p:nvSpPr>
          <p:spPr>
            <a:xfrm>
              <a:off x="7143840" y="6529320"/>
              <a:ext cx="1360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minimale amon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3" name="Text Box 66"/>
            <p:cNvSpPr/>
            <p:nvPr/>
          </p:nvSpPr>
          <p:spPr>
            <a:xfrm>
              <a:off x="8547480" y="6297480"/>
              <a:ext cx="5842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3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4" name="Text Box 67"/>
            <p:cNvSpPr/>
            <p:nvPr/>
          </p:nvSpPr>
          <p:spPr>
            <a:xfrm>
              <a:off x="8503920" y="6569280"/>
              <a:ext cx="6274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3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9131760" y="6297480"/>
              <a:ext cx="6408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4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6" name="Text Box 69"/>
            <p:cNvSpPr/>
            <p:nvPr/>
          </p:nvSpPr>
          <p:spPr>
            <a:xfrm>
              <a:off x="9759600" y="6297480"/>
              <a:ext cx="6256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5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7" name="Text Box 71"/>
            <p:cNvSpPr/>
            <p:nvPr/>
          </p:nvSpPr>
          <p:spPr>
            <a:xfrm>
              <a:off x="9131760" y="6569280"/>
              <a:ext cx="6274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2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58" name="Text Box 72"/>
            <p:cNvSpPr/>
            <p:nvPr/>
          </p:nvSpPr>
          <p:spPr>
            <a:xfrm>
              <a:off x="9759600" y="6569280"/>
              <a:ext cx="5230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1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grpSp>
        <p:nvGrpSpPr>
          <p:cNvPr id="459" name="Groupe 41"/>
          <p:cNvGrpSpPr/>
          <p:nvPr/>
        </p:nvGrpSpPr>
        <p:grpSpPr>
          <a:xfrm>
            <a:off x="592200" y="1477800"/>
            <a:ext cx="5933880" cy="5761080"/>
            <a:chOff x="592200" y="1477800"/>
            <a:chExt cx="5933880" cy="5761080"/>
          </a:xfrm>
        </p:grpSpPr>
        <p:pic>
          <p:nvPicPr>
            <p:cNvPr id="460" name="Picture 2" descr=""/>
            <p:cNvPicPr/>
            <p:nvPr/>
          </p:nvPicPr>
          <p:blipFill>
            <a:blip r:embed="rId2"/>
            <a:srcRect l="0" t="0" r="2500" b="6887"/>
            <a:stretch/>
          </p:blipFill>
          <p:spPr>
            <a:xfrm>
              <a:off x="592200" y="1477800"/>
              <a:ext cx="5832360" cy="5761080"/>
            </a:xfrm>
            <a:prstGeom prst="rect">
              <a:avLst/>
            </a:prstGeom>
            <a:ln w="19080">
              <a:solidFill>
                <a:srgbClr val="4e307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61" name="ZoneTexte 35"/>
            <p:cNvSpPr/>
            <p:nvPr/>
          </p:nvSpPr>
          <p:spPr>
            <a:xfrm>
              <a:off x="2123640" y="379692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Pac air / eau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2" name="ZoneTexte 36"/>
            <p:cNvSpPr/>
            <p:nvPr/>
          </p:nvSpPr>
          <p:spPr>
            <a:xfrm>
              <a:off x="2036880" y="4780440"/>
              <a:ext cx="448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Fonctionnement en mode continu du compresseur ou en cycle marche arrêt du  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3" name="ZoneTexte 37"/>
            <p:cNvSpPr/>
            <p:nvPr/>
          </p:nvSpPr>
          <p:spPr>
            <a:xfrm>
              <a:off x="2876400" y="4991040"/>
              <a:ext cx="1169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Valeurs par défau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4" name="ZoneTexte 38"/>
            <p:cNvSpPr/>
            <p:nvPr/>
          </p:nvSpPr>
          <p:spPr>
            <a:xfrm>
              <a:off x="2883600" y="5736240"/>
              <a:ext cx="98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Valeur certifié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5" name="ZoneTexte 39"/>
            <p:cNvSpPr/>
            <p:nvPr/>
          </p:nvSpPr>
          <p:spPr>
            <a:xfrm>
              <a:off x="4314960" y="59749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0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6" name="ZoneTexte 40"/>
            <p:cNvSpPr/>
            <p:nvPr/>
          </p:nvSpPr>
          <p:spPr>
            <a:xfrm>
              <a:off x="3095640" y="6255360"/>
              <a:ext cx="1564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Les puissances absorbées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7" name="ZoneTexte 41"/>
            <p:cNvSpPr/>
            <p:nvPr/>
          </p:nvSpPr>
          <p:spPr>
            <a:xfrm>
              <a:off x="3018960" y="6465960"/>
              <a:ext cx="3070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Limite sur l’une ou l’autre des températures de sourc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8" name="ZoneTexte 42"/>
            <p:cNvSpPr/>
            <p:nvPr/>
          </p:nvSpPr>
          <p:spPr>
            <a:xfrm>
              <a:off x="4311720" y="6958800"/>
              <a:ext cx="37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100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9" name="ZoneTexte 43"/>
            <p:cNvSpPr/>
            <p:nvPr/>
          </p:nvSpPr>
          <p:spPr>
            <a:xfrm>
              <a:off x="2185560" y="456984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cxnSp>
        <p:nvCxnSpPr>
          <p:cNvPr id="470" name="Connecteur en angle 45"/>
          <p:cNvCxnSpPr/>
          <p:nvPr/>
        </p:nvCxnSpPr>
        <p:spPr>
          <a:xfrm rot="10800000">
            <a:off x="4695120" y="6877800"/>
            <a:ext cx="2305440" cy="1080"/>
          </a:xfrm>
          <a:prstGeom prst="bentConnector3">
            <a:avLst>
              <a:gd name="adj1" fmla="val 49992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71" name="Connecteur en angle 48"/>
          <p:cNvCxnSpPr>
            <a:stCxn id="447" idx="1"/>
            <a:endCxn id="466" idx="3"/>
          </p:cNvCxnSpPr>
          <p:nvPr/>
        </p:nvCxnSpPr>
        <p:spPr>
          <a:xfrm flipV="1" rot="10800000">
            <a:off x="4633200" y="5103360"/>
            <a:ext cx="2367720" cy="1264320"/>
          </a:xfrm>
          <a:prstGeom prst="bentConnector3">
            <a:avLst>
              <a:gd name="adj1" fmla="val 42001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72" name="Connecteur en angle 53"/>
          <p:cNvCxnSpPr/>
          <p:nvPr/>
        </p:nvCxnSpPr>
        <p:spPr>
          <a:xfrm>
            <a:off x="-2289240" y="685440"/>
            <a:ext cx="73800" cy="133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73" name="Connecteur en angle 55"/>
          <p:cNvCxnSpPr>
            <a:stCxn id="446" idx="1"/>
            <a:endCxn id="465" idx="3"/>
          </p:cNvCxnSpPr>
          <p:nvPr/>
        </p:nvCxnSpPr>
        <p:spPr>
          <a:xfrm flipV="1" rot="10800000">
            <a:off x="4558680" y="4227120"/>
            <a:ext cx="2442240" cy="1859760"/>
          </a:xfrm>
          <a:prstGeom prst="bentConnector3">
            <a:avLst>
              <a:gd name="adj1" fmla="val 49992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74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ADF4-A2A9-4E73-B52A-18C4016CF58C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6837480" y="2146320"/>
            <a:ext cx="1895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7" name="AutoShape 10"/>
          <p:cNvCxnSpPr/>
          <p:nvPr/>
        </p:nvCxnSpPr>
        <p:spPr>
          <a:xfrm flipH="1" flipV="1" rot="10800000">
            <a:off x="6656040" y="71330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8" name="AutoShape 11"/>
          <p:cNvCxnSpPr/>
          <p:nvPr/>
        </p:nvCxnSpPr>
        <p:spPr>
          <a:xfrm flipH="1" flipV="1" rot="10800000">
            <a:off x="6656040" y="71330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9" name="AutoShape 12"/>
          <p:cNvCxnSpPr/>
          <p:nvPr/>
        </p:nvCxnSpPr>
        <p:spPr>
          <a:xfrm flipH="1" rot="16200000">
            <a:off x="6477120" y="27810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0" name="AutoShape 13"/>
          <p:cNvCxnSpPr/>
          <p:nvPr/>
        </p:nvCxnSpPr>
        <p:spPr>
          <a:xfrm flipH="1" flipV="1" rot="10800000">
            <a:off x="-360" y="41994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1" name="Freeform 23"/>
          <p:cNvSpPr/>
          <p:nvPr/>
        </p:nvSpPr>
        <p:spPr>
          <a:xfrm flipV="1">
            <a:off x="5105520" y="18201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Rectangle 28"/>
          <p:cNvSpPr/>
          <p:nvPr/>
        </p:nvSpPr>
        <p:spPr>
          <a:xfrm>
            <a:off x="6927840" y="2022480"/>
            <a:ext cx="3456000" cy="45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rtiﬁcat NF PAC NF 414-664 consultable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ur le site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1"/>
              </a:rPr>
              <a:t>www.certita.org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24"/>
          <p:cNvSpPr/>
          <p:nvPr/>
        </p:nvSpPr>
        <p:spPr>
          <a:xfrm>
            <a:off x="6927840" y="6559560"/>
            <a:ext cx="34686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ase à décocher (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oint est assuré par la chaudière à condensation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4" name="Connecteur en angle 33"/>
          <p:cNvCxnSpPr/>
          <p:nvPr/>
        </p:nvCxnSpPr>
        <p:spPr>
          <a:xfrm rot="10800000">
            <a:off x="5271480" y="4182480"/>
            <a:ext cx="1656360" cy="18144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pic>
        <p:nvPicPr>
          <p:cNvPr id="485" name="Image 34" descr=""/>
          <p:cNvPicPr/>
          <p:nvPr/>
        </p:nvPicPr>
        <p:blipFill>
          <a:blip r:embed="rId2"/>
          <a:srcRect l="995" t="0" r="25500" b="0"/>
          <a:stretch/>
        </p:blipFill>
        <p:spPr>
          <a:xfrm>
            <a:off x="592200" y="3390840"/>
            <a:ext cx="5851440" cy="3774960"/>
          </a:xfrm>
          <a:prstGeom prst="rect">
            <a:avLst/>
          </a:prstGeom>
          <a:ln w="19080">
            <a:solidFill>
              <a:srgbClr val="4e307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6" name="Picture 24" descr=""/>
          <p:cNvPicPr/>
          <p:nvPr/>
        </p:nvPicPr>
        <p:blipFill>
          <a:blip r:embed="rId3"/>
          <a:stretch/>
        </p:blipFill>
        <p:spPr>
          <a:xfrm>
            <a:off x="557280" y="1519200"/>
            <a:ext cx="5867280" cy="1590840"/>
          </a:xfrm>
          <a:prstGeom prst="rect">
            <a:avLst/>
          </a:prstGeom>
          <a:ln w="19080">
            <a:solidFill>
              <a:srgbClr val="4e307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487" name="Connecteur en angle 25"/>
          <p:cNvCxnSpPr>
            <a:stCxn id="482" idx="1"/>
          </p:cNvCxnSpPr>
          <p:nvPr/>
        </p:nvCxnSpPr>
        <p:spPr>
          <a:xfrm flipV="1" rot="10800000">
            <a:off x="4768200" y="2238120"/>
            <a:ext cx="2159640" cy="1729440"/>
          </a:xfrm>
          <a:prstGeom prst="bentConnector3">
            <a:avLst>
              <a:gd name="adj1" fmla="val 9336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88" name="Connecteur en angle 45"/>
          <p:cNvCxnSpPr/>
          <p:nvPr/>
        </p:nvCxnSpPr>
        <p:spPr>
          <a:xfrm flipV="1" rot="10800000">
            <a:off x="5703120" y="4397760"/>
            <a:ext cx="2377080" cy="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89" name="Connecteur en angle 53"/>
          <p:cNvCxnSpPr/>
          <p:nvPr/>
        </p:nvCxnSpPr>
        <p:spPr>
          <a:xfrm rot="10800000">
            <a:off x="4191840" y="5406480"/>
            <a:ext cx="5904720" cy="13320"/>
          </a:xfrm>
          <a:prstGeom prst="bentConnector3">
            <a:avLst>
              <a:gd name="adj1" fmla="val 49996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90" name="Text Box 24"/>
          <p:cNvSpPr/>
          <p:nvPr/>
        </p:nvSpPr>
        <p:spPr>
          <a:xfrm>
            <a:off x="6927840" y="5119560"/>
            <a:ext cx="346860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, bien indiquer «Certiﬁée» dans le tableau car ce paramètre a des conséquences sur les consommation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1" name="Connecteur en angle 58"/>
          <p:cNvCxnSpPr>
            <a:stCxn id="483" idx="1"/>
          </p:cNvCxnSpPr>
          <p:nvPr/>
        </p:nvCxnSpPr>
        <p:spPr>
          <a:xfrm flipV="1" rot="10800000">
            <a:off x="3399840" y="6772680"/>
            <a:ext cx="3528000" cy="2520"/>
          </a:xfrm>
          <a:prstGeom prst="bentConnector3">
            <a:avLst>
              <a:gd name="adj1" fmla="val 49994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492" name="Connecteur en angle 45"/>
          <p:cNvCxnSpPr/>
          <p:nvPr/>
        </p:nvCxnSpPr>
        <p:spPr>
          <a:xfrm flipV="1" rot="10800000">
            <a:off x="5703120" y="4613760"/>
            <a:ext cx="2377080" cy="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93" name="Text Box 24"/>
          <p:cNvSpPr/>
          <p:nvPr/>
        </p:nvSpPr>
        <p:spPr>
          <a:xfrm>
            <a:off x="6927840" y="3967200"/>
            <a:ext cx="3468600" cy="76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valeur «pivot» à fournir systématiquement par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tilisateur est, au minimum, la valeur pour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mont (Tam) = 7 °C et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val (Tav) = 30/35 °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498C-5BF1-4813-8203-3BFD93CA547B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Chaudière gaz à condensation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cxnSp>
        <p:nvCxnSpPr>
          <p:cNvPr id="496" name="AutoShape 9"/>
          <p:cNvCxnSpPr/>
          <p:nvPr/>
        </p:nvCxnSpPr>
        <p:spPr>
          <a:xfrm flipH="1" flipV="1" rot="10800000">
            <a:off x="6656040" y="7148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97" name="AutoShape 10"/>
          <p:cNvCxnSpPr/>
          <p:nvPr/>
        </p:nvCxnSpPr>
        <p:spPr>
          <a:xfrm flipH="1" flipV="1" rot="10800000">
            <a:off x="6656040" y="7148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98" name="AutoShape 11"/>
          <p:cNvCxnSpPr/>
          <p:nvPr/>
        </p:nvCxnSpPr>
        <p:spPr>
          <a:xfrm flipH="1" rot="16200000">
            <a:off x="6477120" y="27954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99" name="AutoShape 12"/>
          <p:cNvCxnSpPr/>
          <p:nvPr/>
        </p:nvCxnSpPr>
        <p:spPr>
          <a:xfrm flipH="1" flipV="1" rot="10800000">
            <a:off x="-360" y="42145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00" name="Text Box 25"/>
          <p:cNvSpPr/>
          <p:nvPr/>
        </p:nvSpPr>
        <p:spPr>
          <a:xfrm>
            <a:off x="7000920" y="5799240"/>
            <a:ext cx="3440160" cy="76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uissance électrique de veille à saisir dan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artie chaudière est la puissance de veill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u générateur hybride à charge nulle dans son ensemble (PAC + chaudièr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46"/>
          <p:cNvSpPr/>
          <p:nvPr/>
        </p:nvSpPr>
        <p:spPr>
          <a:xfrm>
            <a:off x="3579840" y="368928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1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47"/>
          <p:cNvSpPr/>
          <p:nvPr/>
        </p:nvSpPr>
        <p:spPr>
          <a:xfrm>
            <a:off x="3614760" y="39164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9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8"/>
          <p:cNvSpPr/>
          <p:nvPr/>
        </p:nvSpPr>
        <p:spPr>
          <a:xfrm>
            <a:off x="3577680" y="4319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0.08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9"/>
          <p:cNvSpPr/>
          <p:nvPr/>
        </p:nvSpPr>
        <p:spPr>
          <a:xfrm>
            <a:off x="3615480" y="454824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3,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50"/>
          <p:cNvSpPr/>
          <p:nvPr/>
        </p:nvSpPr>
        <p:spPr>
          <a:xfrm>
            <a:off x="3578760" y="47800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10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51"/>
          <p:cNvSpPr/>
          <p:nvPr/>
        </p:nvSpPr>
        <p:spPr>
          <a:xfrm>
            <a:off x="5484960" y="36892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52"/>
          <p:cNvSpPr/>
          <p:nvPr/>
        </p:nvSpPr>
        <p:spPr>
          <a:xfrm>
            <a:off x="4622760" y="38988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53"/>
          <p:cNvSpPr/>
          <p:nvPr/>
        </p:nvSpPr>
        <p:spPr>
          <a:xfrm>
            <a:off x="4622760" y="47736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54"/>
          <p:cNvSpPr/>
          <p:nvPr/>
        </p:nvSpPr>
        <p:spPr>
          <a:xfrm>
            <a:off x="3589560" y="542448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Text Box 55"/>
          <p:cNvSpPr/>
          <p:nvPr/>
        </p:nvSpPr>
        <p:spPr>
          <a:xfrm>
            <a:off x="3579480" y="565776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13,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53"/>
          <p:cNvSpPr/>
          <p:nvPr/>
        </p:nvSpPr>
        <p:spPr>
          <a:xfrm>
            <a:off x="3415320" y="6300720"/>
            <a:ext cx="72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b1af"/>
                </a:solidFill>
                <a:latin typeface="55 Helvetica Roman"/>
              </a:rPr>
              <a:t>Valeur par défaut</a:t>
            </a:r>
            <a:endParaRPr b="0" lang="en-US" sz="7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55"/>
          <p:cNvSpPr/>
          <p:nvPr/>
        </p:nvSpPr>
        <p:spPr>
          <a:xfrm>
            <a:off x="3726720" y="6093000"/>
            <a:ext cx="2523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55 Helvetica Roman"/>
              </a:rPr>
              <a:t>21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3" name="Picture 28" descr=""/>
          <p:cNvPicPr/>
          <p:nvPr/>
        </p:nvPicPr>
        <p:blipFill>
          <a:blip r:embed="rId1"/>
          <a:stretch/>
        </p:blipFill>
        <p:spPr>
          <a:xfrm>
            <a:off x="4192560" y="6014880"/>
            <a:ext cx="324000" cy="216000"/>
          </a:xfrm>
          <a:prstGeom prst="rect">
            <a:avLst/>
          </a:prstGeom>
          <a:ln w="0">
            <a:noFill/>
          </a:ln>
        </p:spPr>
      </p:pic>
      <p:pic>
        <p:nvPicPr>
          <p:cNvPr id="514" name="Image 31" descr=""/>
          <p:cNvPicPr/>
          <p:nvPr/>
        </p:nvPicPr>
        <p:blipFill>
          <a:blip r:embed="rId2"/>
          <a:srcRect l="0" t="0" r="4629" b="0"/>
          <a:stretch/>
        </p:blipFill>
        <p:spPr>
          <a:xfrm>
            <a:off x="663480" y="1335240"/>
            <a:ext cx="6026400" cy="5924520"/>
          </a:xfrm>
          <a:prstGeom prst="rect">
            <a:avLst/>
          </a:prstGeom>
          <a:ln w="19080">
            <a:solidFill>
              <a:srgbClr val="4e307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515" name="Connecteur en angle 32"/>
          <p:cNvCxnSpPr/>
          <p:nvPr/>
        </p:nvCxnSpPr>
        <p:spPr>
          <a:xfrm rot="10800000">
            <a:off x="4118760" y="6230160"/>
            <a:ext cx="2882160" cy="1080"/>
          </a:xfrm>
          <a:prstGeom prst="bentConnector3">
            <a:avLst>
              <a:gd name="adj1" fmla="val 49993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516" name="Connecteur en angle 35"/>
          <p:cNvCxnSpPr/>
          <p:nvPr/>
        </p:nvCxnSpPr>
        <p:spPr>
          <a:xfrm rot="10800000">
            <a:off x="4695120" y="3061440"/>
            <a:ext cx="5041080" cy="136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517" name="Text Box 25"/>
          <p:cNvSpPr/>
          <p:nvPr/>
        </p:nvSpPr>
        <p:spPr>
          <a:xfrm>
            <a:off x="7000920" y="2774880"/>
            <a:ext cx="3440160" cy="76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chaudière à condensation assure une parti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es besoins de chauffage (seule ou en complément de la PAC) et la totalité des besoins en 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7BAA-6234-46D9-A492-6C59CC6E7A67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La saisie de la régulation et du circulateur de la partie « Emission 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520" name="Picture 25" descr=""/>
          <p:cNvPicPr/>
          <p:nvPr/>
        </p:nvPicPr>
        <p:blipFill>
          <a:blip r:embed="rId1"/>
          <a:stretch/>
        </p:blipFill>
        <p:spPr>
          <a:xfrm>
            <a:off x="663480" y="1517760"/>
            <a:ext cx="6372360" cy="56480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9"/>
          <p:cNvSpPr/>
          <p:nvPr/>
        </p:nvSpPr>
        <p:spPr>
          <a:xfrm>
            <a:off x="6837480" y="2127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2" name="AutoShape 10"/>
          <p:cNvCxnSpPr/>
          <p:nvPr/>
        </p:nvCxnSpPr>
        <p:spPr>
          <a:xfrm flipH="1" flipV="1" rot="10800000">
            <a:off x="6656040" y="71139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23" name="AutoShape 11"/>
          <p:cNvCxnSpPr/>
          <p:nvPr/>
        </p:nvCxnSpPr>
        <p:spPr>
          <a:xfrm flipH="1" flipV="1" rot="10800000">
            <a:off x="6656040" y="71139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24" name="AutoShape 12"/>
          <p:cNvCxnSpPr/>
          <p:nvPr/>
        </p:nvCxnSpPr>
        <p:spPr>
          <a:xfrm flipH="1" rot="16200000">
            <a:off x="6477120" y="27619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25" name="AutoShape 13"/>
          <p:cNvCxnSpPr/>
          <p:nvPr/>
        </p:nvCxnSpPr>
        <p:spPr>
          <a:xfrm flipH="1" flipV="1" rot="10800000">
            <a:off x="-360" y="41803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6" name="Text Box 22"/>
          <p:cNvSpPr/>
          <p:nvPr/>
        </p:nvSpPr>
        <p:spPr>
          <a:xfrm>
            <a:off x="6656400" y="3295800"/>
            <a:ext cx="32925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Freeform 23"/>
          <p:cNvSpPr/>
          <p:nvPr/>
        </p:nvSpPr>
        <p:spPr>
          <a:xfrm flipV="1">
            <a:off x="5105520" y="194076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528" name="Groupe 26"/>
          <p:cNvGrpSpPr/>
          <p:nvPr/>
        </p:nvGrpSpPr>
        <p:grpSpPr>
          <a:xfrm>
            <a:off x="7000920" y="1660680"/>
            <a:ext cx="3505320" cy="4461120"/>
            <a:chOff x="7000920" y="1660680"/>
            <a:chExt cx="3505320" cy="4461120"/>
          </a:xfrm>
        </p:grpSpPr>
        <p:sp>
          <p:nvSpPr>
            <p:cNvPr id="529" name="Rectangle 13"/>
            <p:cNvSpPr/>
            <p:nvPr/>
          </p:nvSpPr>
          <p:spPr>
            <a:xfrm>
              <a:off x="7076880" y="1660680"/>
              <a:ext cx="3281760" cy="44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83c4"/>
                  </a:solidFill>
                  <a:latin typeface="75 Helvetica Bold"/>
                </a:rPr>
                <a:t>Focus sur la saisie des circulateurs</a:t>
              </a:r>
              <a:endParaRPr b="0" lang="en-US" sz="13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Ce circulateur représente le système permettant la circulation de l</a:t>
              </a:r>
              <a:r>
                <a:rPr b="0" lang="ja-JP" sz="1100" spc="-1" strike="noStrike">
                  <a:solidFill>
                    <a:srgbClr val="000000"/>
                  </a:solidFill>
                  <a:latin typeface="45 Helvetica Light"/>
                </a:rPr>
                <a:t>’</a:t>
              </a: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eau chaude dans le réseau hydraulique de chauffage.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cd0921"/>
                  </a:solidFill>
                  <a:latin typeface="76 Helvetica BoldItalic"/>
                </a:rPr>
                <a:t>Attention, la documentation technique de certaines chaudières hybrides mentionne la présence de plusieurs circulateurs :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3c4"/>
                  </a:solidFill>
                  <a:latin typeface="75 Helvetica Bold"/>
                </a:rPr>
                <a:t>1.</a:t>
              </a:r>
              <a:r>
                <a:rPr b="1" lang="fr-FR" sz="1100" spc="-1" strike="noStrike">
                  <a:solidFill>
                    <a:srgbClr val="00b1af"/>
                  </a:solidFill>
                  <a:latin typeface="75 Helvetica Bold"/>
                </a:rPr>
                <a:t> </a:t>
              </a:r>
              <a:r>
                <a:rPr b="1" lang="fr-FR" sz="1100" spc="-1" strike="noStrike">
                  <a:solidFill>
                    <a:srgbClr val="000000"/>
                  </a:solidFill>
                  <a:latin typeface="75 Helvetica Bold"/>
                </a:rPr>
                <a:t>Le circulateur de l</a:t>
              </a:r>
              <a:r>
                <a:rPr b="1" lang="ja-JP" sz="1100" spc="-1" strike="noStrike">
                  <a:solidFill>
                    <a:srgbClr val="000000"/>
                  </a:solidFill>
                  <a:latin typeface="75 Helvetica Bold"/>
                </a:rPr>
                <a:t>’</a:t>
              </a:r>
              <a:r>
                <a:rPr b="1" lang="fr-FR" sz="1100" spc="-1" strike="noStrike">
                  <a:solidFill>
                    <a:srgbClr val="000000"/>
                  </a:solidFill>
                  <a:latin typeface="75 Helvetica Bold"/>
                </a:rPr>
                <a:t>unité extérieure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- il est pris en compte dans le COP de la PAC, il ne faut donc pas le considérer dans les auxiliaires de distribution.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lnSpc>
                  <a:spcPct val="100000"/>
                </a:lnSpc>
                <a:spcAft>
                  <a:spcPts val="1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3c4"/>
                  </a:solidFill>
                  <a:latin typeface="75 Helvetica Bold"/>
                </a:rPr>
                <a:t>2.</a:t>
              </a:r>
              <a:r>
                <a:rPr b="1" lang="fr-FR" sz="1100" spc="-1" strike="noStrike">
                  <a:solidFill>
                    <a:srgbClr val="00b1af"/>
                  </a:solidFill>
                  <a:latin typeface="45 Helvetica Light"/>
                </a:rPr>
                <a:t> </a:t>
              </a:r>
              <a:r>
                <a:rPr b="1" lang="fr-FR" sz="1100" spc="-1" strike="noStrike">
                  <a:solidFill>
                    <a:srgbClr val="000000"/>
                  </a:solidFill>
                  <a:latin typeface="75 Helvetica Bold"/>
                </a:rPr>
                <a:t>Le circulateur dédié au fonctionnement interne de la chaudière </a:t>
              </a:r>
              <a:br>
                <a:rPr sz="1100"/>
              </a:b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- il doit être saisi comme faisant partie des auxiliaires électriques de la chaudière (car il ne fonctionne que lorsque la chaudière fonctionne).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3c4"/>
                  </a:solidFill>
                  <a:latin typeface="75 Helvetica Bold"/>
                </a:rPr>
                <a:t>3.</a:t>
              </a:r>
              <a:r>
                <a:rPr b="1" lang="fr-FR" sz="1100" spc="-1" strike="noStrike">
                  <a:solidFill>
                    <a:srgbClr val="000000"/>
                  </a:solidFill>
                  <a:latin typeface="75 Helvetica Bold"/>
                </a:rPr>
                <a:t> Le circulateur dédié au réseau de chauffage commun à la PAC et à la chaudière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Ce circulateur est à saisir au niveau du réseau de distribution, la puissance du circulateur à saisir est celle fournie au débit nominal de l’installation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0" name="Rectangle 25"/>
            <p:cNvSpPr/>
            <p:nvPr/>
          </p:nvSpPr>
          <p:spPr>
            <a:xfrm>
              <a:off x="7000920" y="4684680"/>
              <a:ext cx="3505320" cy="962280"/>
            </a:xfrm>
            <a:prstGeom prst="rect">
              <a:avLst/>
            </a:prstGeom>
            <a:noFill/>
            <a:ln w="38160">
              <a:solidFill>
                <a:srgbClr val="0083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50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grpSp>
        <p:nvGrpSpPr>
          <p:cNvPr id="531" name="Groupe 33"/>
          <p:cNvGrpSpPr/>
          <p:nvPr/>
        </p:nvGrpSpPr>
        <p:grpSpPr>
          <a:xfrm>
            <a:off x="519120" y="1517760"/>
            <a:ext cx="6372360" cy="5648040"/>
            <a:chOff x="519120" y="1517760"/>
            <a:chExt cx="6372360" cy="5648040"/>
          </a:xfrm>
        </p:grpSpPr>
        <p:pic>
          <p:nvPicPr>
            <p:cNvPr id="532" name="Picture 26" descr=""/>
            <p:cNvPicPr/>
            <p:nvPr/>
          </p:nvPicPr>
          <p:blipFill>
            <a:blip r:embed="rId2"/>
            <a:stretch/>
          </p:blipFill>
          <p:spPr>
            <a:xfrm>
              <a:off x="519120" y="1517760"/>
              <a:ext cx="6372360" cy="5648040"/>
            </a:xfrm>
            <a:prstGeom prst="rect">
              <a:avLst/>
            </a:prstGeom>
            <a:ln w="19080">
              <a:solidFill>
                <a:srgbClr val="4e307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33" name="ZoneTexte 34"/>
            <p:cNvSpPr/>
            <p:nvPr/>
          </p:nvSpPr>
          <p:spPr>
            <a:xfrm>
              <a:off x="1874880" y="497376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4" name="ZoneTexte 32"/>
            <p:cNvSpPr/>
            <p:nvPr/>
          </p:nvSpPr>
          <p:spPr>
            <a:xfrm>
              <a:off x="1943280" y="4686120"/>
              <a:ext cx="1014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À débit variabl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5" name="ZoneTexte 29"/>
            <p:cNvSpPr/>
            <p:nvPr/>
          </p:nvSpPr>
          <p:spPr>
            <a:xfrm>
              <a:off x="1903320" y="4037040"/>
              <a:ext cx="240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Temp. de départ en fonction de temp. ex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6" name="ZoneTexte 28"/>
            <p:cNvSpPr/>
            <p:nvPr/>
          </p:nvSpPr>
          <p:spPr>
            <a:xfrm>
              <a:off x="1947960" y="374976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7" name="ZoneTexte 30"/>
            <p:cNvSpPr/>
            <p:nvPr/>
          </p:nvSpPr>
          <p:spPr>
            <a:xfrm>
              <a:off x="1875240" y="432540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8" name="ZoneTexte 31"/>
            <p:cNvSpPr/>
            <p:nvPr/>
          </p:nvSpPr>
          <p:spPr>
            <a:xfrm>
              <a:off x="3387600" y="432540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39" name="ZoneTexte 33"/>
            <p:cNvSpPr/>
            <p:nvPr/>
          </p:nvSpPr>
          <p:spPr>
            <a:xfrm>
              <a:off x="5201280" y="46134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0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40" name="ZoneTexte 26"/>
            <p:cNvSpPr/>
            <p:nvPr/>
          </p:nvSpPr>
          <p:spPr>
            <a:xfrm>
              <a:off x="1947960" y="338940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41" name="ZoneTexte 27"/>
            <p:cNvSpPr/>
            <p:nvPr/>
          </p:nvSpPr>
          <p:spPr>
            <a:xfrm>
              <a:off x="4109760" y="3389400"/>
              <a:ext cx="1398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Pas de réseau collectif 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42" name="ZoneTexte 23"/>
            <p:cNvSpPr/>
            <p:nvPr/>
          </p:nvSpPr>
          <p:spPr>
            <a:xfrm>
              <a:off x="4035600" y="215568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43" name="ZoneTexte 25"/>
            <p:cNvSpPr/>
            <p:nvPr/>
          </p:nvSpPr>
          <p:spPr>
            <a:xfrm>
              <a:off x="2237040" y="2554560"/>
              <a:ext cx="98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Chauffage seul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44" name="Text Box 25"/>
            <p:cNvSpPr/>
            <p:nvPr/>
          </p:nvSpPr>
          <p:spPr>
            <a:xfrm>
              <a:off x="4408560" y="5476680"/>
              <a:ext cx="2087640" cy="26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30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Valeur calculée par le logiciel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cxnSp>
          <p:nvCxnSpPr>
            <p:cNvPr id="545" name="Forme 39"/>
            <p:cNvCxnSpPr>
              <a:stCxn id="544" idx="1"/>
            </p:cNvCxnSpPr>
            <p:nvPr/>
          </p:nvCxnSpPr>
          <p:spPr>
            <a:xfrm rot="10800000">
              <a:off x="4191840" y="5117400"/>
              <a:ext cx="216360" cy="491040"/>
            </a:xfrm>
            <a:prstGeom prst="bentConnector2">
              <a:avLst/>
            </a:prstGeom>
            <a:ln w="12600">
              <a:solidFill>
                <a:srgbClr val="4e3073"/>
              </a:solidFill>
              <a:miter/>
              <a:tailEnd len="med" type="triangle" w="med"/>
            </a:ln>
          </p:spPr>
        </p:cxnSp>
        <p:sp>
          <p:nvSpPr>
            <p:cNvPr id="546" name="ZoneTexte 40"/>
            <p:cNvSpPr/>
            <p:nvPr/>
          </p:nvSpPr>
          <p:spPr>
            <a:xfrm>
              <a:off x="4912200" y="626904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24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547" name="ZoneTexte 41"/>
            <p:cNvSpPr/>
            <p:nvPr/>
          </p:nvSpPr>
          <p:spPr>
            <a:xfrm>
              <a:off x="1756800" y="6629400"/>
              <a:ext cx="280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Vitesse variable et pression différentielle variabl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sp>
        <p:nvSpPr>
          <p:cNvPr id="548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3BA-CCE4-444D-9903-13894AB31386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nnées environnementales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8/8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52560" y="2413080"/>
          <a:ext cx="8091360" cy="741240"/>
        </p:xfrm>
        <a:graphic>
          <a:graphicData uri="http://schemas.openxmlformats.org/drawingml/2006/table">
            <a:tbl>
              <a:tblPr/>
              <a:tblGrid>
                <a:gridCol w="6237360"/>
                <a:gridCol w="185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harge en fluides frigorigènes (kg)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R410a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Type de fluides frigorigènes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552" name="Rectangle 13"/>
          <p:cNvSpPr/>
          <p:nvPr/>
        </p:nvSpPr>
        <p:spPr>
          <a:xfrm>
            <a:off x="808200" y="2052720"/>
            <a:ext cx="955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onnées à saisir pour le calcul de l’impact environnemental du fluide frigorigène de la PA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9736200" y="73818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589-8EAE-49CF-8BAB-0C9543F9142C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2:02Z</dcterms:modified>
  <cp:revision>156</cp:revision>
  <dc:subject/>
  <dc:title>Présentation PowerPoint</dc:title>
</cp:coreProperties>
</file>