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10688638" cy="756285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dt" idx="28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Img"/>
          </p:nvPr>
        </p:nvSpPr>
        <p:spPr>
          <a:xfrm>
            <a:off x="839520" y="767880"/>
            <a:ext cx="541980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move the slide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ftr" idx="29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 type="sldNum" idx="30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3281-5A53-47F9-9972-6BE8445195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839880" y="768240"/>
            <a:ext cx="5419800" cy="38372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Espace réservé du numéro de diapositiv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79CC-4E22-4258-8BAE-7FB13E80983D}" type="slidenum">
              <a:rPr b="0" lang="fr-FR" sz="1200" spc="-1" strike="noStrike">
                <a:solidFill>
                  <a:srgbClr val="000000"/>
                </a:solidFill>
                <a:latin typeface="Avenir LT Std 55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venir LT Std 55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E956-6A3A-40D2-BD56-2AC7CF409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CC65-0BE8-4FBB-ADD2-E4FCE88E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89E1E3-F421-46A7-99EC-7BAF902F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11E762-99D4-4CD7-A85D-00A95443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A8A806-5DFB-48E8-8E9C-4934B862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4C633D-0661-42F1-8B5F-9D1234A0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DB1473-9575-4840-B4B6-6AEAD955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97C28-AB1B-49D6-8CED-1A67FA2B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BDC2A0-34E7-4C93-974D-ECE2A3E7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A2F3BD-1093-461E-9746-ECDB4ED34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C5EB67-DCD3-41B5-9DFB-0CB6620CF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0CCD-CE3B-489D-AF5B-DE8C8C874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92CF-259D-4022-90F5-5B78EEBA4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C693-B0EB-4D5E-AFEF-263CAA101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2312-53D8-48A8-A211-A5C3BA63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1871A-8EFB-4AA4-8E2E-37C6CE5C6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8DFE-20EE-4CEC-9A61-394A2506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F7F8-5331-47AC-861B-A5D02354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DBAF-4911-4ABB-B225-C8ED8F06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2FD8-46B8-463D-9601-AE8B767B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2956-4C0C-4B73-ACC9-5F0C77B3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1C8A-32DD-4B45-B5FA-C286B04A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12D7-2556-4EB9-83DE-5C8CBBCF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3632-0702-4F25-ADB1-74A44BE4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635D-124F-4843-9A06-5DB6A3F5E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4969-0BE5-4582-890E-8B29BAE14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90AB8-5E52-45B7-8682-D012327AF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F4D3E-B4B6-4DEB-85B9-8A1389C4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9267D-A953-4F43-9812-4E6FA6D2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B3D0C-48D7-4B33-B3B9-A4D224EA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C6CA9-068C-42FB-BABA-67A797EE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C0BD-9F3A-4760-AFD0-E2DB559B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3F8AE-00DD-4D1B-9D04-A35D9C5A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9F67A-7AB5-4441-84CE-4E9E5927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9432A-E0CC-433D-B5E0-3B4F31C4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79F70-7526-4C55-8F02-A8913D78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F21B5-2846-4D15-AA9A-56A08B9D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6E9FA-A710-46EF-BDF3-818D3DAC7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2FDB8-EE01-410A-AB53-C8FF2D535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530C8-4497-46E2-853F-78F5A21CD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7C614-B571-4DDE-81C8-CD4E39C2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225F7-EA62-45A7-A64D-31C046D7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023C-C444-4235-9FC4-DC7F03C2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DEAD9-A390-42F1-81CC-0D09316E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22FD5-2DC2-4435-B945-D7CD9078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8FE2A-A94C-46EF-BDD3-3CB0D3B1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5EE46-39E2-4191-ACA2-58F3F42B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844EC-3D03-46ED-9932-F6F4B0AF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1F37D-DA4D-4083-BBE1-0D67E0C7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B7914-C284-4656-BCE9-E6B6E763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FDDF3-A5FE-4DB9-9607-31CF008AF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A77B8-7E0A-45F2-BE8D-5FD71E253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DD363-AB6A-4B8F-9554-EBDC67D62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5097-A753-4FE9-8AD2-BCBE65D1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2CC5B-5178-41B8-9ED2-6CCA45B5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1F887-0768-4E27-9551-EDE13A77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2DAF9-86D9-4C4A-8279-E4F54A87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0F00F-639F-48A1-B4D5-FA6DC1C2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15779-4F70-4C3E-88D0-AFDFB8DD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C2F0B-F61D-490A-9504-4EDE77E3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62E84-1515-491D-9D71-50D1A2B8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76A88-BC02-4FB0-864D-1527D293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B22E2-A1E6-40BD-9D1D-B3D527CB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3CA0B-0F92-4A2C-80FC-6CB6FA7D7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C490-9F7A-4CAD-A233-7B39F96E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16DF0-A4BA-4C3F-B48A-410859CBE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6A9AE-B6D0-4345-AA7F-AB9BB0391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3F867-E5FA-4471-A4C1-8607645C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DEF9E-EE2A-445C-86F5-206DB7A0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80180-AB05-4D4D-AF7C-826F7483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BADDE-060A-439B-9A11-08D94E8C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28931-6ABC-4086-8C09-DEABC3FE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DEF74-3B0E-4C2D-8544-806057B2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857F1-C1ED-40A6-9772-54ED7CF8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631CF-CDFE-4061-812C-25AC1521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A3FF-9A72-46D0-A098-8D5D6FD8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7E2D3-4F83-4389-93B7-DAD33455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3E03D-59F6-4C4A-B278-45924A86F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3F0E4-38E8-4767-89B9-0E697FE29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37788-A4CA-4D3A-897E-6C3B1042C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D4556-A4DE-495C-9931-17B74526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D9905-39C6-481A-9053-5264E323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7F11E-CF7A-451A-87F9-BB3546C0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24D2D-AE33-4277-BAE2-29549DA7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B5B0F-201B-4F7B-8A42-FA9570EE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582B6-1D87-4B9E-89F3-F25327E6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9566-A9D1-4D6F-BB69-3E933ABB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5D92D-5DA3-41B4-AA5B-598AC021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B9911-7C3F-47DC-A797-F5B46A28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838E8-06AE-4837-A172-8DC14730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9C0E1-98DC-419A-B720-E0FB54D37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9B7C2-AB4A-42AA-BA72-421710602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45617-E2C5-4B2B-ADFA-9D44BF912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3E718-1980-4EAD-A6EE-58AF7E0A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8E4C6-1803-4D01-B127-562B726D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0A3E1-72BA-431E-A99C-37BADDB6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3A531-C37C-4AA4-8BC7-28E3A0EC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D24C-699E-4EDA-B6E6-11DF3DB2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80CBB-56D6-4C86-BA53-E3353FF8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A9A57-F9A1-4C3F-A562-7783ED42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847E1-C29D-4B02-8EAB-89254583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12351-9528-4116-8DEB-7A8C5D72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60F26-D4E9-4F42-B8C1-C7DF57EC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C90DC-14E8-4BE2-8E43-4FEBDC17E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547EE-529C-4E5B-A676-0F273799D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C9BD2-D694-4E11-BA12-D6A8942B6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AA0B76-08EC-4431-889C-A0EA67D3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60F144-26C7-460D-94CA-35826016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8" descr=""/>
          <p:cNvPicPr/>
          <p:nvPr/>
        </p:nvPicPr>
        <p:blipFill>
          <a:blip r:embed="rId2"/>
          <a:stretch/>
        </p:blipFill>
        <p:spPr>
          <a:xfrm>
            <a:off x="0" y="6967440"/>
            <a:ext cx="10688760" cy="595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61720" y="6967440"/>
            <a:ext cx="82486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636120" y="7394400"/>
            <a:ext cx="67464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9796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32B9-AEC5-4526-918E-5C9B8847DA38}" type="slidenum">
              <a:rPr b="0" lang="fr-FR" sz="800" spc="-1" strike="noStrike">
                <a:solidFill>
                  <a:srgbClr val="9796a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mage 10" descr="logo_texte.png"/>
          <p:cNvPicPr/>
          <p:nvPr/>
        </p:nvPicPr>
        <p:blipFill>
          <a:blip r:embed="rId3"/>
          <a:stretch/>
        </p:blipFill>
        <p:spPr>
          <a:xfrm>
            <a:off x="0" y="0"/>
            <a:ext cx="1893960" cy="99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à coins arrondis 12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4" name="Forme libre 15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5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E024-75DF-4671-8F53-D23D1B14D251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rme libre 15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88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89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0432-AB12-40BC-9FB0-544C35E2E2C7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à coins arrondis 11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32" name="Forme libre 14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133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A7F1-2674-4FF4-A813-27ECD2666F9B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76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77" name="Forme libre 14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178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5D40-6414-44A4-8002-FC356B8E3F91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à coins arrondis 12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21" name="Forme libre 15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222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2314-A112-4A02-A825-1034D7FA5BB4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rme libre 15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65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266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FF89-55AB-45A0-934B-8868DA2516D2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à coins arrondis 11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09" name="Forme libre 14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310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B9FE-E2E1-40D7-A681-D04DD450A459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24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53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54" name="Forme libre 14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355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E414-230E-409A-B3B7-2BBBCDEEF947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7"/>
          <p:cNvSpPr/>
          <p:nvPr/>
        </p:nvSpPr>
        <p:spPr>
          <a:xfrm>
            <a:off x="8294760" y="50292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L VAG Rounded Light"/>
                <a:ea typeface="MS PGothic"/>
              </a:rPr>
              <a:t>PRODUIT</a:t>
            </a:r>
            <a:endParaRPr b="0" lang="en-US" sz="16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05" name="Text Box 11"/>
          <p:cNvSpPr/>
          <p:nvPr/>
        </p:nvSpPr>
        <p:spPr>
          <a:xfrm>
            <a:off x="1852560" y="2658240"/>
            <a:ext cx="6983640" cy="19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Fiche d</a:t>
            </a:r>
            <a:r>
              <a:rPr b="0" lang="ja-JP" sz="2200" spc="-1" strike="noStrike">
                <a:solidFill>
                  <a:srgbClr val="9796a3"/>
                </a:solidFill>
                <a:latin typeface="Avenir LT Std 55 Roman"/>
              </a:rPr>
              <a:t>’</a:t>
            </a: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intégration </a:t>
            </a:r>
            <a:br>
              <a:rPr sz="2200"/>
            </a:b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dans le logiciel RT 2012 :</a:t>
            </a:r>
            <a:endParaRPr b="0" lang="en-US" sz="22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U22win de PERRENOUD</a:t>
            </a:r>
            <a:endParaRPr b="0" lang="en-US" sz="22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45 Helvetica Light"/>
                <a:ea typeface="MS PGothic"/>
              </a:rPr>
              <a:t>Version 5.1.36 du 06/07/2018</a:t>
            </a:r>
            <a:endParaRPr b="0" lang="en-US" sz="22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45 Helvetica Light"/>
                <a:ea typeface="MS PGothic"/>
              </a:rPr>
              <a:t>Moteur Th-BCE : version 7.5.0.3</a:t>
            </a:r>
            <a:endParaRPr b="0" lang="en-US" sz="22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12680" y="404640"/>
            <a:ext cx="8397720" cy="22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900" spc="-1" strike="noStrike">
                <a:solidFill>
                  <a:srgbClr val="9796a3"/>
                </a:solidFill>
                <a:latin typeface="Avenir LT Std 55 Roman"/>
              </a:rPr>
              <a:t>Chauffe-Eau Thermodynamique hybride</a:t>
            </a:r>
            <a:br>
              <a:rPr sz="2900"/>
            </a:br>
            <a:r>
              <a:rPr b="0" lang="fr-FR" sz="2900" spc="-1" strike="noStrike">
                <a:solidFill>
                  <a:srgbClr val="9796a3"/>
                </a:solidFill>
                <a:latin typeface="Avenir LT Std 55 Roman"/>
              </a:rPr>
              <a:t>DE DIETRICH</a:t>
            </a:r>
            <a:endParaRPr b="0" lang="en-US" sz="2900" spc="-1" strike="noStrike">
              <a:solidFill>
                <a:srgbClr val="662483"/>
              </a:solidFill>
              <a:latin typeface="Avenir LT Std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10"/>
          <p:cNvSpPr/>
          <p:nvPr/>
        </p:nvSpPr>
        <p:spPr>
          <a:xfrm>
            <a:off x="447840" y="1260360"/>
            <a:ext cx="9864720" cy="39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Le présent document décrit la saisie et la prise en compte d’un chauffe-eau thermodynamique hybride du fabricant De Dietrich dans le logiciel d’application de la RT 2012 U22win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Le chauffe-eau thermodynamique hybride De Dietrich </a:t>
            </a: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est composée des éléments suivants :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’ensemble du système est décrit dans les objets 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« Bâtiment »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(       ) et 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« génération »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(         ). 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’objet 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« Bâtiment » 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(       ) contient : 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es résultats des Cep et Bbio, 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a Zone (        )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’objet 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« génération »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(       ) contient :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Un « générateur » décrivant les caractéristiques de la chaudière gaz à condensation (         ) assurant une fonction de chauffage et d’appoint pour l’ECS. 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Un stockage décrivant les caractéristiques du ballon de stockage du CE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Un « générateur » décrivant les caractéristiques du CET (        ) assurant une fonction de production d’ECS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08" name="Rectangle 69"/>
          <p:cNvSpPr/>
          <p:nvPr/>
        </p:nvSpPr>
        <p:spPr>
          <a:xfrm>
            <a:off x="3852720" y="2550960"/>
            <a:ext cx="5226120" cy="16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879480" y="2197080"/>
          <a:ext cx="9217080" cy="519120"/>
        </p:xfrm>
        <a:graphic>
          <a:graphicData uri="http://schemas.openxmlformats.org/drawingml/2006/table">
            <a:tbl>
              <a:tblPr/>
              <a:tblGrid>
                <a:gridCol w="3894120"/>
                <a:gridCol w="5322960"/>
              </a:tblGrid>
              <a:tr h="26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  <a:ea typeface="MS PGothic"/>
                        </a:rPr>
                        <a:t>Chauffe-eau thermodynamiq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83c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KALIK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  <a:ea typeface="MS PGothic"/>
                        </a:rPr>
                        <a:t>Chaudière gaz à condens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83c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NANE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10" name="Image 13" descr=""/>
          <p:cNvPicPr/>
          <p:nvPr/>
        </p:nvPicPr>
        <p:blipFill>
          <a:blip r:embed="rId1"/>
          <a:stretch/>
        </p:blipFill>
        <p:spPr>
          <a:xfrm>
            <a:off x="1808280" y="3451320"/>
            <a:ext cx="218880" cy="2379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03" descr="Travail:1 GRAPHISME:GRDF:FICHES_BET_CEGIBAT_GrDF:FICHES_PRODUIT:ELEMENTS_OK:PICTOS:GENERATION.jpg"/>
          <p:cNvPicPr/>
          <p:nvPr/>
        </p:nvPicPr>
        <p:blipFill>
          <a:blip r:embed="rId2"/>
          <a:stretch/>
        </p:blipFill>
        <p:spPr>
          <a:xfrm>
            <a:off x="5546880" y="3124080"/>
            <a:ext cx="237960" cy="219240"/>
          </a:xfrm>
          <a:prstGeom prst="rect">
            <a:avLst/>
          </a:prstGeom>
          <a:ln w="0">
            <a:noFill/>
          </a:ln>
        </p:spPr>
      </p:pic>
      <p:pic>
        <p:nvPicPr>
          <p:cNvPr id="412" name="Image 15" descr=""/>
          <p:cNvPicPr/>
          <p:nvPr/>
        </p:nvPicPr>
        <p:blipFill>
          <a:blip r:embed="rId3"/>
          <a:stretch/>
        </p:blipFill>
        <p:spPr>
          <a:xfrm>
            <a:off x="4154400" y="3124080"/>
            <a:ext cx="219240" cy="2383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03" descr="Travail:1 GRAPHISME:GRDF:FICHES_BET_CEGIBAT_GrDF:FICHES_PRODUIT:ELEMENTS_OK:PICTOS:GENERATION.jpg"/>
          <p:cNvPicPr/>
          <p:nvPr/>
        </p:nvPicPr>
        <p:blipFill>
          <a:blip r:embed="rId4"/>
          <a:stretch/>
        </p:blipFill>
        <p:spPr>
          <a:xfrm>
            <a:off x="1874880" y="4206960"/>
            <a:ext cx="237960" cy="217440"/>
          </a:xfrm>
          <a:prstGeom prst="rect">
            <a:avLst/>
          </a:prstGeom>
          <a:ln w="0">
            <a:noFill/>
          </a:ln>
        </p:spPr>
      </p:pic>
      <p:pic>
        <p:nvPicPr>
          <p:cNvPr id="414" name="Image 17" descr=""/>
          <p:cNvPicPr/>
          <p:nvPr/>
        </p:nvPicPr>
        <p:blipFill>
          <a:blip r:embed="rId5"/>
          <a:stretch/>
        </p:blipFill>
        <p:spPr>
          <a:xfrm>
            <a:off x="5605560" y="438156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415" name="Image 18" descr=""/>
          <p:cNvPicPr/>
          <p:nvPr/>
        </p:nvPicPr>
        <p:blipFill>
          <a:blip r:embed="rId6"/>
          <a:stretch/>
        </p:blipFill>
        <p:spPr>
          <a:xfrm>
            <a:off x="4014720" y="4782960"/>
            <a:ext cx="219240" cy="247680"/>
          </a:xfrm>
          <a:prstGeom prst="rect">
            <a:avLst/>
          </a:prstGeom>
          <a:ln w="0">
            <a:noFill/>
          </a:ln>
        </p:spPr>
      </p:pic>
      <p:pic>
        <p:nvPicPr>
          <p:cNvPr id="416" name="Image 19" descr=""/>
          <p:cNvPicPr/>
          <p:nvPr/>
        </p:nvPicPr>
        <p:blipFill>
          <a:blip r:embed="rId7"/>
          <a:stretch/>
        </p:blipFill>
        <p:spPr>
          <a:xfrm>
            <a:off x="1239840" y="3797280"/>
            <a:ext cx="219240" cy="209520"/>
          </a:xfrm>
          <a:prstGeom prst="rect">
            <a:avLst/>
          </a:prstGeom>
          <a:ln w="0">
            <a:noFill/>
          </a:ln>
        </p:spPr>
      </p:pic>
      <p:sp>
        <p:nvSpPr>
          <p:cNvPr id="417" name="Espace réservé du texte 4"/>
          <p:cNvSpPr/>
          <p:nvPr/>
        </p:nvSpPr>
        <p:spPr>
          <a:xfrm>
            <a:off x="2027160" y="287280"/>
            <a:ext cx="67928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Présentation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18" name="Espace réservé du numéro de diapositive 2"/>
          <p:cNvSpPr/>
          <p:nvPr/>
        </p:nvSpPr>
        <p:spPr>
          <a:xfrm>
            <a:off x="9809280" y="7410600"/>
            <a:ext cx="576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08D8-A8EA-43BB-ADC4-8033658C2562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19" name="Image 18" descr=""/>
          <p:cNvPicPr/>
          <p:nvPr/>
        </p:nvPicPr>
        <p:blipFill>
          <a:blip r:embed="rId8"/>
          <a:srcRect l="0" t="0" r="33795" b="0"/>
          <a:stretch/>
        </p:blipFill>
        <p:spPr>
          <a:xfrm>
            <a:off x="6985080" y="4824360"/>
            <a:ext cx="3384360" cy="2019240"/>
          </a:xfrm>
          <a:prstGeom prst="rect">
            <a:avLst/>
          </a:prstGeom>
          <a:ln w="0">
            <a:noFill/>
          </a:ln>
        </p:spPr>
      </p:pic>
      <p:sp>
        <p:nvSpPr>
          <p:cNvPr id="420" name="ZoneTexte 19"/>
          <p:cNvSpPr/>
          <p:nvPr/>
        </p:nvSpPr>
        <p:spPr>
          <a:xfrm>
            <a:off x="447840" y="5221440"/>
            <a:ext cx="5832360" cy="18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es étapes de la saisie du système sont les suivantes :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Etape 1 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: Création de l’objet génération libre « CET hybride»;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Etape 2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: Création du générateur « Chaudière à condensation (fonction chauffage et ECS) » en personnalisation du « nouveau générateur » créé à l’étape 1;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Etape 3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 : Création du système de stockage ECS commun « Ballon de stockage » au niveau de la génération « CET hybride » précédemment définie à l’étape 1 (ECS) ;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Etape 4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 : Création du générateur « CET (fonction ECS) » au niveau du « stockage ECS commun »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21" name="AutoShape 41"/>
          <p:cNvCxnSpPr/>
          <p:nvPr/>
        </p:nvCxnSpPr>
        <p:spPr>
          <a:xfrm flipH="1" flipV="1" rot="10800000">
            <a:off x="70200" y="4067640"/>
            <a:ext cx="252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22" name="Text Box 33"/>
          <p:cNvSpPr/>
          <p:nvPr/>
        </p:nvSpPr>
        <p:spPr>
          <a:xfrm>
            <a:off x="6856560" y="1613880"/>
            <a:ext cx="3146400" cy="109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Paramétrage classique RT 2012 d’une cascade. Un emplacement en volume chauffé permet de réduire les consommations par rapport à un emplacement hors volume chauffé. À choisir en fonction du proje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23" name="Espace réservé du texte 4"/>
          <p:cNvSpPr/>
          <p:nvPr/>
        </p:nvSpPr>
        <p:spPr>
          <a:xfrm>
            <a:off x="2027160" y="260280"/>
            <a:ext cx="8285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1 : Création de l’objet génération « CET hybride »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24" name="Espace réservé du numéro de diapositive 2"/>
          <p:cNvSpPr/>
          <p:nvPr/>
        </p:nvSpPr>
        <p:spPr>
          <a:xfrm>
            <a:off x="9809280" y="7410600"/>
            <a:ext cx="576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DCE6-7F24-48A8-8CB4-8A2FC3962702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25" name="Image 27" descr=""/>
          <p:cNvPicPr/>
          <p:nvPr/>
        </p:nvPicPr>
        <p:blipFill>
          <a:blip r:embed="rId1"/>
          <a:stretch/>
        </p:blipFill>
        <p:spPr>
          <a:xfrm>
            <a:off x="519120" y="1836720"/>
            <a:ext cx="5513400" cy="4451400"/>
          </a:xfrm>
          <a:prstGeom prst="rect">
            <a:avLst/>
          </a:prstGeom>
          <a:ln w="0">
            <a:noFill/>
          </a:ln>
        </p:spPr>
      </p:pic>
      <p:cxnSp>
        <p:nvCxnSpPr>
          <p:cNvPr id="426" name="Connecteur en angle 29"/>
          <p:cNvCxnSpPr>
            <a:stCxn id="422" idx="1"/>
          </p:cNvCxnSpPr>
          <p:nvPr/>
        </p:nvCxnSpPr>
        <p:spPr>
          <a:xfrm flipV="1" rot="10800000">
            <a:off x="3110760" y="2161800"/>
            <a:ext cx="3745800" cy="1404000"/>
          </a:xfrm>
          <a:prstGeom prst="bentConnector3">
            <a:avLst>
              <a:gd name="adj1" fmla="val 11947"/>
            </a:avLst>
          </a:prstGeom>
          <a:ln w="12600">
            <a:solidFill>
              <a:srgbClr val="4e3073"/>
            </a:solidFill>
            <a:miter/>
            <a:tailEnd len="med" type="triangle" w="med"/>
          </a:ln>
        </p:spPr>
      </p:cxnSp>
      <p:sp>
        <p:nvSpPr>
          <p:cNvPr id="427" name="Text Box 33"/>
          <p:cNvSpPr/>
          <p:nvPr/>
        </p:nvSpPr>
        <p:spPr>
          <a:xfrm>
            <a:off x="6927840" y="4923000"/>
            <a:ext cx="301140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Ne concerne que les générateurs d’ECS instantanés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(dans les autres cas, n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intervient pas dans le calcul)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cxnSp>
        <p:nvCxnSpPr>
          <p:cNvPr id="428" name="Connecteur en angle 29"/>
          <p:cNvCxnSpPr>
            <a:stCxn id="427" idx="1"/>
          </p:cNvCxnSpPr>
          <p:nvPr/>
        </p:nvCxnSpPr>
        <p:spPr>
          <a:xfrm flipV="1" rot="10800000">
            <a:off x="2607480" y="5220360"/>
            <a:ext cx="4320360" cy="361080"/>
          </a:xfrm>
          <a:prstGeom prst="bentConnector3">
            <a:avLst>
              <a:gd name="adj1" fmla="val 50000"/>
            </a:avLst>
          </a:prstGeom>
          <a:ln w="12600">
            <a:solidFill>
              <a:srgbClr val="4e3073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Image 15" descr=""/>
          <p:cNvPicPr/>
          <p:nvPr/>
        </p:nvPicPr>
        <p:blipFill>
          <a:blip r:embed="rId1"/>
          <a:stretch/>
        </p:blipFill>
        <p:spPr>
          <a:xfrm>
            <a:off x="592200" y="1693800"/>
            <a:ext cx="5511600" cy="529596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9"/>
          <p:cNvSpPr/>
          <p:nvPr/>
        </p:nvSpPr>
        <p:spPr>
          <a:xfrm>
            <a:off x="3255840" y="3781440"/>
            <a:ext cx="43200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23.8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31" name="Rectangle 10"/>
          <p:cNvSpPr/>
          <p:nvPr/>
        </p:nvSpPr>
        <p:spPr>
          <a:xfrm>
            <a:off x="3255840" y="3997440"/>
            <a:ext cx="43200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99.1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32" name="Rectangle 11"/>
          <p:cNvSpPr/>
          <p:nvPr/>
        </p:nvSpPr>
        <p:spPr>
          <a:xfrm>
            <a:off x="3184560" y="4429080"/>
            <a:ext cx="503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0.035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33" name="Rectangle 12"/>
          <p:cNvSpPr/>
          <p:nvPr/>
        </p:nvSpPr>
        <p:spPr>
          <a:xfrm>
            <a:off x="3184560" y="4645080"/>
            <a:ext cx="503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8.00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34" name="Rectangle 13"/>
          <p:cNvSpPr/>
          <p:nvPr/>
        </p:nvSpPr>
        <p:spPr>
          <a:xfrm>
            <a:off x="3184560" y="4861080"/>
            <a:ext cx="503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110.5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35" name="Rectangle 15"/>
          <p:cNvSpPr/>
          <p:nvPr/>
        </p:nvSpPr>
        <p:spPr>
          <a:xfrm>
            <a:off x="3255840" y="5510160"/>
            <a:ext cx="5050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40.00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36" name="Rectangle 17"/>
          <p:cNvSpPr/>
          <p:nvPr/>
        </p:nvSpPr>
        <p:spPr>
          <a:xfrm>
            <a:off x="3255840" y="5726160"/>
            <a:ext cx="5050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3.00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37" name="Rectangle 18"/>
          <p:cNvSpPr/>
          <p:nvPr/>
        </p:nvSpPr>
        <p:spPr>
          <a:xfrm>
            <a:off x="2103480" y="2125800"/>
            <a:ext cx="237636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Chaudière NANEO EMC-M24/28 MI VH 8 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38" name="Rectangle 19"/>
          <p:cNvSpPr/>
          <p:nvPr/>
        </p:nvSpPr>
        <p:spPr>
          <a:xfrm>
            <a:off x="3255840" y="6084720"/>
            <a:ext cx="5050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39" name="Text Box 7"/>
          <p:cNvSpPr/>
          <p:nvPr/>
        </p:nvSpPr>
        <p:spPr>
          <a:xfrm>
            <a:off x="6851520" y="1928880"/>
            <a:ext cx="1800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cxnSp>
        <p:nvCxnSpPr>
          <p:cNvPr id="440" name="AutoShape 12"/>
          <p:cNvCxnSpPr/>
          <p:nvPr/>
        </p:nvCxnSpPr>
        <p:spPr>
          <a:xfrm flipH="1" flipV="1" rot="10800000">
            <a:off x="52200" y="37810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41" name="Text Box 33"/>
          <p:cNvSpPr/>
          <p:nvPr/>
        </p:nvSpPr>
        <p:spPr>
          <a:xfrm>
            <a:off x="7165800" y="2759400"/>
            <a:ext cx="3024360" cy="12657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Paramétrage classique RT 2012 d’une chaudière gaz à condensation. Ne pas oublier de sélectionner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 « Chauffage et ECS » 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afin que la chaudière soit bien en appoint du CET. Les chiffres sont donnés à titre indicatif et sont à modifier en fonction du produit réel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42" name="Espace réservé du texte 4"/>
          <p:cNvSpPr/>
          <p:nvPr/>
        </p:nvSpPr>
        <p:spPr>
          <a:xfrm>
            <a:off x="2027160" y="260280"/>
            <a:ext cx="8285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2 : Création du générateur chaudière gaz à condensation (chauffage &amp; ECS)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43" name="Espace réservé du numéro de diapositive 2"/>
          <p:cNvSpPr/>
          <p:nvPr/>
        </p:nvSpPr>
        <p:spPr>
          <a:xfrm>
            <a:off x="9809280" y="7410600"/>
            <a:ext cx="576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2171-1D6C-4543-8D25-747C58B8C0D2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cxnSp>
        <p:nvCxnSpPr>
          <p:cNvPr id="444" name="Connecteur en angle 18"/>
          <p:cNvCxnSpPr>
            <a:stCxn id="441" idx="1"/>
          </p:cNvCxnSpPr>
          <p:nvPr/>
        </p:nvCxnSpPr>
        <p:spPr>
          <a:xfrm rot="10800000">
            <a:off x="3326760" y="2988720"/>
            <a:ext cx="3839040" cy="403920"/>
          </a:xfrm>
          <a:prstGeom prst="bentConnector3">
            <a:avLst>
              <a:gd name="adj1" fmla="val 49995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9"/>
          <p:cNvSpPr/>
          <p:nvPr/>
        </p:nvSpPr>
        <p:spPr>
          <a:xfrm>
            <a:off x="6910560" y="2448000"/>
            <a:ext cx="18000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cxnSp>
        <p:nvCxnSpPr>
          <p:cNvPr id="446" name="AutoShape 10"/>
          <p:cNvCxnSpPr/>
          <p:nvPr/>
        </p:nvCxnSpPr>
        <p:spPr>
          <a:xfrm flipH="1" flipV="1" rot="10800000">
            <a:off x="6646680" y="73054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47" name="AutoShape 11"/>
          <p:cNvCxnSpPr/>
          <p:nvPr/>
        </p:nvCxnSpPr>
        <p:spPr>
          <a:xfrm flipH="1" flipV="1" rot="10800000">
            <a:off x="6646680" y="73054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48" name="AutoShape 13"/>
          <p:cNvCxnSpPr/>
          <p:nvPr/>
        </p:nvCxnSpPr>
        <p:spPr>
          <a:xfrm flipH="1" flipV="1" rot="10800000">
            <a:off x="81360" y="3911400"/>
            <a:ext cx="252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49" name="Espace réservé du texte 4"/>
          <p:cNvSpPr/>
          <p:nvPr/>
        </p:nvSpPr>
        <p:spPr>
          <a:xfrm>
            <a:off x="2027160" y="260280"/>
            <a:ext cx="8501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3 : Création du stockage (ECS seulement)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50" name="Espace réservé du numéro de diapositive 2"/>
          <p:cNvSpPr/>
          <p:nvPr/>
        </p:nvSpPr>
        <p:spPr>
          <a:xfrm>
            <a:off x="9809280" y="7410600"/>
            <a:ext cx="576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9FDC-3553-4A51-B625-C32B7C040ADD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51" name="Image 27" descr=""/>
          <p:cNvPicPr/>
          <p:nvPr/>
        </p:nvPicPr>
        <p:blipFill>
          <a:blip r:embed="rId1"/>
          <a:stretch/>
        </p:blipFill>
        <p:spPr>
          <a:xfrm>
            <a:off x="447840" y="1260360"/>
            <a:ext cx="5511600" cy="520560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33"/>
          <p:cNvSpPr/>
          <p:nvPr/>
        </p:nvSpPr>
        <p:spPr>
          <a:xfrm>
            <a:off x="6568920" y="1335960"/>
            <a:ext cx="3888000" cy="7635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« Base plus appoint séparé instantané » 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à sélectionner : la chaudière n’est pas directement reliée au stockage mais vient assurer le complément en sortie du ballon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cxnSp>
        <p:nvCxnSpPr>
          <p:cNvPr id="453" name="Connecteur en angle 29"/>
          <p:cNvCxnSpPr>
            <a:stCxn id="452" idx="1"/>
          </p:cNvCxnSpPr>
          <p:nvPr/>
        </p:nvCxnSpPr>
        <p:spPr>
          <a:xfrm flipV="1" rot="10800000">
            <a:off x="4263480" y="1716480"/>
            <a:ext cx="2305440" cy="335880"/>
          </a:xfrm>
          <a:prstGeom prst="bentConnector3">
            <a:avLst>
              <a:gd name="adj1" fmla="val 49992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sp>
        <p:nvSpPr>
          <p:cNvPr id="454" name="Text Box 33"/>
          <p:cNvSpPr/>
          <p:nvPr/>
        </p:nvSpPr>
        <p:spPr>
          <a:xfrm>
            <a:off x="6568920" y="3216240"/>
            <a:ext cx="3888000" cy="2270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« Chauffage de nuit » possible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 si les conditions de la fiche d’application « Saisie des chauffe-eau thermodynamiques à compression électrique » (rt-batiment.fr) sont réunies :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e CET dispose d’un 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relais Heures Pleines / Heures Creuses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 pour piloter le fonctionnement de la PAC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a 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montée en température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 du ballon (correspondant à th dans la norme NF EN 16147) est 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inférieure à 8h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Sinon, il faut indiquer « chauffage permanent ». La régulation du CET «  chauffage de nuit » implique un transfert d’une partie des consommations du CET vers la chaudière d’appoint vu que le CET est restreint dans sa période de fonctionnemen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cxnSp>
        <p:nvCxnSpPr>
          <p:cNvPr id="455" name="Connecteur en angle 34"/>
          <p:cNvCxnSpPr>
            <a:stCxn id="454" idx="1"/>
          </p:cNvCxnSpPr>
          <p:nvPr/>
        </p:nvCxnSpPr>
        <p:spPr>
          <a:xfrm flipV="1" rot="10800000">
            <a:off x="3399840" y="4350240"/>
            <a:ext cx="3169080" cy="438840"/>
          </a:xfrm>
          <a:prstGeom prst="bentConnector3">
            <a:avLst>
              <a:gd name="adj1" fmla="val 14087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sp>
        <p:nvSpPr>
          <p:cNvPr id="456" name="Text Box 33"/>
          <p:cNvSpPr/>
          <p:nvPr/>
        </p:nvSpPr>
        <p:spPr>
          <a:xfrm>
            <a:off x="6568920" y="2200320"/>
            <a:ext cx="3888000" cy="7635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Caractéristique déterminée à partir des données issues de la NF EN 16147 via l’outil idCET ou alors directement disponible sur la base de données Edibatec. Impacte la consommation d’ECS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cxnSp>
        <p:nvCxnSpPr>
          <p:cNvPr id="457" name="Connecteur en angle 43"/>
          <p:cNvCxnSpPr>
            <a:stCxn id="456" idx="1"/>
          </p:cNvCxnSpPr>
          <p:nvPr/>
        </p:nvCxnSpPr>
        <p:spPr>
          <a:xfrm flipV="1" rot="10800000">
            <a:off x="4984200" y="2580840"/>
            <a:ext cx="1584720" cy="1705680"/>
          </a:xfrm>
          <a:prstGeom prst="bentConnector2">
            <a:avLst/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sp>
        <p:nvSpPr>
          <p:cNvPr id="458" name="Text Box 33"/>
          <p:cNvSpPr/>
          <p:nvPr/>
        </p:nvSpPr>
        <p:spPr>
          <a:xfrm>
            <a:off x="6568920" y="5727960"/>
            <a:ext cx="388800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'hystérésis correspond à une « tolérance » autour de la valeur de consigne du ballon. Cette valeur importante impacte les consommations d'ECS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cxnSp>
        <p:nvCxnSpPr>
          <p:cNvPr id="459" name="Connecteur en angle 52"/>
          <p:cNvCxnSpPr>
            <a:stCxn id="458" idx="1"/>
          </p:cNvCxnSpPr>
          <p:nvPr/>
        </p:nvCxnSpPr>
        <p:spPr>
          <a:xfrm rot="10800000">
            <a:off x="3399840" y="5149080"/>
            <a:ext cx="3169080" cy="876960"/>
          </a:xfrm>
          <a:prstGeom prst="bentConnector3">
            <a:avLst>
              <a:gd name="adj1" fmla="val 14758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sp>
        <p:nvSpPr>
          <p:cNvPr id="460" name="Rectangle 16"/>
          <p:cNvSpPr/>
          <p:nvPr/>
        </p:nvSpPr>
        <p:spPr>
          <a:xfrm>
            <a:off x="2247840" y="1620720"/>
            <a:ext cx="237672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CET Kaliko TWH 200 E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61" name="Rectangle 17"/>
          <p:cNvSpPr/>
          <p:nvPr/>
        </p:nvSpPr>
        <p:spPr>
          <a:xfrm>
            <a:off x="3040200" y="3852720"/>
            <a:ext cx="50328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215.0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62" name="Rectangle 18"/>
          <p:cNvSpPr/>
          <p:nvPr/>
        </p:nvSpPr>
        <p:spPr>
          <a:xfrm>
            <a:off x="4695840" y="4286160"/>
            <a:ext cx="50328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2.58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63" name="AutoShape 10"/>
          <p:cNvCxnSpPr/>
          <p:nvPr/>
        </p:nvCxnSpPr>
        <p:spPr>
          <a:xfrm flipH="1" flipV="1" rot="10800000">
            <a:off x="7232400" y="693072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64" name="AutoShape 11"/>
          <p:cNvCxnSpPr/>
          <p:nvPr/>
        </p:nvCxnSpPr>
        <p:spPr>
          <a:xfrm flipH="1" flipV="1" rot="10800000">
            <a:off x="7232400" y="693072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65" name="AutoShape 13"/>
          <p:cNvCxnSpPr/>
          <p:nvPr/>
        </p:nvCxnSpPr>
        <p:spPr>
          <a:xfrm flipH="1" flipV="1" rot="10800000">
            <a:off x="-360" y="37810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66" name="Espace réservé du texte 4"/>
          <p:cNvSpPr/>
          <p:nvPr/>
        </p:nvSpPr>
        <p:spPr>
          <a:xfrm>
            <a:off x="2027160" y="260280"/>
            <a:ext cx="842976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4 : Création du générateur CET (ECS seulement)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67" name="Espace réservé du numéro de diapositive 2"/>
          <p:cNvSpPr/>
          <p:nvPr/>
        </p:nvSpPr>
        <p:spPr>
          <a:xfrm>
            <a:off x="9880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DBC2-6A49-4A53-8181-852EE45E275B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68" name="Image 22" descr=""/>
          <p:cNvPicPr/>
          <p:nvPr/>
        </p:nvPicPr>
        <p:blipFill>
          <a:blip r:embed="rId1"/>
          <a:srcRect l="-3" t="0" r="38947" b="0"/>
          <a:stretch/>
        </p:blipFill>
        <p:spPr>
          <a:xfrm>
            <a:off x="303120" y="1405080"/>
            <a:ext cx="5689800" cy="5095800"/>
          </a:xfrm>
          <a:prstGeom prst="rect">
            <a:avLst/>
          </a:prstGeom>
          <a:ln w="0">
            <a:noFill/>
          </a:ln>
        </p:spPr>
      </p:pic>
      <p:sp>
        <p:nvSpPr>
          <p:cNvPr id="469" name="Text Box 33"/>
          <p:cNvSpPr/>
          <p:nvPr/>
        </p:nvSpPr>
        <p:spPr>
          <a:xfrm>
            <a:off x="6424560" y="4354560"/>
            <a:ext cx="3888000" cy="19353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Bien renseigner les 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limites amont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 (côté source froide) et  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aval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 (côté production d’eau chaude) de température du CET. 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es bornes admissibles sont fixées dans la fiche d’application « Saisie des chauffe-eau thermodynamiques à compression électrique et à appoint hydraulique » disponible sur le site rt-batiment.fr  à savoir :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maximum 7°C en amont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minimum 30°C en aval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cxnSp>
        <p:nvCxnSpPr>
          <p:cNvPr id="470" name="Connecteur en angle 24"/>
          <p:cNvCxnSpPr>
            <a:stCxn id="469" idx="1"/>
          </p:cNvCxnSpPr>
          <p:nvPr/>
        </p:nvCxnSpPr>
        <p:spPr>
          <a:xfrm flipV="1" rot="10800000">
            <a:off x="4263480" y="5320080"/>
            <a:ext cx="2161080" cy="693000"/>
          </a:xfrm>
          <a:prstGeom prst="bentConnector3">
            <a:avLst>
              <a:gd name="adj1" fmla="val 50000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sp>
        <p:nvSpPr>
          <p:cNvPr id="471" name="Text Box 33"/>
          <p:cNvSpPr/>
          <p:nvPr/>
        </p:nvSpPr>
        <p:spPr>
          <a:xfrm>
            <a:off x="6424560" y="1477800"/>
            <a:ext cx="3888000" cy="50328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es valeurs présentées ici sont celles du Kaliko TWH 200 E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72" name="Rectangle 10"/>
          <p:cNvSpPr/>
          <p:nvPr/>
        </p:nvSpPr>
        <p:spPr>
          <a:xfrm>
            <a:off x="1671480" y="1765440"/>
            <a:ext cx="2016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CET Kaliko TWH 200 E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73" name="Rectangle 11"/>
          <p:cNvSpPr/>
          <p:nvPr/>
        </p:nvSpPr>
        <p:spPr>
          <a:xfrm>
            <a:off x="2535120" y="5005440"/>
            <a:ext cx="100980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Par défaut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74" name="Rectangle 12"/>
          <p:cNvSpPr/>
          <p:nvPr/>
        </p:nvSpPr>
        <p:spPr>
          <a:xfrm>
            <a:off x="3687840" y="5797440"/>
            <a:ext cx="50328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-5.00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75" name="Rectangle 13"/>
          <p:cNvSpPr/>
          <p:nvPr/>
        </p:nvSpPr>
        <p:spPr>
          <a:xfrm>
            <a:off x="3687840" y="6013440"/>
            <a:ext cx="503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65.00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76" name="Rectangle 15"/>
          <p:cNvSpPr/>
          <p:nvPr/>
        </p:nvSpPr>
        <p:spPr>
          <a:xfrm>
            <a:off x="3687840" y="5221440"/>
            <a:ext cx="360360" cy="7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7" name="AutoShape 12"/>
          <p:cNvCxnSpPr/>
          <p:nvPr/>
        </p:nvCxnSpPr>
        <p:spPr>
          <a:xfrm flipH="1" flipV="1" rot="10800000">
            <a:off x="-360" y="392472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78" name="Espace réservé du texte 4"/>
          <p:cNvSpPr/>
          <p:nvPr/>
        </p:nvSpPr>
        <p:spPr>
          <a:xfrm>
            <a:off x="2027160" y="260280"/>
            <a:ext cx="842976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4 : Création du générateur CET (ECS seulement)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79" name="Espace réservé du numéro de diapositive 2"/>
          <p:cNvSpPr/>
          <p:nvPr/>
        </p:nvSpPr>
        <p:spPr>
          <a:xfrm>
            <a:off x="9880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A9AC-B78A-4995-860C-8DE379911B2A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80" name="Image 22" descr=""/>
          <p:cNvPicPr/>
          <p:nvPr/>
        </p:nvPicPr>
        <p:blipFill>
          <a:blip r:embed="rId1"/>
          <a:stretch/>
        </p:blipFill>
        <p:spPr>
          <a:xfrm>
            <a:off x="2392200" y="1693800"/>
            <a:ext cx="5627880" cy="1994040"/>
          </a:xfrm>
          <a:prstGeom prst="rect">
            <a:avLst/>
          </a:prstGeom>
          <a:ln w="0">
            <a:noFill/>
          </a:ln>
        </p:spPr>
      </p:pic>
      <p:pic>
        <p:nvPicPr>
          <p:cNvPr id="481" name="Image 23" descr=""/>
          <p:cNvPicPr/>
          <p:nvPr/>
        </p:nvPicPr>
        <p:blipFill>
          <a:blip r:embed="rId2"/>
          <a:stretch/>
        </p:blipFill>
        <p:spPr>
          <a:xfrm>
            <a:off x="2392200" y="4141800"/>
            <a:ext cx="5600880" cy="2263680"/>
          </a:xfrm>
          <a:prstGeom prst="rect">
            <a:avLst/>
          </a:prstGeom>
          <a:ln w="0">
            <a:noFill/>
          </a:ln>
        </p:spPr>
      </p:pic>
      <p:sp>
        <p:nvSpPr>
          <p:cNvPr id="482" name="Rectangle 6"/>
          <p:cNvSpPr/>
          <p:nvPr/>
        </p:nvSpPr>
        <p:spPr>
          <a:xfrm>
            <a:off x="4192560" y="5510160"/>
            <a:ext cx="576360" cy="432000"/>
          </a:xfrm>
          <a:prstGeom prst="rect">
            <a:avLst/>
          </a:prstGeom>
          <a:solidFill>
            <a:srgbClr val="cceb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0.33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3.15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Certifiée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4:36:31Z</dcterms:created>
  <dc:creator>Rapeneau Igor (GDF SUEZ SA)</dc:creator>
  <dc:description/>
  <dc:language>en-US</dc:language>
  <cp:lastModifiedBy>RAPENEAU Igor (Gaz Réseau Distribution France)</cp:lastModifiedBy>
  <cp:lastPrinted>2014-02-20T07:11:44Z</cp:lastPrinted>
  <dcterms:modified xsi:type="dcterms:W3CDTF">2018-11-23T14:05:00Z</dcterms:modified>
  <cp:revision>157</cp:revision>
  <dc:subject/>
  <dc:title>Présentation PowerPoint</dc:title>
</cp:coreProperties>
</file>