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AF7-44FE-4944-9935-4593170C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730-175D-4E1E-A7D1-71A1A03D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00F55-AAE3-47E6-899B-CBD4D156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B0CE1-1182-4CC9-8145-0308F9F5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3330C-A73B-44B2-8BF6-DDB19CDD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0F2D3-212D-4A87-B512-10AB8C2B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0E118-8097-4AD7-95C3-5DC4625A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0535F-EF51-4337-B65C-9A38593A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9D930-7E12-4A3C-9F48-657E4463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92262-2057-4959-BC46-26ABCBE6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B9C73-C0CD-4D1F-A0E2-76A4D754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E04-8E75-47F7-917D-71A1C32D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B03-DAAE-4C0C-A6B0-595245B2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C174-93B5-4831-9048-EF4542A6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122A-A67E-42E2-9DB1-CDE84BF9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BC7C-9151-4286-99A0-3FB5D341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F820-1C4D-4BD0-B3AD-05EAD333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1FDB-E7C4-48CB-AE77-201F76AC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FCB3-3B21-4BF6-9F75-AF63C34F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6F5D-E04F-41B9-AAD2-55F07DAD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BC6-E46F-43FE-B735-F38D34C9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6766-0895-4FE3-8F7C-1173D66D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DF99-CB1D-4A00-9792-8559B244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9E35-F290-46BB-9238-27102489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F420-6421-4ABD-A692-470AC983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ADFA-7B3B-4AFE-9140-2BC80F7B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0F53-102C-42DE-BE91-7DBC56BE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BCF7-3C6E-4048-9A66-34B4D564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DB8DA-AFAE-463F-B9EB-420F134D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6CF79-63D8-45C2-B0DC-C03F4DEA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5D9B3-1FAA-419D-97FA-84FD4966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64F-2D79-4377-B697-E87415C6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2AA96-B9DB-4ABC-8AC8-D8917311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89612-76B2-4210-9BA5-C526A978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24A0A-739D-4E70-AEE3-179B23D4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346B5-353F-44A6-BE04-2B76CBB6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05953-D7FA-4638-A664-7877CED3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C5F02-C291-4D23-B45E-3C94828F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C5D41-F842-47BF-AEE2-270EFC75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480B6-4B40-40ED-B044-236E1242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02DA-BB37-4054-8CFF-D51C2236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C841E-5F47-4F73-A9A0-CDBCE5DC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E7E-E1A4-491B-98A5-F9DD9A02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DFDBA-56D4-4771-A6A9-5C9224D1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25F6F-D86E-4D67-AC2B-4DF3D87A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AC617-F447-4B56-9063-B9A55F5A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63D84-1CF2-449F-9B52-1498904D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D7D62-9022-4177-833D-42D49568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74165-9E65-4325-9BA5-A3B5D1EC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FB4CF-E928-45C7-8304-702B62F7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2A8C-5593-46A2-AAF2-91F0AC84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76C42-FC39-4E4F-A1EC-C8E4C60A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A3D7F-3DA6-4ABC-B902-1280D5E2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5DE2-A854-4DE1-B17C-603CF9C4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C742C-112F-4492-BD34-BDAC5805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D6803-A57E-4C3C-8C79-FF35A4F1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8653C-B4E1-4CB0-B7DA-2744EA07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0D382-16D2-46EA-98B9-841A2DA3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61922-B186-49DE-879E-3D092A63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34B16-5CE7-4BAA-917B-E64BF39C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979F3-9308-47E4-8079-8087DC7D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ED984-B015-4CF1-BB07-67CB8E17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2DAB8-AD66-4775-B133-2E8DD9BB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ED37A-403B-4848-9AD5-6BBFBC45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8C1-0BD4-4B97-A87B-D510518C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1E73B-64B9-4653-91BF-18CC78D1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F1DCF-5FD4-4823-B3DD-4D682F6F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A9BE8-AC91-4A3B-BC57-BF1133C9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77BEB-4A59-42D0-8A21-D8824375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8AFFB-A71C-47D0-9205-9FE6A1E8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5E531-30F0-4C72-9DA5-508755F8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326C1-0C1D-4169-9163-FC7BD448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CA765-9E0E-4B64-8873-D130B4E3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B6025-4A8A-453E-BAD6-AB5A26A8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7BBFB-6EB5-4557-BDEC-90326F2A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30D-EC87-4C85-B71F-0AF34127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92B30-7BDE-4275-AAD5-9BCD1217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DE5C0-A689-4B72-B826-5944398F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C56A3-7EA3-4A92-85CD-CC827D34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7633D-8FF5-4758-87D8-B3505DAD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95F09-8F50-42FD-AAF7-CAD8A27E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34E03-4A27-4FCF-93FD-C67E34CB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38A09-DE11-4DF6-B218-05C02A0C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63993-492B-476D-8714-649D0171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D7E16-5395-4FB9-91CD-3F123221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D8670-6C1B-4F8D-99B8-DA9117F4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B8A-6934-49AF-A1F9-E607E9E7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21FFF-F58D-422F-A06E-833A2C55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1E959-2DE0-431B-811F-858900E5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C9EA3-B61D-4596-BAB4-0CA84D8C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155FE-871D-473A-A2DF-C4CB1B83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C08EF-F4F4-414C-94AC-E5B6D92C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F1B8C-9CDA-48F2-8CAD-96974046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DA549-6BA9-42B6-85BF-B511D17B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6DFCA-C0C5-4F68-9934-041E7CCB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37500-8A56-41F8-93E2-4631649B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3931A-D9B2-4394-AEBA-C8C371CF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F9F-751E-4E25-8101-7DEF3205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DAF8A-9107-4B75-B319-A9F3FDE8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18DD8-FEB7-4DD2-ACD0-D38E0129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223FA-7C43-4AB1-8913-DEF77B55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96947-C2AD-44DE-BDC3-1F59A6BF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C8F0C-3830-499A-94C9-7001BBB1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9F931-6A76-49EF-BC83-AB8F038B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A05D6-5881-4DF7-8558-23B1F0E0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BD753-5689-4C9C-BB7A-8AC29B1B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F7238-1847-428E-A7C5-4358AD4D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D6BBF-405C-40B2-AD2F-C2C95C84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1766-E2E2-4B84-988F-F79C0F8FE156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8731-A42E-4067-809A-D38563620AE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A2B6-E9B7-441B-AF4A-B2D63A80D66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5676-5C4D-4B3A-A29B-6FDB7CA5981C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7517-38F0-41A3-9347-22601FE9835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C9EA-CC76-497B-A495-6652CEB4539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6BF7-8836-4ED9-B531-1C2C1ADBDC9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849C-AC22-40BE-B0CC-0C3943F799BC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BA0F-7746-47B6-820B-A2484074F7C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hyperlink" Target="https://techniqueuniclima.com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7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2700"/>
            </a:br>
            <a:r>
              <a:rPr b="0" lang="fr-FR" sz="2700" spc="-1" strike="noStrike">
                <a:solidFill>
                  <a:srgbClr val="9796a3"/>
                </a:solidFill>
                <a:latin typeface="Avenir LT Std 55 Roman"/>
              </a:rPr>
              <a:t>VIESSMANN</a:t>
            </a:r>
            <a:endParaRPr b="0" lang="en-US" sz="27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U22win de PERRENOUD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5.1.36 du 06/07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</a:rPr>
              <a:t>PRODUIT</a:t>
            </a:r>
            <a:endParaRPr b="0" lang="en-US" sz="16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Image 22" descr="Arborescence perrenoud - Atlantic.PNG"/>
          <p:cNvPicPr/>
          <p:nvPr/>
        </p:nvPicPr>
        <p:blipFill>
          <a:blip r:embed="rId1"/>
          <a:stretch/>
        </p:blipFill>
        <p:spPr>
          <a:xfrm>
            <a:off x="7719840" y="4213080"/>
            <a:ext cx="2513160" cy="22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1" name="ZoneTexte 23"/>
          <p:cNvSpPr/>
          <p:nvPr/>
        </p:nvSpPr>
        <p:spPr>
          <a:xfrm>
            <a:off x="8801280" y="4357800"/>
            <a:ext cx="1079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45 Helvetica Light"/>
              </a:rPr>
              <a:t>72,2 / BbioMax = 76,3</a:t>
            </a: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45 Helvetica Light"/>
              </a:rPr>
              <a:t>64,1 / CepMax = 64,3</a:t>
            </a: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1438200" y="1582560"/>
            <a:ext cx="793440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VIESSMANN dans le logiciel d’application de la RT 2012 U22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La chaudière à condensation + CESI optimisé VIESSMANN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 est composée des éléments suivants :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e la chaudière gaz à condensation (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système de stockage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  et du système solaire ( 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1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2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création du générateur «Chaudière à condensation Vitodens 100-W B1KC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3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création du système de stockage «Stockage ballon Vitocell 100-W CVSA 200 L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4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création du capteur solaire thermique «Vitosol 200-F type SVK/SVKA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focus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 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536400" y="453960"/>
            <a:ext cx="9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 VAG Rounded Light"/>
              </a:rPr>
              <a:t>Présentation</a:t>
            </a:r>
            <a:endParaRPr b="0" lang="en-US" sz="1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4" name="Rectangle 83"/>
          <p:cNvSpPr/>
          <p:nvPr/>
        </p:nvSpPr>
        <p:spPr>
          <a:xfrm>
            <a:off x="1447920" y="323064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5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06" name="Picture 302" descr="Travail:1 GRAPHISME:GRDF:FICHES_BET_CEGIBAT_GrDF:FICHES_PRODUIT:ELEMENTS_OK:PICTOS:GENERATEUR.jpg"/>
          <p:cNvPicPr/>
          <p:nvPr/>
        </p:nvPicPr>
        <p:blipFill>
          <a:blip r:embed="rId2"/>
          <a:stretch/>
        </p:blipFill>
        <p:spPr>
          <a:xfrm>
            <a:off x="7078680" y="40035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03" descr="Travail:1 GRAPHISME:GRDF:FICHES_BET_CEGIBAT_GrDF:FICHES_PRODUIT:ELEMENTS_OK:PICTOS:GENERATION.jpg"/>
          <p:cNvPicPr/>
          <p:nvPr/>
        </p:nvPicPr>
        <p:blipFill>
          <a:blip r:embed="rId3"/>
          <a:stretch/>
        </p:blipFill>
        <p:spPr>
          <a:xfrm>
            <a:off x="5538960" y="3635280"/>
            <a:ext cx="237960" cy="217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05" descr="Travail:1 GRAPHISME:GRDF:FICHES_BET_CEGIBAT_GrDF:FICHES_PRODUIT:ELEMENTS_OK:PICTOS:SYST_STOCK.jpg"/>
          <p:cNvPicPr/>
          <p:nvPr/>
        </p:nvPicPr>
        <p:blipFill>
          <a:blip r:embed="rId4"/>
          <a:stretch/>
        </p:blipFill>
        <p:spPr>
          <a:xfrm>
            <a:off x="3255840" y="4454640"/>
            <a:ext cx="209520" cy="19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9" name=""/>
          <p:cNvGraphicFramePr/>
          <p:nvPr/>
        </p:nvGraphicFramePr>
        <p:xfrm>
          <a:off x="1523880" y="2438280"/>
          <a:ext cx="7917120" cy="82260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Vitodens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100-W B1KC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Vitocell 100-W CSVA 200 L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Vitosol 200-F type SVK/SVKA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ZoneTexte 17"/>
          <p:cNvSpPr/>
          <p:nvPr/>
        </p:nvSpPr>
        <p:spPr>
          <a:xfrm>
            <a:off x="8153280" y="6084720"/>
            <a:ext cx="2016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45 Helvetica Light"/>
              </a:rPr>
              <a:t>Chaudière Vitodens </a:t>
            </a: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100-W B1KC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1" name="ZoneTexte 18"/>
          <p:cNvSpPr/>
          <p:nvPr/>
        </p:nvSpPr>
        <p:spPr>
          <a:xfrm>
            <a:off x="8369280" y="6229440"/>
            <a:ext cx="1800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45 Helvetica Light"/>
              </a:rPr>
              <a:t>Ballon Vitocell 100-W CVSA 200L et Vitosol 200-F</a:t>
            </a:r>
            <a:endParaRPr b="0" lang="en-US" sz="7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2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3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7574-88FF-4DEA-889F-096F650F65F3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7" descr="LaCie Disk:1 GRAPHISME:ELEMENTS_OK_FICHES_BET_PRODUIT:F3_PER:F3_P_2.jpg"/>
          <p:cNvPicPr/>
          <p:nvPr/>
        </p:nvPicPr>
        <p:blipFill>
          <a:blip r:embed="rId1"/>
          <a:stretch/>
        </p:blipFill>
        <p:spPr>
          <a:xfrm>
            <a:off x="808200" y="1549440"/>
            <a:ext cx="5257800" cy="4821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15" name="Text Box 14"/>
          <p:cNvSpPr/>
          <p:nvPr/>
        </p:nvSpPr>
        <p:spPr>
          <a:xfrm>
            <a:off x="6959520" y="2286000"/>
            <a:ext cx="1879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16" name="AutoShape 16"/>
          <p:cNvCxnSpPr/>
          <p:nvPr/>
        </p:nvCxnSpPr>
        <p:spPr>
          <a:xfrm flipV="1" rot="16200000">
            <a:off x="6764760" y="231300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17" name="AutoShape 19"/>
          <p:cNvCxnSpPr/>
          <p:nvPr/>
        </p:nvCxnSpPr>
        <p:spPr>
          <a:xfrm flipV="1" rot="16200000">
            <a:off x="6764760" y="231300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18" name="AutoShape 24"/>
          <p:cNvCxnSpPr/>
          <p:nvPr/>
        </p:nvCxnSpPr>
        <p:spPr>
          <a:xfrm flipH="1" rot="16200000">
            <a:off x="6598440" y="2920680"/>
            <a:ext cx="216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19" name="AutoShape 41"/>
          <p:cNvCxnSpPr/>
          <p:nvPr/>
        </p:nvCxnSpPr>
        <p:spPr>
          <a:xfrm flipH="1" flipV="1" rot="10800000">
            <a:off x="75960" y="38383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0" name="Freeform 25"/>
          <p:cNvSpPr/>
          <p:nvPr/>
        </p:nvSpPr>
        <p:spPr>
          <a:xfrm flipV="1">
            <a:off x="5684760" y="3148920"/>
            <a:ext cx="2362320" cy="282600"/>
          </a:xfrm>
          <a:custGeom>
            <a:avLst/>
            <a:gdLst>
              <a:gd name="textAreaLeft" fmla="*/ 0 w 2362320"/>
              <a:gd name="textAreaRight" fmla="*/ 2362680 w 2362320"/>
              <a:gd name="textAreaTop" fmla="*/ -360 h 282600"/>
              <a:gd name="textAreaBottom" fmla="*/ 282600 h 282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1" name="Text Box 33"/>
          <p:cNvSpPr/>
          <p:nvPr/>
        </p:nvSpPr>
        <p:spPr>
          <a:xfrm>
            <a:off x="6778800" y="285948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2" name="Text Box 19"/>
          <p:cNvSpPr/>
          <p:nvPr/>
        </p:nvSpPr>
        <p:spPr>
          <a:xfrm>
            <a:off x="2634480" y="566424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5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3" name="Espace réservé du texte 4"/>
          <p:cNvSpPr/>
          <p:nvPr/>
        </p:nvSpPr>
        <p:spPr>
          <a:xfrm>
            <a:off x="2027160" y="260280"/>
            <a:ext cx="83581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BA81-6243-4CB7-90FA-25B2D38C6735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5" descr="LaCie Disk:1 GRAPHISME:ELEMENTS_OK_FICHES_BET_PRODUIT:F3_PER:F3_P_3.jpg"/>
          <p:cNvPicPr/>
          <p:nvPr/>
        </p:nvPicPr>
        <p:blipFill>
          <a:blip r:embed="rId1"/>
          <a:stretch/>
        </p:blipFill>
        <p:spPr>
          <a:xfrm>
            <a:off x="808200" y="1549440"/>
            <a:ext cx="5560920" cy="5483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6" name="Text Box 7"/>
          <p:cNvSpPr/>
          <p:nvPr/>
        </p:nvSpPr>
        <p:spPr>
          <a:xfrm>
            <a:off x="6959520" y="2287440"/>
            <a:ext cx="1879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7" name="AutoShape 8"/>
          <p:cNvCxnSpPr/>
          <p:nvPr/>
        </p:nvCxnSpPr>
        <p:spPr>
          <a:xfrm flipV="1" rot="16200000">
            <a:off x="6779520" y="1999440"/>
            <a:ext cx="108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28" name="AutoShape 9"/>
          <p:cNvCxnSpPr/>
          <p:nvPr/>
        </p:nvCxnSpPr>
        <p:spPr>
          <a:xfrm flipV="1" rot="16200000">
            <a:off x="6779520" y="1999440"/>
            <a:ext cx="108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29" name="AutoShape 10"/>
          <p:cNvCxnSpPr/>
          <p:nvPr/>
        </p:nvCxnSpPr>
        <p:spPr>
          <a:xfrm flipH="1" rot="16200000">
            <a:off x="6598080" y="2922120"/>
            <a:ext cx="252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30" name="AutoShape 12"/>
          <p:cNvCxnSpPr/>
          <p:nvPr/>
        </p:nvCxnSpPr>
        <p:spPr>
          <a:xfrm flipH="1" flipV="1" rot="10800000">
            <a:off x="75960" y="38271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1" name="Text Box 48"/>
          <p:cNvSpPr/>
          <p:nvPr/>
        </p:nvSpPr>
        <p:spPr>
          <a:xfrm>
            <a:off x="3752640" y="371016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3,8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2" name="Text Box 49"/>
          <p:cNvSpPr/>
          <p:nvPr/>
        </p:nvSpPr>
        <p:spPr>
          <a:xfrm>
            <a:off x="3736800" y="39276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97,8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3" name="Text Box 50"/>
          <p:cNvSpPr/>
          <p:nvPr/>
        </p:nvSpPr>
        <p:spPr>
          <a:xfrm>
            <a:off x="3736800" y="4370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0,07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4" name="Text Box 51"/>
          <p:cNvSpPr/>
          <p:nvPr/>
        </p:nvSpPr>
        <p:spPr>
          <a:xfrm>
            <a:off x="3793320" y="459900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7,9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5" name="Text Box 52"/>
          <p:cNvSpPr/>
          <p:nvPr/>
        </p:nvSpPr>
        <p:spPr>
          <a:xfrm>
            <a:off x="3736080" y="482760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08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6" name="Text Box 54"/>
          <p:cNvSpPr/>
          <p:nvPr/>
        </p:nvSpPr>
        <p:spPr>
          <a:xfrm>
            <a:off x="3803040" y="5508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7,9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Text Box 55"/>
          <p:cNvSpPr/>
          <p:nvPr/>
        </p:nvSpPr>
        <p:spPr>
          <a:xfrm>
            <a:off x="3808080" y="5742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4,0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8" name="Text Box 56"/>
          <p:cNvSpPr/>
          <p:nvPr/>
        </p:nvSpPr>
        <p:spPr>
          <a:xfrm>
            <a:off x="4752000" y="392760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9" name="Text Box 57"/>
          <p:cNvSpPr/>
          <p:nvPr/>
        </p:nvSpPr>
        <p:spPr>
          <a:xfrm>
            <a:off x="5683680" y="371016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0" name="Text Box 58"/>
          <p:cNvSpPr/>
          <p:nvPr/>
        </p:nvSpPr>
        <p:spPr>
          <a:xfrm>
            <a:off x="4752000" y="482760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60"/>
          <p:cNvSpPr/>
          <p:nvPr/>
        </p:nvSpPr>
        <p:spPr>
          <a:xfrm>
            <a:off x="3530160" y="6134040"/>
            <a:ext cx="83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55 Helvetica Roman"/>
              </a:rPr>
              <a:t>Valeur par défaut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2" name="Text Box 61"/>
          <p:cNvSpPr/>
          <p:nvPr/>
        </p:nvSpPr>
        <p:spPr>
          <a:xfrm>
            <a:off x="3530160" y="6351480"/>
            <a:ext cx="83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55 Helvetica Roman"/>
              </a:rPr>
              <a:t>Valeur par défaut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3017880" y="1986120"/>
            <a:ext cx="1297080" cy="1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4" name="Text Box 48"/>
          <p:cNvSpPr/>
          <p:nvPr/>
        </p:nvSpPr>
        <p:spPr>
          <a:xfrm>
            <a:off x="2585880" y="2006640"/>
            <a:ext cx="2232360" cy="1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Chaudière Vitodens </a:t>
            </a: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100-W B1K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45" name="Picture 29" descr=""/>
          <p:cNvPicPr/>
          <p:nvPr/>
        </p:nvPicPr>
        <p:blipFill>
          <a:blip r:embed="rId2"/>
          <a:stretch/>
        </p:blipFill>
        <p:spPr>
          <a:xfrm>
            <a:off x="4675320" y="4702320"/>
            <a:ext cx="1366560" cy="287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9" descr=""/>
          <p:cNvPicPr/>
          <p:nvPr/>
        </p:nvPicPr>
        <p:blipFill>
          <a:blip r:embed="rId3"/>
          <a:stretch/>
        </p:blipFill>
        <p:spPr>
          <a:xfrm>
            <a:off x="3449520" y="4773600"/>
            <a:ext cx="873360" cy="21600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61"/>
          <p:cNvSpPr/>
          <p:nvPr/>
        </p:nvSpPr>
        <p:spPr>
          <a:xfrm>
            <a:off x="3501720" y="4846680"/>
            <a:ext cx="83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55 Helvetica Roman"/>
              </a:rPr>
              <a:t>Valeur par défaut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6850080" y="1482840"/>
            <a:ext cx="32925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4"/>
              </a:rPr>
              <a:t>la 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ED50-B964-49E5-936D-96D2057D72F4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33" descr="LaCie Disk:1 GRAPHISME:ELEMENTS_OK_FICHES_BET_PRODUIT:F3_PER:F3_P_4.jpg"/>
          <p:cNvPicPr/>
          <p:nvPr/>
        </p:nvPicPr>
        <p:blipFill>
          <a:blip r:embed="rId1"/>
          <a:stretch/>
        </p:blipFill>
        <p:spPr>
          <a:xfrm>
            <a:off x="736560" y="1477800"/>
            <a:ext cx="5587920" cy="4956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52" name="AutoShape 11"/>
          <p:cNvCxnSpPr/>
          <p:nvPr/>
        </p:nvCxnSpPr>
        <p:spPr>
          <a:xfrm flipH="1" rot="16200000">
            <a:off x="6527520" y="284904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53" name="AutoShape 12"/>
          <p:cNvCxnSpPr/>
          <p:nvPr/>
        </p:nvCxnSpPr>
        <p:spPr>
          <a:xfrm flipH="1" flipV="1" rot="10800000">
            <a:off x="75960" y="38469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4" name="Text Box 34"/>
          <p:cNvSpPr/>
          <p:nvPr/>
        </p:nvSpPr>
        <p:spPr>
          <a:xfrm>
            <a:off x="4721040" y="3992400"/>
            <a:ext cx="55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Ballon n°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5" name="Text Box 35"/>
          <p:cNvSpPr/>
          <p:nvPr/>
        </p:nvSpPr>
        <p:spPr>
          <a:xfrm>
            <a:off x="3664440" y="422100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0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6" name="Text Box 36"/>
          <p:cNvSpPr/>
          <p:nvPr/>
        </p:nvSpPr>
        <p:spPr>
          <a:xfrm>
            <a:off x="2851200" y="444960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7" name="Text Box 37"/>
          <p:cNvSpPr/>
          <p:nvPr/>
        </p:nvSpPr>
        <p:spPr>
          <a:xfrm>
            <a:off x="3592080" y="46782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0,218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38"/>
          <p:cNvSpPr/>
          <p:nvPr/>
        </p:nvSpPr>
        <p:spPr>
          <a:xfrm>
            <a:off x="2836440" y="490680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39"/>
          <p:cNvSpPr/>
          <p:nvPr/>
        </p:nvSpPr>
        <p:spPr>
          <a:xfrm>
            <a:off x="3746160" y="536400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Text Box 40"/>
          <p:cNvSpPr/>
          <p:nvPr/>
        </p:nvSpPr>
        <p:spPr>
          <a:xfrm>
            <a:off x="5313240" y="58532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0,5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41"/>
          <p:cNvSpPr/>
          <p:nvPr/>
        </p:nvSpPr>
        <p:spPr>
          <a:xfrm>
            <a:off x="5307480" y="612612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Freeform 42"/>
          <p:cNvSpPr/>
          <p:nvPr/>
        </p:nvSpPr>
        <p:spPr>
          <a:xfrm>
            <a:off x="5689440" y="1935000"/>
            <a:ext cx="1295640" cy="4572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816" h="288">
                <a:moveTo>
                  <a:pt x="816" y="0"/>
                </a:moveTo>
                <a:lnTo>
                  <a:pt x="480" y="0"/>
                </a:lnTo>
                <a:lnTo>
                  <a:pt x="480" y="288"/>
                </a:lnTo>
                <a:lnTo>
                  <a:pt x="0" y="288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3" name="Text Box 25"/>
          <p:cNvSpPr/>
          <p:nvPr/>
        </p:nvSpPr>
        <p:spPr>
          <a:xfrm>
            <a:off x="6707160" y="1554120"/>
            <a:ext cx="34369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oint gaz est de type séparé instantané aﬁ n de limiter les déperditions. Au contraire,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4" name="Freeform 43"/>
          <p:cNvSpPr/>
          <p:nvPr/>
        </p:nvSpPr>
        <p:spPr>
          <a:xfrm>
            <a:off x="4394160" y="3916440"/>
            <a:ext cx="3505320" cy="38088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816" h="288">
                <a:moveTo>
                  <a:pt x="816" y="0"/>
                </a:moveTo>
                <a:lnTo>
                  <a:pt x="480" y="0"/>
                </a:lnTo>
                <a:lnTo>
                  <a:pt x="480" y="288"/>
                </a:lnTo>
                <a:lnTo>
                  <a:pt x="0" y="288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5" name="Text Box 25"/>
          <p:cNvSpPr/>
          <p:nvPr/>
        </p:nvSpPr>
        <p:spPr>
          <a:xfrm>
            <a:off x="6707160" y="361152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Rectangle 30"/>
          <p:cNvSpPr/>
          <p:nvPr/>
        </p:nvSpPr>
        <p:spPr>
          <a:xfrm>
            <a:off x="3378240" y="2095560"/>
            <a:ext cx="1584360" cy="1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2298600" y="2108160"/>
            <a:ext cx="374508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Ballon Vitocell 100-W CVSA 200 L et capteur Vitosol 200-F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8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système de stockage «Vitocell 100-W CSVA 200 L» 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9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38B6-752E-48C7-B963-28C080F031DE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0" name="Text Box 41"/>
          <p:cNvSpPr/>
          <p:nvPr/>
        </p:nvSpPr>
        <p:spPr>
          <a:xfrm>
            <a:off x="5416560" y="4645080"/>
            <a:ext cx="504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.38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6" descr="LaCie Disk:1 GRAPHISME:ELEMENTS_OK_FICHES_BET_PRODUIT:F3_PER:F3_P_5.jpg"/>
          <p:cNvPicPr/>
          <p:nvPr/>
        </p:nvPicPr>
        <p:blipFill>
          <a:blip r:embed="rId1"/>
          <a:stretch/>
        </p:blipFill>
        <p:spPr>
          <a:xfrm>
            <a:off x="808200" y="1405080"/>
            <a:ext cx="5262480" cy="5646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72" name="AutoShape 12"/>
          <p:cNvCxnSpPr/>
          <p:nvPr/>
        </p:nvCxnSpPr>
        <p:spPr>
          <a:xfrm flipH="1" rot="16200000">
            <a:off x="6598440" y="2776320"/>
            <a:ext cx="216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73" name="AutoShape 13"/>
          <p:cNvCxnSpPr/>
          <p:nvPr/>
        </p:nvCxnSpPr>
        <p:spPr>
          <a:xfrm flipH="1" flipV="1" rot="10800000">
            <a:off x="72720" y="379764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74" name="Text Box 22"/>
          <p:cNvSpPr/>
          <p:nvPr/>
        </p:nvSpPr>
        <p:spPr>
          <a:xfrm>
            <a:off x="6778800" y="3309840"/>
            <a:ext cx="34369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5" name="Freeform 23"/>
          <p:cNvSpPr/>
          <p:nvPr/>
        </p:nvSpPr>
        <p:spPr>
          <a:xfrm flipV="1">
            <a:off x="5227560" y="181548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6" name="Freeform 24"/>
          <p:cNvSpPr/>
          <p:nvPr/>
        </p:nvSpPr>
        <p:spPr>
          <a:xfrm>
            <a:off x="4923000" y="3995640"/>
            <a:ext cx="4572000" cy="99072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7" name="Text Box 25"/>
          <p:cNvSpPr/>
          <p:nvPr/>
        </p:nvSpPr>
        <p:spPr>
          <a:xfrm>
            <a:off x="6778800" y="4605480"/>
            <a:ext cx="34369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CS. Une orientation au Nord (cas extrême) peut augmenter la consommation d’un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8" name="Freeform 24"/>
          <p:cNvSpPr/>
          <p:nvPr/>
        </p:nvSpPr>
        <p:spPr>
          <a:xfrm flipV="1">
            <a:off x="4998960" y="2927880"/>
            <a:ext cx="4267440" cy="609480"/>
          </a:xfrm>
          <a:custGeom>
            <a:avLst/>
            <a:gdLst>
              <a:gd name="textAreaLeft" fmla="*/ 0 w 4267440"/>
              <a:gd name="textAreaRight" fmla="*/ 4267800 w 4267440"/>
              <a:gd name="textAreaTop" fmla="*/ -360 h 609480"/>
              <a:gd name="textAreaBottom" fmla="*/ 609480 h 609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9" name="Rectangle 16"/>
          <p:cNvSpPr/>
          <p:nvPr/>
        </p:nvSpPr>
        <p:spPr>
          <a:xfrm>
            <a:off x="6792840" y="1531800"/>
            <a:ext cx="342576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6778800" y="262404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surface des capteurs solaires est plus faible dans un système «CESI optimisé» que dans un système «CESI classique»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1" name="Text Box 52"/>
          <p:cNvSpPr/>
          <p:nvPr/>
        </p:nvSpPr>
        <p:spPr>
          <a:xfrm>
            <a:off x="4369320" y="455616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0,8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Text Box 52"/>
          <p:cNvSpPr/>
          <p:nvPr/>
        </p:nvSpPr>
        <p:spPr>
          <a:xfrm>
            <a:off x="4376520" y="48434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3,99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Text Box 52"/>
          <p:cNvSpPr/>
          <p:nvPr/>
        </p:nvSpPr>
        <p:spPr>
          <a:xfrm>
            <a:off x="4259160" y="50655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0,0138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4" name="Text Box 52"/>
          <p:cNvSpPr/>
          <p:nvPr/>
        </p:nvSpPr>
        <p:spPr>
          <a:xfrm>
            <a:off x="3187440" y="5346720"/>
            <a:ext cx="1645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Régulation sur 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4237200" y="559908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6" name="Text Box 52"/>
          <p:cNvSpPr/>
          <p:nvPr/>
        </p:nvSpPr>
        <p:spPr>
          <a:xfrm>
            <a:off x="4217400" y="585000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7" name="Text Box 52"/>
          <p:cNvSpPr/>
          <p:nvPr/>
        </p:nvSpPr>
        <p:spPr>
          <a:xfrm>
            <a:off x="4217400" y="631836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8" name="Text Box 48"/>
          <p:cNvSpPr/>
          <p:nvPr/>
        </p:nvSpPr>
        <p:spPr>
          <a:xfrm>
            <a:off x="2225520" y="1932120"/>
            <a:ext cx="352908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Ballon Vitocell 100-W CVSA 200 L et capteur Vitosol 200-F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9" name="Text Box 48"/>
          <p:cNvSpPr/>
          <p:nvPr/>
        </p:nvSpPr>
        <p:spPr>
          <a:xfrm>
            <a:off x="2009880" y="3228840"/>
            <a:ext cx="2448000" cy="1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Capteur Vitosol 200-F type SVK/SVKA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0" name="ZoneTexte 29"/>
          <p:cNvSpPr/>
          <p:nvPr/>
        </p:nvSpPr>
        <p:spPr>
          <a:xfrm>
            <a:off x="4194000" y="3443400"/>
            <a:ext cx="50508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2,01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81680" y="556416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e manière générale, la régulation de la boucle solaire s’effectue sur le température en maison individuell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2" name="Connecteur en angle 32"/>
          <p:cNvCxnSpPr>
            <a:stCxn id="491" idx="1"/>
          </p:cNvCxnSpPr>
          <p:nvPr/>
        </p:nvCxnSpPr>
        <p:spPr>
          <a:xfrm rot="10800000">
            <a:off x="5322240" y="5419080"/>
            <a:ext cx="1459440" cy="445320"/>
          </a:xfrm>
          <a:prstGeom prst="bentConnector3">
            <a:avLst>
              <a:gd name="adj1" fmla="val 32494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93" name="Text Box 52"/>
          <p:cNvSpPr/>
          <p:nvPr/>
        </p:nvSpPr>
        <p:spPr>
          <a:xfrm>
            <a:off x="4217400" y="607392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94" name="Picture 31" descr=""/>
          <p:cNvPicPr/>
          <p:nvPr/>
        </p:nvPicPr>
        <p:blipFill>
          <a:blip r:embed="rId2"/>
          <a:stretch/>
        </p:blipFill>
        <p:spPr>
          <a:xfrm>
            <a:off x="4098960" y="6572160"/>
            <a:ext cx="181080" cy="181080"/>
          </a:xfrm>
          <a:prstGeom prst="rect">
            <a:avLst/>
          </a:prstGeom>
          <a:ln w="0">
            <a:noFill/>
          </a:ln>
        </p:spPr>
      </p:pic>
      <p:sp>
        <p:nvSpPr>
          <p:cNvPr id="495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capteur solaire thermique «Vitosol 200-F type SVK/SVKA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6" name="Espace réservé du numéro de diapositive 3"/>
          <p:cNvSpPr/>
          <p:nvPr/>
        </p:nvSpPr>
        <p:spPr>
          <a:xfrm>
            <a:off x="9664560" y="738180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E487-5213-4BDE-B10D-3367B290A8DF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8" descr="LaCie Disk:1 GRAPHISME:ELEMENTS_OK_FICHES_BET_PRODUIT:F1_P:F1_P_10.jpg"/>
          <p:cNvPicPr/>
          <p:nvPr/>
        </p:nvPicPr>
        <p:blipFill>
          <a:blip r:embed="rId1"/>
          <a:stretch/>
        </p:blipFill>
        <p:spPr>
          <a:xfrm>
            <a:off x="1001880" y="2379600"/>
            <a:ext cx="5432400" cy="90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98" name="Text Box 9"/>
          <p:cNvSpPr/>
          <p:nvPr/>
        </p:nvSpPr>
        <p:spPr>
          <a:xfrm>
            <a:off x="6837480" y="172728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9" name="AutoShape 12"/>
          <p:cNvCxnSpPr/>
          <p:nvPr/>
        </p:nvCxnSpPr>
        <p:spPr>
          <a:xfrm flipH="1" rot="16200000">
            <a:off x="6555600" y="2361960"/>
            <a:ext cx="216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00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01" name="Text Box 22"/>
          <p:cNvSpPr/>
          <p:nvPr/>
        </p:nvSpPr>
        <p:spPr>
          <a:xfrm>
            <a:off x="6656400" y="2895480"/>
            <a:ext cx="32925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2" name="Freeform 23"/>
          <p:cNvSpPr/>
          <p:nvPr/>
        </p:nvSpPr>
        <p:spPr>
          <a:xfrm flipV="1">
            <a:off x="5184720" y="1542960"/>
            <a:ext cx="1600200" cy="86040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Text Box 24"/>
          <p:cNvSpPr/>
          <p:nvPr/>
        </p:nvSpPr>
        <p:spPr>
          <a:xfrm>
            <a:off x="1023840" y="1693800"/>
            <a:ext cx="535644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(       ) =&gt; Onglet «Réseau Chaud»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on indique la présence du circulateur 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4" name="Text Box 28"/>
          <p:cNvSpPr/>
          <p:nvPr/>
        </p:nvSpPr>
        <p:spPr>
          <a:xfrm>
            <a:off x="2525760" y="2897280"/>
            <a:ext cx="297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Selon proje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5" name="Text Box 29"/>
          <p:cNvSpPr/>
          <p:nvPr/>
        </p:nvSpPr>
        <p:spPr>
          <a:xfrm>
            <a:off x="5632560" y="2701800"/>
            <a:ext cx="121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7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Text Box 33"/>
          <p:cNvSpPr/>
          <p:nvPr/>
        </p:nvSpPr>
        <p:spPr>
          <a:xfrm>
            <a:off x="2525760" y="2684520"/>
            <a:ext cx="11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OUI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7" name="Picture 27" descr="LaCie Disk:1 GRAPHISME:ELEMENTS_OK_FICHES_BET_PRODUIT:PICTOS:EMISSION_2.jpg"/>
          <p:cNvPicPr/>
          <p:nvPr/>
        </p:nvPicPr>
        <p:blipFill>
          <a:blip r:embed="rId2"/>
          <a:stretch/>
        </p:blipFill>
        <p:spPr>
          <a:xfrm>
            <a:off x="2779560" y="1739880"/>
            <a:ext cx="144720" cy="144360"/>
          </a:xfrm>
          <a:prstGeom prst="rect">
            <a:avLst/>
          </a:prstGeom>
          <a:ln w="0">
            <a:noFill/>
          </a:ln>
        </p:spPr>
      </p:pic>
      <p:sp>
        <p:nvSpPr>
          <p:cNvPr id="508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9" name="Espace réservé du numéro de diapositive 3"/>
          <p:cNvSpPr/>
          <p:nvPr/>
        </p:nvSpPr>
        <p:spPr>
          <a:xfrm>
            <a:off x="9664560" y="738180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46D5-FA81-4FAC-92D0-14600B22D09C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3:55:14Z</dcterms:modified>
  <cp:revision>122</cp:revision>
  <dc:subject/>
  <dc:title>Présentation PowerPoint</dc:title>
</cp:coreProperties>
</file>