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AA1-1343-425F-B14E-5D8F7E2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1B-0247-4CA7-89E3-694F177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016C-D6F0-4786-8BB6-A2863B7C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A6CCA-ACFA-44A1-BB20-26B56B8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6CFC9-6B67-402F-BCA6-3B1AEC17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E1C22-5B87-494A-AF2F-F8EAC9C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74564-EFF3-4AC8-AAB5-B5891E1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67C5-EE43-474D-9CB9-9DA289D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06B2F-6BD4-4DDA-9A88-66FD702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CBEB2-A764-4571-9039-74716E8C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F435-D45E-418E-B686-3ADB4E3F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C142C-A157-4403-87E5-CAEBA77B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569-C7A3-4BEC-842F-3A7C077A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3E58C-0D61-4922-A3ED-BCC4440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7A9A3-95E5-4CFE-8E73-D0CA376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9485-4232-46FB-B09A-5C7C9406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C4E5D-E555-4013-B771-EF606EE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7FAB2-DEFC-4B0B-9519-08DA88C0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833F-1DFB-4D81-A723-8E2B4CC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85CAF-2F8A-43AF-B53B-3C23FCD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46FCF-E9F1-495D-ABB3-14F7614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F7F36-AD49-4FAF-9CC2-683A91A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BAB74-2F72-44E6-9E3E-F0A14FC8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DCD-CA38-4E4D-8BBF-C9E93FDC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C18BD-04E8-458E-A553-57737CEF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0B6DF-2463-4437-A3B6-56335638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322EC-C315-478D-B253-7CFCC19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DD1AE-0072-4DCC-AB96-558E575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36DD-F6E8-441F-A46E-A03F2CC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D5C7F-CFBB-4B9E-8DD3-5F88CF7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D972-D831-4EE1-8695-58C38F6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238FE-A06E-4E11-A43C-A517064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FB1B5-81D6-4B38-B3AF-A23F396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A922-B192-4D26-89FC-B4B27FF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8383-5762-42DA-B30F-E8F5110C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990A-F24E-497F-AFDC-27754A6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F90A-461D-45E4-AEA7-B5CB9DB1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95AB-DC5C-478B-9822-DD20E325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1A6E1-4E81-4FC6-8226-5E0F7FBC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C059F-FE5E-405D-96EF-85451D4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7390A-0B22-4FF0-B73E-29A4860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95499-41B6-4915-954C-47163F1C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2848E-91F8-48E3-A9D5-F3B4A038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8716A-2DD0-4E1D-9631-4D9886D8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22D2C-689E-4951-9F1B-759DAB8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923-399F-4852-A31C-6AC3169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48C8C-5AE0-45F1-A683-24375B7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CEAB7-6B15-4021-BC82-9E0AFE5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CFC81-C929-4BEC-B37C-CC94E20D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377A7-FD4D-4B03-8A3F-23A210C8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7EE2A-55BD-4414-97A4-7D3008C4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569A6-9710-4397-B188-2603C3B1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45054-CBBD-45B8-B11E-ED231BD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52AF2-8EC1-4402-9FCD-60E36D7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30C4A-DCF7-4529-84E4-2A32D4C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E826E-05A1-457C-B012-EE5BE39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0B3-E691-420B-81E8-1D84BFB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61186-4DD1-46DA-910F-FF975C2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98568-DE46-45E2-A6F5-E5FFEFA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097A5-BA9B-4DA4-89B3-07EDF44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C1491-3447-4666-BD73-E34FC54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CFC14-2A4F-4F7C-95FE-8249B507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E8AC1-02EF-47E8-800A-5F3B721A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B6905-29C6-44FF-8EFE-0E1C27B9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93769-59E6-430D-89D8-3EBDC99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67C3E-D029-4CC1-8536-80DA3D8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07F6A-2C34-41D6-A03E-FEAF7CB3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202-AB15-46E1-8AAA-8B6C0F5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E8EDB-2F56-4290-80A2-7774838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1AAD4-92E5-44F9-A782-2536E44A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F5674-9C24-42C7-AFE0-39FCCB0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D8B88-58A5-4698-A4D6-EAE4621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2F60A-DE3D-4550-84B0-6D4CBC3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D9602-BF3D-40C5-AD8E-1C27F6D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6369-E35E-48C5-9D07-9D49C20E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24248-0EAF-409A-8540-32C3D91E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D76B1-71AE-4652-ACB0-F2DBD37F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05933-C3B4-43C5-84B6-C96C140C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F735-168F-497E-8E75-8FC85D12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F2EDB-680C-4F55-95FF-586C2C0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19723-BAA5-4244-B6A8-26D17076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2F2F8-B56C-4A67-BAF2-46E6884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4A52B-03F1-4985-95FC-6C9DA84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E8833-2AF2-4241-BB2D-D688805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49B15-99EA-4840-8C22-1730AA9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58903-A500-4F5D-BBD3-9C4DDC2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00694-F826-4FA4-ACD2-B208784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3B8F9-5661-47F6-9041-8454BC4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FB462-9011-423D-896C-841B6E5E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1E4-8BE3-4346-BC80-0309618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3030F-CAEC-4C29-B8E9-EB6E91AE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160EA-6B5E-4096-9477-9E13050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AEC4E-B76D-4123-857C-93B438DA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30D03-C9A8-4720-A516-55FE365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28BF9-B69F-44DC-AA60-78CABAE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38F66-544D-4CD3-924F-902721CF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600D3-5C5D-436E-AD20-26F21A8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29050-2C8C-4E93-83F5-2E675AEC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6C435-E77C-479D-ACFC-78D5935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3F400-8B77-4938-AE98-A8C298E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4DC-2791-41AA-AF40-A6F54CD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9F8F0-2EBF-4E69-9F69-85E9FAB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23AA5-6EDC-4FFD-87AF-67F73608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92EC5-7EC9-49A7-A832-D94CED5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3CEE5-C1AA-40F5-BA4B-665143F1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EAF57-7D77-4C70-BC36-7210B01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99D5D-E8CB-4E00-BE1D-F4C1B149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F932A-3205-43EB-A07B-B1AA3656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2672B-1275-49E8-B28F-A3AA82F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EDF0D-5669-4E11-BDC3-6BC5058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2B261-21CF-4007-B4C0-3FDAD4B7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257-B7F3-434B-BC48-41811FA9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CF09-ECD6-446F-9FA5-8D362DE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098B7-969A-4A4F-88ED-567CF8B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F0D58-FC34-484B-AFE7-02B4550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5A0C4-6C5E-4ECD-AB22-F667762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6C519-1360-4380-B8E6-B3F6E14A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B508B-E8DC-475F-828F-0FC242D3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CFB88-50F7-472D-A9E4-1C36EB72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94C3D-8452-49B1-AD61-0BC5276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731EA-5FB8-493C-AB2B-B300898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16DB5-9166-47A6-9C3E-6CC6890B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D926F-0E53-41BC-A8E9-F969376B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A531-7FF0-4720-B438-A1F0E4B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AFC54-E2ED-44DF-81B8-46A7B23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30562-74E6-4B84-ACE0-049106D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8475A-65C4-4AD9-98A6-6812534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EB019-4D84-4A1F-A778-7780F09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7DA18-162D-4E93-92D6-5B7EA61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44272-D423-40B4-BF37-4ADAF1EB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661A9-5979-41D8-9A94-A5C54D63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FFA-489B-48DE-9807-93BAE1A0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BD38-4BC1-4264-BB65-809A5BB9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185-5371-44DD-B8AA-6F98B11F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7144-4330-405C-B5F6-EC000557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BFE1-53D4-48D3-A8E6-D0D2330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5465-E70E-4CA0-BF36-08D0AA9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3107-2A7C-4416-B883-9A3FB08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9012-08D7-4367-9D31-1FAC48F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639-ED01-420F-9C32-C3BFB7F7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FD3A-EBAE-4979-A84E-C12AF00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6B36-B271-49C3-823A-65A66C6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80B3-0B11-4910-B5E8-B25CFB1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1AE4-49D3-4CC8-A95A-6CAD0DB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7B1D-B6ED-4E87-A5BC-3EF0BB36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C6F6-0C65-44F3-83C9-1C7F563C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4D84-D880-4E5A-8001-7A21673E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5CFA-0568-4DF2-9D1B-E4E79F06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4EC5-3536-4DA3-9AB8-EFB86AB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BDE0-C189-4CAB-8859-568F284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43D-0621-42BA-8737-B53EB1A9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924A-B20F-40EA-8550-D6301B4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63B8-26A5-4D0B-9BC8-F53F36AD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FA40-F689-4425-AAF5-E743059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C612-0E5B-4821-BF07-36F50B3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CCF3-A376-4E15-85FC-0FB5E23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60CF-4E90-43F5-86EE-CEF18D2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1D95-326A-4A00-B477-23C24B1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189B-7853-4AD4-AD95-1A785BDA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7126-A279-4EA2-BDFD-0614293D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B434-9405-44E9-BD92-F1E95CCA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4AD-A02F-41A9-B338-76E16CC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044B8-00F7-4503-97D0-127CACB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CAAD-78E1-4405-9254-B59DEE8D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38F7-DFA5-464F-B911-D457913B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4C79-0479-4282-93BA-7D7F62C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DE8F-62F9-4B3E-808E-E86F8F7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EE51-9773-491C-AA3B-9414DEF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C863-3529-40DC-917A-F1BB489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0693-0210-48AE-8FB3-C673D0A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A730-C11D-4921-B6D9-3F4C9B6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7FFA-8A0B-4A91-8AE1-E18D0E78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DE0-1E74-4D80-8AA0-9EC49890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25471-79D2-4791-8DB2-2D46B4B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F8ED-97F9-4946-B662-7540E4F0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C6A8-3EA6-461D-9C72-27B515C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41FB-09DE-4913-B2C2-85D56776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9808-D5AB-4AC2-8070-962B1F8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EA1E-6536-40D3-923F-C1056B7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A2BA-5DC0-4C78-A3C2-7C25492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CC4D-61C5-49E7-9DC4-DBF4C5E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03FB-7AD7-4BBF-A5A6-9CB6103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6714-2AAB-4A42-B859-AC183E6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3C-81A9-4FB7-A932-F55E8E9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AAC0-5EE8-40D7-A244-0719CF75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3A1B-A676-4FB6-B874-48E6AE95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5743-AB9B-41D3-978A-B81C3E9D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CBD1-8EE4-416C-A4EE-9F18EF82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C9E5-A191-4E65-A97B-DF3D4CF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AE6E-630E-4D8A-B92E-A2A2BD8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E62E-43D9-4DA9-9973-A71CC8F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6439-C2F3-478E-9D96-C6793EC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F255-E193-4A85-8FCE-DB91FF7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F06D-45E8-47AC-9698-8047ED3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54A-C758-46EE-8A61-D42EA2F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8A39-33ED-4694-A870-A6485B1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200A-84A3-491B-B850-7E2852C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53E5-11AE-43AC-B871-7C5B47D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D128-E8D6-4E66-BC97-4B53B863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82BB-C93B-4A62-8BF7-66CD3EF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E0FE6-D96C-480D-A4DC-C67E3299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E511-D9BB-4400-8D94-BA3350C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FBA2-8697-4EC6-A0BB-811E69F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98E7-15AA-4D0F-A7B5-82C20C8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71A1-3326-4BD6-8C7E-0518C327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14F-4CB7-4DDB-BF77-9AB1B0C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A447-415A-49E7-9215-0CEDDE9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592DC-1846-4636-9758-5CE1A67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F40A-5CE4-4957-86E2-C11E052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2D6B8-497A-4509-97E3-63CB677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E1AC-B2FB-4E38-A22F-F27F249F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F2916-B6F5-4BC6-A03F-DC46D267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867B-623F-4497-9EF3-05E1F971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11169-E99C-4296-88F0-C4CD9E4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DDF0-6B3F-40BA-B73F-EE5387BD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28771-15A9-4D8F-8052-DDABC3E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4C5-1AD8-4FAA-8818-F6A5300CA928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6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9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094-A3CD-4960-B121-1710D49F31B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B05-0C39-41C5-B176-F59832D36CD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8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ABD-C913-44E4-9677-D6925D42274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2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3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E71E-E029-493C-95FD-7F1DD9832CC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7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7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57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945F-D725-454D-A50E-39DC837F8A6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18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61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53E1-39F5-4DE8-80D8-6D656BAF6A4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62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66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DC6F-1C7E-4868-908C-305C7BCB6EE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06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707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29E-C844-4F81-AF35-FD0C5CB7E56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50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51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752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B76C-BCA2-49DF-9325-D910CF7C8D8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042-62E9-4AE0-92EE-E349B1E97138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8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AA7-D602-499C-8E8D-B57EF89B0E5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1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FB6A-2896-447D-ADD3-3D17FB812EC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5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D833-6166-44EA-8C88-C30538092C4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19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0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1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E33-1E8B-4AD8-A0F2-8FCE443CBED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189-207B-4506-9156-B48FA7029C4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0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C64-5DC0-441A-A64B-A41F09F0ABB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8B0-9425-4EA4-BC4D-5DBA7973250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nergies-avenir.fr/page/guide-pratique-rt-2012-77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5"/>
          <p:cNvSpPr/>
          <p:nvPr/>
        </p:nvSpPr>
        <p:spPr>
          <a:xfrm>
            <a:off x="1660680" y="96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830592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ＭＳ Ｐゴシック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  <a:ea typeface="ＭＳ Ｐゴシック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  <a:ea typeface="ＭＳ Ｐゴシック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  <a:ea typeface="ＭＳ Ｐゴシック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5.1.36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à condensation individuelle à micro-accumulation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8"/>
          <p:cNvSpPr/>
          <p:nvPr/>
        </p:nvSpPr>
        <p:spPr>
          <a:xfrm>
            <a:off x="-1587600" y="228600"/>
            <a:ext cx="9601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1241280" y="1582560"/>
            <a:ext cx="911772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a procédure suivante décrit la saisie et la prise en compte de chaudières gaz à condensation individuelles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lication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e la RT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2012 U22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ensemble du systèm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(        ). Cet objet contient les 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à condensation (      ),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a description de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réseaux intergroupes»</a:t>
            </a: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(       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es étapes de la saisie du système sont les suivantes 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Génér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«Circulateur du réseau de distribution de groupe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800" name="Object 13"/>
          <p:cNvGraphicFramePr/>
          <p:nvPr/>
        </p:nvGraphicFramePr>
        <p:xfrm>
          <a:off x="5560920" y="2125800"/>
          <a:ext cx="241560" cy="21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2125800"/>
                    <a:ext cx="24156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17"/>
          <p:cNvGraphicFramePr/>
          <p:nvPr/>
        </p:nvGraphicFramePr>
        <p:xfrm>
          <a:off x="7072200" y="2268360"/>
          <a:ext cx="216000" cy="2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2268360"/>
                    <a:ext cx="2160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19"/>
          <p:cNvGraphicFramePr/>
          <p:nvPr/>
        </p:nvGraphicFramePr>
        <p:xfrm>
          <a:off x="4840200" y="2486160"/>
          <a:ext cx="20016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0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0200" y="2486160"/>
                    <a:ext cx="20016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21"/>
          <p:cNvGraphicFramePr/>
          <p:nvPr/>
        </p:nvGraphicFramePr>
        <p:xfrm>
          <a:off x="7346880" y="3421080"/>
          <a:ext cx="2881440" cy="3097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0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46880" y="3421080"/>
                    <a:ext cx="2881440" cy="3097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808" name="ZoneTexte 9"/>
          <p:cNvSpPr/>
          <p:nvPr/>
        </p:nvSpPr>
        <p:spPr>
          <a:xfrm>
            <a:off x="7864560" y="3637080"/>
            <a:ext cx="208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oefficient Bbio = 28,2 / BbioMax = 72,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oefficient Cep = 1 990,7 / CepMax = 069,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09" name="Rectangle 13"/>
          <p:cNvSpPr/>
          <p:nvPr/>
        </p:nvSpPr>
        <p:spPr>
          <a:xfrm>
            <a:off x="7432560" y="6084720"/>
            <a:ext cx="17290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10" name="ZoneTexte 10"/>
          <p:cNvSpPr/>
          <p:nvPr/>
        </p:nvSpPr>
        <p:spPr>
          <a:xfrm>
            <a:off x="7577280" y="3494160"/>
            <a:ext cx="251928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2060"/>
                </a:solidFill>
                <a:latin typeface="Avenir LT Std 55 Roman"/>
              </a:rPr>
              <a:t>Bâtiment: R+4 Logement Collectif</a:t>
            </a:r>
            <a:endParaRPr b="0" lang="en-US" sz="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11" name="ZoneTexte 12"/>
          <p:cNvSpPr/>
          <p:nvPr/>
        </p:nvSpPr>
        <p:spPr>
          <a:xfrm>
            <a:off x="7864560" y="5869080"/>
            <a:ext cx="1728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e0e6a"/>
                </a:solidFill>
                <a:latin typeface="Avenir LT Std 55 Roman"/>
              </a:rPr>
              <a:t>Chaudières individuelles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12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B18-5E84-4227-89C0-BE0D1A032895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33" descr="Travail:1 GRAPHISME:GRDF:FICHES_BET:FICHES_SOLUTIONS:ELEMENTS_OK:F2_PERRENOUD:CAPT_1.jpg"/>
          <p:cNvPicPr/>
          <p:nvPr/>
        </p:nvPicPr>
        <p:blipFill>
          <a:blip r:embed="rId1"/>
          <a:stretch/>
        </p:blipFill>
        <p:spPr>
          <a:xfrm>
            <a:off x="736560" y="1405080"/>
            <a:ext cx="4786200" cy="4952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814" name="Text Box 14"/>
          <p:cNvSpPr/>
          <p:nvPr/>
        </p:nvSpPr>
        <p:spPr>
          <a:xfrm>
            <a:off x="6888240" y="212580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815" name="AutoShape 16"/>
          <p:cNvCxnSpPr>
            <a:stCxn id="816" idx="1"/>
            <a:endCxn id="816" idx="1"/>
          </p:cNvCxnSpPr>
          <p:nvPr/>
        </p:nvCxnSpPr>
        <p:spPr>
          <a:xfrm rot="10800000">
            <a:off x="6706440" y="1716840"/>
            <a:ext cx="1332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817" name="AutoShape 19"/>
          <p:cNvCxnSpPr>
            <a:stCxn id="816" idx="1"/>
            <a:endCxn id="816" idx="1"/>
          </p:cNvCxnSpPr>
          <p:nvPr/>
        </p:nvCxnSpPr>
        <p:spPr>
          <a:xfrm rot="10800000">
            <a:off x="6706440" y="1716840"/>
            <a:ext cx="1332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818" name="AutoShape 24"/>
          <p:cNvCxnSpPr/>
          <p:nvPr/>
        </p:nvCxnSpPr>
        <p:spPr>
          <a:xfrm flipV="1" rot="16200000">
            <a:off x="6528240" y="2762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819" name="AutoShape 41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20" name="Freeform 62"/>
          <p:cNvSpPr/>
          <p:nvPr/>
        </p:nvSpPr>
        <p:spPr>
          <a:xfrm>
            <a:off x="4317840" y="3052800"/>
            <a:ext cx="2667240" cy="30492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1" name="Text Box 33"/>
          <p:cNvSpPr/>
          <p:nvPr/>
        </p:nvSpPr>
        <p:spPr>
          <a:xfrm>
            <a:off x="6691320" y="261108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emplacement en volume chauffé permet de réduire les pertes et les consommations de chauffage. La chaudière individuelle est généralement située dans le volume habitable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art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2" name="Freeform 63"/>
          <p:cNvSpPr/>
          <p:nvPr/>
        </p:nvSpPr>
        <p:spPr>
          <a:xfrm flipV="1">
            <a:off x="4317840" y="3827520"/>
            <a:ext cx="2667240" cy="533520"/>
          </a:xfrm>
          <a:custGeom>
            <a:avLst/>
            <a:gdLst>
              <a:gd name="textAreaLeft" fmla="*/ 0 w 2667240"/>
              <a:gd name="textAreaRight" fmla="*/ 2667600 w 266724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3" name="Text Box 36"/>
          <p:cNvSpPr/>
          <p:nvPr/>
        </p:nvSpPr>
        <p:spPr>
          <a:xfrm>
            <a:off x="6707160" y="4146480"/>
            <a:ext cx="35132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fonction du projet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 à relier avec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space tampon dans lequel se trouve les chaudièr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4" name="AutoShape 27"/>
          <p:cNvSpPr/>
          <p:nvPr/>
        </p:nvSpPr>
        <p:spPr>
          <a:xfrm>
            <a:off x="5765760" y="5484960"/>
            <a:ext cx="190440" cy="798480"/>
          </a:xfrm>
          <a:custGeom>
            <a:avLst/>
            <a:gdLst>
              <a:gd name="textAreaLeft" fmla="*/ 0 w 190440"/>
              <a:gd name="textAreaRight" fmla="*/ 68760 w 190440"/>
              <a:gd name="textAreaTop" fmla="*/ 20520 h 798480"/>
              <a:gd name="textAreaBottom" fmla="*/ 77796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5" name="Freeform 62"/>
          <p:cNvSpPr/>
          <p:nvPr/>
        </p:nvSpPr>
        <p:spPr>
          <a:xfrm>
            <a:off x="5308560" y="1693800"/>
            <a:ext cx="1447920" cy="9907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6707160" y="141984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«Générateurs en cascade» si présence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ballon ECS, dans le cas contraire «sans priorité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6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7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784E-D703-4EB2-A5D3-7E9CB3D1A257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28" name="Text Box 36"/>
          <p:cNvSpPr/>
          <p:nvPr/>
        </p:nvSpPr>
        <p:spPr>
          <a:xfrm>
            <a:off x="6711840" y="5512680"/>
            <a:ext cx="3516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RT 2012, les chaudières à micro-accumulation sont considérées comme production d’ECS instantan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6" descr="Travail:1 GRAPHISME:GRDF:FICHES_BET:FICHES_SOLUTIONS:ELEMENTS_OK:F2_PERRENOUD:CAPT_2.jpg"/>
          <p:cNvPicPr/>
          <p:nvPr/>
        </p:nvPicPr>
        <p:blipFill>
          <a:blip r:embed="rId1"/>
          <a:stretch/>
        </p:blipFill>
        <p:spPr>
          <a:xfrm>
            <a:off x="663480" y="1620720"/>
            <a:ext cx="5268960" cy="5316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830" name="Text Box 7"/>
          <p:cNvSpPr/>
          <p:nvPr/>
        </p:nvSpPr>
        <p:spPr>
          <a:xfrm>
            <a:off x="6815160" y="2341440"/>
            <a:ext cx="1838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831" name="AutoShape 8"/>
          <p:cNvCxnSpPr/>
          <p:nvPr/>
        </p:nvCxnSpPr>
        <p:spPr>
          <a:xfrm flipH="1" flipV="1" rot="10800000">
            <a:off x="6633000" y="20523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32" name="AutoShape 9"/>
          <p:cNvCxnSpPr/>
          <p:nvPr/>
        </p:nvCxnSpPr>
        <p:spPr>
          <a:xfrm flipH="1" flipV="1" rot="10800000">
            <a:off x="6633000" y="20523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33" name="AutoShape 10"/>
          <p:cNvCxnSpPr/>
          <p:nvPr/>
        </p:nvCxnSpPr>
        <p:spPr>
          <a:xfrm flipH="1" rot="16200000">
            <a:off x="6454440" y="29761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834" name="AutoShape 12"/>
          <p:cNvCxnSpPr/>
          <p:nvPr/>
        </p:nvCxnSpPr>
        <p:spPr>
          <a:xfrm flipH="1" flipV="1" rot="10800000">
            <a:off x="-12240" y="37818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35" name="Freeform 32"/>
          <p:cNvSpPr/>
          <p:nvPr/>
        </p:nvSpPr>
        <p:spPr>
          <a:xfrm flipV="1">
            <a:off x="4054320" y="4652280"/>
            <a:ext cx="2895840" cy="609480"/>
          </a:xfrm>
          <a:custGeom>
            <a:avLst/>
            <a:gdLst>
              <a:gd name="textAreaLeft" fmla="*/ 0 w 2895840"/>
              <a:gd name="textAreaRight" fmla="*/ 2896200 w 289584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36" name="Text Box 33"/>
          <p:cNvSpPr/>
          <p:nvPr/>
        </p:nvSpPr>
        <p:spPr>
          <a:xfrm>
            <a:off x="6634080" y="5033880"/>
            <a:ext cx="35132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ttention, les pertes à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rrêt sont exprimé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kW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37" name="Freeform 27"/>
          <p:cNvSpPr/>
          <p:nvPr/>
        </p:nvSpPr>
        <p:spPr>
          <a:xfrm>
            <a:off x="5464080" y="3092400"/>
            <a:ext cx="1600200" cy="6858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2" h="432">
                <a:moveTo>
                  <a:pt x="912" y="0"/>
                </a:moveTo>
                <a:lnTo>
                  <a:pt x="528" y="0"/>
                </a:lnTo>
                <a:lnTo>
                  <a:pt x="528" y="432"/>
                </a:ln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634080" y="2955960"/>
            <a:ext cx="351324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le nombre de générateurs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320976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/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6707160" y="1405080"/>
            <a:ext cx="344016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Toutes les caractéristiques de performances des générateurs sont disponibles sur le site du fabricant EDIBATEC et la base de données ATITA (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https://techniqueuniclima.com/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41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gaz à condensation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42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B85-FE30-4BBB-8B74-F2FC8806D9AD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3" descr="Travail:1 GRAPHISME:GRDF:FICHES_BET:FICHES_SOLUTIONS:ELEMENTS_OK:F2_PERRENOUD:CAPT_3.jpg"/>
          <p:cNvPicPr/>
          <p:nvPr/>
        </p:nvPicPr>
        <p:blipFill>
          <a:blip r:embed="rId1"/>
          <a:stretch/>
        </p:blipFill>
        <p:spPr>
          <a:xfrm>
            <a:off x="663480" y="2629080"/>
            <a:ext cx="5565960" cy="84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844" name="Text Box 9"/>
          <p:cNvSpPr/>
          <p:nvPr/>
        </p:nvSpPr>
        <p:spPr>
          <a:xfrm>
            <a:off x="6815160" y="253692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845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46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47" name="AutoShape 12"/>
          <p:cNvCxnSpPr/>
          <p:nvPr/>
        </p:nvCxnSpPr>
        <p:spPr>
          <a:xfrm flipH="1" rot="16200000">
            <a:off x="6454800" y="31716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848" name="AutoShape 13"/>
          <p:cNvCxnSpPr/>
          <p:nvPr/>
        </p:nvCxnSpPr>
        <p:spPr>
          <a:xfrm flipH="1" flipV="1" rot="10800000">
            <a:off x="-1224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849" name="Freeform 18"/>
          <p:cNvSpPr/>
          <p:nvPr/>
        </p:nvSpPr>
        <p:spPr>
          <a:xfrm flipV="1">
            <a:off x="3635280" y="2789640"/>
            <a:ext cx="3429000" cy="2133720"/>
          </a:xfrm>
          <a:custGeom>
            <a:avLst/>
            <a:gdLst>
              <a:gd name="textAreaLeft" fmla="*/ 0 w 3429000"/>
              <a:gd name="textAreaRight" fmla="*/ 3429360 w 3429000"/>
              <a:gd name="textAreaTop" fmla="*/ -360 h 2133720"/>
              <a:gd name="textAreaBottom" fmla="*/ 2133720 h 213372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50" name="Text Box 17"/>
          <p:cNvSpPr/>
          <p:nvPr/>
        </p:nvSpPr>
        <p:spPr>
          <a:xfrm>
            <a:off x="6634080" y="1816200"/>
            <a:ext cx="3292560" cy="145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Les caractéristiques des réseaux de distribution de chauffage et d</a:t>
            </a:r>
            <a:r>
              <a:rPr b="1" lang="ja-JP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’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ECS (longueurs, puissances et vitesse du circulateur) sont détaillées dans le guide pratique RT 2012 (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ea typeface="ＭＳ Ｐゴシック"/>
                <a:hlinkClick r:id="rId2"/>
              </a:rPr>
              <a:t>http://www.energies-avenir.fr/page/guide-pratique-rt-2012-77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). Ce document ne concerne que le log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663480" y="1816200"/>
            <a:ext cx="5523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«Emission» (       )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=&gt; Onglet «Réseau Chaud»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52" name="Picture 20" descr="Travail:1 GRAPHISME:GRDF:FICHES_BET:FICHES_SOLUTIONS:ELEMENTS_OK:PICTOS:EMISSION_2.jpg"/>
          <p:cNvPicPr/>
          <p:nvPr/>
        </p:nvPicPr>
        <p:blipFill>
          <a:blip r:embed="rId3"/>
          <a:stretch/>
        </p:blipFill>
        <p:spPr>
          <a:xfrm>
            <a:off x="2392200" y="1836720"/>
            <a:ext cx="208080" cy="20952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"/>
          <p:cNvSpPr/>
          <p:nvPr/>
        </p:nvSpPr>
        <p:spPr>
          <a:xfrm>
            <a:off x="3330720" y="279072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8e0e6a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54" name="Text Box 33"/>
          <p:cNvSpPr/>
          <p:nvPr/>
        </p:nvSpPr>
        <p:spPr>
          <a:xfrm>
            <a:off x="6634080" y="3247920"/>
            <a:ext cx="344016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e circulateur est généralement intégré à la chaudière. La puissance à renseigner correspond à la somme des puissances des circulateurs des chaudières individuelles du bâti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Quand le circulateur est à multivitesse réglable manuellement, la puissance du circulateur à retenir dans le calcul est la moyenne des puissances des différentes vitess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Pour des circulateurs à vitesse variable, la puissance du circulateur est la moyenne entre la puissance maximale et la puissance minima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vitesse constante du circulateur de distribution peut entraîner une augmentation de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viron 10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% par rapport à une vitesse variab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55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«Circulateur du réseau de distribution de groupe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56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E41-8A26-40D4-AC96-5F0CB1577AE9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7T07:22:03Z</cp:lastPrinted>
  <dcterms:modified xsi:type="dcterms:W3CDTF">2018-10-10T14:21:48Z</dcterms:modified>
  <cp:revision>74</cp:revision>
  <dc:subject/>
  <dc:title>Présentation PowerPoint</dc:title>
</cp:coreProperties>
</file>