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A76-4BAA-4882-845E-BFD853A1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260-24EA-4126-BF48-C0561707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B5E5F-9A11-4D77-863C-2F19AE19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624B1-8157-450C-BE7D-29AC2068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1B516-A3D8-4E50-9F71-8F3A8E0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6C121-1B5B-42A7-9F2D-C8FC636D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2B108-375B-41A2-8E57-071330CC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2D01C-22DC-4389-B8D0-073830F7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2E873-6136-4D36-8BD9-D23F0AD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2C167-BE12-43C0-A4D5-33A5EEFC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8F56C-E988-4BBF-AEAF-FB1CA564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D67-B57E-40A5-B739-E71FB01F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2D0-ACFB-42E4-853E-4558787D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BC91-1FB2-4F99-BF33-0E4035B3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23FD-D6CE-44B4-9B55-C09058A7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32E0-4B5F-4DE8-B834-702501B5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3B95-BBF1-405B-8C79-58C14AFF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AF75-0069-45D2-B81A-AADD3EA4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A68B-53E1-43CC-AB58-77FD3565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986B-666D-476B-ACC5-F6EDD58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245-4B3B-47DE-A130-190CF199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2EB0-9F32-424A-B625-CF174296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DB81-2AB0-431D-BC9B-A20D350E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5663-991A-4F55-A7D0-466F4D80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07FC-A7B5-4938-BFCB-41748092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4410-9BD0-4725-A534-4977D61B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2EF8-45CA-4A6D-B7C8-F9B4933D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A056-D5D3-462D-95FF-B8B98D0A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56A6-79CD-4200-B925-F84E7880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DAC9-833C-494C-83CA-56E8EF78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FB29-178C-4973-A3FC-B5CA69B6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8A7-2BBC-40A7-BFFD-64F2E49E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BD0B-7756-4B66-B05E-302D3A22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1827-2BB3-4F29-A66F-16790191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4979-9FCE-4275-9CAB-B44E6F2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1C7A8-A6E3-4220-BA65-3A07F8D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1694-118E-4634-A105-D915FB1F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C8F4-27DF-4408-A0BA-0D9B2602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9A016-0898-4CE7-8F16-3B4CE43F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4F5F-FF43-42B4-BDFF-8BBEB40E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F321-0812-4F26-9D38-28D3221A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5B95-18A8-4A79-919A-669DD96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E84-EC68-440F-8B82-EFC3E568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BE166-9371-46D9-97A6-F583A03C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CE369-ADF3-4227-B510-6CE2E8A1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5B5B-73F6-49A5-B5B0-B7CB8763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6D70-7CB5-4967-8390-C57344A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8EA9-42B7-40CA-ABD2-439A317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FD8E-9F62-4E94-A22A-A5FE7DB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9BB02-8EC6-42AE-958E-70DFA68C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50E2-0C6A-4A0A-BBEA-25929119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D145B-D9B6-475A-8E01-F023595B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CF02-7E51-492F-9290-F0AA6725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34B-0465-442C-BE0F-78ECF96C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C872F-2213-472B-AFC5-5997FAC2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304F9-5F63-4519-ACAB-1A04AD9B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F99CC-C6CA-44FF-88E1-C5A4BE35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41F4C-5D34-4D87-9E5D-91699A19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CF792-BD76-4279-807C-FEE3963B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762E-582F-4D2C-82C1-501B3DD7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6AE1-1F30-404D-8AF3-DD8D07D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85419-B2D1-48F6-A652-56F92409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710B-1504-4F42-86C0-23744770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C11BF-47A9-43F9-9E07-B67CE63C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213-AF74-4F1E-9E54-7B30492F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8DC6-AC7D-49CD-84BD-86E9EE3D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A13E-B720-456E-AB04-011D0D6E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AC987-008C-48C0-BE93-22BA3EEE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F385-B1BB-43FC-84DA-B295BF35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8944-B182-4363-9F4C-99AD1899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21861-99DA-4F62-B364-6085A565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E82A3-FED1-4215-B20B-D43EDB3E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E5A5-43AC-4B53-B5C9-C8594BC0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D1EB5-54D8-4726-A9EC-AB27219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62BB-A351-44A7-99AC-254CDBDA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719-8AE0-4AB9-A65D-470525D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3805-4E0B-4CCC-B7BD-8522B9AE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7F117-2500-4DF9-8E5E-533397F6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E68EC-886B-40BB-B4D7-918D125D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E7817-42F8-42FC-8EAD-C347A3CA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426BC-A829-4A0B-AC1B-C89CA7AB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964C7-A199-4987-98F1-FCB41C1D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6B993-4487-493B-B7FB-B0D12AEE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936C3-4A14-41C8-AAC9-CD714C3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A77CA-DDDC-432B-8356-2D236EE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25D07-B36C-462F-9895-E0113708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E86-6C21-4A82-991F-7CDDE5E5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C939E-48FF-4D8D-95D3-D46BA107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841C4-673A-41B1-8D47-252D1073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B7397-0726-493D-AEBF-0ED55FDB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8DA37-2983-4528-95FF-185BD578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B8973-8571-47F5-ACCE-E9E55ED4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E6612-03A0-4DB3-8E47-B45CD95A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42E4E-D1E2-46A9-B832-1BA0BAA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7EEEB-43EF-497D-9EE3-BAE180ED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45FFB-1D91-4AA8-9F59-AC8772D4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CA059-03E2-4A16-B046-CFC88F84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C27-5818-43EE-AF8D-79B3CFB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E83CD-916D-4001-9B73-1C0EA75E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01064-9C87-41BB-95E0-7525EE8E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B8B27-608D-40AB-82C3-8C3AEFB8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36A11-8D86-4F72-B749-66D582C9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EBB3C-2ABD-461E-9C51-18088D15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40255-C7A7-42F8-A747-86C50765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32FC7-113E-4044-A2D2-5FFB5DAB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02421-4B84-4CAE-9601-D1FB5E29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7EEA6-0E75-43AF-A9D2-1755E6D5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E75CF-91E2-408E-94D7-99B797D4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3E54-5C1E-4B05-A6B7-24182F0CC6F8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083C-210E-4C77-A438-D4880B9274E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F9D8-8430-4C6A-87E1-A952FB71ADF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A9AF-119D-4F49-AB44-13DC5237BC0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6D06-B81B-4210-96BE-7E6DAAB2B03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2D0E-F137-4D71-8194-FCC1E9B0B1C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E1CA-7675-412E-A7C0-4F4DF119258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A979-7835-4CB6-A5C3-399CB03D5CE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40E4-941B-4A2B-9626-63BC7E9E37D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hyperlink" Target="https://techniqueuniclima.com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2700"/>
            </a:b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DE DIETRICH</a:t>
            </a:r>
            <a:endParaRPr b="0" lang="en-US" sz="27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0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000"/>
            </a:b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0"/>
          <p:cNvSpPr/>
          <p:nvPr/>
        </p:nvSpPr>
        <p:spPr>
          <a:xfrm>
            <a:off x="1438200" y="1582560"/>
            <a:ext cx="7934400" cy="44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DE DIETRICH dans le logiciel d’application de la RT 2012 U22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DE DIETRICH 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système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et du systèm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générateur «Chaudière NANEO 24/28 MI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système de stockage «Dietrisol Pro D 230 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capteur solaire thermique «Ballon de stockage BLS 150 N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536400" y="453960"/>
            <a:ext cx="9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 VAG Rounded Light"/>
              </a:rPr>
              <a:t>Présentation</a:t>
            </a:r>
            <a:endParaRPr b="0" lang="en-US" sz="1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2" name="Rectangle 83"/>
          <p:cNvSpPr/>
          <p:nvPr/>
        </p:nvSpPr>
        <p:spPr>
          <a:xfrm>
            <a:off x="1447920" y="32306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3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04" name="Picture 302" descr="Travail:1 GRAPHISME:GRDF:FICHES_BET_CEGIBAT_GrDF:FICHES_PRODUIT:ELEMENTS_OK:PICTOS:GENERATEUR.jpg"/>
          <p:cNvPicPr/>
          <p:nvPr/>
        </p:nvPicPr>
        <p:blipFill>
          <a:blip r:embed="rId1"/>
          <a:stretch/>
        </p:blipFill>
        <p:spPr>
          <a:xfrm>
            <a:off x="7078680" y="40035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03" descr="Travail:1 GRAPHISME:GRDF:FICHES_BET_CEGIBAT_GrDF:FICHES_PRODUIT:ELEMENTS_OK:PICTOS:GENERATION.jpg"/>
          <p:cNvPicPr/>
          <p:nvPr/>
        </p:nvPicPr>
        <p:blipFill>
          <a:blip r:embed="rId2"/>
          <a:stretch/>
        </p:blipFill>
        <p:spPr>
          <a:xfrm>
            <a:off x="5538960" y="363528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05" descr="Travail:1 GRAPHISME:GRDF:FICHES_BET_CEGIBAT_GrDF:FICHES_PRODUIT:ELEMENTS_OK:PICTOS:SYST_STOCK.jpg"/>
          <p:cNvPicPr/>
          <p:nvPr/>
        </p:nvPicPr>
        <p:blipFill>
          <a:blip r:embed="rId3"/>
          <a:stretch/>
        </p:blipFill>
        <p:spPr>
          <a:xfrm>
            <a:off x="3255840" y="4383000"/>
            <a:ext cx="20952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1523880" y="2438280"/>
          <a:ext cx="7917120" cy="82260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NANEO 24/28 MI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BSL 150 N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Dietrisol Pro D230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8" name="Image 22" descr="Arborescence perrenoud - Atlantic.PNG"/>
          <p:cNvPicPr/>
          <p:nvPr/>
        </p:nvPicPr>
        <p:blipFill>
          <a:blip r:embed="rId4"/>
          <a:stretch/>
        </p:blipFill>
        <p:spPr>
          <a:xfrm>
            <a:off x="7719840" y="4213080"/>
            <a:ext cx="2513160" cy="22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9" name="ZoneTexte 23"/>
          <p:cNvSpPr/>
          <p:nvPr/>
        </p:nvSpPr>
        <p:spPr>
          <a:xfrm>
            <a:off x="8801280" y="4357800"/>
            <a:ext cx="107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72,2 / BbioMax = 76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64,1 / CepMax = 64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0" name="ZoneTexte 15"/>
          <p:cNvSpPr/>
          <p:nvPr/>
        </p:nvSpPr>
        <p:spPr>
          <a:xfrm>
            <a:off x="8369280" y="6229440"/>
            <a:ext cx="1511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Stockage Dietrisol Pro D 230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1" name="ZoneTexte 16"/>
          <p:cNvSpPr/>
          <p:nvPr/>
        </p:nvSpPr>
        <p:spPr>
          <a:xfrm>
            <a:off x="8153280" y="6084720"/>
            <a:ext cx="1871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Chaudière NANEO 24/28 MI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2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3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4B7F-DB03-4874-8319-DA572C6FE6B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7" descr="LaCie Disk:1 GRAPHISME:ELEMENTS_OK_FICHES_BET_PRODUIT:F3_PER:F3_P_2.jpg"/>
          <p:cNvPicPr/>
          <p:nvPr/>
        </p:nvPicPr>
        <p:blipFill>
          <a:blip r:embed="rId1"/>
          <a:stretch/>
        </p:blipFill>
        <p:spPr>
          <a:xfrm>
            <a:off x="808200" y="1836720"/>
            <a:ext cx="5257800" cy="4821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5" name="Text Box 14"/>
          <p:cNvSpPr/>
          <p:nvPr/>
        </p:nvSpPr>
        <p:spPr>
          <a:xfrm>
            <a:off x="6959520" y="2573280"/>
            <a:ext cx="1879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6" name="AutoShape 16"/>
          <p:cNvCxnSpPr/>
          <p:nvPr/>
        </p:nvCxnSpPr>
        <p:spPr>
          <a:xfrm flipV="1" rot="16200000">
            <a:off x="6764400" y="260028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17" name="AutoShape 19"/>
          <p:cNvCxnSpPr/>
          <p:nvPr/>
        </p:nvCxnSpPr>
        <p:spPr>
          <a:xfrm flipV="1" rot="16200000">
            <a:off x="6764400" y="260028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18" name="AutoShape 24"/>
          <p:cNvCxnSpPr/>
          <p:nvPr/>
        </p:nvCxnSpPr>
        <p:spPr>
          <a:xfrm flipH="1" rot="16200000">
            <a:off x="6598440" y="320796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19" name="AutoShape 41"/>
          <p:cNvCxnSpPr/>
          <p:nvPr/>
        </p:nvCxnSpPr>
        <p:spPr>
          <a:xfrm flipH="1" flipV="1" rot="10800000">
            <a:off x="75960" y="39114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0" name="Freeform 25"/>
          <p:cNvSpPr/>
          <p:nvPr/>
        </p:nvSpPr>
        <p:spPr>
          <a:xfrm flipV="1">
            <a:off x="5684760" y="3436200"/>
            <a:ext cx="2362320" cy="282600"/>
          </a:xfrm>
          <a:custGeom>
            <a:avLst/>
            <a:gdLst>
              <a:gd name="textAreaLeft" fmla="*/ 0 w 2362320"/>
              <a:gd name="textAreaRight" fmla="*/ 2362680 w 2362320"/>
              <a:gd name="textAreaTop" fmla="*/ -360 h 282600"/>
              <a:gd name="textAreaBottom" fmla="*/ 282600 h 282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Text Box 33"/>
          <p:cNvSpPr/>
          <p:nvPr/>
        </p:nvSpPr>
        <p:spPr>
          <a:xfrm>
            <a:off x="6778800" y="314676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2" name="Text Box 19"/>
          <p:cNvSpPr/>
          <p:nvPr/>
        </p:nvSpPr>
        <p:spPr>
          <a:xfrm>
            <a:off x="2634480" y="595152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5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Espace réservé du texte 4"/>
          <p:cNvSpPr/>
          <p:nvPr/>
        </p:nvSpPr>
        <p:spPr>
          <a:xfrm>
            <a:off x="2027160" y="260280"/>
            <a:ext cx="8358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0743-ADFB-41DB-880C-EDCA6C294B00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5" descr="LaCie Disk:1 GRAPHISME:ELEMENTS_OK_FICHES_BET_PRODUIT:F3_PER:F3_P_3.jpg"/>
          <p:cNvPicPr/>
          <p:nvPr/>
        </p:nvPicPr>
        <p:blipFill>
          <a:blip r:embed="rId1"/>
          <a:stretch/>
        </p:blipFill>
        <p:spPr>
          <a:xfrm>
            <a:off x="879480" y="1693800"/>
            <a:ext cx="5560920" cy="54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6" name="Text Box 7"/>
          <p:cNvSpPr/>
          <p:nvPr/>
        </p:nvSpPr>
        <p:spPr>
          <a:xfrm>
            <a:off x="7031160" y="244800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7" name="AutoShape 8"/>
          <p:cNvCxnSpPr/>
          <p:nvPr/>
        </p:nvCxnSpPr>
        <p:spPr>
          <a:xfrm flipV="1" rot="16200000">
            <a:off x="6850440" y="21607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28" name="AutoShape 9"/>
          <p:cNvCxnSpPr/>
          <p:nvPr/>
        </p:nvCxnSpPr>
        <p:spPr>
          <a:xfrm flipV="1" rot="16200000">
            <a:off x="6850440" y="21607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29" name="AutoShape 12"/>
          <p:cNvCxnSpPr/>
          <p:nvPr/>
        </p:nvCxnSpPr>
        <p:spPr>
          <a:xfrm flipH="1" flipV="1" rot="10800000">
            <a:off x="193320" y="45018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0" name="Text Box 48"/>
          <p:cNvSpPr/>
          <p:nvPr/>
        </p:nvSpPr>
        <p:spPr>
          <a:xfrm>
            <a:off x="3808080" y="387036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3,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1" name="Text Box 49"/>
          <p:cNvSpPr/>
          <p:nvPr/>
        </p:nvSpPr>
        <p:spPr>
          <a:xfrm>
            <a:off x="3800160" y="40878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,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Text Box 50"/>
          <p:cNvSpPr/>
          <p:nvPr/>
        </p:nvSpPr>
        <p:spPr>
          <a:xfrm>
            <a:off x="3807720" y="45306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03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Text Box 51"/>
          <p:cNvSpPr/>
          <p:nvPr/>
        </p:nvSpPr>
        <p:spPr>
          <a:xfrm>
            <a:off x="3888360" y="475920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,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Text Box 52"/>
          <p:cNvSpPr/>
          <p:nvPr/>
        </p:nvSpPr>
        <p:spPr>
          <a:xfrm>
            <a:off x="3807720" y="49878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9,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54"/>
          <p:cNvSpPr/>
          <p:nvPr/>
        </p:nvSpPr>
        <p:spPr>
          <a:xfrm>
            <a:off x="3880080" y="565452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55"/>
          <p:cNvSpPr/>
          <p:nvPr/>
        </p:nvSpPr>
        <p:spPr>
          <a:xfrm>
            <a:off x="3881160" y="590220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56"/>
          <p:cNvSpPr/>
          <p:nvPr/>
        </p:nvSpPr>
        <p:spPr>
          <a:xfrm>
            <a:off x="4823640" y="40878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57"/>
          <p:cNvSpPr/>
          <p:nvPr/>
        </p:nvSpPr>
        <p:spPr>
          <a:xfrm>
            <a:off x="5755680" y="387036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58"/>
          <p:cNvSpPr/>
          <p:nvPr/>
        </p:nvSpPr>
        <p:spPr>
          <a:xfrm>
            <a:off x="4823640" y="49878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Rectangle 29"/>
          <p:cNvSpPr/>
          <p:nvPr/>
        </p:nvSpPr>
        <p:spPr>
          <a:xfrm>
            <a:off x="3089160" y="2146320"/>
            <a:ext cx="129708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48"/>
          <p:cNvSpPr/>
          <p:nvPr/>
        </p:nvSpPr>
        <p:spPr>
          <a:xfrm>
            <a:off x="2657520" y="2166840"/>
            <a:ext cx="230508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dière NANEO 24/28 MI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2" name="Picture 29" descr=""/>
          <p:cNvPicPr/>
          <p:nvPr/>
        </p:nvPicPr>
        <p:blipFill>
          <a:blip r:embed="rId2"/>
          <a:stretch/>
        </p:blipFill>
        <p:spPr>
          <a:xfrm>
            <a:off x="3738600" y="6230880"/>
            <a:ext cx="685800" cy="23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0" descr=""/>
          <p:cNvPicPr/>
          <p:nvPr/>
        </p:nvPicPr>
        <p:blipFill>
          <a:blip r:embed="rId3"/>
          <a:stretch/>
        </p:blipFill>
        <p:spPr>
          <a:xfrm>
            <a:off x="3738600" y="6446880"/>
            <a:ext cx="685800" cy="23796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54"/>
          <p:cNvSpPr/>
          <p:nvPr/>
        </p:nvSpPr>
        <p:spPr>
          <a:xfrm>
            <a:off x="3991680" y="630252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5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54"/>
          <p:cNvSpPr/>
          <p:nvPr/>
        </p:nvSpPr>
        <p:spPr>
          <a:xfrm>
            <a:off x="3991680" y="651816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0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6921360" y="1914480"/>
            <a:ext cx="32925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4"/>
              </a:rPr>
              <a:t>la 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F91C-2FD2-4D0A-A091-7AFC10B338F0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36" descr="LaCie Disk:1 GRAPHISME:ELEMENTS_OK_FICHES_BET_PRODUIT:F3_PER:F3_P_5.jpg"/>
          <p:cNvPicPr/>
          <p:nvPr/>
        </p:nvPicPr>
        <p:blipFill>
          <a:blip r:embed="rId1"/>
          <a:stretch/>
        </p:blipFill>
        <p:spPr>
          <a:xfrm>
            <a:off x="736560" y="1403280"/>
            <a:ext cx="5262480" cy="5646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50" name="AutoShape 12"/>
          <p:cNvCxnSpPr/>
          <p:nvPr/>
        </p:nvCxnSpPr>
        <p:spPr>
          <a:xfrm flipV="1" rot="16200000">
            <a:off x="6528240" y="27766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51" name="AutoShape 13"/>
          <p:cNvCxnSpPr/>
          <p:nvPr/>
        </p:nvCxnSpPr>
        <p:spPr>
          <a:xfrm flipH="1" flipV="1" rot="10800000">
            <a:off x="72720" y="3870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2" name="Text Box 22"/>
          <p:cNvSpPr/>
          <p:nvPr/>
        </p:nvSpPr>
        <p:spPr>
          <a:xfrm>
            <a:off x="6707160" y="3308400"/>
            <a:ext cx="34369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Freeform 23"/>
          <p:cNvSpPr/>
          <p:nvPr/>
        </p:nvSpPr>
        <p:spPr>
          <a:xfrm flipV="1">
            <a:off x="5156280" y="181368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Freeform 24"/>
          <p:cNvSpPr/>
          <p:nvPr/>
        </p:nvSpPr>
        <p:spPr>
          <a:xfrm>
            <a:off x="4851360" y="3994200"/>
            <a:ext cx="4572000" cy="9907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25"/>
          <p:cNvSpPr/>
          <p:nvPr/>
        </p:nvSpPr>
        <p:spPr>
          <a:xfrm>
            <a:off x="6707160" y="460368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peut augmenter la consommation d’un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Freeform 24"/>
          <p:cNvSpPr/>
          <p:nvPr/>
        </p:nvSpPr>
        <p:spPr>
          <a:xfrm flipV="1">
            <a:off x="4927680" y="2926440"/>
            <a:ext cx="4267080" cy="609480"/>
          </a:xfrm>
          <a:custGeom>
            <a:avLst/>
            <a:gdLst>
              <a:gd name="textAreaLeft" fmla="*/ 0 w 4267080"/>
              <a:gd name="textAreaRight" fmla="*/ 4267440 w 426708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6721560" y="1530360"/>
            <a:ext cx="34257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6707160" y="262260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52"/>
          <p:cNvSpPr/>
          <p:nvPr/>
        </p:nvSpPr>
        <p:spPr>
          <a:xfrm>
            <a:off x="4225320" y="4589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82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52"/>
          <p:cNvSpPr/>
          <p:nvPr/>
        </p:nvSpPr>
        <p:spPr>
          <a:xfrm>
            <a:off x="4241520" y="4842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9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4188960" y="5064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01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52"/>
          <p:cNvSpPr/>
          <p:nvPr/>
        </p:nvSpPr>
        <p:spPr>
          <a:xfrm>
            <a:off x="3116160" y="5345280"/>
            <a:ext cx="164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52"/>
          <p:cNvSpPr/>
          <p:nvPr/>
        </p:nvSpPr>
        <p:spPr>
          <a:xfrm>
            <a:off x="4165920" y="559764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52"/>
          <p:cNvSpPr/>
          <p:nvPr/>
        </p:nvSpPr>
        <p:spPr>
          <a:xfrm>
            <a:off x="4145760" y="58482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4145760" y="60660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4145760" y="631656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2154240" y="1930320"/>
            <a:ext cx="352908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+ capteur Dietrisol Pro D 23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1938240" y="3227400"/>
            <a:ext cx="244800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ESI capteur Dietrisol Prod D 23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ZoneTexte 29"/>
          <p:cNvSpPr/>
          <p:nvPr/>
        </p:nvSpPr>
        <p:spPr>
          <a:xfrm>
            <a:off x="4122720" y="3441600"/>
            <a:ext cx="5047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2,1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25"/>
          <p:cNvSpPr/>
          <p:nvPr/>
        </p:nvSpPr>
        <p:spPr>
          <a:xfrm>
            <a:off x="6710400" y="556272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’effectue sur le température en maison individuel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1" name="Connecteur en angle 32"/>
          <p:cNvCxnSpPr>
            <a:stCxn id="470" idx="1"/>
          </p:cNvCxnSpPr>
          <p:nvPr/>
        </p:nvCxnSpPr>
        <p:spPr>
          <a:xfrm rot="10800000">
            <a:off x="5250600" y="5417280"/>
            <a:ext cx="1459800" cy="445320"/>
          </a:xfrm>
          <a:prstGeom prst="bentConnector3">
            <a:avLst>
              <a:gd name="adj1" fmla="val 35421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pic>
        <p:nvPicPr>
          <p:cNvPr id="472" name="Picture 32" descr=""/>
          <p:cNvPicPr/>
          <p:nvPr/>
        </p:nvPicPr>
        <p:blipFill>
          <a:blip r:embed="rId2"/>
          <a:stretch/>
        </p:blipFill>
        <p:spPr>
          <a:xfrm>
            <a:off x="4027320" y="6786720"/>
            <a:ext cx="203400" cy="196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2" descr=""/>
          <p:cNvPicPr/>
          <p:nvPr/>
        </p:nvPicPr>
        <p:blipFill>
          <a:blip r:embed="rId3"/>
          <a:stretch/>
        </p:blipFill>
        <p:spPr>
          <a:xfrm>
            <a:off x="4027320" y="6589800"/>
            <a:ext cx="203400" cy="196920"/>
          </a:xfrm>
          <a:prstGeom prst="rect">
            <a:avLst/>
          </a:prstGeom>
          <a:ln w="0">
            <a:noFill/>
          </a:ln>
        </p:spPr>
      </p:pic>
      <p:sp>
        <p:nvSpPr>
          <p:cNvPr id="474" name="Espace réservé du texte 4"/>
          <p:cNvSpPr/>
          <p:nvPr/>
        </p:nvSpPr>
        <p:spPr>
          <a:xfrm>
            <a:off x="2027160" y="287280"/>
            <a:ext cx="8501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capteur solaire thermique «Dietrisol Pro D 230» 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2923-3D3B-4553-9624-1E90B42B7DF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33" descr="LaCie Disk:1 GRAPHISME:ELEMENTS_OK_FICHES_BET_PRODUIT:F3_PER:F3_P_4.jpg"/>
          <p:cNvPicPr/>
          <p:nvPr/>
        </p:nvPicPr>
        <p:blipFill>
          <a:blip r:embed="rId1"/>
          <a:stretch/>
        </p:blipFill>
        <p:spPr>
          <a:xfrm>
            <a:off x="736560" y="1477800"/>
            <a:ext cx="5587920" cy="4956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77" name="AutoShape 11"/>
          <p:cNvCxnSpPr/>
          <p:nvPr/>
        </p:nvCxnSpPr>
        <p:spPr>
          <a:xfrm flipH="1" rot="16200000">
            <a:off x="6526800" y="2849760"/>
            <a:ext cx="39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78" name="AutoShape 12"/>
          <p:cNvCxnSpPr/>
          <p:nvPr/>
        </p:nvCxnSpPr>
        <p:spPr>
          <a:xfrm flipH="1" flipV="1" rot="10800000">
            <a:off x="75960" y="3919320"/>
            <a:ext cx="2160" cy="360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9" name="Text Box 34"/>
          <p:cNvSpPr/>
          <p:nvPr/>
        </p:nvSpPr>
        <p:spPr>
          <a:xfrm>
            <a:off x="4721040" y="399240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n°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35"/>
          <p:cNvSpPr/>
          <p:nvPr/>
        </p:nvSpPr>
        <p:spPr>
          <a:xfrm>
            <a:off x="3552840" y="4221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45.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36"/>
          <p:cNvSpPr/>
          <p:nvPr/>
        </p:nvSpPr>
        <p:spPr>
          <a:xfrm>
            <a:off x="2851560" y="4449600"/>
            <a:ext cx="79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jus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37"/>
          <p:cNvSpPr/>
          <p:nvPr/>
        </p:nvSpPr>
        <p:spPr>
          <a:xfrm>
            <a:off x="3560040" y="46782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21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38"/>
          <p:cNvSpPr/>
          <p:nvPr/>
        </p:nvSpPr>
        <p:spPr>
          <a:xfrm>
            <a:off x="2836440" y="490680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39"/>
          <p:cNvSpPr/>
          <p:nvPr/>
        </p:nvSpPr>
        <p:spPr>
          <a:xfrm>
            <a:off x="3723480" y="534816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40"/>
          <p:cNvSpPr/>
          <p:nvPr/>
        </p:nvSpPr>
        <p:spPr>
          <a:xfrm>
            <a:off x="5306760" y="589752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5307480" y="612612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Freeform 42"/>
          <p:cNvSpPr/>
          <p:nvPr/>
        </p:nvSpPr>
        <p:spPr>
          <a:xfrm>
            <a:off x="5689440" y="1935000"/>
            <a:ext cx="1295640" cy="457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Text Box 25"/>
          <p:cNvSpPr/>
          <p:nvPr/>
        </p:nvSpPr>
        <p:spPr>
          <a:xfrm>
            <a:off x="6707160" y="155412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 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Freeform 43"/>
          <p:cNvSpPr/>
          <p:nvPr/>
        </p:nvSpPr>
        <p:spPr>
          <a:xfrm>
            <a:off x="4394160" y="3916440"/>
            <a:ext cx="3505320" cy="38088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7160" y="361152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40"/>
          <p:cNvSpPr/>
          <p:nvPr/>
        </p:nvSpPr>
        <p:spPr>
          <a:xfrm>
            <a:off x="5394960" y="470700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,3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Rectangle 30"/>
          <p:cNvSpPr/>
          <p:nvPr/>
        </p:nvSpPr>
        <p:spPr>
          <a:xfrm>
            <a:off x="3378240" y="2097000"/>
            <a:ext cx="15843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48"/>
          <p:cNvSpPr/>
          <p:nvPr/>
        </p:nvSpPr>
        <p:spPr>
          <a:xfrm>
            <a:off x="2803680" y="2109960"/>
            <a:ext cx="266364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BSL 150 + capteur Dietrisol Pro D 23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4" name="Picture 33" descr=""/>
          <p:cNvPicPr/>
          <p:nvPr/>
        </p:nvPicPr>
        <p:blipFill>
          <a:blip r:embed="rId2"/>
          <a:stretch/>
        </p:blipFill>
        <p:spPr>
          <a:xfrm>
            <a:off x="4314960" y="5062680"/>
            <a:ext cx="419040" cy="304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4" descr=""/>
          <p:cNvPicPr/>
          <p:nvPr/>
        </p:nvPicPr>
        <p:blipFill>
          <a:blip r:embed="rId3"/>
          <a:stretch/>
        </p:blipFill>
        <p:spPr>
          <a:xfrm>
            <a:off x="3451320" y="5062680"/>
            <a:ext cx="792000" cy="2188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39"/>
          <p:cNvSpPr/>
          <p:nvPr/>
        </p:nvSpPr>
        <p:spPr>
          <a:xfrm>
            <a:off x="3664080" y="5138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10,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Ballon BLS 150 N» 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65C5-F74E-445E-AC7B-97ACA1689C52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8" descr="LaCie Disk:1 GRAPHISME:ELEMENTS_OK_FICHES_BET_PRODUIT:F1_P:F1_P_10.jpg"/>
          <p:cNvPicPr/>
          <p:nvPr/>
        </p:nvPicPr>
        <p:blipFill>
          <a:blip r:embed="rId1"/>
          <a:stretch/>
        </p:blipFill>
        <p:spPr>
          <a:xfrm>
            <a:off x="952560" y="2341440"/>
            <a:ext cx="5432400" cy="90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0" name="Text Box 9"/>
          <p:cNvSpPr/>
          <p:nvPr/>
        </p:nvSpPr>
        <p:spPr>
          <a:xfrm>
            <a:off x="683748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01" name="AutoShape 12"/>
          <p:cNvCxnSpPr/>
          <p:nvPr/>
        </p:nvCxnSpPr>
        <p:spPr>
          <a:xfrm flipH="1" rot="16200000">
            <a:off x="6726240" y="28666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02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03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Freeform 23"/>
          <p:cNvSpPr/>
          <p:nvPr/>
        </p:nvSpPr>
        <p:spPr>
          <a:xfrm flipV="1">
            <a:off x="5354640" y="204552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985680" y="1647720"/>
            <a:ext cx="539928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=&gt; Onglet «Réseau Chaud»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28"/>
          <p:cNvSpPr/>
          <p:nvPr/>
        </p:nvSpPr>
        <p:spPr>
          <a:xfrm>
            <a:off x="2459160" y="2851200"/>
            <a:ext cx="297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Text Box 29"/>
          <p:cNvSpPr/>
          <p:nvPr/>
        </p:nvSpPr>
        <p:spPr>
          <a:xfrm>
            <a:off x="5659560" y="263844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4 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Text Box 33"/>
          <p:cNvSpPr/>
          <p:nvPr/>
        </p:nvSpPr>
        <p:spPr>
          <a:xfrm>
            <a:off x="2459160" y="2638440"/>
            <a:ext cx="11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OUI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9" name="Picture 27" descr="LaCie Disk:1 GRAPHISME:ELEMENTS_OK_FICHES_BET_PRODUIT:PICTOS:EMISSION_2.jpg"/>
          <p:cNvPicPr/>
          <p:nvPr/>
        </p:nvPicPr>
        <p:blipFill>
          <a:blip r:embed="rId2"/>
          <a:stretch/>
        </p:blipFill>
        <p:spPr>
          <a:xfrm>
            <a:off x="2712960" y="1693800"/>
            <a:ext cx="208080" cy="209520"/>
          </a:xfrm>
          <a:prstGeom prst="rect">
            <a:avLst/>
          </a:prstGeom>
          <a:ln w="0">
            <a:noFill/>
          </a:ln>
        </p:spPr>
      </p:pic>
      <p:sp>
        <p:nvSpPr>
          <p:cNvPr id="510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A272-0982-46F4-8461-BE561390B66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3:55:31Z</dcterms:modified>
  <cp:revision>121</cp:revision>
  <dc:subject/>
  <dc:title>Présentation PowerPoint</dc:title>
</cp:coreProperties>
</file>