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D8A-49DF-468E-A1EA-2B5EEF48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BAAB-D61A-4792-8A32-D9DE550A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6CC6D-C36D-4A16-A2B4-D9FCAAC4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2D37C-7E8A-4FE5-928C-07665107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618B7-AD5F-4DEB-BA18-339504DC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A0EC9-4D34-462C-8240-45E41F3C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5D87C-11A0-4A59-B1D3-6EA398D6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5B2D0-221D-4524-82C4-2F3BC3B1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C2F87-BC19-470D-858B-43E92286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C4B4F-75FE-4C8F-AA5A-456269F2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4A8F1-A941-42B0-9C39-03DE8C1F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ECF0-8737-4D14-9948-A8D5F4D4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AC74-649A-43AF-8A3D-801FF98C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6582-2981-487C-A378-5929B77D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05B6-66B9-482B-9971-F43DB06E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9AC7-5B82-456B-912C-F7177CE6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15D1-BD48-4EB6-8612-A1CD6B74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C33E-88A3-44C2-ACFC-40D8164F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5B32-654D-423E-8B48-FA30C086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ABA1-A8BC-4226-96A9-ECE9A3BC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D83-3070-40A2-BA68-C62B9DF7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7278-7DF5-4E2E-85BB-323E1676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B87B-924E-49AA-BF02-BE158F91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94E1-F6B6-4C69-A043-129CD4A2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4D09-C363-4A95-81BD-4BAB6D88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3F65-87E5-4381-8CFD-5D11C933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BDD2E-C829-4F08-8ED9-E950D26D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34DD1-0FC5-4221-936A-64E80869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4CA73-DA40-4D23-9960-8069A11E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7E81F-0892-43E7-8698-AEF950DE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6B534-0D10-4090-A52D-8682899C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9DDA-D04E-4107-9BA0-AE7AA864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6334B-E1E0-4296-B9CF-5EFD2998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40B00-6E85-4953-AF16-B9AA01DF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FD786-617C-485B-AF84-FAAECEF0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FC4AD-483E-4BE9-846C-F2948F67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E0479-940E-4E8B-9725-20785DDE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4FACE-06CD-405C-875D-6411479E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846C0-C640-4949-8673-77A03E0A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3D1E7-B5E5-4974-B936-88159E7E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33325-AC6B-4D44-ABFE-BFF17ECC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24C1A-912C-4619-BFEB-A3E964FD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06DF-1E08-473B-B4ED-6936220D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836B7-A7E8-41EE-8146-D2A4D787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82521-D20F-4C09-B14A-AD27D6CB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9A2BB-77AD-430F-8CD5-9B0BECEE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4A142-91AD-4A5C-81D7-BA20839C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CEEEF-555A-4E58-974D-97D35570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5FC22-087C-4FD2-8FDE-9912F8E0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096E0-3EA9-499C-849F-D8CF779D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06822-97E5-4681-B9E3-ADA710E5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3F52F-204E-4A8C-9668-EDF57C1E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DFD16-29A9-404F-AE9B-8C0CB341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7E6-479A-4AA8-A0FF-D95F2031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9350D-80C2-46D9-BD59-A74A0E3E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EBDF1-B7FB-4DAB-A7CF-A24B481A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1FB0B-BBA3-4AFE-AE83-A7AEC7B6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6C0C6-E936-4E21-9FA1-06625A1A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10C94-1623-47D3-8174-9CD8F41C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85EE4-2508-46D4-9A82-9B894128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A6DB4-6FDD-4829-883F-8E984641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76128-5DED-4E36-918E-C4EC5732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B5CCE-8140-4E6E-A7C8-531DFA88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48F5A-5966-4C77-A8D7-22D560E5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40C1-9F60-4BA0-983F-82907FF5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2A080-D58B-4859-B09C-571DCB14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621E4-66D0-46C7-84BA-972AE5E4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73C68-EF13-405C-AFAA-7714EC98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C82D8-CB6F-40AA-804C-34E0473C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5E39B-248F-42A8-B62E-513E27D7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07081-C052-4917-A40C-4F2089F1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06002-6646-4FAE-ABF5-55A80084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02A2B-8B45-449E-8AD1-8B6EACFF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8E4FD-AD4B-46DC-95F7-E68C86D3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5EF93-9996-4585-A6CD-E5A7AAC9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2F3-8616-438C-BDC5-951B86B5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F1F7C-5D95-4BAF-B697-2AB5303A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DE3D1-F262-41EA-B2E5-36B58D89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F52D1-D790-4D68-8507-6D8C8122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BD171-F5F2-496D-B8BE-6755597C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7F69B-EE1B-441E-B7D7-A1B386F8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10CE6-1851-487F-AB7F-E51F68BD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66D02-FB9F-4E58-B060-B63003F8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10107-E840-47AB-93CC-1A66333B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5372B-4832-4944-8917-FA9E1CF6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BC68F-431D-481B-BBFB-AE3481CA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0B09-1805-44DB-A67E-FA8FE9D2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C64BD-C3FC-43C2-9CE0-923B90C1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148FB-B3D5-4C30-9E00-FBDA5E4B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83AD1-35A3-47DD-BC25-C9E5142A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B3621-5535-4ABF-9353-72015503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BE00D-E934-4467-B42B-66F9E1B8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1FBD0-D714-440D-BCDD-D61FEC3C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1F6C4-748F-4401-8F79-22278FBD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06D0B-B634-4494-B0DE-81C1EECA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33725-7C8B-415C-8C23-52901A56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C5C8F-F4C0-442E-80A8-D6F98341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2FA-2E06-49E0-BA41-F2FC2ACB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00DC2-D159-40E3-B808-769B4F0E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4F308-1356-418A-A8EB-1D21486E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A476C-DACC-458F-BDC4-08A45A66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83001-D15F-4633-B70E-321453F6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786B8-1834-44C8-9CE7-583ECCB4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90E1E-37BE-4F62-88FD-23DD6BC4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79E3F-FEB9-465F-860D-2B73847C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0755E-0CAC-422C-A93C-8A333F1E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E3D87-E0BC-4770-976B-3D709400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094DF-E8EC-426F-848E-EA47737E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640F-902A-4D2A-995F-0076622583F9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C829-7CC0-4031-8D95-E29AAF5BF503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5603-6FD2-4354-82E3-61C85AA32324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DF6B-1F05-469D-A488-297F00932863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2FF1-FE20-42E9-B2B4-FF5536F0337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1C34-745B-484C-B2E1-A573763E9A40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F45B-3346-4612-80A9-B19B14CA9597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B261-883C-4EA1-B401-548F6715023C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757F-3F3B-4785-9844-B4D8C93FE9BF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hyperlink" Target="https://techniqueuniclima.com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700" spc="-1" strike="noStrike">
                <a:solidFill>
                  <a:srgbClr val="9796a3"/>
                </a:solidFill>
                <a:latin typeface="Avenir LT Std 55 Roman"/>
              </a:rPr>
              <a:t>Chaudière à condensation + CESI optimisé</a:t>
            </a:r>
            <a:br>
              <a:rPr sz="2700"/>
            </a:br>
            <a:r>
              <a:rPr b="0" lang="fr-FR" sz="2700" spc="-1" strike="noStrike">
                <a:solidFill>
                  <a:srgbClr val="9796a3"/>
                </a:solidFill>
                <a:latin typeface="Avenir LT Std 55 Roman"/>
              </a:rPr>
              <a:t>VAILLANT</a:t>
            </a:r>
            <a:endParaRPr b="0" lang="en-US" sz="27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0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000"/>
            </a:b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U22win de PERRENOUD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Version 5.1.36 du 06/07/2018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0"/>
          <p:cNvSpPr/>
          <p:nvPr/>
        </p:nvSpPr>
        <p:spPr>
          <a:xfrm>
            <a:off x="1438200" y="1582560"/>
            <a:ext cx="793440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Le présent document décrit la saisie et la prise en compte d’une chaudière à condensation avec un chauffe-eau solaire optimisé du fabricant VAILLANT dans le logiciel d’application de la RT 2012 U22wi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b1af"/>
                </a:solidFill>
                <a:latin typeface="45 Helvetica Light"/>
              </a:rPr>
              <a:t>La chaudière à condensation + CESI optimisé VAILLANT 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est composée des éléments suivants :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générateur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écrivant les caractéristiques de la chaudière gaz à condensation ( 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système de stockage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écrivant les caractéristiques du ballon de stockag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  et du système solaire (      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1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objet génération «CD + CESI op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2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création du générateur «Chaudière à condensation Ecotec Plus VUW FR 306/5-5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3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création du système de stockage «AUROSTEP PLUS 1.150 M HI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4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création du capteur solaire thermique «VFK 135 VD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focus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 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saisie du circulateur du circuit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536400" y="453960"/>
            <a:ext cx="9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 VAG Rounded Light"/>
              </a:rPr>
              <a:t>Présentation</a:t>
            </a:r>
            <a:endParaRPr b="0" lang="en-US" sz="1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1" name="Rectangle 83"/>
          <p:cNvSpPr/>
          <p:nvPr/>
        </p:nvSpPr>
        <p:spPr>
          <a:xfrm>
            <a:off x="1447920" y="323064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2" name="Rectangle 69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03" name="Picture 302" descr="Travail:1 GRAPHISME:GRDF:FICHES_BET_CEGIBAT_GrDF:FICHES_PRODUIT:ELEMENTS_OK:PICTOS:GENERATEUR.jpg"/>
          <p:cNvPicPr/>
          <p:nvPr/>
        </p:nvPicPr>
        <p:blipFill>
          <a:blip r:embed="rId1"/>
          <a:stretch/>
        </p:blipFill>
        <p:spPr>
          <a:xfrm>
            <a:off x="7078680" y="400356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03" descr="Travail:1 GRAPHISME:GRDF:FICHES_BET_CEGIBAT_GrDF:FICHES_PRODUIT:ELEMENTS_OK:PICTOS:GENERATION.jpg"/>
          <p:cNvPicPr/>
          <p:nvPr/>
        </p:nvPicPr>
        <p:blipFill>
          <a:blip r:embed="rId2"/>
          <a:stretch/>
        </p:blipFill>
        <p:spPr>
          <a:xfrm>
            <a:off x="5538960" y="3635280"/>
            <a:ext cx="237960" cy="217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05" descr="Travail:1 GRAPHISME:GRDF:FICHES_BET_CEGIBAT_GrDF:FICHES_PRODUIT:ELEMENTS_OK:PICTOS:SYST_STOCK.jpg"/>
          <p:cNvPicPr/>
          <p:nvPr/>
        </p:nvPicPr>
        <p:blipFill>
          <a:blip r:embed="rId3"/>
          <a:stretch/>
        </p:blipFill>
        <p:spPr>
          <a:xfrm>
            <a:off x="3255840" y="4454640"/>
            <a:ext cx="209520" cy="19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"/>
          <p:cNvGraphicFramePr/>
          <p:nvPr/>
        </p:nvGraphicFramePr>
        <p:xfrm>
          <a:off x="1523880" y="2438280"/>
          <a:ext cx="7917120" cy="82260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Ecotec Plus VUW FR 306/5-5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Un système de stockage d</a:t>
                      </a:r>
                      <a:r>
                        <a:rPr b="0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EC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Un ballon de stockage AUROSTEP PLUS 1.150 M HI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apteurs solai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1 capteur VFK 135 VD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08" name="Image 22" descr="Arborescence perrenoud - Atlantic.PNG"/>
          <p:cNvPicPr/>
          <p:nvPr/>
        </p:nvPicPr>
        <p:blipFill>
          <a:blip r:embed="rId4"/>
          <a:stretch/>
        </p:blipFill>
        <p:spPr>
          <a:xfrm>
            <a:off x="7719840" y="4213080"/>
            <a:ext cx="2513160" cy="226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9" name="ZoneTexte 23"/>
          <p:cNvSpPr/>
          <p:nvPr/>
        </p:nvSpPr>
        <p:spPr>
          <a:xfrm>
            <a:off x="8801280" y="4357800"/>
            <a:ext cx="1079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45 Helvetica Light"/>
              </a:rPr>
              <a:t>72,2 / BbioMax = 76,3</a:t>
            </a: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45 Helvetica Light"/>
              </a:rPr>
              <a:t>64,1 / CepMax = 64,3</a:t>
            </a: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0" name="ZoneTexte 16"/>
          <p:cNvSpPr/>
          <p:nvPr/>
        </p:nvSpPr>
        <p:spPr>
          <a:xfrm>
            <a:off x="8440560" y="6229440"/>
            <a:ext cx="17686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Stockage AUROSTEP PLUS 1.150 M HI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1" name="ZoneTexte 17"/>
          <p:cNvSpPr/>
          <p:nvPr/>
        </p:nvSpPr>
        <p:spPr>
          <a:xfrm>
            <a:off x="8153280" y="6084720"/>
            <a:ext cx="2016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Chaudière Ecotec Plus VUW FR 306/5-5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2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AC5C-5857-4119-8318-9DADB56E069B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7" descr="LaCie Disk:1 GRAPHISME:ELEMENTS_OK_FICHES_BET_PRODUIT:F3_PER:F3_P_2.jpg"/>
          <p:cNvPicPr/>
          <p:nvPr/>
        </p:nvPicPr>
        <p:blipFill>
          <a:blip r:embed="rId1"/>
          <a:stretch/>
        </p:blipFill>
        <p:spPr>
          <a:xfrm>
            <a:off x="808200" y="1549440"/>
            <a:ext cx="5257800" cy="4821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14" name="Text Box 14"/>
          <p:cNvSpPr/>
          <p:nvPr/>
        </p:nvSpPr>
        <p:spPr>
          <a:xfrm>
            <a:off x="6959520" y="2286000"/>
            <a:ext cx="1879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15" name="AutoShape 16"/>
          <p:cNvCxnSpPr/>
          <p:nvPr/>
        </p:nvCxnSpPr>
        <p:spPr>
          <a:xfrm flipV="1" rot="16200000">
            <a:off x="6764760" y="231300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16" name="AutoShape 19"/>
          <p:cNvCxnSpPr/>
          <p:nvPr/>
        </p:nvCxnSpPr>
        <p:spPr>
          <a:xfrm flipV="1" rot="16200000">
            <a:off x="6764760" y="231300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17" name="AutoShape 24"/>
          <p:cNvCxnSpPr/>
          <p:nvPr/>
        </p:nvCxnSpPr>
        <p:spPr>
          <a:xfrm flipH="1" rot="16200000">
            <a:off x="6598440" y="2920680"/>
            <a:ext cx="216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18" name="AutoShape 41"/>
          <p:cNvCxnSpPr/>
          <p:nvPr/>
        </p:nvCxnSpPr>
        <p:spPr>
          <a:xfrm flipH="1" flipV="1" rot="10800000">
            <a:off x="75960" y="38383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19" name="Freeform 25"/>
          <p:cNvSpPr/>
          <p:nvPr/>
        </p:nvSpPr>
        <p:spPr>
          <a:xfrm flipV="1">
            <a:off x="5684760" y="3148920"/>
            <a:ext cx="2362320" cy="282600"/>
          </a:xfrm>
          <a:custGeom>
            <a:avLst/>
            <a:gdLst>
              <a:gd name="textAreaLeft" fmla="*/ 0 w 2362320"/>
              <a:gd name="textAreaRight" fmla="*/ 2362680 w 2362320"/>
              <a:gd name="textAreaTop" fmla="*/ -360 h 282600"/>
              <a:gd name="textAreaBottom" fmla="*/ 282600 h 282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0" name="Text Box 33"/>
          <p:cNvSpPr/>
          <p:nvPr/>
        </p:nvSpPr>
        <p:spPr>
          <a:xfrm>
            <a:off x="6778800" y="285948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 emplacement en volume chauffé permet de réduire les consommations par rapport à un emplacement hors volume chauffé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1" name="Text Box 19"/>
          <p:cNvSpPr/>
          <p:nvPr/>
        </p:nvSpPr>
        <p:spPr>
          <a:xfrm>
            <a:off x="2635560" y="566424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49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22" name="Picture 17" descr=""/>
          <p:cNvPicPr/>
          <p:nvPr/>
        </p:nvPicPr>
        <p:blipFill>
          <a:blip r:embed="rId2"/>
          <a:stretch/>
        </p:blipFill>
        <p:spPr>
          <a:xfrm>
            <a:off x="2441520" y="2971800"/>
            <a:ext cx="695520" cy="9540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19"/>
          <p:cNvSpPr/>
          <p:nvPr/>
        </p:nvSpPr>
        <p:spPr>
          <a:xfrm>
            <a:off x="2425320" y="2978280"/>
            <a:ext cx="537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55 Helvetica Roman"/>
              </a:rPr>
              <a:t>Permanent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4" name="Espace réservé du texte 4"/>
          <p:cNvSpPr/>
          <p:nvPr/>
        </p:nvSpPr>
        <p:spPr>
          <a:xfrm>
            <a:off x="2027160" y="260280"/>
            <a:ext cx="83581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ion «CD + CESI opt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5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3F65-D5B1-426C-B771-2EAF558D9AD9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5" descr="LaCie Disk:1 GRAPHISME:ELEMENTS_OK_FICHES_BET_PRODUIT:F3_PER:F3_P_3.jpg"/>
          <p:cNvPicPr/>
          <p:nvPr/>
        </p:nvPicPr>
        <p:blipFill>
          <a:blip r:embed="rId1"/>
          <a:stretch/>
        </p:blipFill>
        <p:spPr>
          <a:xfrm>
            <a:off x="808200" y="1333440"/>
            <a:ext cx="5560920" cy="5483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27" name="Text Box 7"/>
          <p:cNvSpPr/>
          <p:nvPr/>
        </p:nvSpPr>
        <p:spPr>
          <a:xfrm>
            <a:off x="6959520" y="2071800"/>
            <a:ext cx="1839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28" name="AutoShape 8"/>
          <p:cNvCxnSpPr/>
          <p:nvPr/>
        </p:nvCxnSpPr>
        <p:spPr>
          <a:xfrm flipV="1" rot="16200000">
            <a:off x="6779520" y="1783800"/>
            <a:ext cx="108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29" name="AutoShape 9"/>
          <p:cNvCxnSpPr/>
          <p:nvPr/>
        </p:nvCxnSpPr>
        <p:spPr>
          <a:xfrm flipV="1" rot="16200000">
            <a:off x="6779520" y="1783800"/>
            <a:ext cx="108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30" name="AutoShape 10"/>
          <p:cNvCxnSpPr/>
          <p:nvPr/>
        </p:nvCxnSpPr>
        <p:spPr>
          <a:xfrm flipH="1" rot="16200000">
            <a:off x="6598440" y="2706480"/>
            <a:ext cx="216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31" name="AutoShape 12"/>
          <p:cNvCxnSpPr/>
          <p:nvPr/>
        </p:nvCxnSpPr>
        <p:spPr>
          <a:xfrm flipH="1" flipV="1" rot="10800000">
            <a:off x="75960" y="38271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32" name="Text Box 48"/>
          <p:cNvSpPr/>
          <p:nvPr/>
        </p:nvSpPr>
        <p:spPr>
          <a:xfrm>
            <a:off x="3808440" y="349416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2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3" name="Text Box 49"/>
          <p:cNvSpPr/>
          <p:nvPr/>
        </p:nvSpPr>
        <p:spPr>
          <a:xfrm>
            <a:off x="3736800" y="37116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98,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4" name="Text Box 50"/>
          <p:cNvSpPr/>
          <p:nvPr/>
        </p:nvSpPr>
        <p:spPr>
          <a:xfrm>
            <a:off x="3735360" y="4154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0,0599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5" name="Text Box 51"/>
          <p:cNvSpPr/>
          <p:nvPr/>
        </p:nvSpPr>
        <p:spPr>
          <a:xfrm>
            <a:off x="3737520" y="4383000"/>
            <a:ext cx="16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4,9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6" name="Text Box 52"/>
          <p:cNvSpPr/>
          <p:nvPr/>
        </p:nvSpPr>
        <p:spPr>
          <a:xfrm>
            <a:off x="3736440" y="46116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09,6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7" name="Text Box 54"/>
          <p:cNvSpPr/>
          <p:nvPr/>
        </p:nvSpPr>
        <p:spPr>
          <a:xfrm>
            <a:off x="3803760" y="529272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29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8" name="Text Box 55"/>
          <p:cNvSpPr/>
          <p:nvPr/>
        </p:nvSpPr>
        <p:spPr>
          <a:xfrm>
            <a:off x="3809520" y="549432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4752000" y="371160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0" name="Text Box 57"/>
          <p:cNvSpPr/>
          <p:nvPr/>
        </p:nvSpPr>
        <p:spPr>
          <a:xfrm>
            <a:off x="5683680" y="349416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4752000" y="461160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2" name="Text Box 61"/>
          <p:cNvSpPr/>
          <p:nvPr/>
        </p:nvSpPr>
        <p:spPr>
          <a:xfrm>
            <a:off x="3530160" y="6135840"/>
            <a:ext cx="835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55 Helvetica Roman"/>
              </a:rPr>
              <a:t>Valeur par défaut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3017880" y="1770120"/>
            <a:ext cx="1297080" cy="1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4" name="Text Box 48"/>
          <p:cNvSpPr/>
          <p:nvPr/>
        </p:nvSpPr>
        <p:spPr>
          <a:xfrm>
            <a:off x="2585880" y="1790640"/>
            <a:ext cx="2232360" cy="1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Chaudière Ecotec Plus VUW FR 306/5-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45" name="Picture 29" descr=""/>
          <p:cNvPicPr/>
          <p:nvPr/>
        </p:nvPicPr>
        <p:blipFill>
          <a:blip r:embed="rId2"/>
          <a:stretch/>
        </p:blipFill>
        <p:spPr>
          <a:xfrm>
            <a:off x="3666960" y="5854680"/>
            <a:ext cx="623880" cy="23652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55"/>
          <p:cNvSpPr/>
          <p:nvPr/>
        </p:nvSpPr>
        <p:spPr>
          <a:xfrm>
            <a:off x="3920400" y="5931000"/>
            <a:ext cx="25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22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7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à condensation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8" name="Text Box 18"/>
          <p:cNvSpPr/>
          <p:nvPr/>
        </p:nvSpPr>
        <p:spPr>
          <a:xfrm>
            <a:off x="6850080" y="1482840"/>
            <a:ext cx="329256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Toutes les caractéristiques de performances des générateurs sont disponibles sur le site du fabricant, EDIBATEC et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3"/>
              </a:rPr>
              <a:t>la base de données ATITA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 (https://techniqueuniclima.com/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9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A179-366B-48BD-AD23-2CA06377EF39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0" name="Freeform 25"/>
          <p:cNvSpPr/>
          <p:nvPr/>
        </p:nvSpPr>
        <p:spPr>
          <a:xfrm flipV="1">
            <a:off x="4624560" y="2485800"/>
            <a:ext cx="5486400" cy="860400"/>
          </a:xfrm>
          <a:custGeom>
            <a:avLst/>
            <a:gdLst>
              <a:gd name="textAreaLeft" fmla="*/ 0 w 5486400"/>
              <a:gd name="textAreaRight" fmla="*/ 5486760 w 54864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6856560" y="2341440"/>
            <a:ext cx="336384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valeurs issues du certiﬁcat CE sont considérées certiﬁées. Comparé à un système «CESI classique», la chaudière doit être plus puissante pour produire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 instantanée avec un confort sufﬁsan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33" descr="LaCie Disk:1 GRAPHISME:ELEMENTS_OK_FICHES_BET_PRODUIT:F3_PER:F3_P_4.jpg"/>
          <p:cNvPicPr/>
          <p:nvPr/>
        </p:nvPicPr>
        <p:blipFill>
          <a:blip r:embed="rId1"/>
          <a:stretch/>
        </p:blipFill>
        <p:spPr>
          <a:xfrm>
            <a:off x="736560" y="1620720"/>
            <a:ext cx="5587920" cy="4956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53" name="Text Box 8"/>
          <p:cNvSpPr/>
          <p:nvPr/>
        </p:nvSpPr>
        <p:spPr>
          <a:xfrm>
            <a:off x="6888240" y="2357280"/>
            <a:ext cx="18795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54" name="AutoShape 11"/>
          <p:cNvCxnSpPr/>
          <p:nvPr/>
        </p:nvCxnSpPr>
        <p:spPr>
          <a:xfrm flipH="1" rot="16200000">
            <a:off x="6527520" y="2991960"/>
            <a:ext cx="252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55" name="AutoShape 12"/>
          <p:cNvCxnSpPr/>
          <p:nvPr/>
        </p:nvCxnSpPr>
        <p:spPr>
          <a:xfrm flipH="1" flipV="1" rot="10800000">
            <a:off x="75960" y="384696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56" name="Text Box 34"/>
          <p:cNvSpPr/>
          <p:nvPr/>
        </p:nvSpPr>
        <p:spPr>
          <a:xfrm>
            <a:off x="4721040" y="4135320"/>
            <a:ext cx="55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Ballon n°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7" name="Text Box 35"/>
          <p:cNvSpPr/>
          <p:nvPr/>
        </p:nvSpPr>
        <p:spPr>
          <a:xfrm>
            <a:off x="3552840" y="43639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50.0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8" name="Text Box 36"/>
          <p:cNvSpPr/>
          <p:nvPr/>
        </p:nvSpPr>
        <p:spPr>
          <a:xfrm>
            <a:off x="2851200" y="459252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9" name="Text Box 37"/>
          <p:cNvSpPr/>
          <p:nvPr/>
        </p:nvSpPr>
        <p:spPr>
          <a:xfrm>
            <a:off x="3560400" y="482112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0,19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0" name="Text Box 38"/>
          <p:cNvSpPr/>
          <p:nvPr/>
        </p:nvSpPr>
        <p:spPr>
          <a:xfrm>
            <a:off x="2836440" y="5049720"/>
            <a:ext cx="1181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Chauffage 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1" name="Text Box 39"/>
          <p:cNvSpPr/>
          <p:nvPr/>
        </p:nvSpPr>
        <p:spPr>
          <a:xfrm>
            <a:off x="3736800" y="5491080"/>
            <a:ext cx="16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5,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2" name="Text Box 40"/>
          <p:cNvSpPr/>
          <p:nvPr/>
        </p:nvSpPr>
        <p:spPr>
          <a:xfrm>
            <a:off x="5306760" y="60404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0,8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3" name="Text Box 41"/>
          <p:cNvSpPr/>
          <p:nvPr/>
        </p:nvSpPr>
        <p:spPr>
          <a:xfrm>
            <a:off x="5307480" y="626904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4" name="Freeform 42"/>
          <p:cNvSpPr/>
          <p:nvPr/>
        </p:nvSpPr>
        <p:spPr>
          <a:xfrm>
            <a:off x="5689440" y="2077920"/>
            <a:ext cx="1295640" cy="4572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816" h="288">
                <a:moveTo>
                  <a:pt x="816" y="0"/>
                </a:moveTo>
                <a:lnTo>
                  <a:pt x="480" y="0"/>
                </a:lnTo>
                <a:lnTo>
                  <a:pt x="480" y="288"/>
                </a:lnTo>
                <a:lnTo>
                  <a:pt x="0" y="288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5" name="Text Box 25"/>
          <p:cNvSpPr/>
          <p:nvPr/>
        </p:nvSpPr>
        <p:spPr>
          <a:xfrm>
            <a:off x="6707160" y="1697040"/>
            <a:ext cx="343692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ans le système «CESI optimisé»,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ppoint gaz est de type séparé instantané aﬁ n de limiter les déperditions. Au contraire,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ppoint est intégré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6" name="Freeform 43"/>
          <p:cNvSpPr/>
          <p:nvPr/>
        </p:nvSpPr>
        <p:spPr>
          <a:xfrm>
            <a:off x="4394160" y="4059360"/>
            <a:ext cx="3505320" cy="38088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816" h="288">
                <a:moveTo>
                  <a:pt x="816" y="0"/>
                </a:moveTo>
                <a:lnTo>
                  <a:pt x="480" y="0"/>
                </a:lnTo>
                <a:lnTo>
                  <a:pt x="480" y="288"/>
                </a:lnTo>
                <a:lnTo>
                  <a:pt x="0" y="288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7" name="Text Box 25"/>
          <p:cNvSpPr/>
          <p:nvPr/>
        </p:nvSpPr>
        <p:spPr>
          <a:xfrm>
            <a:off x="6707160" y="375444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 volume du ballon est plus faible dans un système «CESI optimisé» que dans un système «CESI classique» aﬁn de limiter les pert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8" name="Freeform 46"/>
          <p:cNvSpPr/>
          <p:nvPr/>
        </p:nvSpPr>
        <p:spPr>
          <a:xfrm>
            <a:off x="4165560" y="4897440"/>
            <a:ext cx="2895480" cy="9907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824" h="624">
                <a:moveTo>
                  <a:pt x="1824" y="624"/>
                </a:moveTo>
                <a:lnTo>
                  <a:pt x="1440" y="624"/>
                </a:lnTo>
                <a:lnTo>
                  <a:pt x="1440" y="144"/>
                </a:lnTo>
                <a:lnTo>
                  <a:pt x="144" y="144"/>
                </a:lnTo>
                <a:lnTo>
                  <a:pt x="144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9" name="Text Box 25"/>
          <p:cNvSpPr/>
          <p:nvPr/>
        </p:nvSpPr>
        <p:spPr>
          <a:xfrm>
            <a:off x="6707160" y="5659560"/>
            <a:ext cx="343692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ttention, les pertes thermiques du ballon impactent la consommation d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C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0" name="Rectangle 30"/>
          <p:cNvSpPr/>
          <p:nvPr/>
        </p:nvSpPr>
        <p:spPr>
          <a:xfrm>
            <a:off x="3378240" y="2238480"/>
            <a:ext cx="1584360" cy="15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1" name="Text Box 48"/>
          <p:cNvSpPr/>
          <p:nvPr/>
        </p:nvSpPr>
        <p:spPr>
          <a:xfrm>
            <a:off x="2298600" y="2251080"/>
            <a:ext cx="374508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Stockage AUROSTEP PLUS 1.150 M HIet capteur VFK 135 VD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2" name="Text Box 37"/>
          <p:cNvSpPr/>
          <p:nvPr/>
        </p:nvSpPr>
        <p:spPr>
          <a:xfrm>
            <a:off x="5393520" y="4849920"/>
            <a:ext cx="16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,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73" name="Picture 31" descr=""/>
          <p:cNvPicPr/>
          <p:nvPr/>
        </p:nvPicPr>
        <p:blipFill>
          <a:blip r:embed="rId2"/>
          <a:stretch/>
        </p:blipFill>
        <p:spPr>
          <a:xfrm>
            <a:off x="3451320" y="5203800"/>
            <a:ext cx="1295280" cy="24768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9"/>
          <p:cNvSpPr/>
          <p:nvPr/>
        </p:nvSpPr>
        <p:spPr>
          <a:xfrm>
            <a:off x="3737160" y="527544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7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5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système de stockage «auroSTEP VIH SN 150/3 Mi» 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6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9D7E-ECC5-41A4-8016-B1A86E73625C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36" descr="LaCie Disk:1 GRAPHISME:ELEMENTS_OK_FICHES_BET_PRODUIT:F3_PER:F3_P_5.jpg"/>
          <p:cNvPicPr/>
          <p:nvPr/>
        </p:nvPicPr>
        <p:blipFill>
          <a:blip r:embed="rId1"/>
          <a:stretch/>
        </p:blipFill>
        <p:spPr>
          <a:xfrm>
            <a:off x="736560" y="1549440"/>
            <a:ext cx="5262480" cy="5646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cxnSp>
        <p:nvCxnSpPr>
          <p:cNvPr id="478" name="AutoShape 12"/>
          <p:cNvCxnSpPr/>
          <p:nvPr/>
        </p:nvCxnSpPr>
        <p:spPr>
          <a:xfrm flipH="1" rot="16200000">
            <a:off x="6527880" y="292068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79" name="AutoShape 13"/>
          <p:cNvCxnSpPr/>
          <p:nvPr/>
        </p:nvCxnSpPr>
        <p:spPr>
          <a:xfrm flipH="1" flipV="1" rot="10800000">
            <a:off x="72720" y="379764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80" name="Text Box 22"/>
          <p:cNvSpPr/>
          <p:nvPr/>
        </p:nvSpPr>
        <p:spPr>
          <a:xfrm>
            <a:off x="6707160" y="3454560"/>
            <a:ext cx="34401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1" name="Freeform 23"/>
          <p:cNvSpPr/>
          <p:nvPr/>
        </p:nvSpPr>
        <p:spPr>
          <a:xfrm flipV="1">
            <a:off x="5156280" y="1959840"/>
            <a:ext cx="1600200" cy="11430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2" name="Freeform 24"/>
          <p:cNvSpPr/>
          <p:nvPr/>
        </p:nvSpPr>
        <p:spPr>
          <a:xfrm>
            <a:off x="4851360" y="4140360"/>
            <a:ext cx="4572000" cy="99036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3" name="Text Box 25"/>
          <p:cNvSpPr/>
          <p:nvPr/>
        </p:nvSpPr>
        <p:spPr>
          <a:xfrm>
            <a:off x="6707160" y="4749840"/>
            <a:ext cx="344016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 à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rientation des panneaux qui a un fort impact sur la produc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 Une orientation au Nord (cas extrême) peut augmenter la consommation d’un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4" name="Freeform 24"/>
          <p:cNvSpPr/>
          <p:nvPr/>
        </p:nvSpPr>
        <p:spPr>
          <a:xfrm flipV="1">
            <a:off x="4927680" y="3073320"/>
            <a:ext cx="4267080" cy="609840"/>
          </a:xfrm>
          <a:custGeom>
            <a:avLst/>
            <a:gdLst>
              <a:gd name="textAreaLeft" fmla="*/ 0 w 4267080"/>
              <a:gd name="textAreaRight" fmla="*/ 4267440 w 4267080"/>
              <a:gd name="textAreaTop" fmla="*/ 0 h 609840"/>
              <a:gd name="textAreaBottom" fmla="*/ 609840 h 609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5" name="Rectangle 16"/>
          <p:cNvSpPr/>
          <p:nvPr/>
        </p:nvSpPr>
        <p:spPr>
          <a:xfrm>
            <a:off x="6721560" y="1676520"/>
            <a:ext cx="34272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Les caractéristiques de performances des capteurs solaires sont données dans les avis techniques ou les PV Keymark des produi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6" name="Text Box 25"/>
          <p:cNvSpPr/>
          <p:nvPr/>
        </p:nvSpPr>
        <p:spPr>
          <a:xfrm>
            <a:off x="6707160" y="2768760"/>
            <a:ext cx="344016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surface des capteurs solaires est plus faible dans un système «CESI optimisé» que dans un système «CESI classique»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7" name="Text Box 52"/>
          <p:cNvSpPr/>
          <p:nvPr/>
        </p:nvSpPr>
        <p:spPr>
          <a:xfrm>
            <a:off x="4241160" y="47005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0,814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8" name="Text Box 52"/>
          <p:cNvSpPr/>
          <p:nvPr/>
        </p:nvSpPr>
        <p:spPr>
          <a:xfrm>
            <a:off x="4241160" y="49878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2,64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9" name="Text Box 52"/>
          <p:cNvSpPr/>
          <p:nvPr/>
        </p:nvSpPr>
        <p:spPr>
          <a:xfrm>
            <a:off x="4187880" y="52102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0,033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0" name="Text Box 52"/>
          <p:cNvSpPr/>
          <p:nvPr/>
        </p:nvSpPr>
        <p:spPr>
          <a:xfrm>
            <a:off x="3116160" y="5491080"/>
            <a:ext cx="1645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Régulation sur  la températur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1" name="Text Box 52"/>
          <p:cNvSpPr/>
          <p:nvPr/>
        </p:nvSpPr>
        <p:spPr>
          <a:xfrm>
            <a:off x="4165920" y="574344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2" name="Text Box 52"/>
          <p:cNvSpPr/>
          <p:nvPr/>
        </p:nvSpPr>
        <p:spPr>
          <a:xfrm>
            <a:off x="4145760" y="599436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4145760" y="621828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2154240" y="2076480"/>
            <a:ext cx="352908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Stockage AUROSTEP PLUS 1.150 M HI et capteur VFK 135 VD 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5" name="Text Box 48"/>
          <p:cNvSpPr/>
          <p:nvPr/>
        </p:nvSpPr>
        <p:spPr>
          <a:xfrm>
            <a:off x="1938240" y="3373560"/>
            <a:ext cx="2448000" cy="1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CESI capteur VFK 135 VD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6" name="ZoneTexte 29"/>
          <p:cNvSpPr/>
          <p:nvPr/>
        </p:nvSpPr>
        <p:spPr>
          <a:xfrm>
            <a:off x="4122720" y="3587760"/>
            <a:ext cx="5047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2,3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6710400" y="5708520"/>
            <a:ext cx="344016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e manière générale, la régulation de la boucle solaire s’effectue sur le température en maison individuell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98" name="Connecteur en angle 32"/>
          <p:cNvCxnSpPr>
            <a:stCxn id="497" idx="1"/>
          </p:cNvCxnSpPr>
          <p:nvPr/>
        </p:nvCxnSpPr>
        <p:spPr>
          <a:xfrm rot="10800000">
            <a:off x="5250600" y="5563440"/>
            <a:ext cx="1459800" cy="445320"/>
          </a:xfrm>
          <a:prstGeom prst="bentConnector3">
            <a:avLst>
              <a:gd name="adj1" fmla="val 38332"/>
            </a:avLst>
          </a:prstGeom>
          <a:ln w="19080">
            <a:solidFill>
              <a:srgbClr val="4e3073"/>
            </a:solidFill>
            <a:miter/>
            <a:tailEnd len="med" type="triangle" w="med"/>
          </a:ln>
        </p:spPr>
      </p:cxnSp>
      <p:pic>
        <p:nvPicPr>
          <p:cNvPr id="499" name="Picture 27" descr=""/>
          <p:cNvPicPr/>
          <p:nvPr/>
        </p:nvPicPr>
        <p:blipFill>
          <a:blip r:embed="rId2"/>
          <a:stretch/>
        </p:blipFill>
        <p:spPr>
          <a:xfrm>
            <a:off x="4170240" y="6427800"/>
            <a:ext cx="666720" cy="21924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52"/>
          <p:cNvSpPr/>
          <p:nvPr/>
        </p:nvSpPr>
        <p:spPr>
          <a:xfrm>
            <a:off x="4315320" y="650088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65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01" name="Picture 28" descr=""/>
          <p:cNvPicPr/>
          <p:nvPr/>
        </p:nvPicPr>
        <p:blipFill>
          <a:blip r:embed="rId3"/>
          <a:stretch/>
        </p:blipFill>
        <p:spPr>
          <a:xfrm>
            <a:off x="5229360" y="642780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9" descr=""/>
          <p:cNvPicPr/>
          <p:nvPr/>
        </p:nvPicPr>
        <p:blipFill>
          <a:blip r:embed="rId4"/>
          <a:stretch/>
        </p:blipFill>
        <p:spPr>
          <a:xfrm>
            <a:off x="4027320" y="6742080"/>
            <a:ext cx="181080" cy="1904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9" descr=""/>
          <p:cNvPicPr/>
          <p:nvPr/>
        </p:nvPicPr>
        <p:blipFill>
          <a:blip r:embed="rId5"/>
          <a:stretch/>
        </p:blipFill>
        <p:spPr>
          <a:xfrm>
            <a:off x="4027320" y="6886440"/>
            <a:ext cx="181080" cy="190800"/>
          </a:xfrm>
          <a:prstGeom prst="rect">
            <a:avLst/>
          </a:prstGeom>
          <a:ln w="0">
            <a:noFill/>
          </a:ln>
        </p:spPr>
      </p:pic>
      <p:cxnSp>
        <p:nvCxnSpPr>
          <p:cNvPr id="504" name="Connecteur en angle 33"/>
          <p:cNvCxnSpPr/>
          <p:nvPr/>
        </p:nvCxnSpPr>
        <p:spPr>
          <a:xfrm flipV="1" rot="10800000">
            <a:off x="4242600" y="6570720"/>
            <a:ext cx="2592720" cy="289440"/>
          </a:xfrm>
          <a:prstGeom prst="bentConnector3">
            <a:avLst>
              <a:gd name="adj1" fmla="val 49993"/>
            </a:avLst>
          </a:prstGeom>
          <a:ln w="1908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505" name="Rectangle 16"/>
          <p:cNvSpPr/>
          <p:nvPr/>
        </p:nvSpPr>
        <p:spPr>
          <a:xfrm>
            <a:off x="6721560" y="6427800"/>
            <a:ext cx="3427200" cy="261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n fonction du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6" name="Espace réservé du texte 4"/>
          <p:cNvSpPr/>
          <p:nvPr/>
        </p:nvSpPr>
        <p:spPr>
          <a:xfrm>
            <a:off x="2031840" y="252360"/>
            <a:ext cx="84963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:</a:t>
            </a:r>
            <a:r>
              <a:rPr b="0" lang="fr-FR" sz="32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création du capteur solaire thermique «VFK 135 VD» 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6B7F-1409-425C-B9BE-8B58AEF50C91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8" descr="LaCie Disk:1 GRAPHISME:ELEMENTS_OK_FICHES_BET_PRODUIT:F1_P:F1_P_10.jpg"/>
          <p:cNvPicPr/>
          <p:nvPr/>
        </p:nvPicPr>
        <p:blipFill>
          <a:blip r:embed="rId1"/>
          <a:stretch/>
        </p:blipFill>
        <p:spPr>
          <a:xfrm>
            <a:off x="879480" y="2413080"/>
            <a:ext cx="5432400" cy="90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09" name="Text Box 9"/>
          <p:cNvSpPr/>
          <p:nvPr/>
        </p:nvSpPr>
        <p:spPr>
          <a:xfrm>
            <a:off x="6837480" y="172728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10" name="AutoShape 12"/>
          <p:cNvCxnSpPr/>
          <p:nvPr/>
        </p:nvCxnSpPr>
        <p:spPr>
          <a:xfrm flipH="1" rot="16200000">
            <a:off x="6652080" y="2945880"/>
            <a:ext cx="252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511" name="AutoShape 13"/>
          <p:cNvCxnSpPr/>
          <p:nvPr/>
        </p:nvCxnSpPr>
        <p:spPr>
          <a:xfrm flipH="1" flipV="1" rot="10800000">
            <a:off x="78120" y="3781080"/>
            <a:ext cx="252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12" name="Text Box 22"/>
          <p:cNvSpPr/>
          <p:nvPr/>
        </p:nvSpPr>
        <p:spPr>
          <a:xfrm>
            <a:off x="6656400" y="2895480"/>
            <a:ext cx="32925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3" name="Freeform 23"/>
          <p:cNvSpPr/>
          <p:nvPr/>
        </p:nvSpPr>
        <p:spPr>
          <a:xfrm flipV="1">
            <a:off x="5281560" y="2126520"/>
            <a:ext cx="1600200" cy="8622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862200"/>
              <a:gd name="textAreaBottom" fmla="*/ 862200 h 8622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4" name="Text Box 24"/>
          <p:cNvSpPr/>
          <p:nvPr/>
        </p:nvSpPr>
        <p:spPr>
          <a:xfrm>
            <a:off x="911160" y="1727280"/>
            <a:ext cx="540072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ans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objet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«Emission»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(       ) =&gt; Onglet «Réseau Chaud»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on indique la présence du circulateur 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5" name="Text Box 28"/>
          <p:cNvSpPr/>
          <p:nvPr/>
        </p:nvSpPr>
        <p:spPr>
          <a:xfrm>
            <a:off x="2386080" y="2930400"/>
            <a:ext cx="2971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Selon proje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6" name="Text Box 29"/>
          <p:cNvSpPr/>
          <p:nvPr/>
        </p:nvSpPr>
        <p:spPr>
          <a:xfrm>
            <a:off x="5586480" y="2717640"/>
            <a:ext cx="121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33,5 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7" name="Text Box 33"/>
          <p:cNvSpPr/>
          <p:nvPr/>
        </p:nvSpPr>
        <p:spPr>
          <a:xfrm>
            <a:off x="2386080" y="2717640"/>
            <a:ext cx="11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OUI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18" name="Picture 27" descr="LaCie Disk:1 GRAPHISME:ELEMENTS_OK_FICHES_BET_PRODUIT:PICTOS:EMISSION_2.jpg"/>
          <p:cNvPicPr/>
          <p:nvPr/>
        </p:nvPicPr>
        <p:blipFill>
          <a:blip r:embed="rId2"/>
          <a:stretch/>
        </p:blipFill>
        <p:spPr>
          <a:xfrm>
            <a:off x="2639880" y="1773360"/>
            <a:ext cx="144720" cy="144360"/>
          </a:xfrm>
          <a:prstGeom prst="rect">
            <a:avLst/>
          </a:prstGeom>
          <a:ln w="0">
            <a:noFill/>
          </a:ln>
        </p:spPr>
      </p:pic>
      <p:sp>
        <p:nvSpPr>
          <p:cNvPr id="519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Focus : La saisie du circulateur du réseau de distribu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0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44ED-8FBA-4C28-AA34-46CE723CCD75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3:55:56Z</dcterms:modified>
  <cp:revision>125</cp:revision>
  <dc:subject/>
  <dc:title>Présentation PowerPoint</dc:title>
</cp:coreProperties>
</file>