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3A5F-B0B0-4648-A1D9-8DE34756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C58-0B3E-4CA8-B2DC-F9D0AF86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3F2E2-5D18-42D7-BD12-1A99F753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0C6B6-5D67-401B-9D41-00E0E215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0BF05-B100-4738-A516-792DE490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F193B-0179-44B1-8690-8791613E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CA012-DC5A-454E-A475-07F2E798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97B96-38D6-4682-92DF-C3A38DF3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70EE5-B661-4018-8313-95230402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26044-9E4A-4DD7-A6F7-7A5DC9D0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D418C-409A-4717-9EB3-12F9563D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2F3-AD8C-482A-8D97-57BA853A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6AB5-9708-45FB-AE09-30B2E27E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E090-F4A5-440E-A7BE-A31DFFCA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1024-641B-4E6A-A2B5-0031BFC2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2B4D-C588-4A3C-972C-74747349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67D9-05C9-447A-A553-C903F392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1BDE-E980-4D4D-9F17-B8A04FC5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CA67-B5EE-424A-A971-82F866C3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5CDA-188A-4901-9AB3-EF84AE85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E93-E973-4177-8678-39A632F4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9730-7365-4598-8BD9-88453A9C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D368-87CD-43A8-94EC-35BD280D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0627-2AE2-4465-8EC0-8C9A03E7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17C3-7125-4078-B24E-AD87C3CB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A44C-5852-4611-8032-46550669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89B06-AED9-4C7C-9C52-D76334D3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06F1E-9F49-4A3F-9F95-4AEF6194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62876-6905-4415-ADC2-89AF0CD3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1AFCB-1B63-4BA4-ADB6-15BAF6A4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97D27-BE17-4257-9539-DC75003E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715E-545A-4F2C-AB2C-BF37957A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F14F6-1904-4B5B-9E36-D594F44C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84578-CDFA-4594-A828-C7849FE3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BED83-CCB6-48EE-B9D9-5ECA4ECE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E8AFE-9649-45D9-BBBD-B60A7ED7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9A953-684D-44D4-8733-9AEC1F2C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0923C-B25C-4ED4-A164-0A794731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0DF67-04FD-4CBF-A3C3-1ED6DCEB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2AAB5-5B7C-4EEE-9466-0ADE3B66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C9298-D6D4-4031-99F6-E13F0991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06A86-60AC-4970-88E5-8226B2D0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391-00A3-4B53-B137-85CAF765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BF6BE-4047-42EF-BB19-2D4E7C44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EF2D4-3AFA-4333-AF88-642EC252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41828-E909-4825-B41E-3ADA1B59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23001-AD62-415E-B7AE-2DA7BA2C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70833-8781-468A-A2B3-3E5CE01C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71921-7C90-4E0A-B37E-3D154BE3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6B00F-4E90-4223-888B-5909BE9D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031DE-501E-481F-9318-D2A5D6C1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51808-1B75-4371-8804-A6DA1B8A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8ADC2-4248-4BC5-9612-7F62025D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3CE4-CAB4-42EC-BED3-8675E40F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6C119-E78C-4082-B6CD-9E42CC14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CEF50-D4CC-4ECC-B40F-5B36F7CF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EBA5C-6403-4534-9982-6554A738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BC315-E7FD-4E4B-9053-07FD3EAF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F1C54-5770-4B39-A87C-DAEC9E8F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2692B-F74F-4758-BED1-1FCC20A7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E038D-59BC-4E2F-9734-EF2491AA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35AD0-50CC-45C9-91DD-348C6BD1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3DEAF-A0C1-489D-B8B6-F16AB3E1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6FA55-FB3A-41D7-B7C3-7C277BBB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1568-26D5-4A59-84CD-852E8CF5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3520E-65D6-44A3-B04E-04107BB2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15381-980B-4933-B632-6BB87A16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BA401-DFAA-4B4E-B961-968AF71E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EFFAD-D90F-4629-BD0D-4F61BB7E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8AA10-199B-49F7-A3FC-A0ABC2FA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48271-3813-4838-8715-3401F050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969EB-085F-45BC-861A-AECD01B9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DF087-B674-47D3-BF98-E681C3EC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32BBC-D603-47B6-8B85-1126FC7F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5C4C0-691F-401F-91D1-511B3E8F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877-8BCA-4356-BB78-40B9F948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8A7F6-73D6-4005-8F66-436BE728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F873B-B8C6-41B6-BD8D-57EE2CDF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3DEE0-B172-4768-ABE3-200EE470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B6963-372C-4BF1-A2D0-AA91EB2E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D8168-9F23-4F0F-A697-CEDE828B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C4BEB-FC9D-4BC4-97E3-F279F95A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3E54A-903B-40C9-89A2-840F445C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CDA0B-93C6-4E1E-B663-CDF17329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6C11C-8618-4755-882F-E8A98155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63BC8-72BC-48BD-B61B-C049F4FD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CA4-F00B-447F-9897-80D8F808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047C3-DE7E-4E6E-96CB-3DF722F8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761DE-90B2-419E-BC32-3FF5AE42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6D657-8B0B-4A09-A360-D5331FA5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3141A-6415-4E77-981F-6BD5F920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777B7-04F3-44AC-9FE9-916A9477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8AF68-D5BB-4C55-A9AC-BB16734F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CC249-DE2B-4AE2-9160-58B60BBD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B4445-ED92-45D7-A378-F1390B0D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0C1A8-EE58-4BDC-AAB2-8236E4F3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11184-7FAD-43D6-8F7A-C4F04D8C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637-A7CF-455F-99CE-11421234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F3494-D070-4FD2-84DA-F18EEC6D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AC01A-59FB-464D-AE60-4378AEC0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C3C7B-2F8F-4DA5-AF4B-67425FE2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466FA-3A07-418E-B106-B7CA584A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B8AB7-235B-457D-8812-6B6DFBC3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5CAA8-7DE0-4358-A575-15C08D0D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F675F-460D-4751-9D3A-2ECDB65B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CC08B-3D9D-4A59-91E4-B5F1FD48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04D30-3727-4CC5-AF21-58CDCB2D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12E24-5D8D-4BD6-A2CD-02875EA8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3317-DAE1-4811-B6CE-F51D21CA0204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5D58-E3CF-4DB4-A963-938956784C7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BBCB-E0A9-4761-8800-92102357C7F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F515-BE01-41BE-B67C-25CB331BF3AB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92D8-39EA-4BF2-AD10-0BD008E755F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D1A1-F7E0-4D7E-8212-C256604EFA41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A69A-7849-4E3E-A3A1-3EB1723F211B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9CC5-53C0-4B1F-85EB-CF272E4622CE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F4A5-2CB3-4EA6-B353-637A4C52FC8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techniqueuniclima.com/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energies-avenir.fr/page/guide-pratique-rt-2012-77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1600" spc="-1" strike="noStrike">
                <a:solidFill>
                  <a:srgbClr val="9796a3"/>
                </a:solidFill>
                <a:latin typeface="Avenir LT Std 55 Roman"/>
                <a:ea typeface="MS PGothic"/>
              </a:rPr>
              <a:t>Fiche d’intégration </a:t>
            </a:r>
            <a:br>
              <a:rPr sz="1600"/>
            </a:br>
            <a:r>
              <a:rPr b="0" lang="fr-FR" sz="1600" spc="-1" strike="noStrike">
                <a:solidFill>
                  <a:srgbClr val="9796a3"/>
                </a:solidFill>
                <a:latin typeface="Avenir LT Std 55 Roman"/>
                <a:ea typeface="MS PGothic"/>
              </a:rPr>
              <a:t>dans le logiciel RT 2012 :</a:t>
            </a:r>
            <a:endParaRPr b="0" lang="en-US" sz="16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1600" spc="-1" strike="noStrike">
                <a:solidFill>
                  <a:srgbClr val="9796a3"/>
                </a:solidFill>
                <a:latin typeface="Avenir LT Std 55 Roman"/>
                <a:ea typeface="MS PGothic"/>
              </a:rPr>
              <a:t>U22win de PERRENOUD</a:t>
            </a:r>
            <a:endParaRPr b="0" lang="en-US" sz="16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1600" spc="-1" strike="noStrike">
                <a:solidFill>
                  <a:srgbClr val="9796a3"/>
                </a:solidFill>
                <a:latin typeface="Avenir LT Std 55 Roman"/>
                <a:ea typeface="MS PGothic"/>
              </a:rPr>
              <a:t>Version 5.1.36 du 06/07/2018</a:t>
            </a:r>
            <a:endParaRPr b="0" lang="en-US" sz="16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1600" spc="-1" strike="noStrike">
                <a:solidFill>
                  <a:srgbClr val="9796a3"/>
                </a:solidFill>
                <a:latin typeface="Avenir LT Std 55 Roman"/>
                <a:ea typeface="MS PGothic"/>
              </a:rPr>
              <a:t>Moteur Th-BCE : version 7.5.0.3</a:t>
            </a:r>
            <a:endParaRPr b="0" lang="en-US" sz="16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100" spc="-1" strike="noStrike">
                <a:solidFill>
                  <a:srgbClr val="9796a3"/>
                </a:solidFill>
                <a:latin typeface="Avenir LT Std 55 Roman"/>
              </a:rPr>
              <a:t>Pompe à chaleur à absorption gaz naturel ROBUR GAHP – GS HT </a:t>
            </a:r>
            <a:br>
              <a:rPr sz="3100"/>
            </a:br>
            <a:r>
              <a:rPr b="0" lang="fr-FR" sz="3100" spc="-1" strike="noStrike">
                <a:solidFill>
                  <a:srgbClr val="9796a3"/>
                </a:solidFill>
                <a:latin typeface="Avenir LT Std 55 Roman"/>
              </a:rPr>
              <a:t>en mode chauffage et ECS couplée à une chaudière d’appoin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5" descr=""/>
          <p:cNvPicPr/>
          <p:nvPr/>
        </p:nvPicPr>
        <p:blipFill>
          <a:blip r:embed="rId1"/>
          <a:stretch/>
        </p:blipFill>
        <p:spPr>
          <a:xfrm>
            <a:off x="717480" y="1114560"/>
            <a:ext cx="4981680" cy="134280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01" name="Picture 28" descr=""/>
          <p:cNvPicPr/>
          <p:nvPr/>
        </p:nvPicPr>
        <p:blipFill>
          <a:blip r:embed="rId2"/>
          <a:stretch/>
        </p:blipFill>
        <p:spPr>
          <a:xfrm>
            <a:off x="736560" y="4645080"/>
            <a:ext cx="3971880" cy="220032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02" name="Picture 26" descr=""/>
          <p:cNvPicPr/>
          <p:nvPr/>
        </p:nvPicPr>
        <p:blipFill>
          <a:blip r:embed="rId3"/>
          <a:stretch/>
        </p:blipFill>
        <p:spPr>
          <a:xfrm>
            <a:off x="736560" y="2744640"/>
            <a:ext cx="5888160" cy="164808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Etape 6 : Saisie du système d’émission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04" name="AutoShape 27"/>
          <p:cNvSpPr/>
          <p:nvPr/>
        </p:nvSpPr>
        <p:spPr>
          <a:xfrm>
            <a:off x="5848200" y="1798560"/>
            <a:ext cx="71640" cy="720720"/>
          </a:xfrm>
          <a:custGeom>
            <a:avLst/>
            <a:gdLst>
              <a:gd name="textAreaLeft" fmla="*/ 0 w 71640"/>
              <a:gd name="textAreaRight" fmla="*/ 25920 w 71640"/>
              <a:gd name="textAreaTop" fmla="*/ 7560 h 720720"/>
              <a:gd name="textAreaBottom" fmla="*/ 71316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8"/>
                  <a:pt x="10800" y="735"/>
                </a:cubicBezTo>
                <a:lnTo>
                  <a:pt x="10800" y="10065"/>
                </a:lnTo>
                <a:cubicBezTo>
                  <a:pt x="10800" y="10433"/>
                  <a:pt x="16200" y="10800"/>
                  <a:pt x="21600" y="10800"/>
                </a:cubicBezTo>
                <a:cubicBezTo>
                  <a:pt x="16200" y="10800"/>
                  <a:pt x="10800" y="11168"/>
                  <a:pt x="10800" y="11535"/>
                </a:cubicBezTo>
                <a:lnTo>
                  <a:pt x="10800" y="20865"/>
                </a:lnTo>
                <a:cubicBezTo>
                  <a:pt x="10800" y="2123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5" name="Rectangle 28"/>
          <p:cNvSpPr/>
          <p:nvPr/>
        </p:nvSpPr>
        <p:spPr>
          <a:xfrm>
            <a:off x="6064200" y="1943280"/>
            <a:ext cx="328140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Dépend du projet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. Valeurs à déterminer à chaque étud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6" name="Rectangle 28"/>
          <p:cNvSpPr/>
          <p:nvPr/>
        </p:nvSpPr>
        <p:spPr>
          <a:xfrm>
            <a:off x="7216920" y="3701880"/>
            <a:ext cx="29527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autres paramètres dépendent du projet et sont donc à déterminer à chaque étud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07" name="Connecteur en angle 9"/>
          <p:cNvCxnSpPr/>
          <p:nvPr/>
        </p:nvCxnSpPr>
        <p:spPr>
          <a:xfrm flipV="1" rot="10800000">
            <a:off x="4839480" y="1581480"/>
            <a:ext cx="3385440" cy="72360"/>
          </a:xfrm>
          <a:prstGeom prst="bentConnector3">
            <a:avLst>
              <a:gd name="adj1" fmla="val 49994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508" name="Rectangle 28"/>
          <p:cNvSpPr/>
          <p:nvPr/>
        </p:nvSpPr>
        <p:spPr>
          <a:xfrm>
            <a:off x="6064200" y="1511280"/>
            <a:ext cx="3281400" cy="261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Type d’émetteur : </a:t>
            </a:r>
            <a:r>
              <a:rPr b="1" i="1" lang="fr-FR" sz="1100" spc="-1" strike="noStrike">
                <a:solidFill>
                  <a:srgbClr val="000000"/>
                </a:solidFill>
                <a:latin typeface="45 Helvetica Light"/>
              </a:rPr>
              <a:t>Chauffage seul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09" name="Connecteur en angle 15"/>
          <p:cNvCxnSpPr>
            <a:stCxn id="510" idx="1"/>
          </p:cNvCxnSpPr>
          <p:nvPr/>
        </p:nvCxnSpPr>
        <p:spPr>
          <a:xfrm flipV="1" rot="10800000">
            <a:off x="5056200" y="2719800"/>
            <a:ext cx="2161080" cy="374040"/>
          </a:xfrm>
          <a:prstGeom prst="bentConnector3">
            <a:avLst>
              <a:gd name="adj1" fmla="val 15861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510" name="Rectangle 28"/>
          <p:cNvSpPr/>
          <p:nvPr/>
        </p:nvSpPr>
        <p:spPr>
          <a:xfrm>
            <a:off x="7216920" y="2590920"/>
            <a:ext cx="2952720" cy="261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Choisir </a:t>
            </a:r>
            <a:r>
              <a:rPr b="1" i="1" lang="fr-FR" sz="1100" spc="-1" strike="noStrike">
                <a:solidFill>
                  <a:srgbClr val="000000"/>
                </a:solidFill>
                <a:latin typeface="45 Helvetica Light"/>
              </a:rPr>
              <a:t>Gaz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pour des générateurs gaz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11" name="Connecteur en angle 17"/>
          <p:cNvCxnSpPr>
            <a:stCxn id="512" idx="1"/>
          </p:cNvCxnSpPr>
          <p:nvPr/>
        </p:nvCxnSpPr>
        <p:spPr>
          <a:xfrm flipV="1" rot="10800000">
            <a:off x="5056200" y="3321720"/>
            <a:ext cx="2161080" cy="99000"/>
          </a:xfrm>
          <a:prstGeom prst="bentConnector3">
            <a:avLst>
              <a:gd name="adj1" fmla="val 50000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512" name="Rectangle 28"/>
          <p:cNvSpPr/>
          <p:nvPr/>
        </p:nvSpPr>
        <p:spPr>
          <a:xfrm>
            <a:off x="7216920" y="3022560"/>
            <a:ext cx="29527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ier l’émetteur à  la génération où se trouvent la pompe à chaleur à absorption gaz et la chaudière gaz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13" name="Connecteur en angle 41"/>
          <p:cNvCxnSpPr/>
          <p:nvPr/>
        </p:nvCxnSpPr>
        <p:spPr>
          <a:xfrm flipV="1" rot="10800000">
            <a:off x="4334760" y="4822560"/>
            <a:ext cx="3097800" cy="111600"/>
          </a:xfrm>
          <a:prstGeom prst="bentConnector3">
            <a:avLst>
              <a:gd name="adj1" fmla="val 73430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514" name="Rectangle 28"/>
          <p:cNvSpPr/>
          <p:nvPr/>
        </p:nvSpPr>
        <p:spPr>
          <a:xfrm>
            <a:off x="6064200" y="4535640"/>
            <a:ext cx="32814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Choisir le réseau intergroupe de la génération où se trouvent la pompe à chaleur à absorption gaz et la chaudière gaz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15" name="Connecteur en angle 43"/>
          <p:cNvCxnSpPr>
            <a:stCxn id="516" idx="1"/>
          </p:cNvCxnSpPr>
          <p:nvPr/>
        </p:nvCxnSpPr>
        <p:spPr>
          <a:xfrm rot="10800000">
            <a:off x="2103480" y="5436360"/>
            <a:ext cx="3961080" cy="46800"/>
          </a:xfrm>
          <a:prstGeom prst="bentConnector3">
            <a:avLst>
              <a:gd name="adj1" fmla="val 22859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516" name="Rectangle 28"/>
          <p:cNvSpPr/>
          <p:nvPr/>
        </p:nvSpPr>
        <p:spPr>
          <a:xfrm>
            <a:off x="6064200" y="5183280"/>
            <a:ext cx="32814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Cette température doit être inférieure à la température de sortie maximale que peut générer la génération Chauffage et EC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17" name="Connecteur en angle 54"/>
          <p:cNvCxnSpPr/>
          <p:nvPr/>
        </p:nvCxnSpPr>
        <p:spPr>
          <a:xfrm flipV="1" rot="10800000">
            <a:off x="2679120" y="6117120"/>
            <a:ext cx="4969440" cy="616680"/>
          </a:xfrm>
          <a:prstGeom prst="bentConnector3">
            <a:avLst>
              <a:gd name="adj1" fmla="val 49996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518" name="Rectangle 28"/>
          <p:cNvSpPr/>
          <p:nvPr/>
        </p:nvSpPr>
        <p:spPr>
          <a:xfrm>
            <a:off x="6064200" y="5830920"/>
            <a:ext cx="32814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saisie du circulateur du réseau de chauffage est détaillée dans le guide d’</a:t>
            </a:r>
            <a:r>
              <a:rPr b="0" i="1" lang="fr-FR" sz="1100" spc="-1" strike="noStrike">
                <a:solidFill>
                  <a:srgbClr val="000000"/>
                </a:solidFill>
                <a:latin typeface="45 Helvetica Light"/>
              </a:rPr>
              <a:t>Energies et avenir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(voir étape 5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9" name="Rectangle 28"/>
          <p:cNvSpPr/>
          <p:nvPr/>
        </p:nvSpPr>
        <p:spPr>
          <a:xfrm>
            <a:off x="6064200" y="6478560"/>
            <a:ext cx="328140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autres paramètres dépendent du projet et sont donc à déterminer à chaque étud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Etape 7 : Saisie du réseau d’eau chaude sanitaire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21" name="Rectangle 28"/>
          <p:cNvSpPr/>
          <p:nvPr/>
        </p:nvSpPr>
        <p:spPr>
          <a:xfrm>
            <a:off x="5919840" y="4646520"/>
            <a:ext cx="328140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Paramètres dépendants du projet, à définir à chaque étud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2" name="AutoShape 27"/>
          <p:cNvSpPr/>
          <p:nvPr/>
        </p:nvSpPr>
        <p:spPr>
          <a:xfrm>
            <a:off x="5632560" y="2846520"/>
            <a:ext cx="215640" cy="4032000"/>
          </a:xfrm>
          <a:custGeom>
            <a:avLst/>
            <a:gdLst>
              <a:gd name="textAreaLeft" fmla="*/ 0 w 215640"/>
              <a:gd name="textAreaRight" fmla="*/ 77760 w 215640"/>
              <a:gd name="textAreaTop" fmla="*/ 22680 h 4032000"/>
              <a:gd name="textAreaBottom" fmla="*/ 400932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16200" y="10800"/>
                  <a:pt x="21600" y="10800"/>
                </a:cubicBezTo>
                <a:cubicBezTo>
                  <a:pt x="162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23" name="Image 39" descr=""/>
          <p:cNvPicPr/>
          <p:nvPr/>
        </p:nvPicPr>
        <p:blipFill>
          <a:blip r:embed="rId1"/>
          <a:srcRect l="33838" t="16441" r="2020" b="39084"/>
          <a:stretch/>
        </p:blipFill>
        <p:spPr>
          <a:xfrm>
            <a:off x="663480" y="1406520"/>
            <a:ext cx="4770360" cy="206676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524" name="Connecteur en angle 9"/>
          <p:cNvCxnSpPr/>
          <p:nvPr/>
        </p:nvCxnSpPr>
        <p:spPr>
          <a:xfrm flipV="1" rot="10800000">
            <a:off x="2894760" y="1693440"/>
            <a:ext cx="5401440" cy="218160"/>
          </a:xfrm>
          <a:prstGeom prst="bentConnector3">
            <a:avLst>
              <a:gd name="adj1" fmla="val 41425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525" name="Rectangle 28"/>
          <p:cNvSpPr/>
          <p:nvPr/>
        </p:nvSpPr>
        <p:spPr>
          <a:xfrm>
            <a:off x="6856560" y="1406520"/>
            <a:ext cx="32810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ier l’émetteur à  la génération où se trouvent la pompe à chaleur à absorption gaz et la chaudière gaz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26" name="Connecteur en angle 40"/>
          <p:cNvCxnSpPr/>
          <p:nvPr/>
        </p:nvCxnSpPr>
        <p:spPr>
          <a:xfrm flipV="1" rot="10800000">
            <a:off x="2894760" y="2269800"/>
            <a:ext cx="4825080" cy="216720"/>
          </a:xfrm>
          <a:prstGeom prst="bentConnector3">
            <a:avLst>
              <a:gd name="adj1" fmla="val 33994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527" name="Rectangle 28"/>
          <p:cNvSpPr/>
          <p:nvPr/>
        </p:nvSpPr>
        <p:spPr>
          <a:xfrm>
            <a:off x="6856560" y="2055960"/>
            <a:ext cx="328104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production d’ECS est une </a:t>
            </a:r>
            <a:r>
              <a:rPr b="1" i="1" lang="fr-FR" sz="1100" spc="-1" strike="noStrike">
                <a:solidFill>
                  <a:srgbClr val="000000"/>
                </a:solidFill>
                <a:latin typeface="45 Helvetica Light"/>
              </a:rPr>
              <a:t>production collective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28" name="Connecteur en angle 27"/>
          <p:cNvCxnSpPr/>
          <p:nvPr/>
        </p:nvCxnSpPr>
        <p:spPr>
          <a:xfrm rot="10800000">
            <a:off x="2894760" y="2629800"/>
            <a:ext cx="4898160" cy="216720"/>
          </a:xfrm>
          <a:prstGeom prst="bentConnector3">
            <a:avLst>
              <a:gd name="adj1" fmla="val 25262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529" name="Rectangle 28"/>
          <p:cNvSpPr/>
          <p:nvPr/>
        </p:nvSpPr>
        <p:spPr>
          <a:xfrm>
            <a:off x="6856560" y="2558880"/>
            <a:ext cx="32810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ier le réseau d’ECS à  la génération où se trouvent la pompe à chaleur à absorption gaz et la chaudière gaz 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30" name="Connecteur en angle 30"/>
          <p:cNvCxnSpPr/>
          <p:nvPr/>
        </p:nvCxnSpPr>
        <p:spPr>
          <a:xfrm rot="10800000">
            <a:off x="3255120" y="2774160"/>
            <a:ext cx="4464720" cy="864360"/>
          </a:xfrm>
          <a:prstGeom prst="bentConnector3">
            <a:avLst>
              <a:gd name="adj1" fmla="val 28715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531" name="Rectangle 28"/>
          <p:cNvSpPr/>
          <p:nvPr/>
        </p:nvSpPr>
        <p:spPr>
          <a:xfrm>
            <a:off x="6856560" y="3351240"/>
            <a:ext cx="32810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Choisir le réseau intergroupe de la génération où se trouvent la pompe à chaleur à absorption gaz et la chaudière gaz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32" name="Image 41" descr=""/>
          <p:cNvPicPr/>
          <p:nvPr/>
        </p:nvPicPr>
        <p:blipFill>
          <a:blip r:embed="rId2"/>
          <a:srcRect l="34550" t="47248" r="4134" b="19370"/>
          <a:stretch/>
        </p:blipFill>
        <p:spPr>
          <a:xfrm>
            <a:off x="663480" y="3710160"/>
            <a:ext cx="4560840" cy="155232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33" name="Image 42" descr=""/>
          <p:cNvPicPr/>
          <p:nvPr/>
        </p:nvPicPr>
        <p:blipFill>
          <a:blip r:embed="rId3"/>
          <a:srcRect l="34550" t="63311" r="2362" b="8031"/>
          <a:stretch/>
        </p:blipFill>
        <p:spPr>
          <a:xfrm>
            <a:off x="663480" y="5510160"/>
            <a:ext cx="4692600" cy="133344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1023840" y="1333440"/>
            <a:ext cx="7777440" cy="71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 présent document décrit la saisie et la prise en compte d’une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pompe à chaleur géothermique à absorption gaz naturel ROBUR GAHP-GS HT en mode chauffage et ECS couplée à une chaudière d’appoint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ans le logiciel d’application de la RT 2012 U22win de Perrenoud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 système modélisé est composé des éléments suivants 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e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pompe à chaleur géothermique à absorption gaz naturel de type ROBUR GAHP-GS HT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e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chaudière gaz à condensation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ballon de stockage ECS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’ensemble du système est décrit dans un objet « génération » (        ). Cet objet contient l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« 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système commun de stockage 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» décrivant les caractéristiques du ballon de stockage (        )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«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générateur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» décrivant les caractéristiques de la pompe à chaleur géothermique à absorption gaz naturel (        )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«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générateur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» décrivant les caractéristiques de la chaudière gaz à condensation (        )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description de « 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réseaux intergroupes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» (        )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 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’ordre de saisie des différents générateurs de la génération a son importance! La PAC est prioritaire sur la chaudière 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lle doit donc être saisie avan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01" name="Image 24" descr=""/>
          <p:cNvPicPr/>
          <p:nvPr/>
        </p:nvPicPr>
        <p:blipFill>
          <a:blip r:embed="rId1"/>
          <a:srcRect l="295" t="20315" r="78545" b="33543"/>
          <a:stretch/>
        </p:blipFill>
        <p:spPr>
          <a:xfrm>
            <a:off x="7792920" y="4213080"/>
            <a:ext cx="1695600" cy="230508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02" name="Image 25" descr=""/>
          <p:cNvPicPr/>
          <p:nvPr/>
        </p:nvPicPr>
        <p:blipFill>
          <a:blip r:embed="rId2"/>
          <a:srcRect l="37869" t="17272" r="57079" b="75041"/>
          <a:stretch/>
        </p:blipFill>
        <p:spPr>
          <a:xfrm>
            <a:off x="5127480" y="2989440"/>
            <a:ext cx="247680" cy="215640"/>
          </a:xfrm>
          <a:prstGeom prst="rect">
            <a:avLst/>
          </a:prstGeom>
          <a:ln w="0">
            <a:noFill/>
          </a:ln>
        </p:spPr>
      </p:pic>
      <p:pic>
        <p:nvPicPr>
          <p:cNvPr id="403" name="Image 26" descr=""/>
          <p:cNvPicPr/>
          <p:nvPr/>
        </p:nvPicPr>
        <p:blipFill>
          <a:blip r:embed="rId3"/>
          <a:srcRect l="34845" t="18425" r="60171" b="73369"/>
          <a:stretch/>
        </p:blipFill>
        <p:spPr>
          <a:xfrm>
            <a:off x="7143840" y="3133800"/>
            <a:ext cx="217440" cy="216000"/>
          </a:xfrm>
          <a:prstGeom prst="rect">
            <a:avLst/>
          </a:prstGeom>
          <a:ln w="0">
            <a:noFill/>
          </a:ln>
        </p:spPr>
      </p:pic>
      <p:pic>
        <p:nvPicPr>
          <p:cNvPr id="404" name="Image 27" descr=""/>
          <p:cNvPicPr/>
          <p:nvPr/>
        </p:nvPicPr>
        <p:blipFill>
          <a:blip r:embed="rId4"/>
          <a:srcRect l="39271" t="18425" r="55809" b="73704"/>
          <a:stretch/>
        </p:blipFill>
        <p:spPr>
          <a:xfrm>
            <a:off x="8224920" y="3276720"/>
            <a:ext cx="215640" cy="215640"/>
          </a:xfrm>
          <a:prstGeom prst="rect">
            <a:avLst/>
          </a:prstGeom>
          <a:ln w="0">
            <a:noFill/>
          </a:ln>
        </p:spPr>
      </p:pic>
      <p:pic>
        <p:nvPicPr>
          <p:cNvPr id="405" name="Image 28" descr=""/>
          <p:cNvPicPr/>
          <p:nvPr/>
        </p:nvPicPr>
        <p:blipFill>
          <a:blip r:embed="rId5"/>
          <a:srcRect l="39271" t="18425" r="55809" b="73704"/>
          <a:stretch/>
        </p:blipFill>
        <p:spPr>
          <a:xfrm>
            <a:off x="6640560" y="349236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406" name="Image 29" descr=""/>
          <p:cNvPicPr/>
          <p:nvPr/>
        </p:nvPicPr>
        <p:blipFill>
          <a:blip r:embed="rId6"/>
          <a:srcRect l="39629" t="18189" r="55387" b="74068"/>
          <a:stretch/>
        </p:blipFill>
        <p:spPr>
          <a:xfrm>
            <a:off x="4192560" y="3637080"/>
            <a:ext cx="227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7" name="Object 28"/>
          <p:cNvGraphicFramePr/>
          <p:nvPr/>
        </p:nvGraphicFramePr>
        <p:xfrm>
          <a:off x="736560" y="6877080"/>
          <a:ext cx="289080" cy="2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8" name="Object 2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6560" y="6877080"/>
                    <a:ext cx="2890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808200" y="4213080"/>
          <a:ext cx="6911640" cy="2521080"/>
        </p:xfrm>
        <a:graphic>
          <a:graphicData uri="http://schemas.openxmlformats.org/drawingml/2006/table">
            <a:tbl>
              <a:tblPr/>
              <a:tblGrid>
                <a:gridCol w="3456000"/>
                <a:gridCol w="3455640"/>
              </a:tblGrid>
              <a:tr h="252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ts val="1599"/>
                        </a:lnSpc>
                        <a:tabLst>
                          <a:tab algn="l" pos="0"/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45 Helvetica Light"/>
                        </a:rPr>
                        <a:t>PAC en mode Chauffage et ECS</a:t>
                      </a:r>
                      <a:endParaRPr b="0" lang="en-US" sz="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  <a:p>
                      <a:pPr marL="228600" indent="-228600"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45 Helvetica Light"/>
                        </a:rPr>
                        <a:t>Etape 1 : création de l’objet génération</a:t>
                      </a:r>
                      <a:endParaRPr b="0" lang="en-US" sz="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  <a:p>
                      <a:pPr marL="228600" indent="-228600"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45 Helvetica Light"/>
                        </a:rPr>
                        <a:t>Etape 2 : création du système de stockage d’ECS commun « Ballon stockage ECS commun »</a:t>
                      </a:r>
                      <a:endParaRPr b="0" lang="en-US" sz="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  <a:p>
                      <a:pPr marL="228600" indent="-228600"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45 Helvetica Light"/>
                        </a:rPr>
                        <a:t>Etape 3 : création du générateur « PAC géothermique à absorption gaz »</a:t>
                      </a:r>
                      <a:endParaRPr b="0" lang="en-US" sz="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  <a:p>
                      <a:pPr marL="228600" indent="-228600"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45 Helvetica Light"/>
                        </a:rPr>
                        <a:t>Etape 4 : création du générateur « Chaudière à condensation »</a:t>
                      </a:r>
                      <a:endParaRPr b="0" lang="en-US" sz="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  <a:p>
                      <a:pPr marL="228600" indent="-228600"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45 Helvetica Light"/>
                        </a:rPr>
                        <a:t>Etape 5 : création du réseau de distribution intergroupe « Réseau intergroupe Chauffage et ECS »</a:t>
                      </a:r>
                      <a:endParaRPr b="0" lang="en-US" sz="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  <a:p>
                      <a:pPr marL="228600" indent="-228600"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45 Helvetica Light"/>
                        </a:rPr>
                        <a:t>Etape 6 : saisie du système d’émission</a:t>
                      </a:r>
                      <a:endParaRPr b="0" lang="en-US" sz="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  <a:p>
                      <a:pPr marL="228600" indent="-228600"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45 Helvetica Light"/>
                        </a:rPr>
                        <a:t>Etape 7 : saisie du réseau d’eau chaude sanitaire</a:t>
                      </a:r>
                      <a:endParaRPr b="0" lang="en-US" sz="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endParaRPr b="0" lang="en-US" sz="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ts val="1599"/>
                        </a:lnSpc>
                        <a:tabLst>
                          <a:tab algn="l" pos="0"/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45 Helvetica Light"/>
                        </a:rPr>
                        <a:t>PAC en mode Chauffage uniquement</a:t>
                      </a:r>
                      <a:endParaRPr b="0" lang="en-US" sz="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  <a:p>
                      <a:pPr marL="228600" indent="-228600"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45 Helvetica Light"/>
                        </a:rPr>
                        <a:t>Etape 1 : création de l’objet génération</a:t>
                      </a:r>
                      <a:endParaRPr b="0" lang="en-US" sz="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  <a:p>
                      <a:pPr marL="228600" indent="-228600"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1" i="1" lang="fr-FR" sz="800" spc="-1" strike="noStrike">
                          <a:solidFill>
                            <a:srgbClr val="000000"/>
                          </a:solidFill>
                          <a:latin typeface="45 Helvetica Light"/>
                        </a:rPr>
                        <a:t>Ne pas suivre l’étape 2</a:t>
                      </a:r>
                      <a:endParaRPr b="0" lang="en-US" sz="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  <a:p>
                      <a:pPr marL="228600" indent="-228600"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45 Helvetica Light"/>
                        </a:rPr>
                        <a:t>Etape 3 : création du générateur « PAC géothermique à absorption gaz »</a:t>
                      </a:r>
                      <a:endParaRPr b="0" lang="en-US" sz="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  <a:p>
                      <a:pPr marL="228600" indent="-228600"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45 Helvetica Light"/>
                        </a:rPr>
                        <a:t>Etape 4 : création du générateur « Chaudière à condensation »</a:t>
                      </a:r>
                      <a:endParaRPr b="0" lang="en-US" sz="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  <a:p>
                      <a:pPr marL="228600" indent="-228600"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45 Helvetica Light"/>
                        </a:rPr>
                        <a:t>Etape 5 : création du réseau de distribution intergroupe « Réseau intergroupe Chauffage et ECS »</a:t>
                      </a:r>
                      <a:endParaRPr b="0" lang="en-US" sz="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  <a:p>
                      <a:pPr marL="228600" indent="-228600"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45 Helvetica Light"/>
                        </a:rPr>
                        <a:t>Etape 6 : saisie du système d’émission</a:t>
                      </a:r>
                      <a:endParaRPr b="0" lang="en-US" sz="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  <a:p>
                      <a:pPr marL="228600" indent="-228600"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45 Helvetica Light"/>
                        </a:rPr>
                        <a:t>Etape 7 : saisie du réseau d’eau chaude sanitaire</a:t>
                      </a:r>
                      <a:endParaRPr b="0" lang="en-US" sz="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endParaRPr b="0" lang="en-US" sz="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31" descr=""/>
          <p:cNvPicPr/>
          <p:nvPr/>
        </p:nvPicPr>
        <p:blipFill>
          <a:blip r:embed="rId1"/>
          <a:stretch/>
        </p:blipFill>
        <p:spPr>
          <a:xfrm>
            <a:off x="952560" y="1738440"/>
            <a:ext cx="4248000" cy="421956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Etape 1 : Création de l’objet génération «Chauffage et ECS»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6837480" y="213372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13" name="AutoShape 16"/>
          <p:cNvCxnSpPr/>
          <p:nvPr/>
        </p:nvCxnSpPr>
        <p:spPr>
          <a:xfrm flipH="1" flipV="1" rot="10800000">
            <a:off x="6640920" y="2157840"/>
            <a:ext cx="2520" cy="2520"/>
          </a:xfrm>
          <a:prstGeom prst="bentConnector3">
            <a:avLst>
              <a:gd name="adj1" fmla="val -13500000"/>
            </a:avLst>
          </a:prstGeom>
          <a:ln w="0">
            <a:noFill/>
          </a:ln>
        </p:spPr>
      </p:cxnSp>
      <p:cxnSp>
        <p:nvCxnSpPr>
          <p:cNvPr id="414" name="AutoShape 19"/>
          <p:cNvCxnSpPr/>
          <p:nvPr/>
        </p:nvCxnSpPr>
        <p:spPr>
          <a:xfrm flipH="1" flipV="1" rot="10800000">
            <a:off x="6640920" y="2157840"/>
            <a:ext cx="2520" cy="2520"/>
          </a:xfrm>
          <a:prstGeom prst="bentConnector3">
            <a:avLst>
              <a:gd name="adj1" fmla="val -13500000"/>
            </a:avLst>
          </a:prstGeom>
          <a:ln w="0">
            <a:noFill/>
          </a:ln>
        </p:spPr>
      </p:cxnSp>
      <p:cxnSp>
        <p:nvCxnSpPr>
          <p:cNvPr id="415" name="AutoShape 24"/>
          <p:cNvCxnSpPr/>
          <p:nvPr/>
        </p:nvCxnSpPr>
        <p:spPr>
          <a:xfrm flipH="1" rot="16200000">
            <a:off x="6477120" y="276840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16" name="AutoShape 41"/>
          <p:cNvCxnSpPr/>
          <p:nvPr/>
        </p:nvCxnSpPr>
        <p:spPr>
          <a:xfrm flipH="1" flipV="1" rot="10800000">
            <a:off x="-360" y="41875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17" name="Text Box 36"/>
          <p:cNvSpPr/>
          <p:nvPr/>
        </p:nvSpPr>
        <p:spPr>
          <a:xfrm>
            <a:off x="736560" y="6096960"/>
            <a:ext cx="957600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Dépend du projet.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Sélectionnez 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000000"/>
                </a:solidFill>
                <a:latin typeface="45 Helvetica Light"/>
              </a:rPr>
              <a:t>- Température moyenne des réseaux de distribution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si la génération adapte sa température de fonctionnement selon le paramétrage défini au niveau des réseaux de distribution de chauffage (cas des lois d’eau par exemple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000000"/>
                </a:solidFill>
                <a:latin typeface="45 Helvetica Light"/>
              </a:rPr>
              <a:t>- Fonctionnement à température moyenne constante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si la génération fonctionne à température constante tout au long de la période de chauffage (il faut alors saisir cette température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n général </a:t>
            </a:r>
            <a:r>
              <a:rPr b="1" i="1" lang="fr-FR" sz="1100" spc="-1" strike="noStrike">
                <a:solidFill>
                  <a:srgbClr val="000000"/>
                </a:solidFill>
                <a:latin typeface="45 Helvetica Light"/>
              </a:rPr>
              <a:t>Fonctionnement à la température moyenne des réseaux de distribution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18" name="Connecteur en angle 84"/>
          <p:cNvCxnSpPr>
            <a:stCxn id="419" idx="1"/>
            <a:endCxn id="417" idx="1"/>
          </p:cNvCxnSpPr>
          <p:nvPr/>
        </p:nvCxnSpPr>
        <p:spPr>
          <a:xfrm flipH="1" flipV="1" rot="10800000">
            <a:off x="736200" y="4655880"/>
            <a:ext cx="1080" cy="1991520"/>
          </a:xfrm>
          <a:prstGeom prst="bentConnector5">
            <a:avLst>
              <a:gd name="adj1" fmla="val -29400000"/>
              <a:gd name="adj2" fmla="val 46411"/>
              <a:gd name="adj3" fmla="val -28700000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419" name="AutoShape 27"/>
          <p:cNvSpPr/>
          <p:nvPr/>
        </p:nvSpPr>
        <p:spPr>
          <a:xfrm flipH="1" flipV="1">
            <a:off x="735480" y="4187880"/>
            <a:ext cx="144360" cy="936720"/>
          </a:xfrm>
          <a:custGeom>
            <a:avLst/>
            <a:gdLst>
              <a:gd name="textAreaLeft" fmla="*/ 0 w 144360"/>
              <a:gd name="textAreaRight" fmla="*/ 52200 w 144360"/>
              <a:gd name="textAreaTop" fmla="*/ 15120 h 936720"/>
              <a:gd name="textAreaBottom" fmla="*/ 92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5"/>
                  <a:pt x="10800" y="1130"/>
                </a:cubicBezTo>
                <a:lnTo>
                  <a:pt x="10800" y="9670"/>
                </a:lnTo>
                <a:cubicBezTo>
                  <a:pt x="10800" y="10235"/>
                  <a:pt x="16200" y="10800"/>
                  <a:pt x="21600" y="10800"/>
                </a:cubicBezTo>
                <a:cubicBezTo>
                  <a:pt x="16200" y="10800"/>
                  <a:pt x="10800" y="11365"/>
                  <a:pt x="10800" y="11930"/>
                </a:cubicBezTo>
                <a:lnTo>
                  <a:pt x="10800" y="20470"/>
                </a:lnTo>
                <a:cubicBezTo>
                  <a:pt x="10800" y="2103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0" name="Text Box 33"/>
          <p:cNvSpPr/>
          <p:nvPr/>
        </p:nvSpPr>
        <p:spPr>
          <a:xfrm>
            <a:off x="7000920" y="1802520"/>
            <a:ext cx="329256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éfinit l’ordre d’appel des différents générateurs.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Dépend du projet, </a:t>
            </a:r>
            <a:r>
              <a:rPr b="1" i="1" lang="fr-FR" sz="1100" spc="-1" strike="noStrike">
                <a:solidFill>
                  <a:srgbClr val="000000"/>
                </a:solidFill>
                <a:latin typeface="45 Helvetica Light"/>
              </a:rPr>
              <a:t>Générateurs en cascade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si il y a la présence d’un ballon d’EC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7000920" y="1464840"/>
            <a:ext cx="3292560" cy="261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Services assurés : </a:t>
            </a:r>
            <a:r>
              <a:rPr b="1" i="1" lang="fr-FR" sz="1100" spc="-1" strike="noStrike">
                <a:solidFill>
                  <a:srgbClr val="000000"/>
                </a:solidFill>
                <a:latin typeface="45 Helvetica Light"/>
              </a:rPr>
              <a:t>Chauffage et ECS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22" name="Connecteur en angle 20"/>
          <p:cNvCxnSpPr>
            <a:stCxn id="421" idx="1"/>
          </p:cNvCxnSpPr>
          <p:nvPr/>
        </p:nvCxnSpPr>
        <p:spPr>
          <a:xfrm flipV="1" rot="10800000">
            <a:off x="3903120" y="1594440"/>
            <a:ext cx="3097800" cy="719640"/>
          </a:xfrm>
          <a:prstGeom prst="bentConnector3">
            <a:avLst>
              <a:gd name="adj1" fmla="val 50000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cxnSp>
        <p:nvCxnSpPr>
          <p:cNvPr id="423" name="Connecteur en angle 22"/>
          <p:cNvCxnSpPr>
            <a:stCxn id="420" idx="1"/>
          </p:cNvCxnSpPr>
          <p:nvPr/>
        </p:nvCxnSpPr>
        <p:spPr>
          <a:xfrm flipV="1" rot="10800000">
            <a:off x="4264200" y="2184120"/>
            <a:ext cx="2737080" cy="635760"/>
          </a:xfrm>
          <a:prstGeom prst="bentConnector3">
            <a:avLst>
              <a:gd name="adj1" fmla="val 50000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cxnSp>
        <p:nvCxnSpPr>
          <p:cNvPr id="424" name="Connecteur en angle 26"/>
          <p:cNvCxnSpPr/>
          <p:nvPr/>
        </p:nvCxnSpPr>
        <p:spPr>
          <a:xfrm flipV="1" rot="10800000">
            <a:off x="3903120" y="2892240"/>
            <a:ext cx="3674160" cy="72000"/>
          </a:xfrm>
          <a:prstGeom prst="bentConnector3">
            <a:avLst>
              <a:gd name="adj1" fmla="val 49995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425" name="Text Box 36"/>
          <p:cNvSpPr/>
          <p:nvPr/>
        </p:nvSpPr>
        <p:spPr>
          <a:xfrm>
            <a:off x="7000920" y="2581560"/>
            <a:ext cx="329256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Dépend du projet. </a:t>
            </a:r>
            <a:r>
              <a:rPr b="1" i="1" lang="fr-FR" sz="1100" spc="-1" strike="noStrike">
                <a:solidFill>
                  <a:srgbClr val="000000"/>
                </a:solidFill>
                <a:latin typeface="45 Helvetica Light"/>
              </a:rPr>
              <a:t>Permanent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si plusieurs générateurs de la génération sont connectés en séri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26" name="Connecteur en angle 50"/>
          <p:cNvCxnSpPr/>
          <p:nvPr/>
        </p:nvCxnSpPr>
        <p:spPr>
          <a:xfrm rot="10800000">
            <a:off x="3903120" y="3179880"/>
            <a:ext cx="3816720" cy="576360"/>
          </a:xfrm>
          <a:prstGeom prst="bentConnector3">
            <a:avLst>
              <a:gd name="adj1" fmla="val 49995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427" name="Text Box 36"/>
          <p:cNvSpPr/>
          <p:nvPr/>
        </p:nvSpPr>
        <p:spPr>
          <a:xfrm>
            <a:off x="7000920" y="3255840"/>
            <a:ext cx="329256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Dépend du projet.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Type de raccordement de la génération aux réseaux de distribution : </a:t>
            </a:r>
            <a:r>
              <a:rPr b="1" i="1" lang="fr-FR" sz="1100" spc="-1" strike="noStrike">
                <a:solidFill>
                  <a:srgbClr val="000000"/>
                </a:solidFill>
                <a:latin typeface="45 Helvetica Light"/>
              </a:rPr>
              <a:t>Avec possibilité d’isolement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si la génération est capable de gérer indépendamment les différents réseaux partant de la chaufferie, </a:t>
            </a:r>
            <a:r>
              <a:rPr b="1" i="1" lang="fr-FR" sz="1100" spc="-1" strike="noStrike">
                <a:solidFill>
                  <a:srgbClr val="000000"/>
                </a:solidFill>
                <a:latin typeface="45 Helvetica Light"/>
              </a:rPr>
              <a:t>Permanent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sinon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28" name="Connecteur en angle 57"/>
          <p:cNvCxnSpPr>
            <a:stCxn id="429" idx="1"/>
            <a:endCxn id="430" idx="1"/>
          </p:cNvCxnSpPr>
          <p:nvPr/>
        </p:nvCxnSpPr>
        <p:spPr>
          <a:xfrm rot="10800000">
            <a:off x="4120560" y="3855240"/>
            <a:ext cx="2880360" cy="1089720"/>
          </a:xfrm>
          <a:prstGeom prst="bentConnector3">
            <a:avLst>
              <a:gd name="adj1" fmla="val 10100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429" name="Text Box 36"/>
          <p:cNvSpPr/>
          <p:nvPr/>
        </p:nvSpPr>
        <p:spPr>
          <a:xfrm>
            <a:off x="7000920" y="4478760"/>
            <a:ext cx="3292560" cy="93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Dépend du projet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. Une PAC géothermique à absorption gaz peut être située à l’intérieur ou à l’extérieur. Dans notre cas, elle sera située en chaufferie, donc </a:t>
            </a:r>
            <a:r>
              <a:rPr b="1" i="1" lang="fr-FR" sz="1100" spc="-1" strike="noStrike">
                <a:solidFill>
                  <a:srgbClr val="000000"/>
                </a:solidFill>
                <a:latin typeface="45 Helvetica Light"/>
              </a:rPr>
              <a:t>hors volume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1" i="1" lang="fr-FR" sz="1100" spc="-1" strike="noStrike">
                <a:solidFill>
                  <a:srgbClr val="000000"/>
                </a:solidFill>
                <a:latin typeface="45 Helvetica Light"/>
              </a:rPr>
              <a:t>chauffé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et </a:t>
            </a:r>
            <a:r>
              <a:rPr b="1" i="1" lang="fr-FR" sz="1100" spc="-1" strike="noStrike">
                <a:solidFill>
                  <a:srgbClr val="000000"/>
                </a:solidFill>
                <a:latin typeface="45 Helvetica Light"/>
              </a:rPr>
              <a:t>avec la saisie d’un coefficient b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31" name="Connecteur en angle 71"/>
          <p:cNvCxnSpPr>
            <a:stCxn id="432" idx="1"/>
          </p:cNvCxnSpPr>
          <p:nvPr/>
        </p:nvCxnSpPr>
        <p:spPr>
          <a:xfrm rot="10800000">
            <a:off x="3687120" y="5411160"/>
            <a:ext cx="3313800" cy="361080"/>
          </a:xfrm>
          <a:prstGeom prst="bentConnector3">
            <a:avLst>
              <a:gd name="adj1" fmla="val 26760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430" name="AutoShape 27"/>
          <p:cNvSpPr/>
          <p:nvPr/>
        </p:nvSpPr>
        <p:spPr>
          <a:xfrm flipV="1">
            <a:off x="3976560" y="3710880"/>
            <a:ext cx="144720" cy="289080"/>
          </a:xfrm>
          <a:custGeom>
            <a:avLst/>
            <a:gdLst>
              <a:gd name="textAreaLeft" fmla="*/ 0 w 144720"/>
              <a:gd name="textAreaRight" fmla="*/ 52200 w 144720"/>
              <a:gd name="textAreaTop" fmla="*/ 15120 h 289080"/>
              <a:gd name="textAreaBottom" fmla="*/ 2739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34"/>
                  <a:pt x="10800" y="3667"/>
                </a:cubicBezTo>
                <a:lnTo>
                  <a:pt x="10800" y="7133"/>
                </a:lnTo>
                <a:cubicBezTo>
                  <a:pt x="10800" y="8967"/>
                  <a:pt x="16200" y="10800"/>
                  <a:pt x="21600" y="10800"/>
                </a:cubicBezTo>
                <a:cubicBezTo>
                  <a:pt x="16200" y="10800"/>
                  <a:pt x="10800" y="12634"/>
                  <a:pt x="10800" y="14467"/>
                </a:cubicBezTo>
                <a:lnTo>
                  <a:pt x="10800" y="17933"/>
                </a:lnTo>
                <a:cubicBezTo>
                  <a:pt x="10800" y="1976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7000920" y="5558400"/>
            <a:ext cx="329256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Dépend du projet.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A renseigner en cas de production d’ECS instantané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1" descr=""/>
          <p:cNvPicPr/>
          <p:nvPr/>
        </p:nvPicPr>
        <p:blipFill>
          <a:blip r:embed="rId1"/>
          <a:srcRect l="0" t="0" r="0" b="24732"/>
          <a:stretch/>
        </p:blipFill>
        <p:spPr>
          <a:xfrm>
            <a:off x="447840" y="2077920"/>
            <a:ext cx="4968720" cy="472752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Etape 2 : Création du système de stockage «Ballon Stockage ECS commun »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cxnSp>
        <p:nvCxnSpPr>
          <p:cNvPr id="435" name="AutoShape 12"/>
          <p:cNvCxnSpPr/>
          <p:nvPr/>
        </p:nvCxnSpPr>
        <p:spPr>
          <a:xfrm flipH="1" flipV="1" rot="10800000">
            <a:off x="87120" y="419544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36" name="Rectangle 28"/>
          <p:cNvSpPr/>
          <p:nvPr/>
        </p:nvSpPr>
        <p:spPr>
          <a:xfrm>
            <a:off x="5792760" y="5294160"/>
            <a:ext cx="32814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Paramètres dépendants du projet,  à définir à chaque étude en fonction du dimensionnement réalisé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7" name="AutoShape 27"/>
          <p:cNvSpPr/>
          <p:nvPr/>
        </p:nvSpPr>
        <p:spPr>
          <a:xfrm>
            <a:off x="5576760" y="4429080"/>
            <a:ext cx="142920" cy="2160720"/>
          </a:xfrm>
          <a:custGeom>
            <a:avLst/>
            <a:gdLst>
              <a:gd name="textAreaLeft" fmla="*/ 0 w 142920"/>
              <a:gd name="textAreaRight" fmla="*/ 51480 w 142920"/>
              <a:gd name="textAreaTop" fmla="*/ 15120 h 2160720"/>
              <a:gd name="textAreaBottom" fmla="*/ 214560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5"/>
                  <a:pt x="10800" y="490"/>
                </a:cubicBezTo>
                <a:lnTo>
                  <a:pt x="10800" y="10310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5"/>
                  <a:pt x="10800" y="11290"/>
                </a:cubicBezTo>
                <a:lnTo>
                  <a:pt x="10800" y="21110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38" name="Connecteur en angle 22"/>
          <p:cNvCxnSpPr>
            <a:stCxn id="439" idx="1"/>
          </p:cNvCxnSpPr>
          <p:nvPr/>
        </p:nvCxnSpPr>
        <p:spPr>
          <a:xfrm rot="10800000">
            <a:off x="4479120" y="2845800"/>
            <a:ext cx="2106000" cy="154440"/>
          </a:xfrm>
          <a:prstGeom prst="bentConnector3">
            <a:avLst>
              <a:gd name="adj1" fmla="val 49991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439" name="Rectangle 28"/>
          <p:cNvSpPr/>
          <p:nvPr/>
        </p:nvSpPr>
        <p:spPr>
          <a:xfrm>
            <a:off x="6585120" y="2700360"/>
            <a:ext cx="372888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Dépend du projet.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Choisir </a:t>
            </a:r>
            <a:r>
              <a:rPr b="1" i="1" lang="fr-FR" sz="1100" spc="-1" strike="noStrike">
                <a:solidFill>
                  <a:srgbClr val="000000"/>
                </a:solidFill>
                <a:latin typeface="45 Helvetica Light"/>
              </a:rPr>
              <a:t>Base plus appoint séparé instantané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si présence d’une chaudière (la PAC sera alors la base et la chaudière fera office d’appoint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0" name="Rectangle 28"/>
          <p:cNvSpPr/>
          <p:nvPr/>
        </p:nvSpPr>
        <p:spPr>
          <a:xfrm>
            <a:off x="6585120" y="2013120"/>
            <a:ext cx="372888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Pour la saisie d’une PAC en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chauffage seul ne pas prendre en compte cette étape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, passer à l’étape suivant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8" descr=""/>
          <p:cNvPicPr/>
          <p:nvPr/>
        </p:nvPicPr>
        <p:blipFill>
          <a:blip r:embed="rId1"/>
          <a:stretch/>
        </p:blipFill>
        <p:spPr>
          <a:xfrm>
            <a:off x="693720" y="3267000"/>
            <a:ext cx="5754600" cy="310536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42" name="Picture 27" descr=""/>
          <p:cNvPicPr/>
          <p:nvPr/>
        </p:nvPicPr>
        <p:blipFill>
          <a:blip r:embed="rId2"/>
          <a:stretch/>
        </p:blipFill>
        <p:spPr>
          <a:xfrm>
            <a:off x="736560" y="1568520"/>
            <a:ext cx="4057560" cy="145728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Etape 3 : Création du générateur «PAC géothermique à absorption gaz» 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44" name="AutoShape 27"/>
          <p:cNvSpPr/>
          <p:nvPr/>
        </p:nvSpPr>
        <p:spPr>
          <a:xfrm>
            <a:off x="6568920" y="4481640"/>
            <a:ext cx="144720" cy="720720"/>
          </a:xfrm>
          <a:custGeom>
            <a:avLst/>
            <a:gdLst>
              <a:gd name="textAreaLeft" fmla="*/ 0 w 144720"/>
              <a:gd name="textAreaRight" fmla="*/ 52200 w 144720"/>
              <a:gd name="textAreaTop" fmla="*/ 15120 h 720720"/>
              <a:gd name="textAreaBottom" fmla="*/ 7056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35"/>
                  <a:pt x="10800" y="1469"/>
                </a:cubicBezTo>
                <a:lnTo>
                  <a:pt x="10800" y="9331"/>
                </a:lnTo>
                <a:cubicBezTo>
                  <a:pt x="10800" y="10066"/>
                  <a:pt x="16200" y="10800"/>
                  <a:pt x="21600" y="10800"/>
                </a:cubicBezTo>
                <a:cubicBezTo>
                  <a:pt x="16200" y="10800"/>
                  <a:pt x="10800" y="11535"/>
                  <a:pt x="10800" y="12269"/>
                </a:cubicBezTo>
                <a:lnTo>
                  <a:pt x="10800" y="20131"/>
                </a:lnTo>
                <a:cubicBezTo>
                  <a:pt x="10800" y="2086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45" name="Connecteur en angle 65"/>
          <p:cNvCxnSpPr>
            <a:stCxn id="446" idx="1"/>
          </p:cNvCxnSpPr>
          <p:nvPr/>
        </p:nvCxnSpPr>
        <p:spPr>
          <a:xfrm flipV="1" rot="10800000">
            <a:off x="3615480" y="2412720"/>
            <a:ext cx="3169440" cy="289440"/>
          </a:xfrm>
          <a:prstGeom prst="bentConnector3">
            <a:avLst>
              <a:gd name="adj1" fmla="val 49994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447" name="Text Box 33"/>
          <p:cNvSpPr/>
          <p:nvPr/>
        </p:nvSpPr>
        <p:spPr>
          <a:xfrm>
            <a:off x="6784920" y="3112920"/>
            <a:ext cx="336564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000000"/>
                </a:solidFill>
                <a:latin typeface="45 Helvetica Light"/>
              </a:rPr>
              <a:t>Machine eau glycolée / eau haute température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pour la  ROBUR GAHP-GS H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8" name="Text Box 18"/>
          <p:cNvSpPr/>
          <p:nvPr/>
        </p:nvSpPr>
        <p:spPr>
          <a:xfrm>
            <a:off x="6784920" y="4194000"/>
            <a:ext cx="3365640" cy="1265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000000"/>
                </a:solidFill>
                <a:latin typeface="45 Helvetica Light"/>
              </a:rPr>
              <a:t>Fonctionnement en mode continu du compresseur ou en cycle marche arrêt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. « La GAHP-GS/WS est une pompe à chaleur à condensation et modulaire : la puissance thermique varie de 100 à 50% pour s’adapter aux modifications de la charge » (d’après la documentation constructeur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49" name="Connecteur en angle 83"/>
          <p:cNvCxnSpPr/>
          <p:nvPr/>
        </p:nvCxnSpPr>
        <p:spPr>
          <a:xfrm rot="10800000">
            <a:off x="664560" y="4985640"/>
            <a:ext cx="3169080" cy="1728000"/>
          </a:xfrm>
          <a:prstGeom prst="bentConnector3">
            <a:avLst>
              <a:gd name="adj1" fmla="val 112213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450" name="Text Box 18"/>
          <p:cNvSpPr/>
          <p:nvPr/>
        </p:nvSpPr>
        <p:spPr>
          <a:xfrm>
            <a:off x="6784920" y="5562720"/>
            <a:ext cx="3365640" cy="93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Caractéristiques de la machine (voir la documentation constructeur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100" spc="-1" strike="noStrike" u="sng">
                <a:solidFill>
                  <a:srgbClr val="000000"/>
                </a:solidFill>
                <a:uFillTx/>
                <a:latin typeface="45 Helvetica Light"/>
              </a:rPr>
              <a:t>Remarque 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Bien choisir </a:t>
            </a:r>
            <a:r>
              <a:rPr b="1" i="1" lang="fr-FR" sz="1100" spc="-1" strike="noStrike">
                <a:solidFill>
                  <a:srgbClr val="000000"/>
                </a:solidFill>
                <a:latin typeface="45 Helvetica Light"/>
              </a:rPr>
              <a:t>Limite sur l’une ou l’autre des températures de source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!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1" name="AutoShape 27"/>
          <p:cNvSpPr/>
          <p:nvPr/>
        </p:nvSpPr>
        <p:spPr>
          <a:xfrm>
            <a:off x="6568920" y="5562720"/>
            <a:ext cx="144720" cy="718920"/>
          </a:xfrm>
          <a:custGeom>
            <a:avLst/>
            <a:gdLst>
              <a:gd name="textAreaLeft" fmla="*/ 0 w 144720"/>
              <a:gd name="textAreaRight" fmla="*/ 52200 w 144720"/>
              <a:gd name="textAreaTop" fmla="*/ 15120 h 718920"/>
              <a:gd name="textAreaBottom" fmla="*/ 703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35"/>
                  <a:pt x="10800" y="1469"/>
                </a:cubicBezTo>
                <a:lnTo>
                  <a:pt x="10800" y="9331"/>
                </a:lnTo>
                <a:cubicBezTo>
                  <a:pt x="10800" y="10066"/>
                  <a:pt x="16200" y="10800"/>
                  <a:pt x="21600" y="10800"/>
                </a:cubicBezTo>
                <a:cubicBezTo>
                  <a:pt x="16200" y="10800"/>
                  <a:pt x="10800" y="11535"/>
                  <a:pt x="10800" y="12269"/>
                </a:cubicBezTo>
                <a:lnTo>
                  <a:pt x="10800" y="20131"/>
                </a:lnTo>
                <a:cubicBezTo>
                  <a:pt x="10800" y="2086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736560" y="6497640"/>
            <a:ext cx="583236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Valeur par défaut de la méthode Th-BCE (d’après la paragraphe </a:t>
            </a:r>
            <a:r>
              <a:rPr b="0" i="1" lang="fr-FR" sz="1100" spc="-1" strike="noStrike">
                <a:solidFill>
                  <a:srgbClr val="000000"/>
                </a:solidFill>
                <a:latin typeface="45 Helvetica Light"/>
              </a:rPr>
              <a:t>10.22.3.6.4.1 Valeurs déclarées et par défaut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), validée par le constructeur pour la modélisation de la GAHP-G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6784920" y="2197080"/>
            <a:ext cx="336564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Choisir </a:t>
            </a:r>
            <a:r>
              <a:rPr b="1" i="1" lang="fr-FR" sz="1100" spc="-1" strike="noStrike">
                <a:solidFill>
                  <a:srgbClr val="000000"/>
                </a:solidFill>
                <a:latin typeface="45 Helvetica Light"/>
              </a:rPr>
              <a:t>Chauffage seul ou Chauffage et ECS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selon le mode de fonctionnement de la PAC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"/>
          <p:cNvPicPr/>
          <p:nvPr/>
        </p:nvPicPr>
        <p:blipFill>
          <a:blip r:embed="rId1"/>
          <a:stretch/>
        </p:blipFill>
        <p:spPr>
          <a:xfrm>
            <a:off x="663480" y="1563840"/>
            <a:ext cx="4076640" cy="77148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54" name="Picture 25" descr=""/>
          <p:cNvPicPr/>
          <p:nvPr/>
        </p:nvPicPr>
        <p:blipFill>
          <a:blip r:embed="rId2"/>
          <a:srcRect l="0" t="0" r="3646" b="0"/>
          <a:stretch/>
        </p:blipFill>
        <p:spPr>
          <a:xfrm>
            <a:off x="663480" y="4834080"/>
            <a:ext cx="4614840" cy="237492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Etape 3 (Suite) : Création du générateur «PAC à absorption gaz» 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6837480" y="229716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57" name="AutoShape 13"/>
          <p:cNvCxnSpPr/>
          <p:nvPr/>
        </p:nvCxnSpPr>
        <p:spPr>
          <a:xfrm flipH="1" flipV="1" rot="10800000">
            <a:off x="-360" y="411300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58" name="Text Box 24"/>
          <p:cNvSpPr/>
          <p:nvPr/>
        </p:nvSpPr>
        <p:spPr>
          <a:xfrm>
            <a:off x="6353280" y="2190600"/>
            <a:ext cx="32922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ifférence entre les températures de sortie et d’entrée d’eau chaude (voir la documentation constructeur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9" name="Image 43" descr=""/>
          <p:cNvPicPr/>
          <p:nvPr/>
        </p:nvPicPr>
        <p:blipFill>
          <a:blip r:embed="rId3"/>
          <a:srcRect l="33661" t="44413" r="27756" b="25984"/>
          <a:stretch/>
        </p:blipFill>
        <p:spPr>
          <a:xfrm>
            <a:off x="663480" y="2479680"/>
            <a:ext cx="4572000" cy="222084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460" name="Connecteur en angle 31"/>
          <p:cNvCxnSpPr/>
          <p:nvPr/>
        </p:nvCxnSpPr>
        <p:spPr>
          <a:xfrm flipV="1" rot="10800000">
            <a:off x="3975840" y="1757520"/>
            <a:ext cx="3241080" cy="144720"/>
          </a:xfrm>
          <a:prstGeom prst="bentConnector3">
            <a:avLst>
              <a:gd name="adj1" fmla="val 50000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461" name="Rectangle 28"/>
          <p:cNvSpPr/>
          <p:nvPr/>
        </p:nvSpPr>
        <p:spPr>
          <a:xfrm>
            <a:off x="6353280" y="1471680"/>
            <a:ext cx="32814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Le type de Dépend du projet.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Source amont de l’énergie renouvelable du système, ici par </a:t>
            </a:r>
            <a:r>
              <a:rPr b="1" i="1" lang="fr-FR" sz="1100" spc="-1" strike="noStrike">
                <a:solidFill>
                  <a:srgbClr val="000000"/>
                </a:solidFill>
                <a:latin typeface="45 Helvetica Light"/>
              </a:rPr>
              <a:t>captage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de l’énergie du sol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2" name="ZoneTexte 31"/>
          <p:cNvSpPr/>
          <p:nvPr/>
        </p:nvSpPr>
        <p:spPr>
          <a:xfrm>
            <a:off x="2919240" y="575460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45 Helvetica Light"/>
              </a:rPr>
              <a:t>-2,5°C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3" name="Text Box 24"/>
          <p:cNvSpPr/>
          <p:nvPr/>
        </p:nvSpPr>
        <p:spPr>
          <a:xfrm>
            <a:off x="5487840" y="5581800"/>
            <a:ext cx="329256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Cet onglet n’apparait pas lorsque la PAC est en chauffage seul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Etape 3 (suite) : Création du générateur «PAC à absorption gaz» 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6837480" y="216072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66" name="AutoShape 9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67" name="AutoShape 10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68" name="AutoShape 11"/>
          <p:cNvCxnSpPr/>
          <p:nvPr/>
        </p:nvCxnSpPr>
        <p:spPr>
          <a:xfrm flipH="1" rot="16200000">
            <a:off x="6477120" y="279540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69" name="AutoShape 12"/>
          <p:cNvCxnSpPr/>
          <p:nvPr/>
        </p:nvCxnSpPr>
        <p:spPr>
          <a:xfrm flipH="1" flipV="1" rot="10800000">
            <a:off x="-360" y="42145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70" name="Text Box 25"/>
          <p:cNvSpPr/>
          <p:nvPr/>
        </p:nvSpPr>
        <p:spPr>
          <a:xfrm>
            <a:off x="5721480" y="1765440"/>
            <a:ext cx="4537080" cy="1767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n fonction du projet. Valeurs à déterminer à chaque étud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100" spc="-1" strike="noStrike" u="sng">
                <a:solidFill>
                  <a:srgbClr val="000000"/>
                </a:solidFill>
                <a:uFillTx/>
                <a:latin typeface="45 Helvetica Light"/>
              </a:rPr>
              <a:t>Remarque 1 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La résistance thermique équivalente entre le fluide et l’interface avec le sol naturel se situe en général entre 0.01 et 0.15 (K.m)/W, en fonction de la nature du sol et du coulis de scellemen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100" spc="-1" strike="noStrike" u="sng">
                <a:solidFill>
                  <a:srgbClr val="000000"/>
                </a:solidFill>
                <a:uFillTx/>
                <a:latin typeface="45 Helvetica Light"/>
              </a:rPr>
              <a:t>Remarque 2 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Le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mois où la température de captage est la plus basse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peut également être considéré comme le mois durant lequel la température « du sol » est la plus faibl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1" name="AutoShape 27"/>
          <p:cNvSpPr/>
          <p:nvPr/>
        </p:nvSpPr>
        <p:spPr>
          <a:xfrm>
            <a:off x="5416560" y="1585800"/>
            <a:ext cx="144360" cy="1944720"/>
          </a:xfrm>
          <a:custGeom>
            <a:avLst/>
            <a:gdLst>
              <a:gd name="textAreaLeft" fmla="*/ 0 w 144360"/>
              <a:gd name="textAreaRight" fmla="*/ 52200 w 144360"/>
              <a:gd name="textAreaTop" fmla="*/ 15120 h 1944720"/>
              <a:gd name="textAreaBottom" fmla="*/ 192960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2"/>
                  <a:pt x="10800" y="544"/>
                </a:cubicBezTo>
                <a:lnTo>
                  <a:pt x="10800" y="10256"/>
                </a:lnTo>
                <a:cubicBezTo>
                  <a:pt x="10800" y="10528"/>
                  <a:pt x="16200" y="10800"/>
                  <a:pt x="21600" y="10800"/>
                </a:cubicBezTo>
                <a:cubicBezTo>
                  <a:pt x="16200" y="10800"/>
                  <a:pt x="10800" y="11072"/>
                  <a:pt x="10800" y="11344"/>
                </a:cubicBezTo>
                <a:lnTo>
                  <a:pt x="10800" y="21056"/>
                </a:lnTo>
                <a:cubicBezTo>
                  <a:pt x="10800" y="21328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72" name="Image 36" descr=""/>
          <p:cNvPicPr/>
          <p:nvPr/>
        </p:nvPicPr>
        <p:blipFill>
          <a:blip r:embed="rId1"/>
          <a:srcRect l="34845" t="45354" r="20669" b="23154"/>
          <a:stretch/>
        </p:blipFill>
        <p:spPr>
          <a:xfrm>
            <a:off x="736560" y="1657440"/>
            <a:ext cx="4338720" cy="192096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73" name="Image 37" descr=""/>
          <p:cNvPicPr/>
          <p:nvPr/>
        </p:nvPicPr>
        <p:blipFill>
          <a:blip r:embed="rId2"/>
          <a:srcRect l="22148" t="44413" r="40157" b="27878"/>
          <a:stretch/>
        </p:blipFill>
        <p:spPr>
          <a:xfrm>
            <a:off x="746280" y="3962520"/>
            <a:ext cx="4317840" cy="197640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Etape 4 : Création du générateur «Chaudière à condensation» 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cxnSp>
        <p:nvCxnSpPr>
          <p:cNvPr id="475" name="AutoShape 11"/>
          <p:cNvCxnSpPr/>
          <p:nvPr/>
        </p:nvCxnSpPr>
        <p:spPr>
          <a:xfrm flipH="1" rot="16200000">
            <a:off x="6477120" y="322560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76" name="AutoShape 12"/>
          <p:cNvCxnSpPr/>
          <p:nvPr/>
        </p:nvCxnSpPr>
        <p:spPr>
          <a:xfrm flipH="1" flipV="1" rot="10800000">
            <a:off x="87120" y="408600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77" name="Rectangle 28"/>
          <p:cNvSpPr/>
          <p:nvPr/>
        </p:nvSpPr>
        <p:spPr>
          <a:xfrm>
            <a:off x="6135840" y="3205080"/>
            <a:ext cx="2592360" cy="261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Paramètres dépendants du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8" name="AutoShape 27"/>
          <p:cNvSpPr/>
          <p:nvPr/>
        </p:nvSpPr>
        <p:spPr>
          <a:xfrm>
            <a:off x="5919840" y="2916360"/>
            <a:ext cx="144360" cy="792000"/>
          </a:xfrm>
          <a:custGeom>
            <a:avLst/>
            <a:gdLst>
              <a:gd name="textAreaLeft" fmla="*/ 0 w 144360"/>
              <a:gd name="textAreaRight" fmla="*/ 52200 w 144360"/>
              <a:gd name="textAreaTop" fmla="*/ 15120 h 792000"/>
              <a:gd name="textAreaBottom" fmla="*/ 776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68"/>
                  <a:pt x="10800" y="1336"/>
                </a:cubicBezTo>
                <a:lnTo>
                  <a:pt x="10800" y="9464"/>
                </a:lnTo>
                <a:cubicBezTo>
                  <a:pt x="10800" y="10132"/>
                  <a:pt x="16200" y="10800"/>
                  <a:pt x="21600" y="10800"/>
                </a:cubicBezTo>
                <a:cubicBezTo>
                  <a:pt x="16200" y="10800"/>
                  <a:pt x="10800" y="11468"/>
                  <a:pt x="10800" y="12136"/>
                </a:cubicBezTo>
                <a:lnTo>
                  <a:pt x="10800" y="20264"/>
                </a:lnTo>
                <a:cubicBezTo>
                  <a:pt x="10800" y="2093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9" name="Rectangle 28"/>
          <p:cNvSpPr/>
          <p:nvPr/>
        </p:nvSpPr>
        <p:spPr>
          <a:xfrm>
            <a:off x="5894280" y="4976640"/>
            <a:ext cx="4275360" cy="112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Paramètres dépendants du projet, à définir à chaque étud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100" spc="-1" strike="noStrike" u="sng">
                <a:solidFill>
                  <a:srgbClr val="000000"/>
                </a:solidFill>
                <a:uFillTx/>
                <a:latin typeface="45 Helvetica Light"/>
              </a:rPr>
              <a:t>Remarque 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renseignements saisis dans cette capture d’écran sont issus du site Atita (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45 Helvetica Light"/>
                <a:hlinkClick r:id="rId1"/>
              </a:rPr>
              <a:t>techniqueuniclima.com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) et correspondent à la chaudière à condensation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Idra Eco Condens Micro d’Atlantic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0" name="AutoShape 27"/>
          <p:cNvSpPr/>
          <p:nvPr/>
        </p:nvSpPr>
        <p:spPr>
          <a:xfrm>
            <a:off x="5648400" y="4429080"/>
            <a:ext cx="142920" cy="2160720"/>
          </a:xfrm>
          <a:custGeom>
            <a:avLst/>
            <a:gdLst>
              <a:gd name="textAreaLeft" fmla="*/ 0 w 142920"/>
              <a:gd name="textAreaRight" fmla="*/ 51480 w 142920"/>
              <a:gd name="textAreaTop" fmla="*/ 15120 h 2160720"/>
              <a:gd name="textAreaBottom" fmla="*/ 214560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5"/>
                  <a:pt x="10800" y="490"/>
                </a:cubicBezTo>
                <a:lnTo>
                  <a:pt x="10800" y="10310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5"/>
                  <a:pt x="10800" y="11290"/>
                </a:cubicBezTo>
                <a:lnTo>
                  <a:pt x="10800" y="21110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81" name="Image 23" descr=""/>
          <p:cNvPicPr/>
          <p:nvPr/>
        </p:nvPicPr>
        <p:blipFill>
          <a:blip r:embed="rId2"/>
          <a:srcRect l="33369" t="17008" r="17421" b="55752"/>
          <a:stretch/>
        </p:blipFill>
        <p:spPr>
          <a:xfrm>
            <a:off x="736560" y="1981080"/>
            <a:ext cx="4799160" cy="166068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482" name="Connecteur en angle 25"/>
          <p:cNvCxnSpPr/>
          <p:nvPr/>
        </p:nvCxnSpPr>
        <p:spPr>
          <a:xfrm flipV="1" rot="10800000">
            <a:off x="4334760" y="2051640"/>
            <a:ext cx="2882160" cy="1297800"/>
          </a:xfrm>
          <a:prstGeom prst="bentConnector3">
            <a:avLst>
              <a:gd name="adj1" fmla="val 49993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483" name="Rectangle 28"/>
          <p:cNvSpPr/>
          <p:nvPr/>
        </p:nvSpPr>
        <p:spPr>
          <a:xfrm>
            <a:off x="6353280" y="1765440"/>
            <a:ext cx="381636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 générateur est le </a:t>
            </a:r>
            <a:r>
              <a:rPr b="1" i="1" lang="fr-FR" sz="1100" spc="-1" strike="noStrike">
                <a:solidFill>
                  <a:srgbClr val="000000"/>
                </a:solidFill>
                <a:latin typeface="45 Helvetica Light"/>
              </a:rPr>
              <a:t>Générateur d’appoint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u ballon de stockage (la base étant assurée par la PAC lorsque celle-ci produit de l’ECS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orsque la PAC fonctionne en chauffage seul, il ne faut pas oublier de lui associer un ballon de stockage si présent sur le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84" name="Image 28" descr=""/>
          <p:cNvPicPr/>
          <p:nvPr/>
        </p:nvPicPr>
        <p:blipFill>
          <a:blip r:embed="rId3"/>
          <a:srcRect l="34550" t="45354" r="19488" b="12756"/>
          <a:stretch/>
        </p:blipFill>
        <p:spPr>
          <a:xfrm>
            <a:off x="750960" y="4068720"/>
            <a:ext cx="4651200" cy="264960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485" name="Connecteur en angle 29"/>
          <p:cNvCxnSpPr/>
          <p:nvPr/>
        </p:nvCxnSpPr>
        <p:spPr>
          <a:xfrm flipV="1" rot="10800000">
            <a:off x="5415840" y="4284360"/>
            <a:ext cx="1599480" cy="56160"/>
          </a:xfrm>
          <a:prstGeom prst="bentConnector3">
            <a:avLst>
              <a:gd name="adj1" fmla="val 50000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486" name="Rectangle 28"/>
          <p:cNvSpPr/>
          <p:nvPr/>
        </p:nvSpPr>
        <p:spPr>
          <a:xfrm>
            <a:off x="5935680" y="4068720"/>
            <a:ext cx="423396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Dépend du projet.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Nombre de chaudières de l’assemblage « ballon + générateurs 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4" descr=""/>
          <p:cNvPicPr/>
          <p:nvPr/>
        </p:nvPicPr>
        <p:blipFill>
          <a:blip r:embed="rId1"/>
          <a:stretch/>
        </p:blipFill>
        <p:spPr>
          <a:xfrm>
            <a:off x="1023840" y="5113440"/>
            <a:ext cx="4523040" cy="213048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Etape 5 : Création du réseau de distribution intergroupe « Réseau intergroupe Chauffage et ECS »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6981840" y="2490840"/>
            <a:ext cx="1800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90" name="AutoShape 12"/>
          <p:cNvCxnSpPr/>
          <p:nvPr/>
        </p:nvCxnSpPr>
        <p:spPr>
          <a:xfrm flipH="1" rot="16200000">
            <a:off x="6621480" y="312552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sp>
        <p:nvSpPr>
          <p:cNvPr id="491" name="Text Box 22"/>
          <p:cNvSpPr/>
          <p:nvPr/>
        </p:nvSpPr>
        <p:spPr>
          <a:xfrm>
            <a:off x="6800760" y="3659040"/>
            <a:ext cx="32925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2" name="Freeform 23"/>
          <p:cNvSpPr/>
          <p:nvPr/>
        </p:nvSpPr>
        <p:spPr>
          <a:xfrm flipV="1">
            <a:off x="5249880" y="2306520"/>
            <a:ext cx="1600200" cy="860400"/>
          </a:xfrm>
          <a:custGeom>
            <a:avLst/>
            <a:gdLst>
              <a:gd name="textAreaLeft" fmla="*/ 0 w 1600200"/>
              <a:gd name="textAreaRight" fmla="*/ 1600560 w 16002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3" name="Text Box 25"/>
          <p:cNvSpPr/>
          <p:nvPr/>
        </p:nvSpPr>
        <p:spPr>
          <a:xfrm>
            <a:off x="5992920" y="2673360"/>
            <a:ext cx="4176720" cy="439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n fonction du projet. Valeurs à redéterminer à chaque étud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caractéristiques des réseaux de distribution de chauffage et d’eau chaude sanitaire sont détaillées dans le guide pratique RT2012 intitulé </a:t>
            </a:r>
            <a:r>
              <a:rPr b="0" i="1" lang="fr-FR" sz="1100" spc="-1" strike="noStrike" u="sng">
                <a:solidFill>
                  <a:srgbClr val="000000"/>
                </a:solidFill>
                <a:uFillTx/>
                <a:latin typeface="45 Helvetica Light"/>
              </a:rPr>
              <a:t>Saisie et optimisation des réseaux de distribution de chauffage et d’eau chaude sanitaire en résidentiel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, Energies et avenir, disponible en téléchargement sur le site énergies et avenir :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45 Helvetica Light"/>
                <a:hlinkClick r:id="rId2"/>
              </a:rPr>
              <a:t>www.energies-avenir.fr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’après ce même document 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« Les réseaux de chauffage et d’ECS sont découpés en deux niveaux de distribution dans la RT 2012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- Le niveau “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Intergroupe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” qui comprend les réseaux collectifs de distribution de chauffage et d’ECS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depuis la chaufferie jusqu’aux logements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. Pour le chauffage, il est principalement constitué du réseau horizontal d’alimentation des colonnes montantes et des colonnes verticales elles-mêm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buClr>
                <a:srgbClr val="000000"/>
              </a:buClr>
              <a:buFont typeface="45 Helvetica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 niveau “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Groupe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” qui regroupe les réseaux de chauffage et d’ECS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situés à l’intérieur des logements, depuis les colonnes montantes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. »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buClr>
                <a:srgbClr val="000000"/>
              </a:buClr>
              <a:buFont typeface="45 Helvetica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buClr>
                <a:srgbClr val="000000"/>
              </a:buClr>
              <a:buFont typeface="45 Helvetica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buClr>
                <a:srgbClr val="000000"/>
              </a:buClr>
              <a:buFont typeface="45 Helvetica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buClr>
                <a:srgbClr val="000000"/>
              </a:buClr>
              <a:buFont typeface="45 Helvetica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4" name="AutoShape 27"/>
          <p:cNvSpPr/>
          <p:nvPr/>
        </p:nvSpPr>
        <p:spPr>
          <a:xfrm>
            <a:off x="5632560" y="5481720"/>
            <a:ext cx="144360" cy="1800000"/>
          </a:xfrm>
          <a:custGeom>
            <a:avLst/>
            <a:gdLst>
              <a:gd name="textAreaLeft" fmla="*/ 0 w 144360"/>
              <a:gd name="textAreaRight" fmla="*/ 52200 w 144360"/>
              <a:gd name="textAreaTop" fmla="*/ 15120 h 1800000"/>
              <a:gd name="textAreaBottom" fmla="*/ 178488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94"/>
                  <a:pt x="10800" y="588"/>
                </a:cubicBezTo>
                <a:lnTo>
                  <a:pt x="10800" y="10212"/>
                </a:lnTo>
                <a:cubicBezTo>
                  <a:pt x="10800" y="10506"/>
                  <a:pt x="16200" y="10800"/>
                  <a:pt x="21600" y="10800"/>
                </a:cubicBezTo>
                <a:cubicBezTo>
                  <a:pt x="16200" y="10800"/>
                  <a:pt x="10800" y="11094"/>
                  <a:pt x="10800" y="11388"/>
                </a:cubicBezTo>
                <a:lnTo>
                  <a:pt x="10800" y="21012"/>
                </a:lnTo>
                <a:cubicBezTo>
                  <a:pt x="10800" y="2130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5" name="AutoShape 27"/>
          <p:cNvSpPr/>
          <p:nvPr/>
        </p:nvSpPr>
        <p:spPr>
          <a:xfrm>
            <a:off x="5632560" y="2241720"/>
            <a:ext cx="144360" cy="2158920"/>
          </a:xfrm>
          <a:custGeom>
            <a:avLst/>
            <a:gdLst>
              <a:gd name="textAreaLeft" fmla="*/ 0 w 144360"/>
              <a:gd name="textAreaRight" fmla="*/ 52200 w 144360"/>
              <a:gd name="textAreaTop" fmla="*/ 15120 h 2158920"/>
              <a:gd name="textAreaBottom" fmla="*/ 214380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5"/>
                  <a:pt x="10800" y="490"/>
                </a:cubicBezTo>
                <a:lnTo>
                  <a:pt x="10800" y="10310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5"/>
                  <a:pt x="10800" y="11290"/>
                </a:cubicBezTo>
                <a:lnTo>
                  <a:pt x="10800" y="21110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96" name="Connecteur droit avec flèche 59"/>
          <p:cNvCxnSpPr/>
          <p:nvPr/>
        </p:nvCxnSpPr>
        <p:spPr>
          <a:xfrm flipH="1">
            <a:off x="5847840" y="3311280"/>
            <a:ext cx="145440" cy="1080"/>
          </a:xfrm>
          <a:prstGeom prst="straightConnector1">
            <a:avLst/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cxnSp>
        <p:nvCxnSpPr>
          <p:cNvPr id="497" name="Connecteur droit avec flèche 61"/>
          <p:cNvCxnSpPr/>
          <p:nvPr/>
        </p:nvCxnSpPr>
        <p:spPr>
          <a:xfrm flipH="1">
            <a:off x="5847840" y="6378120"/>
            <a:ext cx="145440" cy="1080"/>
          </a:xfrm>
          <a:prstGeom prst="straightConnector1">
            <a:avLst/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pic>
        <p:nvPicPr>
          <p:cNvPr id="498" name="Picture 23" descr=""/>
          <p:cNvPicPr/>
          <p:nvPr/>
        </p:nvPicPr>
        <p:blipFill>
          <a:blip r:embed="rId3"/>
          <a:stretch/>
        </p:blipFill>
        <p:spPr>
          <a:xfrm>
            <a:off x="1022400" y="1932120"/>
            <a:ext cx="4532400" cy="259848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9" name="Picture 25" descr=""/>
          <p:cNvPicPr/>
          <p:nvPr/>
        </p:nvPicPr>
        <p:blipFill>
          <a:blip r:embed="rId4"/>
          <a:stretch/>
        </p:blipFill>
        <p:spPr>
          <a:xfrm>
            <a:off x="1023840" y="4646520"/>
            <a:ext cx="4451400" cy="33660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4:26:31Z</dcterms:modified>
  <cp:revision>352</cp:revision>
  <dc:subject/>
  <dc:title>Présentation PowerPoint</dc:title>
</cp:coreProperties>
</file>