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80D-4EA0-447F-AC36-8C71B7203E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B960-EFEF-4227-B18A-454B8B272F10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DE3-AB74-4AFF-99AA-99026D31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94A-C65E-4081-AD20-D818D0B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E0943-2B45-4EE6-8438-9FBE808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2741B-C4B0-48B4-9F86-9A162A1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68948-93AD-4643-8603-8928B198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6CAAA-AC4F-41C1-B209-6A53B95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9918-0370-4620-BDA9-343FC7D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8B6D-6F54-4C49-952B-81B81D1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F43FD-012D-4A89-B900-1A39B8B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DB936-8674-45AA-8A39-C6FF3C51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5E472-F73E-4968-A9C9-610E6E73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C8B-FAD4-4BAE-BCB1-8B7FDC8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004-7C14-44BE-B3F1-3F16FC79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B4D-5048-4D5E-A806-5FE078A4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2E0-1749-47E3-8BB1-C79AC0C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DAC-D9BC-4B80-9887-A47407F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6C95-E0D6-4BD6-8C61-C26B9BC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450-E766-4F72-B227-01C610E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F521-2EC9-4804-A479-DCED0AF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EF2-1441-4C8C-A64C-49B5FB83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70E-C5C3-4FAC-BC2C-26D7F42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A1A-F4DF-49A3-A280-C56B8349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D06A-8B7E-4C4F-8B6F-9C13D54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0575-148E-4A0B-9195-6BF4A00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77D-72E9-45C8-A190-454CE301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846-6320-49C3-85EA-5B82FCEC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29BC-BA31-4507-B983-09A83627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0BE3-CF3E-48BB-982F-58E19DB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C2A9-48D5-44D4-ADC6-ED45261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698A-7185-4E77-BE44-595D0A0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F7C8-F854-45AD-BA3E-DFF04AEA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BDC-4CF1-4E36-A1BA-8C34F3D2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95E1-98E3-414D-998B-E3C2706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496A-CFCD-4104-A9A5-12155DD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0EDF-B79B-4A2E-876E-D2A3D04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139F-98F5-440F-B787-6850C38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62B7-CF15-4F05-9550-23FD84B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A073-D233-44E3-8769-4082A2BE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C3F4-B3C4-4AD5-B963-F2B645E8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EDD3-ED26-45DE-8937-26987EEB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1518-7228-4C62-84DF-6FB97D79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233C-D18A-4B9E-9C56-062071B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56A-C7E1-40AC-AC17-0E084A00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F27F-E40A-46A7-81DC-3899324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7FBC-EC85-48CD-A13E-0CB5A13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F6A6-5603-4D56-91D6-8FD6E37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3A15-06DB-4529-A649-50D8F57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3A3F-3AD8-49D5-97A8-151C687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8F9A-E90C-4096-8C38-B48EF42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AD16-EFD0-489E-A6A7-801E599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D547-817A-44B8-B1EF-BC9263A4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4EE5-7184-4991-812E-A6E9DC15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7283-8230-489F-8F02-F326B6C1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BA1-FE01-4E2A-A070-34306E9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DB45-4A7F-4848-865A-08BD7B7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E9C1-941C-4AB5-A5AD-3E2370B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3311-06EB-4B4E-96D2-C51DCBF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293A9-A312-470D-83BA-943DA0F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014B-9553-4E8A-BBA4-EF35916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227F-65D0-489F-8981-9431036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67C9-5E29-4FFC-A96C-7B29706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2DCF-FB57-4FCE-8861-0A5086C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1957-488D-402A-8D00-E100E40C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E0F2-54C6-4857-8163-E7BA8AC1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F55-296B-41C8-A305-7E15120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9994-91B2-4C5A-AC01-8B544227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1F08-1D3A-4686-9648-52D9FAC6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9D66-C924-4516-BCF7-ABBF4F90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E85DD-0580-45E2-AB1B-6D4572D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0B8C-5A99-4EDD-A412-93B4AC7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F83E-2704-4F72-8FBC-9B3E0BD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26A2-4D34-41A3-A28D-2A69EB1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DE5D5-B8EF-46E3-B408-DA1BE17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89DD-501B-4C58-ACD7-5CBBA48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F066-A4F1-4B42-8CD9-6E8B41F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2BE-D657-4C04-9F9B-98D6B34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0BE5-109D-44DB-8305-FBA61CD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1AC8-92DA-4BAB-BD08-DDCAFA98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62E13-18B3-4DBD-AAED-8FBF71E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E3337-EF1A-468A-AD16-48119700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581B-F1ED-41F1-A0C3-95EBCB7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B54E2-9FB6-43D8-8322-35D96317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D2AE-47FA-4DA9-AE94-5C77631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A69F-F34C-49A8-B454-6E77E93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C984-D2FB-427A-B2A8-3CF42CC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2F2F-83D9-4B2D-8067-CD0643C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6AB-7A95-4304-89CC-3E0E114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C3BB-942E-4964-8172-FB77C57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71BF-D8DD-42CF-8565-30C11BC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F4F86-4EBE-4E8B-9C4D-1A44AE5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57B1-0510-481D-8535-BC44D724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5F42-9DFE-403E-8D5D-0D57C0E4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0092-9A6A-4DA9-AFA9-A415D471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4B7E-36BD-4C2B-87D4-6E0B495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D212-2012-4210-8FEC-64A3A00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0A8D-9EEB-4FE9-8352-1F948080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EE07-CFF7-4945-A755-CED2721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E72-F216-44AB-BF56-27611D7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D69E-3C85-48F1-9237-279FD6F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059A-1DF6-4CB6-8791-A3B668F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BA2C-FBD8-4E0D-BEAD-FF82C98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34D2-3DC5-4564-8126-C7D2DB6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D6A2-6790-42A7-A85D-B6963E4A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6F5EC-8D66-4C1B-BD59-08075DB3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695A6-1167-466E-BCA8-5291906E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4C0A8-2043-4019-A7C6-93E2BEA4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65A9F-6091-4D28-8B07-7BE2019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E5FCB-3979-4C4B-B978-DDD1485B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C1C-74D0-4E36-9273-0D502F9F71AC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622-2CA3-4C0F-9126-4E451575D78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5529-0983-4DD4-BF49-4E259964DE6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C42-993D-4856-9798-B45D13D7F0D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050C-41E5-42A5-8F57-39E0787539C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03F-4F81-4E38-BE34-5D09BA0A3FD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3811-55C1-4FF1-9E24-B75E9572C44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B88A-CC2D-461E-B94E-A781E6BE89F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DDE2-942B-40C8-9FD6-2204EA20C37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58240"/>
            <a:ext cx="698364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Version 5.1.36 du 06/07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447840" y="1260360"/>
            <a:ext cx="98647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Chaffoteaux dans le logiciel d’application de la RT 2012 U22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Chaffote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ensemble du système est décrit dans les objet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 )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résultats des Cep et Bbio,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Zone ( 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79480" y="2197080"/>
          <a:ext cx="9217080" cy="519120"/>
        </p:xfrm>
        <a:graphic>
          <a:graphicData uri="http://schemas.openxmlformats.org/drawingml/2006/table">
            <a:tbl>
              <a:tblPr/>
              <a:tblGrid>
                <a:gridCol w="3894120"/>
                <a:gridCol w="5322960"/>
              </a:tblGrid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AQUANEXT OP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MIRA C GREEN UL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6CB-1BC2-4012-90CF-5BC7EB1D8AAC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2" name="Image 18" descr=""/>
          <p:cNvPicPr/>
          <p:nvPr/>
        </p:nvPicPr>
        <p:blipFill>
          <a:blip r:embed="rId1"/>
          <a:srcRect l="0" t="0" r="33795" b="0"/>
          <a:stretch/>
        </p:blipFill>
        <p:spPr>
          <a:xfrm>
            <a:off x="6711840" y="5110200"/>
            <a:ext cx="3384720" cy="2019240"/>
          </a:xfrm>
          <a:prstGeom prst="rect">
            <a:avLst/>
          </a:prstGeom>
          <a:ln w="0">
            <a:noFill/>
          </a:ln>
        </p:spPr>
      </p:pic>
      <p:sp>
        <p:nvSpPr>
          <p:cNvPr id="413" name="ZoneTexte 19"/>
          <p:cNvSpPr/>
          <p:nvPr/>
        </p:nvSpPr>
        <p:spPr>
          <a:xfrm>
            <a:off x="447840" y="5221440"/>
            <a:ext cx="58323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génération libre « CET hybride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fonction chauffage et ECS) » en personnalisation du « nouveau générateur » créé à l’étape 1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système de stockage ECS commun « Ballon de stockage » au niveau de la génération « CET hybride » précédemment définie à l’étape 1 (ECS)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(fonction ECS) » au niveau du « stockage ECS commun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4" name="Image 13" descr=""/>
          <p:cNvPicPr/>
          <p:nvPr/>
        </p:nvPicPr>
        <p:blipFill>
          <a:blip r:embed="rId2"/>
          <a:stretch/>
        </p:blipFill>
        <p:spPr>
          <a:xfrm>
            <a:off x="1797120" y="3490920"/>
            <a:ext cx="230040" cy="250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03" descr="Travail:1 GRAPHISME:GRDF:FICHES_BET_CEGIBAT_GrDF:FICHES_PRODUIT:ELEMENTS_OK:PICTOS:GENERATION.jpg"/>
          <p:cNvPicPr/>
          <p:nvPr/>
        </p:nvPicPr>
        <p:blipFill>
          <a:blip r:embed="rId3"/>
          <a:stretch/>
        </p:blipFill>
        <p:spPr>
          <a:xfrm>
            <a:off x="5504040" y="3133800"/>
            <a:ext cx="237960" cy="218880"/>
          </a:xfrm>
          <a:prstGeom prst="rect">
            <a:avLst/>
          </a:prstGeom>
          <a:ln w="0">
            <a:noFill/>
          </a:ln>
        </p:spPr>
      </p:pic>
      <p:pic>
        <p:nvPicPr>
          <p:cNvPr id="416" name="Image 15" descr=""/>
          <p:cNvPicPr/>
          <p:nvPr/>
        </p:nvPicPr>
        <p:blipFill>
          <a:blip r:embed="rId4"/>
          <a:stretch/>
        </p:blipFill>
        <p:spPr>
          <a:xfrm>
            <a:off x="4162320" y="3133800"/>
            <a:ext cx="219240" cy="237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03" descr="Travail:1 GRAPHISME:GRDF:FICHES_BET_CEGIBAT_GrDF:FICHES_PRODUIT:ELEMENTS_OK:PICTOS:GENERATION.jpg"/>
          <p:cNvPicPr/>
          <p:nvPr/>
        </p:nvPicPr>
        <p:blipFill>
          <a:blip r:embed="rId5"/>
          <a:stretch/>
        </p:blipFill>
        <p:spPr>
          <a:xfrm>
            <a:off x="1895400" y="4211640"/>
            <a:ext cx="238320" cy="217440"/>
          </a:xfrm>
          <a:prstGeom prst="rect">
            <a:avLst/>
          </a:prstGeom>
          <a:ln w="0">
            <a:noFill/>
          </a:ln>
        </p:spPr>
      </p:pic>
      <p:pic>
        <p:nvPicPr>
          <p:cNvPr id="418" name="Image 17" descr=""/>
          <p:cNvPicPr/>
          <p:nvPr/>
        </p:nvPicPr>
        <p:blipFill>
          <a:blip r:embed="rId6"/>
          <a:stretch/>
        </p:blipFill>
        <p:spPr>
          <a:xfrm>
            <a:off x="5621400" y="4408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19" name="Image 18" descr=""/>
          <p:cNvPicPr/>
          <p:nvPr/>
        </p:nvPicPr>
        <p:blipFill>
          <a:blip r:embed="rId7"/>
          <a:stretch/>
        </p:blipFill>
        <p:spPr>
          <a:xfrm>
            <a:off x="3975120" y="4782960"/>
            <a:ext cx="218880" cy="247680"/>
          </a:xfrm>
          <a:prstGeom prst="rect">
            <a:avLst/>
          </a:prstGeom>
          <a:ln w="0">
            <a:noFill/>
          </a:ln>
        </p:spPr>
      </p:pic>
      <p:pic>
        <p:nvPicPr>
          <p:cNvPr id="420" name="Image 19" descr=""/>
          <p:cNvPicPr/>
          <p:nvPr/>
        </p:nvPicPr>
        <p:blipFill>
          <a:blip r:embed="rId8"/>
          <a:stretch/>
        </p:blipFill>
        <p:spPr>
          <a:xfrm>
            <a:off x="1239840" y="3817800"/>
            <a:ext cx="2192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1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Text Box 33"/>
          <p:cNvSpPr/>
          <p:nvPr/>
        </p:nvSpPr>
        <p:spPr>
          <a:xfrm>
            <a:off x="6856560" y="161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CET hybride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4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EA6-7BDE-4EBD-A109-783BFD6F620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5" name="Image 27" descr=""/>
          <p:cNvPicPr/>
          <p:nvPr/>
        </p:nvPicPr>
        <p:blipFill>
          <a:blip r:embed="rId1"/>
          <a:stretch/>
        </p:blipFill>
        <p:spPr>
          <a:xfrm>
            <a:off x="519120" y="1836720"/>
            <a:ext cx="5513400" cy="4451400"/>
          </a:xfrm>
          <a:prstGeom prst="rect">
            <a:avLst/>
          </a:prstGeom>
          <a:ln w="0">
            <a:noFill/>
          </a:ln>
        </p:spPr>
      </p:pic>
      <p:cxnSp>
        <p:nvCxnSpPr>
          <p:cNvPr id="426" name="Connecteur en angle 29"/>
          <p:cNvCxnSpPr>
            <a:stCxn id="422" idx="1"/>
          </p:cNvCxnSpPr>
          <p:nvPr/>
        </p:nvCxnSpPr>
        <p:spPr>
          <a:xfrm flipV="1" rot="10800000">
            <a:off x="3110760" y="2161800"/>
            <a:ext cx="3745800" cy="1404000"/>
          </a:xfrm>
          <a:prstGeom prst="bentConnector3">
            <a:avLst>
              <a:gd name="adj1" fmla="val 11947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7" name="Text Box 33"/>
          <p:cNvSpPr/>
          <p:nvPr/>
        </p:nvSpPr>
        <p:spPr>
          <a:xfrm>
            <a:off x="6927840" y="4923000"/>
            <a:ext cx="301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Ne concerne que les générateurs d’ECS instantanés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(dans les autres cas, n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intervient pas dans le calcul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8" name="Connecteur en angle 29"/>
          <p:cNvCxnSpPr>
            <a:stCxn id="427" idx="1"/>
          </p:cNvCxnSpPr>
          <p:nvPr/>
        </p:nvCxnSpPr>
        <p:spPr>
          <a:xfrm flipV="1" rot="10800000">
            <a:off x="2607480" y="5220360"/>
            <a:ext cx="4320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9" name="AutoShape 12"/>
          <p:cNvCxnSpPr/>
          <p:nvPr/>
        </p:nvCxnSpPr>
        <p:spPr>
          <a:xfrm flipH="1" flipV="1" rot="10800000">
            <a:off x="5220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0" name="Text Box 33"/>
          <p:cNvSpPr/>
          <p:nvPr/>
        </p:nvSpPr>
        <p:spPr>
          <a:xfrm>
            <a:off x="7165800" y="2759400"/>
            <a:ext cx="321948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haudière gaz à condensation. Ne pas oublier de sélectionner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« Chauffage et ECS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afin que la chaudière soit bien en appoint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chiffres sont donnés pour le système MIRA C GREEN 25 et sont à modifier en fonction du produit réel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2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71F-C9E1-40EF-AC8C-10076D375CF1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3" name="Image 15" descr=""/>
          <p:cNvPicPr/>
          <p:nvPr/>
        </p:nvPicPr>
        <p:blipFill>
          <a:blip r:embed="rId1"/>
          <a:stretch/>
        </p:blipFill>
        <p:spPr>
          <a:xfrm>
            <a:off x="592200" y="1693800"/>
            <a:ext cx="5511600" cy="5295960"/>
          </a:xfrm>
          <a:prstGeom prst="rect">
            <a:avLst/>
          </a:prstGeom>
          <a:ln w="0">
            <a:noFill/>
          </a:ln>
        </p:spPr>
      </p:pic>
      <p:cxnSp>
        <p:nvCxnSpPr>
          <p:cNvPr id="434" name="Connecteur en angle 18"/>
          <p:cNvCxnSpPr>
            <a:stCxn id="430" idx="1"/>
          </p:cNvCxnSpPr>
          <p:nvPr/>
        </p:nvCxnSpPr>
        <p:spPr>
          <a:xfrm rot="10800000">
            <a:off x="3326760" y="2988720"/>
            <a:ext cx="3839040" cy="403920"/>
          </a:xfrm>
          <a:prstGeom prst="bentConnector3">
            <a:avLst>
              <a:gd name="adj1" fmla="val 49995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5" name="Rectangle 8"/>
          <p:cNvSpPr/>
          <p:nvPr/>
        </p:nvSpPr>
        <p:spPr>
          <a:xfrm>
            <a:off x="3255840" y="3781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1.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3255840" y="3997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97.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3184560" y="4429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039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3184560" y="4645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6.4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3184560" y="4861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09.8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255840" y="5510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3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3255840" y="5726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2535120" y="2125800"/>
            <a:ext cx="16574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haudière MIRA C GREEN 2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Rectangle 18"/>
          <p:cNvSpPr/>
          <p:nvPr/>
        </p:nvSpPr>
        <p:spPr>
          <a:xfrm>
            <a:off x="3255840" y="608472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9"/>
          <p:cNvSpPr/>
          <p:nvPr/>
        </p:nvSpPr>
        <p:spPr>
          <a:xfrm>
            <a:off x="6910560" y="244800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5" name="AutoShape 10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6" name="AutoShape 11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7" name="AutoShape 13"/>
          <p:cNvCxnSpPr/>
          <p:nvPr/>
        </p:nvCxnSpPr>
        <p:spPr>
          <a:xfrm flipH="1" flipV="1" rot="10800000">
            <a:off x="81360" y="391140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8" name="Espace réservé du texte 4"/>
          <p:cNvSpPr/>
          <p:nvPr/>
        </p:nvSpPr>
        <p:spPr>
          <a:xfrm>
            <a:off x="2027160" y="260280"/>
            <a:ext cx="8501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tockage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9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E0F-0C1E-40F0-B10C-D6AB440AAE11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0" name="Image 27" descr=""/>
          <p:cNvPicPr/>
          <p:nvPr/>
        </p:nvPicPr>
        <p:blipFill>
          <a:blip r:embed="rId1"/>
          <a:stretch/>
        </p:blipFill>
        <p:spPr>
          <a:xfrm>
            <a:off x="447840" y="1260360"/>
            <a:ext cx="5511600" cy="52056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3"/>
          <p:cNvSpPr/>
          <p:nvPr/>
        </p:nvSpPr>
        <p:spPr>
          <a:xfrm>
            <a:off x="6568920" y="133596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Base plus appoint séparé instantané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à sélectionner : la chaudière n’est pas directement reliée au stockage mais vient assurer le complément en sortie du ballo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2" name="Connecteur en angle 29"/>
          <p:cNvCxnSpPr>
            <a:stCxn id="451" idx="1"/>
          </p:cNvCxnSpPr>
          <p:nvPr/>
        </p:nvCxnSpPr>
        <p:spPr>
          <a:xfrm flipV="1" rot="10800000">
            <a:off x="4263480" y="1716480"/>
            <a:ext cx="2305440" cy="335880"/>
          </a:xfrm>
          <a:prstGeom prst="bentConnector3">
            <a:avLst>
              <a:gd name="adj1" fmla="val 49992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3" name="Text Box 33"/>
          <p:cNvSpPr/>
          <p:nvPr/>
        </p:nvSpPr>
        <p:spPr>
          <a:xfrm>
            <a:off x="6568920" y="3216240"/>
            <a:ext cx="3888000" cy="227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chauffage permanent 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568920" y="220032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aractéristique déterminée à partir des données issues de la NF EN 16147 via l’outil idCET ou alors directement disponible sur la base de données Edibatec. Impacte la consomma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5" name="Connecteur en angle 43"/>
          <p:cNvCxnSpPr>
            <a:stCxn id="454" idx="1"/>
          </p:cNvCxnSpPr>
          <p:nvPr/>
        </p:nvCxnSpPr>
        <p:spPr>
          <a:xfrm flipV="1" rot="10800000">
            <a:off x="4984200" y="2580840"/>
            <a:ext cx="1584720" cy="170568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6" name="Text Box 33"/>
          <p:cNvSpPr/>
          <p:nvPr/>
        </p:nvSpPr>
        <p:spPr>
          <a:xfrm>
            <a:off x="6568920" y="5727960"/>
            <a:ext cx="38880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'hystérésis correspond à une « tolérance » autour de la valeur de consigne du ballon. Cette valeur importante impacte les consommations d'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7" name="Connecteur en angle 52"/>
          <p:cNvCxnSpPr>
            <a:stCxn id="456" idx="1"/>
          </p:cNvCxnSpPr>
          <p:nvPr/>
        </p:nvCxnSpPr>
        <p:spPr>
          <a:xfrm rot="10800000">
            <a:off x="3399840" y="5149080"/>
            <a:ext cx="3169080" cy="876960"/>
          </a:xfrm>
          <a:prstGeom prst="bentConnector3">
            <a:avLst>
              <a:gd name="adj1" fmla="val 1475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8" name="Rectangle 16"/>
          <p:cNvSpPr/>
          <p:nvPr/>
        </p:nvSpPr>
        <p:spPr>
          <a:xfrm>
            <a:off x="2319480" y="1620720"/>
            <a:ext cx="26654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QUANEXT PLUS 110 OPTI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3040200" y="3852720"/>
            <a:ext cx="50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13.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2392200" y="4645080"/>
            <a:ext cx="1224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hauffage permanent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4695840" y="4286160"/>
            <a:ext cx="504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2" name="Connecteur en angle 34"/>
          <p:cNvCxnSpPr>
            <a:stCxn id="453" idx="1"/>
            <a:endCxn id="460" idx="3"/>
          </p:cNvCxnSpPr>
          <p:nvPr/>
        </p:nvCxnSpPr>
        <p:spPr>
          <a:xfrm flipV="1" rot="10800000">
            <a:off x="3615480" y="4350240"/>
            <a:ext cx="2953440" cy="367560"/>
          </a:xfrm>
          <a:prstGeom prst="bentConnector3">
            <a:avLst>
              <a:gd name="adj1" fmla="val 4999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3" name="Rectangle 20"/>
          <p:cNvSpPr/>
          <p:nvPr/>
        </p:nvSpPr>
        <p:spPr>
          <a:xfrm>
            <a:off x="4624560" y="5797440"/>
            <a:ext cx="50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Zone 1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5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6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7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8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52E-2B10-4EDC-859B-64A2D04A8E8F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69" name="Image 22" descr=""/>
          <p:cNvPicPr/>
          <p:nvPr/>
        </p:nvPicPr>
        <p:blipFill>
          <a:blip r:embed="rId1"/>
          <a:srcRect l="-3" t="0" r="38947" b="0"/>
          <a:stretch/>
        </p:blipFill>
        <p:spPr>
          <a:xfrm>
            <a:off x="303120" y="1405080"/>
            <a:ext cx="5689800" cy="50958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3"/>
          <p:cNvSpPr/>
          <p:nvPr/>
        </p:nvSpPr>
        <p:spPr>
          <a:xfrm>
            <a:off x="6424560" y="4354560"/>
            <a:ext cx="3888000" cy="1935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1" name="Connecteur en angle 24"/>
          <p:cNvCxnSpPr>
            <a:stCxn id="470" idx="1"/>
          </p:cNvCxnSpPr>
          <p:nvPr/>
        </p:nvCxnSpPr>
        <p:spPr>
          <a:xfrm flipV="1" rot="10800000">
            <a:off x="4263480" y="5320080"/>
            <a:ext cx="2161080" cy="69300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2" name="Rectangle 9"/>
          <p:cNvSpPr/>
          <p:nvPr/>
        </p:nvSpPr>
        <p:spPr>
          <a:xfrm>
            <a:off x="1671480" y="1765440"/>
            <a:ext cx="1944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QUANEXT PLUS 110 OPTI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687840" y="5149800"/>
            <a:ext cx="431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.09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3687840" y="6013440"/>
            <a:ext cx="431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5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6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6A4-0183-4321-84A8-1DF9C0224829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8" name="Image 22" descr=""/>
          <p:cNvPicPr/>
          <p:nvPr/>
        </p:nvPicPr>
        <p:blipFill>
          <a:blip r:embed="rId1"/>
          <a:stretch/>
        </p:blipFill>
        <p:spPr>
          <a:xfrm>
            <a:off x="2392200" y="1693800"/>
            <a:ext cx="5627880" cy="1994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23" descr=""/>
          <p:cNvPicPr/>
          <p:nvPr/>
        </p:nvPicPr>
        <p:blipFill>
          <a:blip r:embed="rId2"/>
          <a:srcRect l="0" t="0" r="0" b="10956"/>
          <a:stretch/>
        </p:blipFill>
        <p:spPr>
          <a:xfrm>
            <a:off x="2392200" y="4141800"/>
            <a:ext cx="5600880" cy="2016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6"/>
          <p:cNvSpPr/>
          <p:nvPr/>
        </p:nvSpPr>
        <p:spPr>
          <a:xfrm>
            <a:off x="4552920" y="2125800"/>
            <a:ext cx="25192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ir ambiant de volume non chauffé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6568920" y="2989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4048200" y="4861080"/>
            <a:ext cx="57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venir LT Std 55 Roman"/>
              </a:rPr>
              <a:t>15°C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4192560" y="5510160"/>
            <a:ext cx="576360" cy="432000"/>
          </a:xfrm>
          <a:prstGeom prst="rect">
            <a:avLst/>
          </a:prstGeom>
          <a:solidFill>
            <a:srgbClr val="cce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2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.83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rtifiée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5:42Z</dcterms:modified>
  <cp:revision>174</cp:revision>
  <dc:subject/>
  <dc:title>Présentation PowerPoint</dc:title>
</cp:coreProperties>
</file>