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png" ContentType="image/png"/>
  <Override PartName="/ppt/media/image8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3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20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CF5C-813F-4F6D-B566-AEF28AFBF547}" type="slidenum"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47E56-2DBB-43EE-9484-DAD66558BB8A}" type="slidenum">
              <a:rPr b="0" lang="fr-FR" sz="1200" spc="-1" strike="noStrike">
                <a:solidFill>
                  <a:srgbClr val="1f497d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4A58-66F6-4F3F-A9E4-2A4E5F860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5C8A-F36B-43FE-9BD9-F04C7DDB1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808644-97C7-4348-8957-CA88D872F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746B4A-EAD6-4768-80A3-ED3360FD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4BC733-8F10-4433-B161-D86E36C2E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54F22-19D7-456B-B089-4062BA62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155D64-03CE-479F-B5D9-FF93326A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373B2-D315-4C31-8650-1C854BE3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F28FC-9CAB-4255-B143-66458B675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AE556-28E3-4A09-934B-BBDBC7B5D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F4F62-52B5-4056-84CB-BE8B346C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9C9C-C094-44DC-B14A-5F604B11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280-ED12-4547-8EE2-E605B7840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7C19-E8D6-4DDB-A181-3FF835AAE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0FCB-9529-4816-8F65-FB2A8224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6E673-E8BC-468D-B96B-540C0DA41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386BB-1FCB-4317-B039-A16C401E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95B3-0630-4FD4-B6B1-909995606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D51B-9C8F-464E-91A9-F634EDCE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7C37-B38C-4A0A-9775-FFCBB3DC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F909-3797-491B-BA8F-4011E8EF7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D27EE-A0D3-448E-8278-71D41AFD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CA936-1627-44BA-AEBB-898432A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0D3F4-B8EB-4250-BA1A-EDF4DFAF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174F4-11AD-446B-8159-5D9B8623C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8D07-CF83-4AB3-A439-1C7E16EA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BF060-4D9A-4236-B1A4-77D67E492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41B25-4C6A-40DE-821E-E0C72AF0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4356A-6128-4F8B-99D5-790D94AC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1AF35-95BD-4C48-9674-7CC61F49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06A91-07D9-47F9-B735-D09DA889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E601-42A6-4ADA-A121-363DC73B0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1E876-190A-4B90-8CD8-9F4EF63D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88A76B-A9C8-48D2-ADFA-9756C7AC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3EF7B-C3E0-4097-A9D7-4A65626EF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5E468B-3E3E-4042-AF8E-50E31688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846EE-C349-41F3-BF9D-8840EC07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D405D-160A-40A8-BAEB-1D5614F0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815E5-1097-41CD-987C-142D2EE96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39FC3F-CF4D-4EE7-B04B-17B27F435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DC920-8F83-42D0-917C-80BD859F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B929F6-0E13-4430-B49A-1ED21903F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AD92-9762-4CCF-9004-22895C5D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962B-767F-4791-96D9-0B9FFAE17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C4788C-DCA0-4C0C-9395-376E3608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4B26AA-EDA9-4CA0-A9D1-1CFAB24F3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3F174-6F99-4E98-822B-64B749AD7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B4AD17-F905-4659-8189-7998A3C1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A29D5A-9323-4AC0-BB8C-741472BC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88DBF0-C7A1-4283-BB39-5284268F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FDF5F-017D-40F0-8203-980CB2ED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36FD5-69CC-4D9F-9CEE-28777ECB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09A4C2-F479-4D07-B77E-95990C40E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F72-F8DA-4FD9-A733-BD5D61182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CC583E-A1D5-46EC-A3D5-33AC15C4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C25542-DD5B-4258-B6D3-48E81968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F001D0-FD02-4EE1-91DF-53CA237D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C934F-6480-4FC2-9677-CDFFFA4F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811EA-6E98-4CD5-B511-0B86CDB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11E0A-9C8E-4E25-AC41-62E6C32C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F848B3-B0D8-4C40-A97F-CF0DB27E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8CB24-6FC3-4548-87BE-3AF57F45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927A-6DD0-42BE-A647-675445E30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9D4D4-54C7-4EC8-934B-861863D57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FC9A-C3C2-4423-B2DF-E6527AD31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87D7-8D88-4622-8D39-61458F1A8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F33A1-CE47-4C17-BDC6-9936B152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C9E7A-1381-4DAF-A369-5A92EAFA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72811-EEDA-420B-B7D6-B00F7F0D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070A5-842C-4C5A-A5BD-8ED2EF53D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BD9B85-455D-4E5F-9C05-000A315F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6B98A8-6CD7-4E24-BC46-DF1D73A8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D8B7CB-9808-42A2-A02F-655215212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F4BEC-21C7-4760-BA35-36A7F514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5CF0D-1148-473E-80D1-07C06501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F442-40B2-4C06-B991-865CCC00F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4FBBE2-A0B7-45EC-8C73-9CD0F9217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2E913B-F051-41EA-B40D-AA3AD02BD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DD3FD-AA79-4827-A4F1-3932691B0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D2711-A0F7-4158-A755-FCE11572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8964C6-84CD-4FDD-ADC4-FD2E76E8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67E5C-2C9B-48F9-99D1-E62FD29D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B9477A-869C-4502-895C-841D0EF8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DD8F75-2844-47E0-B4B5-360721C4D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E0251-A9B0-4580-8A70-14393A13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E0CA9E-1605-4F8A-B6D7-D6812656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3B7-13A3-422C-A0AB-943CCC3F0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1A4988-BFAD-4D33-8296-6B2825464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7B833-AF60-4397-A060-49115BB4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DE01D1-87A8-4744-8289-2670B338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156C9A-D042-49D5-94FF-B72EF0C2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FA1679-13AC-401F-94EA-8F7E61EF4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093F7-59E2-4FEE-A8DB-3F74499E4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9E471-5A41-488A-9C4B-10FAA93C7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E6769D-C5FA-41F7-9A04-31F94FC1E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E5F7B-E70C-40E5-83E2-830020DC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FCFED5-920D-401B-839D-ABAE0B06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DC0E-B2D9-4425-BF06-DACFBCF5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B5704F-455C-48DA-9686-6456030D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640AAD-25DB-4CF6-83F4-3BCE1E4E2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89C963-51DB-4C8E-BECA-DC773E5E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83EB6B-42B0-476B-AE96-F52377F3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0E8D3-E2AE-4FEA-B5FF-229670178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4D6EC-03EE-44D4-BB58-48235AD86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58F64B-0315-4F67-995E-B5763CB0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625485-28B2-4A27-8076-77325FAE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1852B-AA66-4D35-8152-9EBD60EB1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04FF3-7BBC-4268-9AB3-35C1F31B9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3B40-05D7-4125-A121-82F35A163B36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9073E-49E4-4C38-AE8C-B7A5B0EA95F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6531F-190B-461B-8716-BFCF4DE2A6F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A284-2FF2-415F-BF51-1F652086137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6AEA-98A0-4BA3-86E9-8948BAFB9ED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9D0B-5472-4E8E-9FD8-352DD899628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0D117-3FE9-40A5-820C-DAAD858F57D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407C-8428-4BAF-858F-371DDA484FF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45853-3920-4A8E-9D97-3D21E69CEF4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hyperlink" Target="https://techniqueuniclima.com/" TargetMode="External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4.png"/><Relationship Id="rId4" Type="http://schemas.openxmlformats.org/officeDocument/2006/relationships/image" Target="../media/image21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VIESSMANN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VIESSMANN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VIESSMANN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boucle solaire (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générateur «Chaudière Vitodens 100 W B1KA009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Vitosol 200-F SVK/SVKA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système de stockage «Vitocell 100-W CVSA 200 L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9" name="Object 16"/>
          <p:cNvGraphicFramePr/>
          <p:nvPr/>
        </p:nvGraphicFramePr>
        <p:xfrm>
          <a:off x="5519880" y="3449520"/>
          <a:ext cx="18396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49520"/>
                    <a:ext cx="18396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8"/>
          <p:cNvGraphicFramePr/>
          <p:nvPr/>
        </p:nvGraphicFramePr>
        <p:xfrm>
          <a:off x="3267000" y="432756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2756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Vitodens 100 W B1KA009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Vitocell 100-W CVSA 200 L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Vitosol 200-F type SVK/SVKA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Object 17"/>
          <p:cNvGraphicFramePr/>
          <p:nvPr/>
        </p:nvGraphicFramePr>
        <p:xfrm>
          <a:off x="7039080" y="3938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938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668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8" descr=""/>
          <p:cNvPicPr/>
          <p:nvPr/>
        </p:nvPicPr>
        <p:blipFill>
          <a:blip r:embed="rId8"/>
          <a:stretch/>
        </p:blipFill>
        <p:spPr>
          <a:xfrm>
            <a:off x="7419960" y="4068720"/>
            <a:ext cx="2892600" cy="249084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20" name="Picture 27" descr=""/>
          <p:cNvPicPr/>
          <p:nvPr/>
        </p:nvPicPr>
        <p:blipFill>
          <a:blip r:embed="rId9"/>
          <a:stretch/>
        </p:blipFill>
        <p:spPr>
          <a:xfrm>
            <a:off x="8513640" y="4759200"/>
            <a:ext cx="1800360" cy="2764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7" descr=""/>
          <p:cNvPicPr/>
          <p:nvPr/>
        </p:nvPicPr>
        <p:blipFill>
          <a:blip r:embed="rId10"/>
          <a:stretch/>
        </p:blipFill>
        <p:spPr>
          <a:xfrm>
            <a:off x="8513640" y="4543560"/>
            <a:ext cx="1800360" cy="276120"/>
          </a:xfrm>
          <a:prstGeom prst="rect">
            <a:avLst/>
          </a:prstGeom>
          <a:ln w="0">
            <a:noFill/>
          </a:ln>
        </p:spPr>
      </p:pic>
      <p:sp>
        <p:nvSpPr>
          <p:cNvPr id="422" name="ZoneTexte 15"/>
          <p:cNvSpPr/>
          <p:nvPr/>
        </p:nvSpPr>
        <p:spPr>
          <a:xfrm>
            <a:off x="8442360" y="4543560"/>
            <a:ext cx="180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Ballon Vitocell 100-W CVSA 200 L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ZoneTexte 16"/>
          <p:cNvSpPr/>
          <p:nvPr/>
        </p:nvSpPr>
        <p:spPr>
          <a:xfrm>
            <a:off x="8442360" y="4695840"/>
            <a:ext cx="15825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Vitodens 100 W B1KA009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ZoneTexte 17"/>
          <p:cNvSpPr/>
          <p:nvPr/>
        </p:nvSpPr>
        <p:spPr>
          <a:xfrm>
            <a:off x="8442360" y="4830840"/>
            <a:ext cx="194292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Capteur Vitosol 200-F type SVK/SVKA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3E871-CCF8-4412-8B74-CA005CB973F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808200" y="190980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3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9" name="Text Box 14"/>
          <p:cNvSpPr/>
          <p:nvPr/>
        </p:nvSpPr>
        <p:spPr>
          <a:xfrm>
            <a:off x="6959520" y="2646360"/>
            <a:ext cx="1868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0" name="AutoShape 16"/>
          <p:cNvCxnSpPr/>
          <p:nvPr/>
        </p:nvCxnSpPr>
        <p:spPr>
          <a:xfrm flipV="1" rot="16200000">
            <a:off x="676476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1" name="AutoShape 19"/>
          <p:cNvCxnSpPr/>
          <p:nvPr/>
        </p:nvCxnSpPr>
        <p:spPr>
          <a:xfrm flipV="1" rot="16200000">
            <a:off x="676476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2" name="AutoShape 24"/>
          <p:cNvCxnSpPr/>
          <p:nvPr/>
        </p:nvCxnSpPr>
        <p:spPr>
          <a:xfrm flipV="1" rot="16200000">
            <a:off x="6599520" y="328284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3" name="AutoShape 41"/>
          <p:cNvCxnSpPr/>
          <p:nvPr/>
        </p:nvCxnSpPr>
        <p:spPr>
          <a:xfrm flipH="1" flipV="1" rot="10800000">
            <a:off x="91800" y="39240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4" name="Freeform 25"/>
          <p:cNvSpPr/>
          <p:nvPr/>
        </p:nvSpPr>
        <p:spPr>
          <a:xfrm>
            <a:off x="5684760" y="2971800"/>
            <a:ext cx="2362320" cy="504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37"/>
          <p:cNvSpPr/>
          <p:nvPr/>
        </p:nvSpPr>
        <p:spPr>
          <a:xfrm>
            <a:off x="3208320" y="404352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6" name="Picture 17" descr=""/>
          <p:cNvPicPr/>
          <p:nvPr/>
        </p:nvPicPr>
        <p:blipFill>
          <a:blip r:embed="rId2"/>
          <a:stretch/>
        </p:blipFill>
        <p:spPr>
          <a:xfrm>
            <a:off x="3233880" y="2143080"/>
            <a:ext cx="838080" cy="181080"/>
          </a:xfrm>
          <a:prstGeom prst="rect">
            <a:avLst/>
          </a:prstGeom>
          <a:ln w="0">
            <a:noFill/>
          </a:ln>
        </p:spPr>
      </p:pic>
      <p:sp>
        <p:nvSpPr>
          <p:cNvPr id="437" name="Espace réservé du texte 22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36"/>
          <p:cNvSpPr/>
          <p:nvPr/>
        </p:nvSpPr>
        <p:spPr>
          <a:xfrm>
            <a:off x="6784920" y="335160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A0AC1-0DB9-43D9-AE63-4FD52F46DE4E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714240" y="138096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41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736560" y="313380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2" name="Text Box 7"/>
          <p:cNvSpPr/>
          <p:nvPr/>
        </p:nvSpPr>
        <p:spPr>
          <a:xfrm>
            <a:off x="6870600" y="2041560"/>
            <a:ext cx="1881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3" name="AutoShape 8"/>
          <p:cNvCxnSpPr/>
          <p:nvPr/>
        </p:nvCxnSpPr>
        <p:spPr>
          <a:xfrm flipV="1" rot="16200000">
            <a:off x="669024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44" name="AutoShape 9"/>
          <p:cNvCxnSpPr/>
          <p:nvPr/>
        </p:nvCxnSpPr>
        <p:spPr>
          <a:xfrm flipV="1" rot="16200000">
            <a:off x="669024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45" name="AutoShape 10"/>
          <p:cNvCxnSpPr/>
          <p:nvPr/>
        </p:nvCxnSpPr>
        <p:spPr>
          <a:xfrm flipV="1" rot="16200000">
            <a:off x="6527880" y="267804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46" name="AutoShape 12"/>
          <p:cNvCxnSpPr/>
          <p:nvPr/>
        </p:nvCxnSpPr>
        <p:spPr>
          <a:xfrm flipH="1" flipV="1" rot="10800000">
            <a:off x="1728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7" name="Freeform 25"/>
          <p:cNvSpPr/>
          <p:nvPr/>
        </p:nvSpPr>
        <p:spPr>
          <a:xfrm flipV="1">
            <a:off x="4452840" y="2904840"/>
            <a:ext cx="5486400" cy="38088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8"/>
          <p:cNvSpPr/>
          <p:nvPr/>
        </p:nvSpPr>
        <p:spPr>
          <a:xfrm>
            <a:off x="6689880" y="2448000"/>
            <a:ext cx="343980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9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55880" y="191448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50" name="Text Box 111"/>
          <p:cNvSpPr/>
          <p:nvPr/>
        </p:nvSpPr>
        <p:spPr>
          <a:xfrm>
            <a:off x="3078720" y="34196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3,8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Text Box 112"/>
          <p:cNvSpPr/>
          <p:nvPr/>
        </p:nvSpPr>
        <p:spPr>
          <a:xfrm>
            <a:off x="3078720" y="36320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,9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13"/>
          <p:cNvSpPr/>
          <p:nvPr/>
        </p:nvSpPr>
        <p:spPr>
          <a:xfrm>
            <a:off x="3047760" y="427680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14"/>
          <p:cNvSpPr/>
          <p:nvPr/>
        </p:nvSpPr>
        <p:spPr>
          <a:xfrm>
            <a:off x="3060720" y="44845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115"/>
          <p:cNvSpPr/>
          <p:nvPr/>
        </p:nvSpPr>
        <p:spPr>
          <a:xfrm>
            <a:off x="3081240" y="469728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,8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116"/>
          <p:cNvSpPr/>
          <p:nvPr/>
        </p:nvSpPr>
        <p:spPr>
          <a:xfrm>
            <a:off x="3061440" y="48862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118"/>
          <p:cNvSpPr/>
          <p:nvPr/>
        </p:nvSpPr>
        <p:spPr>
          <a:xfrm>
            <a:off x="3063960" y="534348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120"/>
          <p:cNvSpPr/>
          <p:nvPr/>
        </p:nvSpPr>
        <p:spPr>
          <a:xfrm>
            <a:off x="3080160" y="55609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121"/>
          <p:cNvSpPr/>
          <p:nvPr/>
        </p:nvSpPr>
        <p:spPr>
          <a:xfrm>
            <a:off x="3079800" y="5757840"/>
            <a:ext cx="430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7,9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122"/>
          <p:cNvSpPr/>
          <p:nvPr/>
        </p:nvSpPr>
        <p:spPr>
          <a:xfrm>
            <a:off x="3079800" y="59641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,0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123"/>
          <p:cNvSpPr/>
          <p:nvPr/>
        </p:nvSpPr>
        <p:spPr>
          <a:xfrm>
            <a:off x="3054600" y="61815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124"/>
          <p:cNvSpPr/>
          <p:nvPr/>
        </p:nvSpPr>
        <p:spPr>
          <a:xfrm>
            <a:off x="3054600" y="641016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124"/>
          <p:cNvSpPr/>
          <p:nvPr/>
        </p:nvSpPr>
        <p:spPr>
          <a:xfrm>
            <a:off x="3048480" y="657864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3" name="Picture 35" descr=""/>
          <p:cNvPicPr/>
          <p:nvPr/>
        </p:nvPicPr>
        <p:blipFill>
          <a:blip r:embed="rId4"/>
          <a:stretch/>
        </p:blipFill>
        <p:spPr>
          <a:xfrm>
            <a:off x="3019320" y="164772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5" descr=""/>
          <p:cNvPicPr/>
          <p:nvPr/>
        </p:nvPicPr>
        <p:blipFill>
          <a:blip r:embed="rId5"/>
          <a:stretch/>
        </p:blipFill>
        <p:spPr>
          <a:xfrm>
            <a:off x="3386160" y="164772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35" descr=""/>
          <p:cNvPicPr/>
          <p:nvPr/>
        </p:nvPicPr>
        <p:blipFill>
          <a:blip r:embed="rId6"/>
          <a:stretch/>
        </p:blipFill>
        <p:spPr>
          <a:xfrm>
            <a:off x="3019320" y="2079720"/>
            <a:ext cx="1000080" cy="17136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35" descr=""/>
          <p:cNvPicPr/>
          <p:nvPr/>
        </p:nvPicPr>
        <p:blipFill>
          <a:blip r:embed="rId7"/>
          <a:stretch/>
        </p:blipFill>
        <p:spPr>
          <a:xfrm>
            <a:off x="3530520" y="2079720"/>
            <a:ext cx="1000080" cy="171360"/>
          </a:xfrm>
          <a:prstGeom prst="rect">
            <a:avLst/>
          </a:prstGeom>
          <a:ln w="0">
            <a:noFill/>
          </a:ln>
        </p:spPr>
      </p:pic>
      <p:sp>
        <p:nvSpPr>
          <p:cNvPr id="467" name="ZoneTexte 38"/>
          <p:cNvSpPr/>
          <p:nvPr/>
        </p:nvSpPr>
        <p:spPr>
          <a:xfrm>
            <a:off x="2946240" y="1622520"/>
            <a:ext cx="2232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Chaudière Vitodens 100-W B1K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ZoneTexte 39"/>
          <p:cNvSpPr/>
          <p:nvPr/>
        </p:nvSpPr>
        <p:spPr>
          <a:xfrm>
            <a:off x="2946240" y="2036880"/>
            <a:ext cx="223236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Chaudière Vitodens 100-W B1K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8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95535-B8E5-4B4C-97B2-DD2F2AB3CC7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Espace réservé du texte 4"/>
          <p:cNvSpPr/>
          <p:nvPr/>
        </p:nvSpPr>
        <p:spPr>
          <a:xfrm>
            <a:off x="2027160" y="287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Text Box 115"/>
          <p:cNvSpPr/>
          <p:nvPr/>
        </p:nvSpPr>
        <p:spPr>
          <a:xfrm>
            <a:off x="3041280" y="5076720"/>
            <a:ext cx="453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,5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844560" y="1522440"/>
            <a:ext cx="5203800" cy="460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74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5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Text Box 8"/>
          <p:cNvSpPr/>
          <p:nvPr/>
        </p:nvSpPr>
        <p:spPr>
          <a:xfrm>
            <a:off x="6966000" y="225900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6" name="AutoShape 9"/>
          <p:cNvCxnSpPr/>
          <p:nvPr/>
        </p:nvCxnSpPr>
        <p:spPr>
          <a:xfrm flipH="1" flipV="1" rot="10800000">
            <a:off x="6707520" y="716724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7" name="AutoShape 10"/>
          <p:cNvCxnSpPr/>
          <p:nvPr/>
        </p:nvCxnSpPr>
        <p:spPr>
          <a:xfrm flipH="1" flipV="1" rot="10800000">
            <a:off x="6707520" y="716724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8" name="AutoShape 11"/>
          <p:cNvCxnSpPr/>
          <p:nvPr/>
        </p:nvCxnSpPr>
        <p:spPr>
          <a:xfrm flipH="1" rot="16200000">
            <a:off x="6605640" y="2893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9" name="AutoShape 12"/>
          <p:cNvCxnSpPr/>
          <p:nvPr/>
        </p:nvCxnSpPr>
        <p:spPr>
          <a:xfrm flipH="1" flipV="1" rot="10800000">
            <a:off x="759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0" name="Freeform 24"/>
          <p:cNvSpPr/>
          <p:nvPr/>
        </p:nvSpPr>
        <p:spPr>
          <a:xfrm>
            <a:off x="5614920" y="304632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29"/>
          <p:cNvSpPr/>
          <p:nvPr/>
        </p:nvSpPr>
        <p:spPr>
          <a:xfrm>
            <a:off x="3252960" y="258912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014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45"/>
          <p:cNvSpPr/>
          <p:nvPr/>
        </p:nvSpPr>
        <p:spPr>
          <a:xfrm>
            <a:off x="3252960" y="281772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46"/>
          <p:cNvSpPr/>
          <p:nvPr/>
        </p:nvSpPr>
        <p:spPr>
          <a:xfrm>
            <a:off x="3252960" y="35035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47"/>
          <p:cNvSpPr/>
          <p:nvPr/>
        </p:nvSpPr>
        <p:spPr>
          <a:xfrm>
            <a:off x="3252960" y="37321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48"/>
          <p:cNvSpPr/>
          <p:nvPr/>
        </p:nvSpPr>
        <p:spPr>
          <a:xfrm>
            <a:off x="3252960" y="39607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49"/>
          <p:cNvSpPr/>
          <p:nvPr/>
        </p:nvSpPr>
        <p:spPr>
          <a:xfrm>
            <a:off x="3274920" y="41893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99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50"/>
          <p:cNvSpPr/>
          <p:nvPr/>
        </p:nvSpPr>
        <p:spPr>
          <a:xfrm>
            <a:off x="3274920" y="45705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38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Text Box 51"/>
          <p:cNvSpPr/>
          <p:nvPr/>
        </p:nvSpPr>
        <p:spPr>
          <a:xfrm>
            <a:off x="3252960" y="56530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52"/>
          <p:cNvSpPr/>
          <p:nvPr/>
        </p:nvSpPr>
        <p:spPr>
          <a:xfrm>
            <a:off x="3252960" y="58816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4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25"/>
          <p:cNvSpPr/>
          <p:nvPr/>
        </p:nvSpPr>
        <p:spPr>
          <a:xfrm>
            <a:off x="6784920" y="1522440"/>
            <a:ext cx="343692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Freeform 24"/>
          <p:cNvSpPr/>
          <p:nvPr/>
        </p:nvSpPr>
        <p:spPr>
          <a:xfrm>
            <a:off x="5614920" y="258912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784920" y="22845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Freeform 24"/>
          <p:cNvSpPr/>
          <p:nvPr/>
        </p:nvSpPr>
        <p:spPr>
          <a:xfrm>
            <a:off x="5614920" y="3351240"/>
            <a:ext cx="2210040" cy="11430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Freeform 24"/>
          <p:cNvSpPr/>
          <p:nvPr/>
        </p:nvSpPr>
        <p:spPr>
          <a:xfrm>
            <a:off x="5614920" y="357984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6784920" y="50115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Freeform 61"/>
          <p:cNvSpPr/>
          <p:nvPr/>
        </p:nvSpPr>
        <p:spPr>
          <a:xfrm>
            <a:off x="5462640" y="5145120"/>
            <a:ext cx="2057400" cy="110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296" h="768">
                <a:moveTo>
                  <a:pt x="1296" y="768"/>
                </a:moveTo>
                <a:lnTo>
                  <a:pt x="672" y="768"/>
                </a:lnTo>
                <a:lnTo>
                  <a:pt x="672" y="384"/>
                </a:lnTo>
                <a:lnTo>
                  <a:pt x="672" y="336"/>
                </a:lnTo>
                <a:lnTo>
                  <a:pt x="288" y="336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84920" y="594216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’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3998880" y="5827680"/>
            <a:ext cx="18432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AutoShape 65"/>
          <p:cNvSpPr/>
          <p:nvPr/>
        </p:nvSpPr>
        <p:spPr>
          <a:xfrm>
            <a:off x="5251320" y="488160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0" name="Picture 38" descr=""/>
          <p:cNvPicPr/>
          <p:nvPr/>
        </p:nvPicPr>
        <p:blipFill>
          <a:blip r:embed="rId2"/>
          <a:stretch/>
        </p:blipFill>
        <p:spPr>
          <a:xfrm>
            <a:off x="3240000" y="3017880"/>
            <a:ext cx="1008000" cy="1429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9" descr=""/>
          <p:cNvPicPr/>
          <p:nvPr/>
        </p:nvPicPr>
        <p:blipFill>
          <a:blip r:embed="rId3"/>
          <a:stretch/>
        </p:blipFill>
        <p:spPr>
          <a:xfrm>
            <a:off x="3240000" y="3233880"/>
            <a:ext cx="324000" cy="2188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6"/>
          <p:cNvSpPr/>
          <p:nvPr/>
        </p:nvSpPr>
        <p:spPr>
          <a:xfrm>
            <a:off x="3240000" y="3017880"/>
            <a:ext cx="1981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46"/>
          <p:cNvSpPr/>
          <p:nvPr/>
        </p:nvSpPr>
        <p:spPr>
          <a:xfrm>
            <a:off x="3240000" y="3233880"/>
            <a:ext cx="1981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4" name="Picture 40" descr=""/>
          <p:cNvPicPr/>
          <p:nvPr/>
        </p:nvPicPr>
        <p:blipFill>
          <a:blip r:embed="rId4"/>
          <a:stretch/>
        </p:blipFill>
        <p:spPr>
          <a:xfrm>
            <a:off x="3247920" y="186516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505" name="Picture 40" descr=""/>
          <p:cNvPicPr/>
          <p:nvPr/>
        </p:nvPicPr>
        <p:blipFill>
          <a:blip r:embed="rId5"/>
          <a:stretch/>
        </p:blipFill>
        <p:spPr>
          <a:xfrm>
            <a:off x="3537000" y="186516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40" descr=""/>
          <p:cNvPicPr/>
          <p:nvPr/>
        </p:nvPicPr>
        <p:blipFill>
          <a:blip r:embed="rId6"/>
          <a:stretch/>
        </p:blipFill>
        <p:spPr>
          <a:xfrm>
            <a:off x="3313080" y="4933800"/>
            <a:ext cx="1000080" cy="17172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"/>
          <p:cNvPicPr/>
          <p:nvPr/>
        </p:nvPicPr>
        <p:blipFill>
          <a:blip r:embed="rId7"/>
          <a:stretch/>
        </p:blipFill>
        <p:spPr>
          <a:xfrm>
            <a:off x="3897360" y="4960800"/>
            <a:ext cx="1000080" cy="17172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50"/>
          <p:cNvSpPr/>
          <p:nvPr/>
        </p:nvSpPr>
        <p:spPr>
          <a:xfrm>
            <a:off x="3274920" y="49672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007 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3240000" y="1865160"/>
            <a:ext cx="237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CESI Capteur Vitosol 200-F SVK/SVKA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0" name="Picture 41" descr=""/>
          <p:cNvPicPr/>
          <p:nvPr/>
        </p:nvPicPr>
        <p:blipFill>
          <a:blip r:embed="rId8"/>
          <a:stretch/>
        </p:blipFill>
        <p:spPr>
          <a:xfrm>
            <a:off x="3240000" y="5437080"/>
            <a:ext cx="1000080" cy="17172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49"/>
          <p:cNvSpPr/>
          <p:nvPr/>
        </p:nvSpPr>
        <p:spPr>
          <a:xfrm>
            <a:off x="3274920" y="5392800"/>
            <a:ext cx="198144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99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764400" y="315288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764400" y="41608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9D76-6CBC-4039-A113-A7B75509F8D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</a:t>
            </a:r>
            <a:r>
              <a:rPr b="0" lang="fr-FR" sz="2900" spc="-1" strike="noStrike">
                <a:solidFill>
                  <a:srgbClr val="662483"/>
                </a:solidFill>
                <a:latin typeface="45 Helvetica Light"/>
              </a:rPr>
              <a:t>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45 Helvetica Light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45 Helvetica Light"/>
              </a:rPr>
              <a:t>objet boucle solaire «Vitosol 200-F type SVK/SVKA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663480" y="371016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7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663480" y="1652760"/>
            <a:ext cx="4737240" cy="186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18" name="Text Box 9"/>
          <p:cNvSpPr/>
          <p:nvPr/>
        </p:nvSpPr>
        <p:spPr>
          <a:xfrm>
            <a:off x="6837480" y="238932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9" name="AutoShape 12"/>
          <p:cNvCxnSpPr/>
          <p:nvPr/>
        </p:nvCxnSpPr>
        <p:spPr>
          <a:xfrm flipH="1" rot="16200000">
            <a:off x="6477120" y="30240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20" name="AutoShape 13"/>
          <p:cNvCxnSpPr/>
          <p:nvPr/>
        </p:nvCxnSpPr>
        <p:spPr>
          <a:xfrm flipH="1" flipV="1" rot="10800000">
            <a:off x="75960" y="3851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1" name="Text Box 22"/>
          <p:cNvSpPr/>
          <p:nvPr/>
        </p:nvSpPr>
        <p:spPr>
          <a:xfrm>
            <a:off x="6656400" y="355752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Freeform 23"/>
          <p:cNvSpPr/>
          <p:nvPr/>
        </p:nvSpPr>
        <p:spPr>
          <a:xfrm flipV="1">
            <a:off x="5105520" y="206316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3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81080" y="229068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524" name="Freeform 24"/>
          <p:cNvSpPr/>
          <p:nvPr/>
        </p:nvSpPr>
        <p:spPr>
          <a:xfrm flipV="1">
            <a:off x="5105520" y="4091040"/>
            <a:ext cx="3657600" cy="4968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Freeform 24"/>
          <p:cNvSpPr/>
          <p:nvPr/>
        </p:nvSpPr>
        <p:spPr>
          <a:xfrm>
            <a:off x="5105520" y="5005440"/>
            <a:ext cx="3047760" cy="65412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Text Box 25"/>
          <p:cNvSpPr/>
          <p:nvPr/>
        </p:nvSpPr>
        <p:spPr>
          <a:xfrm>
            <a:off x="6656400" y="5462640"/>
            <a:ext cx="343692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25"/>
          <p:cNvSpPr/>
          <p:nvPr/>
        </p:nvSpPr>
        <p:spPr>
          <a:xfrm>
            <a:off x="6656400" y="378612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Freeform 24"/>
          <p:cNvSpPr/>
          <p:nvPr/>
        </p:nvSpPr>
        <p:spPr>
          <a:xfrm flipV="1">
            <a:off x="5105520" y="2382480"/>
            <a:ext cx="3657600" cy="38088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9" name="Text Box 25"/>
          <p:cNvSpPr/>
          <p:nvPr/>
        </p:nvSpPr>
        <p:spPr>
          <a:xfrm>
            <a:off x="6656400" y="200196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39"/>
          <p:cNvSpPr/>
          <p:nvPr/>
        </p:nvSpPr>
        <p:spPr>
          <a:xfrm>
            <a:off x="2892240" y="450864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1" name="Text Box 40"/>
          <p:cNvSpPr/>
          <p:nvPr/>
        </p:nvSpPr>
        <p:spPr>
          <a:xfrm>
            <a:off x="2877120" y="47005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2" name="Text Box 41"/>
          <p:cNvSpPr/>
          <p:nvPr/>
        </p:nvSpPr>
        <p:spPr>
          <a:xfrm>
            <a:off x="2894040" y="4929120"/>
            <a:ext cx="47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38 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3" name="Text Box 42"/>
          <p:cNvSpPr/>
          <p:nvPr/>
        </p:nvSpPr>
        <p:spPr>
          <a:xfrm>
            <a:off x="2933640" y="5192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0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4" name="Text Box 43"/>
          <p:cNvSpPr/>
          <p:nvPr/>
        </p:nvSpPr>
        <p:spPr>
          <a:xfrm>
            <a:off x="2862720" y="538632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5" name="Text Box 44"/>
          <p:cNvSpPr/>
          <p:nvPr/>
        </p:nvSpPr>
        <p:spPr>
          <a:xfrm>
            <a:off x="2898000" y="563868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2,2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6" name="Text Box 46"/>
          <p:cNvSpPr/>
          <p:nvPr/>
        </p:nvSpPr>
        <p:spPr>
          <a:xfrm>
            <a:off x="2892600" y="588024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7" name="Picture 42" descr=""/>
          <p:cNvPicPr/>
          <p:nvPr/>
        </p:nvPicPr>
        <p:blipFill>
          <a:blip r:embed="rId4"/>
          <a:stretch/>
        </p:blipFill>
        <p:spPr>
          <a:xfrm>
            <a:off x="2854440" y="2903400"/>
            <a:ext cx="1914480" cy="17172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5" descr=""/>
          <p:cNvPicPr/>
          <p:nvPr/>
        </p:nvPicPr>
        <p:blipFill>
          <a:blip r:embed="rId5"/>
          <a:stretch/>
        </p:blipFill>
        <p:spPr>
          <a:xfrm>
            <a:off x="2824200" y="1895400"/>
            <a:ext cx="1000080" cy="171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5" descr=""/>
          <p:cNvPicPr/>
          <p:nvPr/>
        </p:nvPicPr>
        <p:blipFill>
          <a:blip r:embed="rId6"/>
          <a:stretch/>
        </p:blipFill>
        <p:spPr>
          <a:xfrm>
            <a:off x="3479760" y="1895400"/>
            <a:ext cx="1000080" cy="17136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46"/>
          <p:cNvSpPr/>
          <p:nvPr/>
        </p:nvSpPr>
        <p:spPr>
          <a:xfrm>
            <a:off x="2859120" y="1922400"/>
            <a:ext cx="1981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Ballon Vitocell 100-W CVSA 200 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41" name="Picture 36" descr=""/>
          <p:cNvPicPr/>
          <p:nvPr/>
        </p:nvPicPr>
        <p:blipFill>
          <a:blip r:embed="rId7"/>
          <a:stretch/>
        </p:blipFill>
        <p:spPr>
          <a:xfrm>
            <a:off x="2824200" y="2282760"/>
            <a:ext cx="1000080" cy="17136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6"/>
          <p:cNvSpPr/>
          <p:nvPr/>
        </p:nvSpPr>
        <p:spPr>
          <a:xfrm>
            <a:off x="2859120" y="2282760"/>
            <a:ext cx="1981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Ballon Vitocell 100-W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3" name="Text Box 46"/>
          <p:cNvSpPr/>
          <p:nvPr/>
        </p:nvSpPr>
        <p:spPr>
          <a:xfrm>
            <a:off x="2824200" y="2498760"/>
            <a:ext cx="2521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CESI Capteur Vitosol 200-F type SVK/SVKA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4" name="Text Box 46"/>
          <p:cNvSpPr/>
          <p:nvPr/>
        </p:nvSpPr>
        <p:spPr>
          <a:xfrm>
            <a:off x="2824200" y="2921040"/>
            <a:ext cx="25210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Chaudière Vitodens 100 W B1KA009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5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Vitocell 100-W CSVA 200 L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B107-2C56-422B-B03B-3936FC2ABD56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0" descr=""/>
          <p:cNvPicPr/>
          <p:nvPr/>
        </p:nvPicPr>
        <p:blipFill>
          <a:blip r:embed="rId1"/>
          <a:stretch/>
        </p:blipFill>
        <p:spPr>
          <a:xfrm>
            <a:off x="116856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7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927840" y="1811160"/>
            <a:ext cx="1800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50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1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2" name="AutoShape 12"/>
          <p:cNvCxnSpPr/>
          <p:nvPr/>
        </p:nvCxnSpPr>
        <p:spPr>
          <a:xfrm flipH="1" rot="16200000">
            <a:off x="6927840" y="32763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53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54" name="Text Box 22"/>
          <p:cNvSpPr/>
          <p:nvPr/>
        </p:nvSpPr>
        <p:spPr>
          <a:xfrm>
            <a:off x="4192560" y="2486160"/>
            <a:ext cx="172728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5" name="Freeform 23"/>
          <p:cNvSpPr/>
          <p:nvPr/>
        </p:nvSpPr>
        <p:spPr>
          <a:xfrm flipV="1">
            <a:off x="5610240" y="245664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6" name="Text Box 24"/>
          <p:cNvSpPr/>
          <p:nvPr/>
        </p:nvSpPr>
        <p:spPr>
          <a:xfrm>
            <a:off x="1168560" y="1981080"/>
            <a:ext cx="568800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57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895480" y="203184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58" name="Text Box 38"/>
          <p:cNvSpPr/>
          <p:nvPr/>
        </p:nvSpPr>
        <p:spPr>
          <a:xfrm>
            <a:off x="4048200" y="2773440"/>
            <a:ext cx="14936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9" name="Text Box 40"/>
          <p:cNvSpPr/>
          <p:nvPr/>
        </p:nvSpPr>
        <p:spPr>
          <a:xfrm>
            <a:off x="4119480" y="298944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70.0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0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2233C-80AB-4B08-9E53-8B57ED86469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3:53Z</dcterms:modified>
  <cp:revision>122</cp:revision>
  <dc:subject/>
  <dc:title>Présentation PowerPoint</dc:title>
</cp:coreProperties>
</file>