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png" ContentType="image/png"/>
  <Override PartName="/ppt/media/image8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0.png" ContentType="image/png"/>
  <Override PartName="/ppt/media/image5.wmf" ContentType="image/x-wmf"/>
  <Override PartName="/ppt/media/image10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8D4D-000D-4B5C-8D63-D6A7B1920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3C46C-0EAC-48E9-B970-B08A2233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D1FE4C-1913-4B9A-8CC6-D09F1ECB5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8DB51-4EDE-43C8-91A3-CF433906B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979D7F-12F3-4C9C-9C58-F7F0CB79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008CA5-9E9E-4DC0-ACBC-4DC016577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3A7D6B-C89B-4EE2-A2C9-69E3D1F30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F4256-BA3D-4F76-9C78-B6820BCE7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FC9AA-5A95-4185-AC9A-8A6757A9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BD6EF4-F16E-4C35-8822-242E0A578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DA925-A0A8-4246-9228-A7B68046B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CD14-E66D-49EC-BE1B-54823435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AF3-A47B-4473-98E3-743150603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488E-DD43-46F9-A7A9-F1524251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C2CD-C22D-4BE0-B7E3-356DDB078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F2C9-A253-42DA-BEDF-D32DC7529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57817-4C58-42C9-8E2F-776C3639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6A6D-E854-4358-977D-FAC320372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A17F9-6F2D-4882-8C87-218DB6554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F3EA-2B4A-4A42-9EBF-A9E00911A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4C14-AD2D-48EF-9068-D3D9A354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D87A1-599D-47A8-80C4-88085BC4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91A5-28A7-43BF-83F2-4168E221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E73F-DA4E-4723-B96D-B0BB6346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7569-0A39-4237-831D-B31B5B1D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75C9A-2F49-42B1-B90A-CD99ABC7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BCF65-D669-4EBE-A62A-3DF51A49E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87EA0-0624-4247-B892-C9D90F596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B5CEB-6E0B-4859-81F5-CAFBCB23E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8D62E-B43C-4B59-8626-C8E8B7532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945D04-7827-48D4-BA5A-61DB1494D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A0F1-2C38-44E0-B4A5-95223C79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F561D7-FA68-4ADD-91FF-BB298657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5726A-C506-4D48-A394-2A628D03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B1F5E-BB56-4021-860B-41A1739B4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03796-C857-43BB-9EC9-64226C34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E21CB-1DB2-4A31-ADC8-CC28EE2F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D02C4-9C47-4F02-B85D-0DBCAE288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A2CB3-F357-42A3-A0EC-24ABA22D5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1537F6-C9BC-4E1F-80E8-03D68FD53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25B69-377F-47F6-83D1-A00B67AF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1EBD9-79CE-4FBE-8720-BC95B043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5A42-B290-4A64-B8C8-142167B8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C6819-64DF-48D0-AC55-0D583A38E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3ACE8-4AE1-4DCA-8AED-C3E5189C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473228-9C86-459E-A705-FB9AE54A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14E45-EF7B-4BCE-91B9-136425266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66C8CC-8068-4BB2-8D6C-20D811A8E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C76CD-1875-4B3E-85D1-AD36991B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E93C2-900F-450C-BB8C-537AAF902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FC91B-09D9-42BB-9202-BF0E1FD98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CAD9C-7B2C-468D-AB2B-3136FB407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988D96-53CC-46EB-8B67-123328A0D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AA04-4DC9-4823-A48D-A9452BE6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591D7-0A1C-436D-840E-868868B95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4BC97-1423-44F2-98E2-1BF42FD7F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6C896-D8FD-48ED-9892-FB65E1E75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9BFDA-E713-45A9-80AA-5A49E4FDA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24368-7D10-406C-935A-A0EBA1968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D50BE-8F07-4483-ABCC-3A402354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E842CF-2F70-4B9D-ABA5-B29F92A80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9B1ABA-7EB5-441D-A84F-E0351F604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6FDD1-2D4C-4C6E-86A4-6D3423452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62B6A7-82C1-466B-9532-07EE0043F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1787-4538-472E-B8E2-4C08DE2D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0A8732-85E9-4271-B01A-3CB487FDE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15C5CA-C007-4CFA-AEC6-E226B897A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02AAF4-6794-4C34-A675-6EE65E8D3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51F24-41D5-48F3-AECF-07203390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2F87E-A1AE-45D6-9BC4-9C565069B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E060F-04FD-4104-8BCA-10812544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EC3D9-9EEB-41F0-9710-7FD0E83AD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ECF56-CF7C-473F-8FEF-CB05B82DF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6F38B-BD5A-49D4-BE8F-F4469878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4DF5F-1B42-4E70-B37A-47C69445A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40B-BDA8-4F8B-8A20-50C920AD4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1B2E0-F71D-4D30-A06E-55EDA8C6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DD7BC-D2FD-4F66-AD04-2ECCAB18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DD3B1-9814-4F8D-ACB4-2D4C20296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078762-07DD-4D74-BB66-5A9D8CC61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D603EB-310E-4221-913B-1806AC24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FFC0CF-BFFF-485E-AE82-4358A9377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6D045-C553-435C-A0C8-88D9035F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8190F-8B98-4D2B-BDF7-BAA7117C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C66390-8082-48F9-8F43-31F3286D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DBD92-6F6E-46BF-8A9F-476E5B050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68FA-085A-4EC9-BB0C-40475FAD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0C39D-B7F5-4A44-8AC0-A5ECD9CD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88EF51-27F6-48CB-AB02-36CF47B6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2CA52E-884E-4F91-B3A2-08D9A5BF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AB15E7-E233-4120-827E-3C4D36B96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F6DFE2-209C-4525-93B3-D7D98C9C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ECC914-7DA4-4EDB-B06E-97A23C584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C608C2-A463-4D2D-810E-E635A8CA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C83E8-0409-4DE2-BB28-1B892839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CDB46-A370-48AF-A981-3B6496249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736BD7-2F50-4E37-A500-039F6BCA1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2568-77C2-4D6D-BA81-D6747E8A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76BC9-3CDB-4F5F-A3C3-E8C49E2EE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0AA2E1-9BE9-47FE-960F-19C1C71E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0B2ED-8B8D-4248-8602-F71B1461E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B19528-807D-4F12-AFD8-C6592C37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709F1-E919-4DAC-B8CB-0604F6FB4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DEB3F7-F7C4-4782-BF9F-60BBA8B66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D05DE-ED95-46D3-800B-5147C211D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F955E-8248-484B-8404-23E1BBE0A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D1FE62-EDC7-43DD-A276-ACA71A49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9F4E41-E1B7-4FE8-B8D8-AA89DEC5E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C186E-680F-47F4-AAB5-8309B73A5C06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C8AD3-8A05-4CA5-AD13-40C5A51A11E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2126-D360-4982-B7B4-567FFF4B723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73B10-71A8-456E-A601-3B0D5BED477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39DA9-B81B-4F4A-9C07-2D3E54536EA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2E736-71A6-49F1-B9DD-7295BB789AC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2DE8E-91F4-4086-A9C7-898BCFFB43E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CC16-B08F-4745-878B-6D5AB9416F6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D3EA-F210-477E-B525-EB024E52EB4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hyperlink" Target="https://techniqueuniclima.com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3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3200"/>
            </a:b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VAILLANT</a:t>
            </a:r>
            <a:endParaRPr b="0" lang="en-US" sz="32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0"/>
          <p:cNvSpPr/>
          <p:nvPr/>
        </p:nvSpPr>
        <p:spPr>
          <a:xfrm>
            <a:off x="1438200" y="1582560"/>
            <a:ext cx="793440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VAILLANT dans le logiciel d’application de la RT 2012 Clima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La chaudière à condensation + CESI optimisé VAILLANT 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MS PGothic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e la chaudière gaz à condensation (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MS PGothic"/>
              </a:rPr>
              <a:t>«ballon de stockage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  et du système solaire (     ).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e «boucle solaire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e la boucle solaire (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1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2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u générateur «Chaudière Ecotec Plus VUW FR 306/5-5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3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objet boucle solaire «VFK 135 VD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4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u système de stockage «Ballon de stockage AUROSTEP PLUS 1.150 M HI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focus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 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0" name="Object 16"/>
          <p:cNvGraphicFramePr/>
          <p:nvPr/>
        </p:nvGraphicFramePr>
        <p:xfrm>
          <a:off x="5487840" y="3522600"/>
          <a:ext cx="184320" cy="1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7840" y="3522600"/>
                    <a:ext cx="184320" cy="1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18"/>
          <p:cNvGraphicFramePr/>
          <p:nvPr/>
        </p:nvGraphicFramePr>
        <p:xfrm>
          <a:off x="3267000" y="4398840"/>
          <a:ext cx="13356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7000" y="4398840"/>
                    <a:ext cx="13356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Rectangle 83"/>
          <p:cNvSpPr/>
          <p:nvPr/>
        </p:nvSpPr>
        <p:spPr>
          <a:xfrm>
            <a:off x="1447920" y="3227400"/>
            <a:ext cx="18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5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523880" y="2427120"/>
          <a:ext cx="7917120" cy="77796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Ecotec Plus VUW FR 306/5-5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AUROSTEP PLUS 1.150 M HI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VFK 135 VD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7" name="Object 17"/>
          <p:cNvGraphicFramePr/>
          <p:nvPr/>
        </p:nvGraphicFramePr>
        <p:xfrm>
          <a:off x="7039080" y="3938760"/>
          <a:ext cx="177840" cy="20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8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39080" y="3938760"/>
                    <a:ext cx="1778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9" name="Picture 304" descr="LaCie Disk:1 GRAPHISME:ELEMENTS_OK_FICHES_BET_PRODUIT:PICTOS:BOUCLE_SOLAIRE.jpg"/>
          <p:cNvPicPr/>
          <p:nvPr/>
        </p:nvPicPr>
        <p:blipFill>
          <a:blip r:embed="rId7"/>
          <a:stretch/>
        </p:blipFill>
        <p:spPr>
          <a:xfrm>
            <a:off x="6378480" y="4576680"/>
            <a:ext cx="190440" cy="141480"/>
          </a:xfrm>
          <a:prstGeom prst="rect">
            <a:avLst/>
          </a:prstGeom>
          <a:ln w="0">
            <a:noFill/>
          </a:ln>
        </p:spPr>
      </p:pic>
      <p:sp>
        <p:nvSpPr>
          <p:cNvPr id="410" name="Espace réservé du texte 5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1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87B7-660E-4641-B762-560CF8BCAE1C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e 17"/>
          <p:cNvGrpSpPr/>
          <p:nvPr/>
        </p:nvGrpSpPr>
        <p:grpSpPr>
          <a:xfrm>
            <a:off x="736560" y="2341440"/>
            <a:ext cx="5308560" cy="2381400"/>
            <a:chOff x="736560" y="2341440"/>
            <a:chExt cx="5308560" cy="2381400"/>
          </a:xfrm>
        </p:grpSpPr>
        <p:pic>
          <p:nvPicPr>
            <p:cNvPr id="413" name="Picture 36" descr="LaCie Disk:1 GRAPHISME:ELEMENTS_OK_FICHES_BET_PRODUIT:F3_BBS:F3_B_1.jpg"/>
            <p:cNvPicPr/>
            <p:nvPr/>
          </p:nvPicPr>
          <p:blipFill>
            <a:blip r:embed="rId1"/>
            <a:stretch/>
          </p:blipFill>
          <p:spPr>
            <a:xfrm>
              <a:off x="736560" y="2341440"/>
              <a:ext cx="5308560" cy="2381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414" name="Picture 17" descr=""/>
            <p:cNvPicPr/>
            <p:nvPr/>
          </p:nvPicPr>
          <p:blipFill>
            <a:blip r:embed="rId2"/>
            <a:stretch/>
          </p:blipFill>
          <p:spPr>
            <a:xfrm>
              <a:off x="3162240" y="2574720"/>
              <a:ext cx="838080" cy="18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5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3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16" name="AutoShape 24"/>
          <p:cNvCxnSpPr/>
          <p:nvPr/>
        </p:nvCxnSpPr>
        <p:spPr>
          <a:xfrm flipH="1" rot="16200000">
            <a:off x="6570720" y="371772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17" name="AutoShape 41"/>
          <p:cNvCxnSpPr/>
          <p:nvPr/>
        </p:nvCxnSpPr>
        <p:spPr>
          <a:xfrm flipH="1" flipV="1" rot="10800000">
            <a:off x="19440" y="385092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18" name="Freeform 25"/>
          <p:cNvSpPr/>
          <p:nvPr/>
        </p:nvSpPr>
        <p:spPr>
          <a:xfrm>
            <a:off x="5656320" y="3408480"/>
            <a:ext cx="2362320" cy="504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9" name="Text Box 36"/>
          <p:cNvSpPr/>
          <p:nvPr/>
        </p:nvSpPr>
        <p:spPr>
          <a:xfrm>
            <a:off x="6784920" y="3638880"/>
            <a:ext cx="34578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0" name="Text Box 37"/>
          <p:cNvSpPr/>
          <p:nvPr/>
        </p:nvSpPr>
        <p:spPr>
          <a:xfrm>
            <a:off x="3216960" y="447984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49,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21" name="Picture 19" descr=""/>
          <p:cNvPicPr/>
          <p:nvPr/>
        </p:nvPicPr>
        <p:blipFill>
          <a:blip r:embed="rId3"/>
          <a:stretch/>
        </p:blipFill>
        <p:spPr>
          <a:xfrm>
            <a:off x="3205080" y="2976480"/>
            <a:ext cx="847800" cy="171360"/>
          </a:xfrm>
          <a:prstGeom prst="rect">
            <a:avLst/>
          </a:prstGeom>
          <a:ln w="0">
            <a:noFill/>
          </a:ln>
        </p:spPr>
      </p:pic>
      <p:sp>
        <p:nvSpPr>
          <p:cNvPr id="422" name="Rectangle 19"/>
          <p:cNvSpPr/>
          <p:nvPr/>
        </p:nvSpPr>
        <p:spPr>
          <a:xfrm>
            <a:off x="3162960" y="2932200"/>
            <a:ext cx="77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57BA-E26A-43FB-97AB-8FF49D8EDC3A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5" name="Espace réservé du numéro de diapositive 3"/>
          <p:cNvSpPr/>
          <p:nvPr/>
        </p:nvSpPr>
        <p:spPr>
          <a:xfrm>
            <a:off x="9817200" y="756288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A92FC-ABA5-4246-B570-D90F4D40B0B4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09" descr="LaCie Disk:1 GRAPHISME:ELEMENTS_OK_FICHES_BET_PRODUIT:F3_BBS:F3_B_2.jpg"/>
          <p:cNvPicPr/>
          <p:nvPr/>
        </p:nvPicPr>
        <p:blipFill>
          <a:blip r:embed="rId1"/>
          <a:stretch/>
        </p:blipFill>
        <p:spPr>
          <a:xfrm>
            <a:off x="736560" y="1477800"/>
            <a:ext cx="4648320" cy="1560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27" name="Picture 110" descr="LaCie Disk:1 GRAPHISME:ELEMENTS_OK_FICHES_BET_PRODUIT:F3_BBS:F3_B_3.jpg"/>
          <p:cNvPicPr/>
          <p:nvPr/>
        </p:nvPicPr>
        <p:blipFill>
          <a:blip r:embed="rId2"/>
          <a:stretch/>
        </p:blipFill>
        <p:spPr>
          <a:xfrm>
            <a:off x="736560" y="3230640"/>
            <a:ext cx="4648320" cy="3895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8" name="Text Box 7"/>
          <p:cNvSpPr/>
          <p:nvPr/>
        </p:nvSpPr>
        <p:spPr>
          <a:xfrm>
            <a:off x="6888240" y="2138400"/>
            <a:ext cx="1839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9" name="AutoShape 8"/>
          <p:cNvCxnSpPr/>
          <p:nvPr/>
        </p:nvCxnSpPr>
        <p:spPr>
          <a:xfrm flipH="1" flipV="1" rot="10800000">
            <a:off x="6706800" y="184824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30" name="AutoShape 9"/>
          <p:cNvCxnSpPr/>
          <p:nvPr/>
        </p:nvCxnSpPr>
        <p:spPr>
          <a:xfrm flipH="1" flipV="1" rot="10800000">
            <a:off x="6706800" y="184824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31" name="AutoShape 10"/>
          <p:cNvCxnSpPr/>
          <p:nvPr/>
        </p:nvCxnSpPr>
        <p:spPr>
          <a:xfrm flipH="1" rot="16200000">
            <a:off x="6527880" y="277308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32" name="AutoShape 12"/>
          <p:cNvCxnSpPr/>
          <p:nvPr/>
        </p:nvCxnSpPr>
        <p:spPr>
          <a:xfrm flipH="1" flipV="1" rot="10800000">
            <a:off x="759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3" name="Freeform 25"/>
          <p:cNvSpPr/>
          <p:nvPr/>
        </p:nvSpPr>
        <p:spPr>
          <a:xfrm flipV="1">
            <a:off x="4479840" y="2485800"/>
            <a:ext cx="5486400" cy="860400"/>
          </a:xfrm>
          <a:custGeom>
            <a:avLst/>
            <a:gdLst>
              <a:gd name="textAreaLeft" fmla="*/ 0 w 5486400"/>
              <a:gd name="textAreaRight" fmla="*/ 5486760 w 54864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6711840" y="2341440"/>
            <a:ext cx="336420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valeurs issues du certiﬁcat CE sont considérées certiﬁées. Comparé à un système «CESI classique», la chaudière doit être plus puissante pour produire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 instantanée avec un confort sufﬁs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35" name="Picture 85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1955880" y="2011320"/>
            <a:ext cx="865080" cy="168912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11"/>
          <p:cNvSpPr/>
          <p:nvPr/>
        </p:nvSpPr>
        <p:spPr>
          <a:xfrm>
            <a:off x="3078360" y="3516480"/>
            <a:ext cx="32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5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Text Box 112"/>
          <p:cNvSpPr/>
          <p:nvPr/>
        </p:nvSpPr>
        <p:spPr>
          <a:xfrm>
            <a:off x="3078720" y="372888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4.90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8" name="Text Box 113"/>
          <p:cNvSpPr/>
          <p:nvPr/>
        </p:nvSpPr>
        <p:spPr>
          <a:xfrm>
            <a:off x="3047760" y="4373640"/>
            <a:ext cx="103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entilateur prés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9" name="Text Box 114"/>
          <p:cNvSpPr/>
          <p:nvPr/>
        </p:nvSpPr>
        <p:spPr>
          <a:xfrm>
            <a:off x="3060720" y="458136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0" name="Text Box 115"/>
          <p:cNvSpPr/>
          <p:nvPr/>
        </p:nvSpPr>
        <p:spPr>
          <a:xfrm>
            <a:off x="3081240" y="479412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8.1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116"/>
          <p:cNvSpPr/>
          <p:nvPr/>
        </p:nvSpPr>
        <p:spPr>
          <a:xfrm>
            <a:off x="3061440" y="498312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2" name="Text Box 118"/>
          <p:cNvSpPr/>
          <p:nvPr/>
        </p:nvSpPr>
        <p:spPr>
          <a:xfrm>
            <a:off x="3063960" y="5440320"/>
            <a:ext cx="84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3" name="Text Box 120"/>
          <p:cNvSpPr/>
          <p:nvPr/>
        </p:nvSpPr>
        <p:spPr>
          <a:xfrm>
            <a:off x="3079800" y="565776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9.9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4" name="Text Box 121"/>
          <p:cNvSpPr/>
          <p:nvPr/>
        </p:nvSpPr>
        <p:spPr>
          <a:xfrm>
            <a:off x="3080160" y="585468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9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5" name="Text Box 122"/>
          <p:cNvSpPr/>
          <p:nvPr/>
        </p:nvSpPr>
        <p:spPr>
          <a:xfrm>
            <a:off x="3080520" y="6060960"/>
            <a:ext cx="20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Text Box 123"/>
          <p:cNvSpPr/>
          <p:nvPr/>
        </p:nvSpPr>
        <p:spPr>
          <a:xfrm>
            <a:off x="3064680" y="6278400"/>
            <a:ext cx="84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Text Box 124"/>
          <p:cNvSpPr/>
          <p:nvPr/>
        </p:nvSpPr>
        <p:spPr>
          <a:xfrm>
            <a:off x="3116880" y="6507000"/>
            <a:ext cx="25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2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Text Box 124"/>
          <p:cNvSpPr/>
          <p:nvPr/>
        </p:nvSpPr>
        <p:spPr>
          <a:xfrm>
            <a:off x="3048480" y="6675480"/>
            <a:ext cx="125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Générateur sans ballon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49" name="Picture 35" descr=""/>
          <p:cNvPicPr/>
          <p:nvPr/>
        </p:nvPicPr>
        <p:blipFill>
          <a:blip r:embed="rId4"/>
          <a:stretch/>
        </p:blipFill>
        <p:spPr>
          <a:xfrm>
            <a:off x="3059280" y="1744560"/>
            <a:ext cx="2047680" cy="20016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6" descr=""/>
          <p:cNvPicPr/>
          <p:nvPr/>
        </p:nvPicPr>
        <p:blipFill>
          <a:blip r:embed="rId5"/>
          <a:stretch/>
        </p:blipFill>
        <p:spPr>
          <a:xfrm>
            <a:off x="3019320" y="2176560"/>
            <a:ext cx="1505160" cy="19044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115"/>
          <p:cNvSpPr/>
          <p:nvPr/>
        </p:nvSpPr>
        <p:spPr>
          <a:xfrm>
            <a:off x="3092760" y="5207040"/>
            <a:ext cx="48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9.60 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2" name="Espace réservé du texte 46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Text Box 18"/>
          <p:cNvSpPr/>
          <p:nvPr/>
        </p:nvSpPr>
        <p:spPr>
          <a:xfrm>
            <a:off x="6638760" y="1447920"/>
            <a:ext cx="34401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la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6"/>
              </a:rPr>
              <a:t>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/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F76C4-889F-4787-8338-316642477C7A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7" descr="LaCie Disk:1 GRAPHISME:ELEMENTS_OK_FICHES_BET_PRODUIT:F3_BBS:F3_B_4.jpg"/>
          <p:cNvPicPr/>
          <p:nvPr/>
        </p:nvPicPr>
        <p:blipFill>
          <a:blip r:embed="rId1"/>
          <a:stretch/>
        </p:blipFill>
        <p:spPr>
          <a:xfrm>
            <a:off x="519120" y="1693800"/>
            <a:ext cx="5203800" cy="460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56" name="AutoShape 12"/>
          <p:cNvCxnSpPr/>
          <p:nvPr/>
        </p:nvCxnSpPr>
        <p:spPr>
          <a:xfrm flipH="1" flipV="1" rot="10800000">
            <a:off x="75960" y="38595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7" name="Text Box 29"/>
          <p:cNvSpPr/>
          <p:nvPr/>
        </p:nvSpPr>
        <p:spPr>
          <a:xfrm>
            <a:off x="2957400" y="276084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,35 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2957400" y="298944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2957400" y="36752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2957400" y="39038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endement optique certifi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2957400" y="41324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1,4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Text Box 49"/>
          <p:cNvSpPr/>
          <p:nvPr/>
        </p:nvSpPr>
        <p:spPr>
          <a:xfrm>
            <a:off x="2957400" y="43610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,645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2957400" y="474192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.033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2957400" y="58244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5" name="Text Box 62"/>
          <p:cNvSpPr/>
          <p:nvPr/>
        </p:nvSpPr>
        <p:spPr>
          <a:xfrm>
            <a:off x="3703680" y="5999040"/>
            <a:ext cx="1839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Text Box 51"/>
          <p:cNvSpPr/>
          <p:nvPr/>
        </p:nvSpPr>
        <p:spPr>
          <a:xfrm>
            <a:off x="2944800" y="607536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65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67" name="Picture 35" descr=""/>
          <p:cNvPicPr/>
          <p:nvPr/>
        </p:nvPicPr>
        <p:blipFill>
          <a:blip r:embed="rId2"/>
          <a:stretch/>
        </p:blipFill>
        <p:spPr>
          <a:xfrm>
            <a:off x="2905200" y="2468520"/>
            <a:ext cx="1047600" cy="1713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35" descr=""/>
          <p:cNvPicPr/>
          <p:nvPr/>
        </p:nvPicPr>
        <p:blipFill>
          <a:blip r:embed="rId3"/>
          <a:stretch/>
        </p:blipFill>
        <p:spPr>
          <a:xfrm>
            <a:off x="2905200" y="2009880"/>
            <a:ext cx="1047600" cy="171360"/>
          </a:xfrm>
          <a:prstGeom prst="rect">
            <a:avLst/>
          </a:prstGeom>
          <a:ln w="0">
            <a:noFill/>
          </a:ln>
        </p:spPr>
      </p:pic>
      <p:sp>
        <p:nvSpPr>
          <p:cNvPr id="469" name="Text Box 46"/>
          <p:cNvSpPr/>
          <p:nvPr/>
        </p:nvSpPr>
        <p:spPr>
          <a:xfrm>
            <a:off x="2944800" y="2468520"/>
            <a:ext cx="1981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6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VFK 135 VD Vertical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0" name="Text Box 46"/>
          <p:cNvSpPr/>
          <p:nvPr/>
        </p:nvSpPr>
        <p:spPr>
          <a:xfrm>
            <a:off x="2979720" y="2041560"/>
            <a:ext cx="1981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VFK 135 VD Vertical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71" name="Picture 36" descr=""/>
          <p:cNvPicPr/>
          <p:nvPr/>
        </p:nvPicPr>
        <p:blipFill>
          <a:blip r:embed="rId4"/>
          <a:stretch/>
        </p:blipFill>
        <p:spPr>
          <a:xfrm>
            <a:off x="2905200" y="5608800"/>
            <a:ext cx="1047600" cy="1713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46"/>
          <p:cNvSpPr/>
          <p:nvPr/>
        </p:nvSpPr>
        <p:spPr>
          <a:xfrm>
            <a:off x="2944800" y="5564160"/>
            <a:ext cx="1981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698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Sans échangeur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3" name="Espace réservé du texte 38"/>
          <p:cNvSpPr/>
          <p:nvPr/>
        </p:nvSpPr>
        <p:spPr>
          <a:xfrm>
            <a:off x="2319480" y="325440"/>
            <a:ext cx="79405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boucle solaire «VFK 135 VD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74" name="AutoShape 9"/>
          <p:cNvCxnSpPr/>
          <p:nvPr/>
        </p:nvCxnSpPr>
        <p:spPr>
          <a:xfrm flipH="1" flipV="1" rot="10800000">
            <a:off x="6511680" y="700128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75" name="AutoShape 10"/>
          <p:cNvCxnSpPr/>
          <p:nvPr/>
        </p:nvCxnSpPr>
        <p:spPr>
          <a:xfrm flipH="1" flipV="1" rot="10800000">
            <a:off x="6511680" y="700128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76" name="AutoShape 11"/>
          <p:cNvCxnSpPr/>
          <p:nvPr/>
        </p:nvCxnSpPr>
        <p:spPr>
          <a:xfrm flipH="1" rot="16200000">
            <a:off x="6331680" y="3036600"/>
            <a:ext cx="216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477" name="Text Box 25"/>
          <p:cNvSpPr/>
          <p:nvPr/>
        </p:nvSpPr>
        <p:spPr>
          <a:xfrm>
            <a:off x="6784920" y="1693800"/>
            <a:ext cx="351324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78" name="Picture 36" descr=""/>
          <p:cNvPicPr/>
          <p:nvPr/>
        </p:nvPicPr>
        <p:blipFill>
          <a:blip r:embed="rId5"/>
          <a:stretch/>
        </p:blipFill>
        <p:spPr>
          <a:xfrm>
            <a:off x="4775040" y="4370400"/>
            <a:ext cx="847800" cy="171360"/>
          </a:xfrm>
          <a:prstGeom prst="rect">
            <a:avLst/>
          </a:prstGeom>
          <a:ln w="0">
            <a:noFill/>
          </a:ln>
        </p:spPr>
      </p:pic>
      <p:sp>
        <p:nvSpPr>
          <p:cNvPr id="479" name="Freeform 24"/>
          <p:cNvSpPr/>
          <p:nvPr/>
        </p:nvSpPr>
        <p:spPr>
          <a:xfrm>
            <a:off x="5416560" y="2773440"/>
            <a:ext cx="4191120" cy="2286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0" name="Freeform 24"/>
          <p:cNvSpPr/>
          <p:nvPr/>
        </p:nvSpPr>
        <p:spPr>
          <a:xfrm>
            <a:off x="5487840" y="3494160"/>
            <a:ext cx="2590920" cy="5331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1" name="Freeform 24"/>
          <p:cNvSpPr/>
          <p:nvPr/>
        </p:nvSpPr>
        <p:spPr>
          <a:xfrm>
            <a:off x="5416560" y="3781440"/>
            <a:ext cx="2209680" cy="11430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Freeform 24"/>
          <p:cNvSpPr/>
          <p:nvPr/>
        </p:nvSpPr>
        <p:spPr>
          <a:xfrm>
            <a:off x="5416560" y="4010040"/>
            <a:ext cx="1828800" cy="1752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Text Box 25"/>
          <p:cNvSpPr/>
          <p:nvPr/>
        </p:nvSpPr>
        <p:spPr>
          <a:xfrm>
            <a:off x="6784920" y="3276720"/>
            <a:ext cx="35132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augmente la consommation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4" name="Text Box 25"/>
          <p:cNvSpPr/>
          <p:nvPr/>
        </p:nvSpPr>
        <p:spPr>
          <a:xfrm>
            <a:off x="6784920" y="435780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inclinaison de 45 °est optimale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e modiﬁcation de celle-ci peut  entrainer une baisse de performanc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5" name="Text Box 25"/>
          <p:cNvSpPr/>
          <p:nvPr/>
        </p:nvSpPr>
        <p:spPr>
          <a:xfrm>
            <a:off x="6784920" y="522144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ffectue sur la température en maisons individuell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6" name="Text Box 25"/>
          <p:cNvSpPr/>
          <p:nvPr/>
        </p:nvSpPr>
        <p:spPr>
          <a:xfrm>
            <a:off x="6784920" y="615780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bsence de valeurs fournies par le constructeur, les valeurs moyennes suivantes peuvent être utilisé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7" name="Text Box 25"/>
          <p:cNvSpPr/>
          <p:nvPr/>
        </p:nvSpPr>
        <p:spPr>
          <a:xfrm>
            <a:off x="6784920" y="248616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8" name="AutoShape 65"/>
          <p:cNvSpPr/>
          <p:nvPr/>
        </p:nvSpPr>
        <p:spPr>
          <a:xfrm>
            <a:off x="4768920" y="507672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89" name="Connecteur en angle 56"/>
          <p:cNvCxnSpPr>
            <a:stCxn id="486" idx="1"/>
          </p:cNvCxnSpPr>
          <p:nvPr/>
        </p:nvCxnSpPr>
        <p:spPr>
          <a:xfrm rot="10800000">
            <a:off x="4984200" y="5293440"/>
            <a:ext cx="1800720" cy="1164600"/>
          </a:xfrm>
          <a:prstGeom prst="bentConnector3">
            <a:avLst>
              <a:gd name="adj1" fmla="val 4999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90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0BF6-EB84-419F-AF22-97332899BE75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8" descr="LaCie Disk:1 GRAPHISME:ELEMENTS_OK_FICHES_BET_PRODUIT:F3_BBS:F3_B_6.jpg"/>
          <p:cNvPicPr/>
          <p:nvPr/>
        </p:nvPicPr>
        <p:blipFill>
          <a:blip r:embed="rId1"/>
          <a:stretch/>
        </p:blipFill>
        <p:spPr>
          <a:xfrm>
            <a:off x="736560" y="4038480"/>
            <a:ext cx="4719600" cy="239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92" name="Picture 47" descr="LaCie Disk:1 GRAPHISME:ELEMENTS_OK_FICHES_BET_PRODUIT:F3_BBS:F3_B_5.jpg"/>
          <p:cNvPicPr/>
          <p:nvPr/>
        </p:nvPicPr>
        <p:blipFill>
          <a:blip r:embed="rId2"/>
          <a:stretch/>
        </p:blipFill>
        <p:spPr>
          <a:xfrm>
            <a:off x="736560" y="1981080"/>
            <a:ext cx="4737240" cy="1865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93" name="Text Box 9"/>
          <p:cNvSpPr/>
          <p:nvPr/>
        </p:nvSpPr>
        <p:spPr>
          <a:xfrm>
            <a:off x="6888240" y="2717640"/>
            <a:ext cx="18399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4" name="AutoShape 12"/>
          <p:cNvCxnSpPr/>
          <p:nvPr/>
        </p:nvCxnSpPr>
        <p:spPr>
          <a:xfrm flipV="1" rot="16200000">
            <a:off x="6528240" y="33544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95" name="AutoShape 13"/>
          <p:cNvCxnSpPr/>
          <p:nvPr/>
        </p:nvCxnSpPr>
        <p:spPr>
          <a:xfrm flipH="1" flipV="1" rot="10800000">
            <a:off x="75960" y="385164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96" name="Text Box 22"/>
          <p:cNvSpPr/>
          <p:nvPr/>
        </p:nvSpPr>
        <p:spPr>
          <a:xfrm>
            <a:off x="6707160" y="3886200"/>
            <a:ext cx="336384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Freeform 23"/>
          <p:cNvSpPr/>
          <p:nvPr/>
        </p:nvSpPr>
        <p:spPr>
          <a:xfrm flipV="1">
            <a:off x="5156280" y="2533680"/>
            <a:ext cx="1600200" cy="86040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98" name="Picture 29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2031840" y="2619360"/>
            <a:ext cx="865440" cy="2028960"/>
          </a:xfrm>
          <a:prstGeom prst="rect">
            <a:avLst/>
          </a:prstGeom>
          <a:ln w="0">
            <a:noFill/>
          </a:ln>
        </p:spPr>
      </p:pic>
      <p:sp>
        <p:nvSpPr>
          <p:cNvPr id="499" name="Freeform 24"/>
          <p:cNvSpPr/>
          <p:nvPr/>
        </p:nvSpPr>
        <p:spPr>
          <a:xfrm flipV="1">
            <a:off x="5127480" y="3997440"/>
            <a:ext cx="3657600" cy="86184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861840"/>
              <a:gd name="textAreaBottom" fmla="*/ 86256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0" name="Freeform 24"/>
          <p:cNvSpPr/>
          <p:nvPr/>
        </p:nvSpPr>
        <p:spPr>
          <a:xfrm>
            <a:off x="5127480" y="5365800"/>
            <a:ext cx="3048120" cy="86184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1" name="Text Box 25"/>
          <p:cNvSpPr/>
          <p:nvPr/>
        </p:nvSpPr>
        <p:spPr>
          <a:xfrm>
            <a:off x="6711840" y="5869080"/>
            <a:ext cx="33642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, les pertes thermiques du ballon impactent la consomma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6640560" y="3925800"/>
            <a:ext cx="33638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Freeform 24"/>
          <p:cNvSpPr/>
          <p:nvPr/>
        </p:nvSpPr>
        <p:spPr>
          <a:xfrm flipV="1">
            <a:off x="5156280" y="2471400"/>
            <a:ext cx="3657600" cy="86040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4" name="Text Box 25"/>
          <p:cNvSpPr/>
          <p:nvPr/>
        </p:nvSpPr>
        <p:spPr>
          <a:xfrm>
            <a:off x="6707160" y="2330280"/>
            <a:ext cx="33638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5" name="Text Box 39"/>
          <p:cNvSpPr/>
          <p:nvPr/>
        </p:nvSpPr>
        <p:spPr>
          <a:xfrm>
            <a:off x="2976480" y="483696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50.0 l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Text Box 40"/>
          <p:cNvSpPr/>
          <p:nvPr/>
        </p:nvSpPr>
        <p:spPr>
          <a:xfrm>
            <a:off x="2961000" y="5029200"/>
            <a:ext cx="79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jus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7" name="Text Box 41"/>
          <p:cNvSpPr/>
          <p:nvPr/>
        </p:nvSpPr>
        <p:spPr>
          <a:xfrm>
            <a:off x="2977920" y="5257800"/>
            <a:ext cx="38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.2W/K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8" name="Text Box 42"/>
          <p:cNvSpPr/>
          <p:nvPr/>
        </p:nvSpPr>
        <p:spPr>
          <a:xfrm>
            <a:off x="3016800" y="5521320"/>
            <a:ext cx="25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75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9" name="Text Box 43"/>
          <p:cNvSpPr/>
          <p:nvPr/>
        </p:nvSpPr>
        <p:spPr>
          <a:xfrm>
            <a:off x="2946240" y="571500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0" name="Text Box 44"/>
          <p:cNvSpPr/>
          <p:nvPr/>
        </p:nvSpPr>
        <p:spPr>
          <a:xfrm>
            <a:off x="2981160" y="596736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5.0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1" name="Text Box 46"/>
          <p:cNvSpPr/>
          <p:nvPr/>
        </p:nvSpPr>
        <p:spPr>
          <a:xfrm>
            <a:off x="2976840" y="620856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Zone 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2" name="Picture 35" descr=""/>
          <p:cNvPicPr/>
          <p:nvPr/>
        </p:nvPicPr>
        <p:blipFill>
          <a:blip r:embed="rId4"/>
          <a:stretch/>
        </p:blipFill>
        <p:spPr>
          <a:xfrm>
            <a:off x="2909880" y="2224080"/>
            <a:ext cx="2486160" cy="1713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7" descr=""/>
          <p:cNvPicPr/>
          <p:nvPr/>
        </p:nvPicPr>
        <p:blipFill>
          <a:blip r:embed="rId5"/>
          <a:stretch/>
        </p:blipFill>
        <p:spPr>
          <a:xfrm>
            <a:off x="2874960" y="2827440"/>
            <a:ext cx="1162080" cy="152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8" descr=""/>
          <p:cNvPicPr/>
          <p:nvPr/>
        </p:nvPicPr>
        <p:blipFill>
          <a:blip r:embed="rId6"/>
          <a:stretch/>
        </p:blipFill>
        <p:spPr>
          <a:xfrm>
            <a:off x="2874960" y="3232080"/>
            <a:ext cx="2514600" cy="171360"/>
          </a:xfrm>
          <a:prstGeom prst="rect">
            <a:avLst/>
          </a:prstGeom>
          <a:ln w="0">
            <a:noFill/>
          </a:ln>
        </p:spPr>
      </p:pic>
      <p:sp>
        <p:nvSpPr>
          <p:cNvPr id="515" name="Espace réservé du texte 39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système de stockage «AUROSTEP PLUS 1.150 M HI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6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C7C0-E854-4B1E-8D71-215E40658333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7" name="Rectangle 28"/>
          <p:cNvSpPr/>
          <p:nvPr/>
        </p:nvSpPr>
        <p:spPr>
          <a:xfrm>
            <a:off x="2895480" y="2629080"/>
            <a:ext cx="1944720" cy="144360"/>
          </a:xfrm>
          <a:prstGeom prst="rect">
            <a:avLst/>
          </a:prstGeom>
          <a:solidFill>
            <a:srgbClr val="80c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AUROSTEP PLUS 1.150 M HI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8" name="Rectangle 29"/>
          <p:cNvSpPr/>
          <p:nvPr/>
        </p:nvSpPr>
        <p:spPr>
          <a:xfrm>
            <a:off x="3903840" y="2268360"/>
            <a:ext cx="1584000" cy="144720"/>
          </a:xfrm>
          <a:prstGeom prst="rect">
            <a:avLst/>
          </a:prstGeom>
          <a:solidFill>
            <a:srgbClr val="80cd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venir LT Std 55 Roman"/>
              </a:rPr>
              <a:t>AUROSTEP PLUS 1.150 M HI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0" descr=""/>
          <p:cNvPicPr/>
          <p:nvPr/>
        </p:nvPicPr>
        <p:blipFill>
          <a:blip r:embed="rId1"/>
          <a:stretch/>
        </p:blipFill>
        <p:spPr>
          <a:xfrm>
            <a:off x="1311120" y="2557440"/>
            <a:ext cx="5591160" cy="638280"/>
          </a:xfrm>
          <a:prstGeom prst="rect">
            <a:avLst/>
          </a:prstGeom>
          <a:ln w="0">
            <a:noFill/>
          </a:ln>
        </p:spPr>
      </p:pic>
      <p:sp>
        <p:nvSpPr>
          <p:cNvPr id="520" name="Text Box 9"/>
          <p:cNvSpPr/>
          <p:nvPr/>
        </p:nvSpPr>
        <p:spPr>
          <a:xfrm>
            <a:off x="6840360" y="1797120"/>
            <a:ext cx="1800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21" name="AutoShape 12"/>
          <p:cNvCxnSpPr/>
          <p:nvPr/>
        </p:nvCxnSpPr>
        <p:spPr>
          <a:xfrm flipH="1" rot="16200000">
            <a:off x="7124760" y="322704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522" name="Text Box 22"/>
          <p:cNvSpPr/>
          <p:nvPr/>
        </p:nvSpPr>
        <p:spPr>
          <a:xfrm>
            <a:off x="6659640" y="2965320"/>
            <a:ext cx="32925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3" name="Freeform 23"/>
          <p:cNvSpPr/>
          <p:nvPr/>
        </p:nvSpPr>
        <p:spPr>
          <a:xfrm flipV="1">
            <a:off x="5749920" y="2336040"/>
            <a:ext cx="1600200" cy="8622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4" name="Text Box 24"/>
          <p:cNvSpPr/>
          <p:nvPr/>
        </p:nvSpPr>
        <p:spPr>
          <a:xfrm>
            <a:off x="1308240" y="1862280"/>
            <a:ext cx="568800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: on indique la présence du circulateur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25" name="Picture 26" descr="Travail:1 GRAPHISME:GRDF:FICHES_BET_CEGIBAT_GrDF:FICHES_PRODUIT:ELEMENTS_OK:F1_BBS:EMISSION.jpg"/>
          <p:cNvPicPr/>
          <p:nvPr/>
        </p:nvPicPr>
        <p:blipFill>
          <a:blip r:embed="rId2"/>
          <a:stretch/>
        </p:blipFill>
        <p:spPr>
          <a:xfrm>
            <a:off x="3035160" y="1913040"/>
            <a:ext cx="228600" cy="199800"/>
          </a:xfrm>
          <a:prstGeom prst="rect">
            <a:avLst/>
          </a:prstGeom>
          <a:ln w="0">
            <a:noFill/>
          </a:ln>
        </p:spPr>
      </p:pic>
      <p:sp>
        <p:nvSpPr>
          <p:cNvPr id="526" name="Text Box 38"/>
          <p:cNvSpPr/>
          <p:nvPr/>
        </p:nvSpPr>
        <p:spPr>
          <a:xfrm>
            <a:off x="4192560" y="2773440"/>
            <a:ext cx="25192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Selon projet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7" name="Text Box 40"/>
          <p:cNvSpPr/>
          <p:nvPr/>
        </p:nvSpPr>
        <p:spPr>
          <a:xfrm>
            <a:off x="4264200" y="2989440"/>
            <a:ext cx="59976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33,5 W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8" name="Espace réservé du texte 21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9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2F62-BE41-4412-9919-85F93F91195A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0" name="Text Box 40"/>
          <p:cNvSpPr/>
          <p:nvPr/>
        </p:nvSpPr>
        <p:spPr>
          <a:xfrm>
            <a:off x="4264200" y="2557440"/>
            <a:ext cx="59976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45 Helvetica Light"/>
              </a:rPr>
              <a:t>33,5 W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0:55:32Z</dcterms:modified>
  <cp:revision>125</cp:revision>
  <dc:subject/>
  <dc:title>Présentation PowerPoint</dc:title>
</cp:coreProperties>
</file>