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wmf" ContentType="image/x-wmf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6.jpeg" ContentType="image/jpe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C4B-04C7-417B-9887-10FAE95BF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FD71-2DAC-4CFE-98A2-4AB3E104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B78F5-F840-4D0C-8BCE-91271FFE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450A1E-9F02-4CB2-9FF8-E5F57542A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EB108-7C41-4665-8D97-BEAC86D1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49ACC4-EA60-47E7-85E2-D39D501B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5C3E8B-9ECF-46DA-A2D7-6BDF82BEF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A48C2-4EC6-4AED-83E5-FE177F70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2FD019-D01C-4680-87C7-987B8E13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60434-4182-4F1B-A206-434261F76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C4D70-69DB-4A97-AF61-7DCDA14A0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AC75-0636-41BC-A19D-4C8822107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8A09-152F-4FB9-8412-07BA60B73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35D10-CA2B-45C7-8D7A-D242E3189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21AB-A634-4D48-9D48-241107216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87958-47FE-4410-9413-D86D3631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0447-2E36-4B03-9E31-C25266753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D26B-4B58-4B17-8EB0-C25EB9E5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C5F7-E222-4B23-8F4B-A9517FFC1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067E-1BF3-49FF-98B3-A059C244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4B5B-0981-47CF-84EC-A356950CC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74EE-526A-43EE-B9D0-B3ECD6F6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0C263-F2AC-4182-A6BB-A8BEF1699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6BEC-5C24-41A7-96BC-4F25E072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7C94-A486-4482-AAEB-71689BB31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20F7-10AA-4F57-8676-04E96F494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B61C4-F607-4C2E-9AEB-9B50FAEE9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07595-2016-493A-8565-D6530FB7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FA3B2-CBFE-4CD5-BF72-A1B3228E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A87C7-ACC1-48BF-93E2-48C2A6FA3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5688F-757C-40E2-8250-F9D94B434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7A65-B41F-4292-916A-9C3139E5C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D6E01D-6CFB-4852-9AB8-A2642904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75B09-1C21-45F3-BF96-A731CAF8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04D96-9A06-4DAD-A87D-CB107FEA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8E53C-4F48-416C-968C-4B11F6CA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C0C4-1A7C-47A1-99B2-12BE5CAE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5F165-CC7F-4FD6-A478-5B3C116E2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6B0E02-D941-4597-B05A-F70B02ADB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E2B33-EEF3-4E8C-8298-957FED6B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E55B7-685F-4C6C-8E14-9064EF0AB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F03EDC-4AE1-454E-80EE-3C614009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2123-05C1-4BEC-AC36-BEF8C6C6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D1B2B-5FC4-4A87-813C-00FB9F23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EFDBE-D7AF-4B2C-99BF-535D69CB3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89643-F216-4F92-9510-C13881701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BC2F8D-ACF0-4F31-BF74-A73143266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E3168-88AC-4285-80BD-FC92D7A6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5408B-D344-4EC5-A43A-61955E59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62A9B-144F-47C9-AC25-00AB1C5FC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8B3CC-9CED-4056-9E7A-CF04503AB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5E3DA4-6216-4585-89DA-FC34DFE9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7479E-5DCF-4CE4-A4DC-960F1271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CD79-0FD6-492B-9A9A-596E0694F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E3EEDE-C03A-4E36-B6CC-D2F22D03A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A5AC2-6357-4682-BAF9-41E6E334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099BEF-76D5-424A-B00D-CD7FB70C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40C91-1D61-4F5B-A47F-8A982C6A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F3F0ED-9A4D-4293-96CA-95AB3D05E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B6C3-E7D8-4E36-86E7-1D2F45F5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EB4727-1AEC-426B-B4CE-BCDF4843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EE0591-9E46-4171-84CD-975CACF5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FA49-196F-4FFB-A8A7-4C7F3FF4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775E3-6DB0-48ED-A988-B258E920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9826B-E645-427C-A2D4-061738169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8D314E-1EEA-497A-AF1E-F8C0576F6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35740-2B51-4E00-9B66-E491642E2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28B0B-964E-45E7-BD07-BF354DD59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4DD8F0-50B9-4216-AE1A-44433D65D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3291C-5470-47AE-BAD9-468CB2D7C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2F6C4-079C-4446-9499-7B2C7F76A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67AF8F-98F9-4407-A60F-60046A88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EF7DB-C762-498E-A9C4-8B0504DCF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EC58A-5E54-46A7-A82D-7743C197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3D20B-E1CA-4789-A1DB-B46970FF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CAD5-8BD6-4355-998D-E360C844B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97B4E-CBF9-4729-B924-C9B14E2BC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A21BBC-D858-4A62-B79E-8D88E19DC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98CBA-4E05-48E6-8D18-2471CD8C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06A977-00DD-4F54-9C16-90C1F051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60043-E2D0-49AF-A3F0-A8B84C0B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A51313-116C-423C-9AF9-950968C6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0E066-BE8C-4528-B2C2-C567F242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C7B0C2-5D35-42EC-B118-926A5AA3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B3671-8BFA-42AE-811E-F3B7AB87A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0510F-7DA7-4C8E-90EB-52E939EA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CA69-43FE-4884-B45E-6AD84808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7EEAE-DA9F-451F-8300-7A3B3B09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336C3-F093-40C3-BD08-718A1A5B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7F1C65-B221-4AE6-910D-132907019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F7344-5089-4AA5-946F-9DEA2784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C0CF5-F09F-4706-AC91-0320E0E33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BD253-AB74-4118-935F-84678F6A0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ACFBA-DA50-484F-81A6-B094EED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E6059C-8FDE-4A46-B204-E075DC2B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DCB70E-4D5C-4609-994F-A665259D7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DC92B-C14A-4D2E-9144-DF2ABC849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0B1D8-69F4-4A30-83A4-0F7482708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1F299C-CF7E-4A13-B4DD-B69EA264E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C2684-8D16-42D9-B482-DF727A7ED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20B5C6-3107-4EFE-96D6-70992867D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4AAE2-9BBF-4402-94EB-5A8BFCB4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34E1D-F598-4ACB-B158-D03F1017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91915-319F-4AC1-8001-CDEFE750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A0413D-8CCB-4929-A4DF-F043BFEFD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28B263-FE39-4C69-B2A9-87D51FF7D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D0AFEC-121B-4D41-9038-D74BC9ECC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EFF13-C71B-4A33-AE3C-15711979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35B-13EF-46D1-BBB3-238EA606F34C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41FA7-3F66-40E5-B899-337699BA5F8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BCA3E-C05E-4447-A1CF-44A17EB53E3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4D11-A3B9-43C7-BC63-4EE56C5F4EB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0DA18-3443-4080-B7E4-DF4D91FA395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074-B92C-4BD9-B612-988E4A7C20B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B0D6-E5AE-4001-9DD3-11234923A28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F9364-3A3A-4D58-9A32-CEA517D3B76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2E7F-30EB-48AE-9ACD-111B4D1511C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hyperlink" Target="https://techniqueuniclima.com/" TargetMode="External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10"/>
          <p:cNvSpPr/>
          <p:nvPr/>
        </p:nvSpPr>
        <p:spPr>
          <a:xfrm>
            <a:off x="143820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DE DIETRICH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DE DIETRICH 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une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générateur «Chaudière NANEO 24/28 MI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Dietrisol Pro D 23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création du système de stockage «Ballon de stockage BLS 150 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focus :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519880" y="34290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290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3267000" y="432756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2756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1447920" y="3227400"/>
            <a:ext cx="18396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NEO 24/28 MI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BSL 150 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Dietrisol Pro D 23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703908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3908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53280" y="4502160"/>
            <a:ext cx="190440" cy="141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6" descr=""/>
          <p:cNvPicPr/>
          <p:nvPr/>
        </p:nvPicPr>
        <p:blipFill>
          <a:blip r:embed="rId8"/>
          <a:stretch/>
        </p:blipFill>
        <p:spPr>
          <a:xfrm>
            <a:off x="7550280" y="3925800"/>
            <a:ext cx="2619360" cy="25146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12" name="Rectangle 13"/>
          <p:cNvSpPr/>
          <p:nvPr/>
        </p:nvSpPr>
        <p:spPr>
          <a:xfrm>
            <a:off x="9304200" y="5076720"/>
            <a:ext cx="720720" cy="13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3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FAFE6-3CD3-4A40-8B91-6F414746E7C2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663480" y="190980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6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Arial"/>
              </a:rPr>
              <a:t>3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Text Box 14"/>
          <p:cNvSpPr/>
          <p:nvPr/>
        </p:nvSpPr>
        <p:spPr>
          <a:xfrm>
            <a:off x="6815160" y="2646360"/>
            <a:ext cx="19191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18" name="AutoShape 16"/>
          <p:cNvCxnSpPr/>
          <p:nvPr/>
        </p:nvCxnSpPr>
        <p:spPr>
          <a:xfrm flipV="1" rot="16200000">
            <a:off x="662040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19" name="AutoShape 19"/>
          <p:cNvCxnSpPr/>
          <p:nvPr/>
        </p:nvCxnSpPr>
        <p:spPr>
          <a:xfrm flipV="1" rot="16200000">
            <a:off x="6620400" y="267336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20" name="AutoShape 24"/>
          <p:cNvCxnSpPr/>
          <p:nvPr/>
        </p:nvCxnSpPr>
        <p:spPr>
          <a:xfrm flipV="1" rot="16200000">
            <a:off x="6454800" y="328284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21" name="AutoShape 41"/>
          <p:cNvCxnSpPr/>
          <p:nvPr/>
        </p:nvCxnSpPr>
        <p:spPr>
          <a:xfrm flipH="1" flipV="1" rot="10800000">
            <a:off x="-360" y="38509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2" name="Freeform 25"/>
          <p:cNvSpPr/>
          <p:nvPr/>
        </p:nvSpPr>
        <p:spPr>
          <a:xfrm>
            <a:off x="5487840" y="2989440"/>
            <a:ext cx="2362320" cy="8618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Text Box 36"/>
          <p:cNvSpPr/>
          <p:nvPr/>
        </p:nvSpPr>
        <p:spPr>
          <a:xfrm>
            <a:off x="6640560" y="3422880"/>
            <a:ext cx="3508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viron 11 % (par rapport à un emplacement hors volume chauffé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4" name="Text Box 37"/>
          <p:cNvSpPr/>
          <p:nvPr/>
        </p:nvSpPr>
        <p:spPr>
          <a:xfrm>
            <a:off x="3101040" y="404352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5" name="Picture 17" descr=""/>
          <p:cNvPicPr/>
          <p:nvPr/>
        </p:nvPicPr>
        <p:blipFill>
          <a:blip r:embed="rId2"/>
          <a:stretch/>
        </p:blipFill>
        <p:spPr>
          <a:xfrm>
            <a:off x="3089160" y="2152800"/>
            <a:ext cx="792360" cy="171360"/>
          </a:xfrm>
          <a:prstGeom prst="rect">
            <a:avLst/>
          </a:prstGeom>
          <a:ln w="0">
            <a:noFill/>
          </a:ln>
        </p:spPr>
      </p:pic>
      <p:sp>
        <p:nvSpPr>
          <p:cNvPr id="426" name="Espace réservé du texte 22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B1CB-0555-4B71-9E61-A44DB8E3158D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663480" y="1477800"/>
            <a:ext cx="464832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9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66348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0" name="Text Box 7"/>
          <p:cNvSpPr/>
          <p:nvPr/>
        </p:nvSpPr>
        <p:spPr>
          <a:xfrm>
            <a:off x="6815160" y="213840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31" name="AutoShape 8"/>
          <p:cNvCxnSpPr/>
          <p:nvPr/>
        </p:nvCxnSpPr>
        <p:spPr>
          <a:xfrm flipV="1" rot="16200000">
            <a:off x="6634800" y="1851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2" name="AutoShape 9"/>
          <p:cNvCxnSpPr/>
          <p:nvPr/>
        </p:nvCxnSpPr>
        <p:spPr>
          <a:xfrm flipV="1" rot="16200000">
            <a:off x="6634800" y="18511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33" name="AutoShape 10"/>
          <p:cNvCxnSpPr/>
          <p:nvPr/>
        </p:nvCxnSpPr>
        <p:spPr>
          <a:xfrm flipV="1" rot="16200000">
            <a:off x="6454800" y="277488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4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5" name="Freeform 25"/>
          <p:cNvSpPr/>
          <p:nvPr/>
        </p:nvSpPr>
        <p:spPr>
          <a:xfrm flipV="1">
            <a:off x="4479840" y="2485800"/>
            <a:ext cx="5486400" cy="8604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Text Box 18"/>
          <p:cNvSpPr/>
          <p:nvPr/>
        </p:nvSpPr>
        <p:spPr>
          <a:xfrm>
            <a:off x="6640560" y="234144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Freeform 25"/>
          <p:cNvSpPr/>
          <p:nvPr/>
        </p:nvSpPr>
        <p:spPr>
          <a:xfrm flipV="1">
            <a:off x="4335480" y="5221080"/>
            <a:ext cx="5486400" cy="86184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33"/>
          <p:cNvSpPr/>
          <p:nvPr/>
        </p:nvSpPr>
        <p:spPr>
          <a:xfrm>
            <a:off x="6568920" y="5005440"/>
            <a:ext cx="3594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puissance à charge nulle est identique à celle à puissance nominale car cette information n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st pas précisée dans les documentations des fabrican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9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88280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40" name="Text Box 111"/>
          <p:cNvSpPr/>
          <p:nvPr/>
        </p:nvSpPr>
        <p:spPr>
          <a:xfrm>
            <a:off x="3005640" y="35164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3,4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2"/>
          <p:cNvSpPr/>
          <p:nvPr/>
        </p:nvSpPr>
        <p:spPr>
          <a:xfrm>
            <a:off x="3006000" y="372888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,7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3"/>
          <p:cNvSpPr/>
          <p:nvPr/>
        </p:nvSpPr>
        <p:spPr>
          <a:xfrm>
            <a:off x="297540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14"/>
          <p:cNvSpPr/>
          <p:nvPr/>
        </p:nvSpPr>
        <p:spPr>
          <a:xfrm>
            <a:off x="2988360" y="45813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15"/>
          <p:cNvSpPr/>
          <p:nvPr/>
        </p:nvSpPr>
        <p:spPr>
          <a:xfrm>
            <a:off x="3008880" y="479412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6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16"/>
          <p:cNvSpPr/>
          <p:nvPr/>
        </p:nvSpPr>
        <p:spPr>
          <a:xfrm>
            <a:off x="298836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17"/>
          <p:cNvSpPr/>
          <p:nvPr/>
        </p:nvSpPr>
        <p:spPr>
          <a:xfrm>
            <a:off x="3008160" y="52117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,2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18"/>
          <p:cNvSpPr/>
          <p:nvPr/>
        </p:nvSpPr>
        <p:spPr>
          <a:xfrm>
            <a:off x="2991600" y="544032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0"/>
          <p:cNvSpPr/>
          <p:nvPr/>
        </p:nvSpPr>
        <p:spPr>
          <a:xfrm>
            <a:off x="3007080" y="565776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21"/>
          <p:cNvSpPr/>
          <p:nvPr/>
        </p:nvSpPr>
        <p:spPr>
          <a:xfrm>
            <a:off x="3007080" y="585468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Text Box 122"/>
          <p:cNvSpPr/>
          <p:nvPr/>
        </p:nvSpPr>
        <p:spPr>
          <a:xfrm>
            <a:off x="3007440" y="606096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23"/>
          <p:cNvSpPr/>
          <p:nvPr/>
        </p:nvSpPr>
        <p:spPr>
          <a:xfrm>
            <a:off x="3043800" y="62784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5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24"/>
          <p:cNvSpPr/>
          <p:nvPr/>
        </p:nvSpPr>
        <p:spPr>
          <a:xfrm>
            <a:off x="3043800" y="650700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70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24"/>
          <p:cNvSpPr/>
          <p:nvPr/>
        </p:nvSpPr>
        <p:spPr>
          <a:xfrm>
            <a:off x="297540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4" name="Picture 36" descr=""/>
          <p:cNvPicPr/>
          <p:nvPr/>
        </p:nvPicPr>
        <p:blipFill>
          <a:blip r:embed="rId4"/>
          <a:stretch/>
        </p:blipFill>
        <p:spPr>
          <a:xfrm>
            <a:off x="2981160" y="17445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36" descr=""/>
          <p:cNvPicPr/>
          <p:nvPr/>
        </p:nvPicPr>
        <p:blipFill>
          <a:blip r:embed="rId5"/>
          <a:stretch/>
        </p:blipFill>
        <p:spPr>
          <a:xfrm>
            <a:off x="3413160" y="17445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56" name="Rectangle 37"/>
          <p:cNvSpPr/>
          <p:nvPr/>
        </p:nvSpPr>
        <p:spPr>
          <a:xfrm>
            <a:off x="2904480" y="1706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7" name="Picture 36" descr=""/>
          <p:cNvPicPr/>
          <p:nvPr/>
        </p:nvPicPr>
        <p:blipFill>
          <a:blip r:embed="rId6"/>
          <a:stretch/>
        </p:blipFill>
        <p:spPr>
          <a:xfrm>
            <a:off x="2981160" y="21765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36" descr=""/>
          <p:cNvPicPr/>
          <p:nvPr/>
        </p:nvPicPr>
        <p:blipFill>
          <a:blip r:embed="rId7"/>
          <a:stretch/>
        </p:blipFill>
        <p:spPr>
          <a:xfrm>
            <a:off x="3378240" y="21765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40"/>
          <p:cNvSpPr/>
          <p:nvPr/>
        </p:nvSpPr>
        <p:spPr>
          <a:xfrm>
            <a:off x="2904480" y="21384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Espace réservé du texte 46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8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/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2700-0197-4DD0-AD9D-123FD843BAD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663480" y="1477800"/>
            <a:ext cx="5203800" cy="4600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64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5" name="Text Box 29"/>
          <p:cNvSpPr/>
          <p:nvPr/>
        </p:nvSpPr>
        <p:spPr>
          <a:xfrm>
            <a:off x="3102120" y="25448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.17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3102120" y="277344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102120" y="34592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102120" y="36878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3102120" y="39164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2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9"/>
          <p:cNvSpPr/>
          <p:nvPr/>
        </p:nvSpPr>
        <p:spPr>
          <a:xfrm>
            <a:off x="3102120" y="41450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94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50"/>
          <p:cNvSpPr/>
          <p:nvPr/>
        </p:nvSpPr>
        <p:spPr>
          <a:xfrm>
            <a:off x="3102120" y="452592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51"/>
          <p:cNvSpPr/>
          <p:nvPr/>
        </p:nvSpPr>
        <p:spPr>
          <a:xfrm>
            <a:off x="3102120" y="56088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4.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Text Box 52"/>
          <p:cNvSpPr/>
          <p:nvPr/>
        </p:nvSpPr>
        <p:spPr>
          <a:xfrm>
            <a:off x="3102120" y="583740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4,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6634080" y="1477800"/>
            <a:ext cx="34401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62"/>
          <p:cNvSpPr/>
          <p:nvPr/>
        </p:nvSpPr>
        <p:spPr>
          <a:xfrm>
            <a:off x="3848040" y="578340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AutoShape 65"/>
          <p:cNvSpPr/>
          <p:nvPr/>
        </p:nvSpPr>
        <p:spPr>
          <a:xfrm>
            <a:off x="4930920" y="4659480"/>
            <a:ext cx="152280" cy="87768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877680"/>
              <a:gd name="textAreaBottom" fmla="*/ 865800 h 877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9863"/>
                </a:lnTo>
                <a:cubicBezTo>
                  <a:pt x="10800" y="10332"/>
                  <a:pt x="16200" y="10800"/>
                  <a:pt x="21600" y="10800"/>
                </a:cubicBezTo>
                <a:cubicBezTo>
                  <a:pt x="16200" y="10800"/>
                  <a:pt x="10800" y="11269"/>
                  <a:pt x="10800" y="11737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7" name="Picture 36" descr=""/>
          <p:cNvPicPr/>
          <p:nvPr/>
        </p:nvPicPr>
        <p:blipFill>
          <a:blip r:embed="rId2"/>
          <a:stretch/>
        </p:blipFill>
        <p:spPr>
          <a:xfrm>
            <a:off x="3052800" y="182088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36" descr=""/>
          <p:cNvPicPr/>
          <p:nvPr/>
        </p:nvPicPr>
        <p:blipFill>
          <a:blip r:embed="rId3"/>
          <a:stretch/>
        </p:blipFill>
        <p:spPr>
          <a:xfrm>
            <a:off x="3484440" y="182088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79" name="Rectangle 35"/>
          <p:cNvSpPr/>
          <p:nvPr/>
        </p:nvSpPr>
        <p:spPr>
          <a:xfrm>
            <a:off x="3013920" y="1782720"/>
            <a:ext cx="1546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ESI capteur Pro D 230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0" name="Picture 36" descr=""/>
          <p:cNvPicPr/>
          <p:nvPr/>
        </p:nvPicPr>
        <p:blipFill>
          <a:blip r:embed="rId4"/>
          <a:stretch/>
        </p:blipFill>
        <p:spPr>
          <a:xfrm>
            <a:off x="3052800" y="53481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36" descr=""/>
          <p:cNvPicPr/>
          <p:nvPr/>
        </p:nvPicPr>
        <p:blipFill>
          <a:blip r:embed="rId5"/>
          <a:stretch/>
        </p:blipFill>
        <p:spPr>
          <a:xfrm>
            <a:off x="3052800" y="540216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6" descr=""/>
          <p:cNvPicPr/>
          <p:nvPr/>
        </p:nvPicPr>
        <p:blipFill>
          <a:blip r:embed="rId6"/>
          <a:stretch/>
        </p:blipFill>
        <p:spPr>
          <a:xfrm>
            <a:off x="3773520" y="5402160"/>
            <a:ext cx="828720" cy="162000"/>
          </a:xfrm>
          <a:prstGeom prst="rect">
            <a:avLst/>
          </a:prstGeom>
          <a:ln w="0">
            <a:noFill/>
          </a:ln>
        </p:spPr>
      </p:pic>
      <p:sp>
        <p:nvSpPr>
          <p:cNvPr id="483" name="Rectangle 39"/>
          <p:cNvSpPr/>
          <p:nvPr/>
        </p:nvSpPr>
        <p:spPr>
          <a:xfrm>
            <a:off x="2989440" y="5348160"/>
            <a:ext cx="113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4" name="AutoShape 9"/>
          <p:cNvCxnSpPr/>
          <p:nvPr/>
        </p:nvCxnSpPr>
        <p:spPr>
          <a:xfrm flipH="1" flipV="1" rot="10800000">
            <a:off x="6418080" y="68418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5" name="AutoShape 10"/>
          <p:cNvCxnSpPr/>
          <p:nvPr/>
        </p:nvCxnSpPr>
        <p:spPr>
          <a:xfrm flipH="1" flipV="1" rot="10800000">
            <a:off x="6418080" y="68418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86" name="AutoShape 11"/>
          <p:cNvCxnSpPr/>
          <p:nvPr/>
        </p:nvCxnSpPr>
        <p:spPr>
          <a:xfrm flipH="1" rot="16200000">
            <a:off x="6237720" y="287604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87" name="Freeform 24"/>
          <p:cNvSpPr/>
          <p:nvPr/>
        </p:nvSpPr>
        <p:spPr>
          <a:xfrm>
            <a:off x="5322960" y="2611440"/>
            <a:ext cx="4190760" cy="228600"/>
          </a:xfrm>
          <a:custGeom>
            <a:avLst/>
            <a:gdLst>
              <a:gd name="textAreaLeft" fmla="*/ 0 w 4190760"/>
              <a:gd name="textAreaRight" fmla="*/ 4191120 w 419076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Freeform 24"/>
          <p:cNvSpPr/>
          <p:nvPr/>
        </p:nvSpPr>
        <p:spPr>
          <a:xfrm>
            <a:off x="5394240" y="32590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Freeform 24"/>
          <p:cNvSpPr/>
          <p:nvPr/>
        </p:nvSpPr>
        <p:spPr>
          <a:xfrm>
            <a:off x="5322960" y="354816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Freeform 24"/>
          <p:cNvSpPr/>
          <p:nvPr/>
        </p:nvSpPr>
        <p:spPr>
          <a:xfrm>
            <a:off x="5322960" y="3763800"/>
            <a:ext cx="1828800" cy="175284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840"/>
              <a:gd name="textAreaBottom" fmla="*/ 1753200 h 1752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689880" y="3116160"/>
            <a:ext cx="35128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25"/>
          <p:cNvSpPr/>
          <p:nvPr/>
        </p:nvSpPr>
        <p:spPr>
          <a:xfrm>
            <a:off x="6689880" y="419580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6689880" y="505944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25"/>
          <p:cNvSpPr/>
          <p:nvPr/>
        </p:nvSpPr>
        <p:spPr>
          <a:xfrm>
            <a:off x="6689880" y="599616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689880" y="2324160"/>
            <a:ext cx="35128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6" name="Connecteur en angle 53"/>
          <p:cNvCxnSpPr>
            <a:stCxn id="494" idx="1"/>
          </p:cNvCxnSpPr>
          <p:nvPr/>
        </p:nvCxnSpPr>
        <p:spPr>
          <a:xfrm rot="10800000">
            <a:off x="5106240" y="5131800"/>
            <a:ext cx="1583640" cy="1164240"/>
          </a:xfrm>
          <a:prstGeom prst="bentConnector3">
            <a:avLst>
              <a:gd name="adj1" fmla="val 74965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97" name="Espace réservé du texte 38"/>
          <p:cNvSpPr/>
          <p:nvPr/>
        </p:nvSpPr>
        <p:spPr>
          <a:xfrm>
            <a:off x="231948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PRO D23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AE822-E662-42F6-9890-4D25C1591B2E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685800" y="360684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00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685800" y="154944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1" name="Text Box 9"/>
          <p:cNvSpPr/>
          <p:nvPr/>
        </p:nvSpPr>
        <p:spPr>
          <a:xfrm>
            <a:off x="6837480" y="2286000"/>
            <a:ext cx="1920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2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3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4" name="AutoShape 12"/>
          <p:cNvCxnSpPr/>
          <p:nvPr/>
        </p:nvCxnSpPr>
        <p:spPr>
          <a:xfrm flipH="1" rot="16200000">
            <a:off x="6477120" y="29206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05" name="AutoShape 13"/>
          <p:cNvCxnSpPr/>
          <p:nvPr/>
        </p:nvCxnSpPr>
        <p:spPr>
          <a:xfrm flipH="1" flipV="1" rot="10800000">
            <a:off x="-360" y="4339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06" name="Text Box 22"/>
          <p:cNvSpPr/>
          <p:nvPr/>
        </p:nvSpPr>
        <p:spPr>
          <a:xfrm>
            <a:off x="6656400" y="3454560"/>
            <a:ext cx="351324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Freeform 23"/>
          <p:cNvSpPr/>
          <p:nvPr/>
        </p:nvSpPr>
        <p:spPr>
          <a:xfrm flipV="1">
            <a:off x="5105520" y="2099520"/>
            <a:ext cx="1600200" cy="8622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81080" y="2187720"/>
            <a:ext cx="865440" cy="2028600"/>
          </a:xfrm>
          <a:prstGeom prst="rect">
            <a:avLst/>
          </a:prstGeom>
          <a:ln w="0">
            <a:noFill/>
          </a:ln>
        </p:spPr>
      </p:pic>
      <p:sp>
        <p:nvSpPr>
          <p:cNvPr id="509" name="Freeform 24"/>
          <p:cNvSpPr/>
          <p:nvPr/>
        </p:nvSpPr>
        <p:spPr>
          <a:xfrm flipV="1">
            <a:off x="5105520" y="3804480"/>
            <a:ext cx="3657600" cy="86220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Freeform 24"/>
          <p:cNvSpPr/>
          <p:nvPr/>
        </p:nvSpPr>
        <p:spPr>
          <a:xfrm>
            <a:off x="5127480" y="4916520"/>
            <a:ext cx="3048120" cy="861840"/>
          </a:xfrm>
          <a:custGeom>
            <a:avLst/>
            <a:gdLst>
              <a:gd name="textAreaLeft" fmla="*/ 0 w 3048120"/>
              <a:gd name="textAreaRight" fmla="*/ 3048480 w 30481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6640560" y="5564160"/>
            <a:ext cx="351324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, les pertes thermiques du ballon impactent la consomma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656400" y="368316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Freeform 24"/>
          <p:cNvSpPr/>
          <p:nvPr/>
        </p:nvSpPr>
        <p:spPr>
          <a:xfrm flipV="1">
            <a:off x="5105520" y="2037240"/>
            <a:ext cx="3657600" cy="862200"/>
          </a:xfrm>
          <a:custGeom>
            <a:avLst/>
            <a:gdLst>
              <a:gd name="textAreaLeft" fmla="*/ 0 w 3657600"/>
              <a:gd name="textAreaRight" fmla="*/ 3657960 w 36576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656400" y="189864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5" name="Text Box 39"/>
          <p:cNvSpPr/>
          <p:nvPr/>
        </p:nvSpPr>
        <p:spPr>
          <a:xfrm>
            <a:off x="2925720" y="440532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45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40"/>
          <p:cNvSpPr/>
          <p:nvPr/>
        </p:nvSpPr>
        <p:spPr>
          <a:xfrm>
            <a:off x="2910600" y="459756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2927160" y="4826160"/>
            <a:ext cx="381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.3W/K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Text Box 42"/>
          <p:cNvSpPr/>
          <p:nvPr/>
        </p:nvSpPr>
        <p:spPr>
          <a:xfrm>
            <a:off x="2966760" y="5089680"/>
            <a:ext cx="34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1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Text Box 43"/>
          <p:cNvSpPr/>
          <p:nvPr/>
        </p:nvSpPr>
        <p:spPr>
          <a:xfrm>
            <a:off x="2896200" y="528336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44"/>
          <p:cNvSpPr/>
          <p:nvPr/>
        </p:nvSpPr>
        <p:spPr>
          <a:xfrm>
            <a:off x="2930400" y="553572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Text Box 46"/>
          <p:cNvSpPr/>
          <p:nvPr/>
        </p:nvSpPr>
        <p:spPr>
          <a:xfrm>
            <a:off x="2926080" y="577692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2" name="Picture 36" descr=""/>
          <p:cNvPicPr/>
          <p:nvPr/>
        </p:nvPicPr>
        <p:blipFill>
          <a:blip r:embed="rId4"/>
          <a:stretch/>
        </p:blipFill>
        <p:spPr>
          <a:xfrm>
            <a:off x="285912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36" descr=""/>
          <p:cNvPicPr/>
          <p:nvPr/>
        </p:nvPicPr>
        <p:blipFill>
          <a:blip r:embed="rId5"/>
          <a:stretch/>
        </p:blipFill>
        <p:spPr>
          <a:xfrm>
            <a:off x="329076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36" descr=""/>
          <p:cNvPicPr/>
          <p:nvPr/>
        </p:nvPicPr>
        <p:blipFill>
          <a:blip r:embed="rId6"/>
          <a:stretch/>
        </p:blipFill>
        <p:spPr>
          <a:xfrm>
            <a:off x="3579840" y="1801800"/>
            <a:ext cx="828720" cy="162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36" descr=""/>
          <p:cNvPicPr/>
          <p:nvPr/>
        </p:nvPicPr>
        <p:blipFill>
          <a:blip r:embed="rId7"/>
          <a:stretch/>
        </p:blipFill>
        <p:spPr>
          <a:xfrm>
            <a:off x="2859120" y="2179800"/>
            <a:ext cx="828720" cy="16164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36" descr=""/>
          <p:cNvPicPr/>
          <p:nvPr/>
        </p:nvPicPr>
        <p:blipFill>
          <a:blip r:embed="rId8"/>
          <a:stretch/>
        </p:blipFill>
        <p:spPr>
          <a:xfrm>
            <a:off x="3579840" y="2179800"/>
            <a:ext cx="828720" cy="161640"/>
          </a:xfrm>
          <a:prstGeom prst="rect">
            <a:avLst/>
          </a:prstGeom>
          <a:ln w="0">
            <a:noFill/>
          </a:ln>
        </p:spPr>
      </p:pic>
      <p:sp>
        <p:nvSpPr>
          <p:cNvPr id="527" name="Rectangle 32"/>
          <p:cNvSpPr/>
          <p:nvPr/>
        </p:nvSpPr>
        <p:spPr>
          <a:xfrm>
            <a:off x="2843640" y="174780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Ballon BSL 150 N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Rectangle 36"/>
          <p:cNvSpPr/>
          <p:nvPr/>
        </p:nvSpPr>
        <p:spPr>
          <a:xfrm>
            <a:off x="2831760" y="2141640"/>
            <a:ext cx="118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Ballon BSL 150 N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9" name="Picture 31" descr=""/>
          <p:cNvPicPr/>
          <p:nvPr/>
        </p:nvPicPr>
        <p:blipFill>
          <a:blip r:embed="rId9"/>
          <a:stretch/>
        </p:blipFill>
        <p:spPr>
          <a:xfrm>
            <a:off x="2874960" y="2416320"/>
            <a:ext cx="885960" cy="123840"/>
          </a:xfrm>
          <a:prstGeom prst="rect">
            <a:avLst/>
          </a:prstGeom>
          <a:ln w="0">
            <a:noFill/>
          </a:ln>
        </p:spPr>
      </p:pic>
      <p:sp>
        <p:nvSpPr>
          <p:cNvPr id="530" name="Rectangle 37"/>
          <p:cNvSpPr/>
          <p:nvPr/>
        </p:nvSpPr>
        <p:spPr>
          <a:xfrm>
            <a:off x="2778120" y="2357280"/>
            <a:ext cx="163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ESI capteur Pro D 230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1" name="Picture 32" descr=""/>
          <p:cNvPicPr/>
          <p:nvPr/>
        </p:nvPicPr>
        <p:blipFill>
          <a:blip r:embed="rId10"/>
          <a:stretch/>
        </p:blipFill>
        <p:spPr>
          <a:xfrm>
            <a:off x="2874960" y="2827440"/>
            <a:ext cx="885960" cy="12384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2" descr=""/>
          <p:cNvPicPr/>
          <p:nvPr/>
        </p:nvPicPr>
        <p:blipFill>
          <a:blip r:embed="rId11"/>
          <a:stretch/>
        </p:blipFill>
        <p:spPr>
          <a:xfrm>
            <a:off x="3162240" y="2827440"/>
            <a:ext cx="885960" cy="123840"/>
          </a:xfrm>
          <a:prstGeom prst="rect">
            <a:avLst/>
          </a:prstGeom>
          <a:ln w="0">
            <a:noFill/>
          </a:ln>
        </p:spPr>
      </p:pic>
      <p:sp>
        <p:nvSpPr>
          <p:cNvPr id="533" name="Rectangle 39"/>
          <p:cNvSpPr/>
          <p:nvPr/>
        </p:nvSpPr>
        <p:spPr>
          <a:xfrm>
            <a:off x="2840040" y="2755800"/>
            <a:ext cx="1825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Chaudière NANEO 24/28 MI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Espace réservé du texte 39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Ballon BSL 150 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23348-207E-4003-ACDC-4F584CA563A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20" descr=""/>
          <p:cNvPicPr/>
          <p:nvPr/>
        </p:nvPicPr>
        <p:blipFill>
          <a:blip r:embed="rId1"/>
          <a:stretch/>
        </p:blipFill>
        <p:spPr>
          <a:xfrm>
            <a:off x="736560" y="2629080"/>
            <a:ext cx="5591160" cy="637920"/>
          </a:xfrm>
          <a:prstGeom prst="rect">
            <a:avLst/>
          </a:prstGeom>
          <a:ln w="0">
            <a:noFill/>
          </a:ln>
        </p:spPr>
      </p:pic>
      <p:sp>
        <p:nvSpPr>
          <p:cNvPr id="537" name="Text Box 24"/>
          <p:cNvSpPr/>
          <p:nvPr/>
        </p:nvSpPr>
        <p:spPr>
          <a:xfrm>
            <a:off x="736560" y="2052720"/>
            <a:ext cx="525636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8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65280" y="21034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38"/>
          <p:cNvSpPr/>
          <p:nvPr/>
        </p:nvSpPr>
        <p:spPr>
          <a:xfrm>
            <a:off x="3616200" y="2844720"/>
            <a:ext cx="107964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0" name="Text Box 39"/>
          <p:cNvSpPr/>
          <p:nvPr/>
        </p:nvSpPr>
        <p:spPr>
          <a:xfrm>
            <a:off x="3616200" y="2629080"/>
            <a:ext cx="8082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0. 0 m</a:t>
            </a:r>
            <a:r>
              <a:rPr b="0" lang="fr-FR" sz="1000" spc="-1" strike="noStrike" baseline="30000">
                <a:solidFill>
                  <a:srgbClr val="002060"/>
                </a:solidFill>
                <a:latin typeface="45 Helvetica Light"/>
              </a:rPr>
              <a:t>3</a:t>
            </a: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/h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1" name="Text Box 40"/>
          <p:cNvSpPr/>
          <p:nvPr/>
        </p:nvSpPr>
        <p:spPr>
          <a:xfrm>
            <a:off x="3616200" y="3060720"/>
            <a:ext cx="6415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45 Helvetica Light"/>
              </a:rPr>
              <a:t>24.0 W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Espace réservé du texte 21"/>
          <p:cNvSpPr/>
          <p:nvPr/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5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7936-7C57-4A20-85CC-7AE75A709E8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4:51Z</dcterms:modified>
  <cp:revision>106</cp:revision>
  <dc:subject/>
  <dc:title>Présentation PowerPoint</dc:title>
</cp:coreProperties>
</file>