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wmf" ContentType="image/x-wmf"/>
  <Override PartName="/ppt/media/image19.jpeg" ContentType="image/jpeg"/>
  <Override PartName="/ppt/media/image7.jpeg" ContentType="image/jpeg"/>
  <Override PartName="/ppt/media/image20.png" ContentType="image/png"/>
  <Override PartName="/ppt/media/image23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10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89A2-FFB5-4C54-8455-272EDE81B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8B6F-0420-434C-85B9-C18085102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E53025-A605-45A4-8EFC-2C82F178A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0FC130-49FD-4F38-9010-78B1A456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5D277C-CCC3-4BC5-B2B3-A1FE1BEE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38984-99AD-4850-91E4-D400E1F98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D539BE-C6AD-4113-BAB6-EC2A7EAF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08D91C-78C3-497D-A87D-CCA3F749F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7D0BD3-79B3-46A2-BFFB-E6E6FD40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0ED967-01A1-4470-93C9-41B4DC608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FDB297-67C6-4905-B248-F750CF02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9993-9235-4DAA-80CE-203943493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1972-4145-407F-9BEC-673809F2D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3922C-043D-4362-866A-C68F6965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BE41-68ED-42EB-B1BA-3622745A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F0780-180B-4A58-B225-345459B6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E66F-7D34-494D-8934-21C55D725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4E32-77E9-412D-8F69-E195D4C66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12C2F-C4F3-4BE1-83DF-DFB5933F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4A52C-6013-46FA-8D16-A5BC8571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13CE-B341-43AB-BAC3-6D260856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BF137-6597-4088-97AC-CBBE05C6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EB8F7-4FEC-438D-B909-8D81D92D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0E48B-AD4B-4BFB-9868-78CE06BF6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B9A58-4C7C-475F-8C90-E43BE7BC6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58F9-780C-4419-9A2D-83F8C0429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BE015-AA43-4392-8443-82C9AE585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809F69-B758-4FC4-9831-9903084C7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E11836-9E13-4943-ADC6-3E6D2AC1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5AF182-9038-40CA-BF16-61A4FB766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3FFC7-925D-4403-B2F9-5910488F2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D004-9425-45E8-B7C0-17F8CA90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C2AF87-CD4D-47F5-9303-BA45465B8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514C0-7EE3-4B11-8091-ABC6778D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8C396-362E-4488-BA3A-B16892437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8C89F-ABE3-4603-888D-9F1DB7BE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2D3E6-95C5-4B4A-8CCD-D64DBF6BF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02C26-697A-478F-BCFA-49C867D9A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2FC413-A7C7-46A3-B1F4-47B48C48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7C625-08DB-4A21-BD7C-F841B7528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5A9F5-725B-4978-B9A2-C10332AB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BB858-B760-4CEE-907B-31CBE523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1807-85B8-42AE-B50F-765F02562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567A6B-7DFC-4CF0-A122-41FE6F64C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E1590-FB1B-4093-BB2D-54708357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35DDB-23EE-4593-8D0B-2A01C1F7A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663357-C0E2-4A2D-BEE8-65F387C6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EF1EB-EE14-4BB7-801A-3DED08BFC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07629-D978-4B6F-87B7-02FD813F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1309D-2198-4884-99A2-AA03AB79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9E14C-255A-44ED-B541-526E31083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8975D-30A4-4B2F-AA5D-B57B8FAE7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C7B00-CE57-4688-968F-94897E09B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BEDB-BF7F-490E-AC92-2B0A5E89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1D68B9-6EBC-4E5C-A7A2-D93FB6B99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E8699-330D-44D8-BFF9-57F945E1E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BBF4F-EAC5-4106-B1DC-0CF30C23F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5F2D2-CC3C-42FF-B797-4876BB8E6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8B2A4-9130-412F-9B7B-7B509F371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36DFBE-EC54-4B87-9F53-08704CF9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DA4B1-E6AB-4D79-9026-0A0CC3E45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B34116-2E67-437B-BCE9-CDF4AB36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E6999-CA22-4B61-9F5E-222BED4C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B8A26-F60A-45BF-AC5F-F783F0AC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2A0-3CA1-4E3F-8EA1-8B95C89A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28980A-3C6A-466A-81C8-F3D8B77A7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0CC044-FD16-4EF1-87EE-7E85941AE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357B57-19D8-407D-BD6F-7F4A3E16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8F1FA-CA35-4ADF-B0BB-6743841B1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C22C0-DE8A-4F21-9321-E41EAA4D6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C8E34-6FE4-44AF-9E99-0F5B938F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7919F-67C4-4850-B4A1-B10548E8C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021E5-C42E-4B75-A1A3-18A3314E1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66B07-C5A5-44E0-8BD8-F5B67D82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74BD6-6505-4228-858B-BB896DF5A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6CA3-D877-437A-A423-93A5C9341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59E4E1-3C10-486E-9A70-AA136451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269577-FD02-42EA-9D48-3A19EAFC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F0224-24BB-4217-8A00-603687672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864D42-8CDC-44DA-A475-AE0438F80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E5D6C7-CF6B-4BEA-82CE-F8A9AFB46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16733-1EA8-4954-AFA6-C90F61870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8FEAFA-8EC4-4FE0-836F-9D3447033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0EB075-FABE-46D9-AE2B-D780675C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8317B-5B99-4DD7-8EBF-D8B75F4C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43CAAC-A2F0-462F-A367-BF05C9C0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9EBA-F4A3-4DC0-8E95-5A2666FD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B8AA3-8C7F-448B-8545-834A4C7A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5D14F-F07B-441F-A111-E41137EA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21A9C-7BE9-4B4A-9B21-827329C2C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07BBBC-E870-43C2-BC4B-92E40046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77F00-5918-403F-8F11-387F2B961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FBF75-1967-4B99-B642-A4651902F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7F0DA-0A65-4B2E-86E6-557E03516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37ACB-8E56-4F19-9C5C-7D99F81F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A5638D-EC22-4DA6-857A-8C919CEFD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F2735-0893-40BD-BB5C-C4DFCAC3E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9B06-0C47-4BE3-A2CB-0DD1BE3B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25C8D-F81F-4D4E-9EB1-2C49F3F4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A31691-533B-41F2-9C7F-3A65CEA4A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A011F-42FB-48BF-996D-6B5AE60C5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4C7B10-2F22-4C09-89D8-818AD3B5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4EBF2-B853-4F55-A458-7C25DC1BD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E52926-1E32-48F2-B63D-6D32C2D45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A1AAD-3763-4B5D-AA8E-98969E06F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892327-9315-4EF6-8BAB-3227B88A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3B1AB6-9C9F-453C-AF52-4BADE14B4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045AC-783C-4AAD-A434-9345977E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9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B23E2-A91B-485E-B68E-4DACD1C2812F}" type="slidenum">
              <a:rPr b="0" lang="fr-FR" sz="9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EB1A8-7A9E-4AC4-A8CF-FECE827908AA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4334F-603E-4716-9E00-6F60B7C6980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2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D321-9247-42CC-94DB-66FB0621C763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77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C45A-51E3-429F-8885-DB67AA12114C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8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1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1B3C-1AB7-45ED-A081-655F0B57432B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8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-4680" bIns="-4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C9EA-F5F8-4B71-AF06-D3F190ABB511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8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10080" bIns="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09" name="Forme libre 9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DF15-B5C7-4A4F-960A-C290ECEA812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9720" bIns="9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4" name="Forme libre 10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33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3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5072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230480">
              <a:lnSpc>
                <a:spcPct val="110000"/>
              </a:lnSpc>
              <a:spcBef>
                <a:spcPts val="1712"/>
              </a:spcBef>
              <a:spcAft>
                <a:spcPts val="913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en-US" sz="18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8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B4FE2-785C-4CE7-B78D-1D7877F32761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6.wmf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hyperlink" Target="http://www.certita.org/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20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100" spc="-1" strike="noStrike">
                <a:solidFill>
                  <a:srgbClr val="9796a3"/>
                </a:solidFill>
                <a:latin typeface="Avenir LT Std 55 Roman"/>
              </a:rPr>
              <a:t>Chaudière HYSAE HYBRID GAZ</a:t>
            </a:r>
            <a:br>
              <a:rPr sz="3100"/>
            </a:br>
            <a:r>
              <a:rPr b="0" lang="fr-FR" sz="3100" spc="-1" strike="noStrike">
                <a:solidFill>
                  <a:srgbClr val="9796a3"/>
                </a:solidFill>
                <a:latin typeface="Avenir LT Std 55 Roman"/>
              </a:rPr>
              <a:t>ATLANTIC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ClimaWin de BBS Slama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4.6.1.1 du 06/07/2018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9" name="Text Box 7"/>
          <p:cNvSpPr/>
          <p:nvPr/>
        </p:nvSpPr>
        <p:spPr>
          <a:xfrm>
            <a:off x="829476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</a:rPr>
              <a:t>PRODUIT</a:t>
            </a:r>
            <a:endParaRPr b="0" lang="en-US" sz="16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2517840" y="990720"/>
            <a:ext cx="183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Domaine d’application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2" name="Text Box 10"/>
          <p:cNvSpPr/>
          <p:nvPr/>
        </p:nvSpPr>
        <p:spPr>
          <a:xfrm>
            <a:off x="1438200" y="1582560"/>
            <a:ext cx="815508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c1001f"/>
                </a:solidFill>
                <a:latin typeface="76 Helvetica BoldItalic"/>
              </a:rPr>
              <a:t>La modélisation de ce système est basée sur le Titre V relatif à la prise en compte du «Générateur Hybride» dans la </a:t>
            </a:r>
            <a:br>
              <a:rPr sz="1100"/>
            </a:br>
            <a:r>
              <a:rPr b="0" lang="fr-FR" sz="1100" spc="-1" strike="noStrike">
                <a:solidFill>
                  <a:srgbClr val="c1001f"/>
                </a:solidFill>
                <a:latin typeface="76 Helvetica BoldItalic"/>
              </a:rPr>
              <a:t>RT 2012 (arrêté du 13 août 2015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 titre V s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pplique uniquement aux 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maisons individuelles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ou 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accolées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 soumises aux exigences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rrêté du 26 octobre 2010. Il ne s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pplique qu</a:t>
            </a:r>
            <a:r>
              <a:rPr b="0" lang="ja-JP" sz="1100" spc="-1" strike="noStrike">
                <a:solidFill>
                  <a:srgbClr val="000000"/>
                </a:solidFill>
                <a:latin typeface="75 Helvetica Bold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aux générateurs hybrides associés à des radiateurs à eau chaude et/ou à des planchers chauffants sur vecteur eau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Il concerne les générateurs hybrides composés de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83c4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e PAC électrique A/E de puissance utile nominale inférieure à 5 kW à 7/35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83c4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e chaudière à condensation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83c4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système de régulation permettant une commutation entre les deux générateurs en fonction de leurs performances en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  énergie primair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3" name="Espace réservé du numéro de diapositive 3"/>
          <p:cNvSpPr/>
          <p:nvPr/>
        </p:nvSpPr>
        <p:spPr>
          <a:xfrm>
            <a:off x="9952200" y="738180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ABE3-5376-4F85-8459-60470A23D50C}" type="slidenum">
              <a:rPr b="0" lang="fr-FR" sz="9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5" name="Text Box 10"/>
          <p:cNvSpPr/>
          <p:nvPr/>
        </p:nvSpPr>
        <p:spPr>
          <a:xfrm>
            <a:off x="1438200" y="1582560"/>
            <a:ext cx="793440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 présent document décrit la saisie et la prise en compte de la chaudière hybride Hysaé d’ATLANTIC dans le logiciel d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application de la RT 2012 de ClimaWin. Seule la saisie de la «génération chauffage &amp; ECS» est décrite ; un focus spécifique sur la saisie du circulateur est également réalisé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La chaudière hybride Hysaé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st composée des 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éléments suivant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générateur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écrivant les caractéristiques de la pompe à chaleur (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générateur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écrivant les caractéristiques de la chaudière gaz à condensation (      )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41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étapes de la saisie du système sont les suivantes :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1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objet génération «Chaudière hybride Hysaé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2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u générateur «PAC (fonction chauffage)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3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u générateur «Chaudière gaz à condensation» ;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 lvl="1" marL="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06" name="Object 16"/>
          <p:cNvGraphicFramePr/>
          <p:nvPr/>
        </p:nvGraphicFramePr>
        <p:xfrm>
          <a:off x="5508720" y="3781440"/>
          <a:ext cx="183960" cy="18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7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8720" y="3781440"/>
                    <a:ext cx="183960" cy="1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1107"/>
          <p:cNvSpPr/>
          <p:nvPr/>
        </p:nvSpPr>
        <p:spPr>
          <a:xfrm>
            <a:off x="1447920" y="32004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09" name="Rectangle 1093"/>
          <p:cNvSpPr/>
          <p:nvPr/>
        </p:nvSpPr>
        <p:spPr>
          <a:xfrm>
            <a:off x="426708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1523880" y="2576520"/>
          <a:ext cx="7917120" cy="517680"/>
        </p:xfrm>
        <a:graphic>
          <a:graphicData uri="http://schemas.openxmlformats.org/drawingml/2006/table">
            <a:tbl>
              <a:tblPr/>
              <a:tblGrid>
                <a:gridCol w="2514600"/>
                <a:gridCol w="5402520"/>
              </a:tblGrid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Chaudière à condensation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Chaudière gaz à condensation micro-accumulée Hysaé Hybrid gaz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</a:rPr>
                        <a:t>Pompe à chaleur électrique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Pac à compression électrique air/eau Inverter Fujitsu</a:t>
                      </a:r>
                      <a:endParaRPr b="0" lang="en-US" sz="11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11" name="Object 17"/>
          <p:cNvGraphicFramePr/>
          <p:nvPr/>
        </p:nvGraphicFramePr>
        <p:xfrm>
          <a:off x="7032600" y="4357800"/>
          <a:ext cx="184320" cy="209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1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32600" y="4357800"/>
                    <a:ext cx="18432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Object 5"/>
          <p:cNvGraphicFramePr/>
          <p:nvPr/>
        </p:nvGraphicFramePr>
        <p:xfrm>
          <a:off x="6229440" y="4176720"/>
          <a:ext cx="183960" cy="20952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1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29440" y="4176720"/>
                    <a:ext cx="183960" cy="20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5" name="Picture 1327" descr="LaCie Disk:1 GRAPHISME:ELEMENTS_OK_FICHES_BET_PRODUIT:F2_BBS:F2_B_capt_menu.jpg"/>
          <p:cNvPicPr/>
          <p:nvPr/>
        </p:nvPicPr>
        <p:blipFill>
          <a:blip r:embed="rId7"/>
          <a:stretch/>
        </p:blipFill>
        <p:spPr>
          <a:xfrm>
            <a:off x="7496280" y="3781440"/>
            <a:ext cx="2638440" cy="24368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16" name="Rectangle 13"/>
          <p:cNvSpPr/>
          <p:nvPr/>
        </p:nvSpPr>
        <p:spPr>
          <a:xfrm>
            <a:off x="8224920" y="4573440"/>
            <a:ext cx="100800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17" name="Picture 26" descr=""/>
          <p:cNvPicPr/>
          <p:nvPr/>
        </p:nvPicPr>
        <p:blipFill>
          <a:blip r:embed="rId8"/>
          <a:stretch/>
        </p:blipFill>
        <p:spPr>
          <a:xfrm>
            <a:off x="8512200" y="4362480"/>
            <a:ext cx="1584360" cy="220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6" descr=""/>
          <p:cNvPicPr/>
          <p:nvPr/>
        </p:nvPicPr>
        <p:blipFill>
          <a:blip r:embed="rId9"/>
          <a:stretch/>
        </p:blipFill>
        <p:spPr>
          <a:xfrm>
            <a:off x="8512200" y="4281480"/>
            <a:ext cx="1584360" cy="220680"/>
          </a:xfrm>
          <a:prstGeom prst="rect">
            <a:avLst/>
          </a:prstGeom>
          <a:ln w="0">
            <a:noFill/>
          </a:ln>
        </p:spPr>
      </p:pic>
      <p:sp>
        <p:nvSpPr>
          <p:cNvPr id="419" name="Rectangle 14"/>
          <p:cNvSpPr/>
          <p:nvPr/>
        </p:nvSpPr>
        <p:spPr>
          <a:xfrm>
            <a:off x="8440560" y="421308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45 Helvetica Light"/>
              </a:rPr>
              <a:t>PAC Hybride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0" name="Rectangle 15"/>
          <p:cNvSpPr/>
          <p:nvPr/>
        </p:nvSpPr>
        <p:spPr>
          <a:xfrm>
            <a:off x="8440560" y="435780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45 Helvetica Light"/>
              </a:rPr>
              <a:t>Chaudière gaz condensation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21" name="Espace réservé du numéro de diapositive 3"/>
          <p:cNvSpPr/>
          <p:nvPr/>
        </p:nvSpPr>
        <p:spPr>
          <a:xfrm>
            <a:off x="9952200" y="7381800"/>
            <a:ext cx="576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8E66-F2F1-49E4-9DAE-652ED5070095}" type="slidenum">
              <a:rPr b="0" lang="fr-FR" sz="9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Création de l’objet génération «Chaudière hybride Hysaé»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3" name="Text Box 14"/>
          <p:cNvSpPr/>
          <p:nvPr/>
        </p:nvSpPr>
        <p:spPr>
          <a:xfrm>
            <a:off x="6913440" y="2949480"/>
            <a:ext cx="1800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24" name="AutoShape 16"/>
          <p:cNvCxnSpPr/>
          <p:nvPr/>
        </p:nvCxnSpPr>
        <p:spPr>
          <a:xfrm flipH="1" flipV="1" rot="10800000">
            <a:off x="6717960" y="2974680"/>
            <a:ext cx="2160" cy="2160"/>
          </a:xfrm>
          <a:prstGeom prst="bentConnector3">
            <a:avLst>
              <a:gd name="adj1" fmla="val -13500000"/>
            </a:avLst>
          </a:prstGeom>
          <a:ln w="0">
            <a:noFill/>
          </a:ln>
        </p:spPr>
      </p:cxnSp>
      <p:cxnSp>
        <p:nvCxnSpPr>
          <p:cNvPr id="425" name="AutoShape 19"/>
          <p:cNvCxnSpPr/>
          <p:nvPr/>
        </p:nvCxnSpPr>
        <p:spPr>
          <a:xfrm flipH="1" flipV="1" rot="10800000">
            <a:off x="6717960" y="2974680"/>
            <a:ext cx="2160" cy="2160"/>
          </a:xfrm>
          <a:prstGeom prst="bentConnector3">
            <a:avLst>
              <a:gd name="adj1" fmla="val -13500000"/>
            </a:avLst>
          </a:prstGeom>
          <a:ln w="0">
            <a:noFill/>
          </a:ln>
        </p:spPr>
      </p:cxnSp>
      <p:cxnSp>
        <p:nvCxnSpPr>
          <p:cNvPr id="426" name="AutoShape 24"/>
          <p:cNvCxnSpPr/>
          <p:nvPr/>
        </p:nvCxnSpPr>
        <p:spPr>
          <a:xfrm flipH="1" rot="16200000">
            <a:off x="6552000" y="3584160"/>
            <a:ext cx="2520" cy="252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27" name="AutoShape 41"/>
          <p:cNvCxnSpPr/>
          <p:nvPr/>
        </p:nvCxnSpPr>
        <p:spPr>
          <a:xfrm flipH="1" flipV="1" rot="10800000">
            <a:off x="75960" y="500256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pic>
        <p:nvPicPr>
          <p:cNvPr id="428" name="Picture 32" descr="Travail:1 GRAPHISME:GRDF:FICHES_BET_CEGIBAT_GrDF:FICHES_PRODUIT:ELEMENTS_OK:F1_BBS:F1_2.jpg"/>
          <p:cNvPicPr/>
          <p:nvPr/>
        </p:nvPicPr>
        <p:blipFill>
          <a:blip r:embed="rId1"/>
          <a:stretch/>
        </p:blipFill>
        <p:spPr>
          <a:xfrm>
            <a:off x="739800" y="2411280"/>
            <a:ext cx="5184720" cy="2432160"/>
          </a:xfrm>
          <a:prstGeom prst="rect">
            <a:avLst/>
          </a:prstGeom>
          <a:ln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29" name="ZoneTexte 15"/>
          <p:cNvSpPr/>
          <p:nvPr/>
        </p:nvSpPr>
        <p:spPr>
          <a:xfrm>
            <a:off x="3403440" y="4664160"/>
            <a:ext cx="129708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ECS Instantan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0" name="Freeform 25"/>
          <p:cNvSpPr/>
          <p:nvPr/>
        </p:nvSpPr>
        <p:spPr>
          <a:xfrm>
            <a:off x="5638680" y="3648240"/>
            <a:ext cx="2362320" cy="86184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861840"/>
              <a:gd name="textAreaBottom" fmla="*/ 862200 h 86184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1" name="Freeform 25"/>
          <p:cNvSpPr/>
          <p:nvPr/>
        </p:nvSpPr>
        <p:spPr>
          <a:xfrm>
            <a:off x="5638680" y="2975040"/>
            <a:ext cx="2362320" cy="228600"/>
          </a:xfrm>
          <a:custGeom>
            <a:avLst/>
            <a:gdLst>
              <a:gd name="textAreaLeft" fmla="*/ 0 w 2362320"/>
              <a:gd name="textAreaRight" fmla="*/ 2362680 w 2362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6732720" y="2989080"/>
            <a:ext cx="329220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On sollicite les générateurs par ordre de priorité jusqu’à la limite de leur puissance util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33" name="Picture 18" descr=""/>
          <p:cNvPicPr/>
          <p:nvPr/>
        </p:nvPicPr>
        <p:blipFill>
          <a:blip r:embed="rId2"/>
          <a:stretch/>
        </p:blipFill>
        <p:spPr>
          <a:xfrm>
            <a:off x="3403440" y="3133800"/>
            <a:ext cx="1209960" cy="142920"/>
          </a:xfrm>
          <a:prstGeom prst="rect">
            <a:avLst/>
          </a:prstGeom>
          <a:ln w="0">
            <a:noFill/>
          </a:ln>
        </p:spPr>
      </p:pic>
      <p:sp>
        <p:nvSpPr>
          <p:cNvPr id="434" name="ZoneTexte 15"/>
          <p:cNvSpPr/>
          <p:nvPr/>
        </p:nvSpPr>
        <p:spPr>
          <a:xfrm>
            <a:off x="3348000" y="3079800"/>
            <a:ext cx="172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45 Helvetica Light"/>
              </a:rPr>
              <a:t>Avec isolement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5" name="Text Box 33"/>
          <p:cNvSpPr/>
          <p:nvPr/>
        </p:nvSpPr>
        <p:spPr>
          <a:xfrm>
            <a:off x="6732720" y="4202640"/>
            <a:ext cx="329220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emplacement en volume chauffé permet de réduire significativement les consommation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85F9D-6F91-49A4-A203-44A24E86204A}" type="slidenum">
              <a:rPr b="0" lang="fr-FR" sz="9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Création du générateur «PAC» (fonction chauffage)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pic>
        <p:nvPicPr>
          <p:cNvPr id="438" name="Picture 105" descr="LaCie Disk:1 GRAPHISME:ELEMENTS_OK_FICHES_BET_PRODUIT:F2_BBS:F2_3.jpg"/>
          <p:cNvPicPr/>
          <p:nvPr/>
        </p:nvPicPr>
        <p:blipFill>
          <a:blip r:embed="rId1"/>
          <a:stretch/>
        </p:blipFill>
        <p:spPr>
          <a:xfrm>
            <a:off x="685800" y="3262320"/>
            <a:ext cx="4408560" cy="39513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39" name="Picture 103" descr="LaCie Disk:1 GRAPHISME:ELEMENTS_OK_FICHES_BET_PRODUIT:F2_BBS:F2_2.jpg"/>
          <p:cNvPicPr/>
          <p:nvPr/>
        </p:nvPicPr>
        <p:blipFill>
          <a:blip r:embed="rId2"/>
          <a:stretch/>
        </p:blipFill>
        <p:spPr>
          <a:xfrm>
            <a:off x="663480" y="1498680"/>
            <a:ext cx="4426200" cy="15811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40" name="Freeform 25"/>
          <p:cNvSpPr/>
          <p:nvPr/>
        </p:nvSpPr>
        <p:spPr>
          <a:xfrm>
            <a:off x="4419720" y="5765760"/>
            <a:ext cx="5486400" cy="152280"/>
          </a:xfrm>
          <a:custGeom>
            <a:avLst/>
            <a:gdLst>
              <a:gd name="textAreaLeft" fmla="*/ 0 w 5486400"/>
              <a:gd name="textAreaRight" fmla="*/ 5486760 w 54864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1" name="Text Box 7"/>
          <p:cNvSpPr/>
          <p:nvPr/>
        </p:nvSpPr>
        <p:spPr>
          <a:xfrm>
            <a:off x="6837480" y="223524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42" name="AutoShape 8"/>
          <p:cNvCxnSpPr/>
          <p:nvPr/>
        </p:nvCxnSpPr>
        <p:spPr>
          <a:xfrm flipH="1" flipV="1" rot="10800000">
            <a:off x="6656040" y="194508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43" name="AutoShape 9"/>
          <p:cNvCxnSpPr/>
          <p:nvPr/>
        </p:nvCxnSpPr>
        <p:spPr>
          <a:xfrm flipH="1" flipV="1" rot="10800000">
            <a:off x="6656040" y="194508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44" name="AutoShape 10"/>
          <p:cNvCxnSpPr/>
          <p:nvPr/>
        </p:nvCxnSpPr>
        <p:spPr>
          <a:xfrm flipH="1" rot="16200000">
            <a:off x="6476760" y="2704680"/>
            <a:ext cx="252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45" name="AutoShape 12"/>
          <p:cNvCxnSpPr/>
          <p:nvPr/>
        </p:nvCxnSpPr>
        <p:spPr>
          <a:xfrm flipH="1" flipV="1" rot="10800000">
            <a:off x="-360" y="428904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46" name="Text Box 31"/>
          <p:cNvSpPr/>
          <p:nvPr/>
        </p:nvSpPr>
        <p:spPr>
          <a:xfrm>
            <a:off x="6656400" y="5067360"/>
            <a:ext cx="3292560" cy="1265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La température limite amont dépend de la température départ chauffage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7" name="Freeform 25"/>
          <p:cNvSpPr/>
          <p:nvPr/>
        </p:nvSpPr>
        <p:spPr>
          <a:xfrm flipV="1">
            <a:off x="4419720" y="4698720"/>
            <a:ext cx="5486400" cy="861840"/>
          </a:xfrm>
          <a:custGeom>
            <a:avLst/>
            <a:gdLst>
              <a:gd name="textAreaLeft" fmla="*/ 0 w 5486400"/>
              <a:gd name="textAreaRight" fmla="*/ 5486760 w 5486400"/>
              <a:gd name="textAreaTop" fmla="*/ 360 h 861840"/>
              <a:gd name="textAreaBottom" fmla="*/ 862560 h 86184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8" name="Freeform 25"/>
          <p:cNvSpPr/>
          <p:nvPr/>
        </p:nvSpPr>
        <p:spPr>
          <a:xfrm flipV="1">
            <a:off x="4419720" y="6952680"/>
            <a:ext cx="5486400" cy="75960"/>
          </a:xfrm>
          <a:custGeom>
            <a:avLst/>
            <a:gdLst>
              <a:gd name="textAreaLeft" fmla="*/ 0 w 5486400"/>
              <a:gd name="textAreaRight" fmla="*/ 5486760 w 5486400"/>
              <a:gd name="textAreaTop" fmla="*/ -360 h 75960"/>
              <a:gd name="textAreaBottom" fmla="*/ 75960 h 7596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49" name="Text Box 18"/>
          <p:cNvSpPr/>
          <p:nvPr/>
        </p:nvSpPr>
        <p:spPr>
          <a:xfrm>
            <a:off x="6656400" y="4457880"/>
            <a:ext cx="329256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Ce paramètre n’intervient pas dans le système de régulation </a:t>
            </a:r>
            <a:r>
              <a:rPr b="0" lang="fr-FR" sz="1100" spc="-1" strike="noStrike">
                <a:solidFill>
                  <a:srgbClr val="00b1af"/>
                </a:solidFill>
                <a:latin typeface="46 Helvetica LightItalic"/>
              </a:rPr>
              <a:t>(Valeurs ﬁgée à 100 °C =&gt; cf. titre V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450" name="Picture 85" descr="Travail:1 GRAPHISME:GRDF:FICHES_BET_CEGIBAT_GrDF:FICHES_PRODUIT:ELEMENTS_OK:F1_BBS:fleche.png"/>
          <p:cNvPicPr/>
          <p:nvPr/>
        </p:nvPicPr>
        <p:blipFill>
          <a:blip r:embed="rId3"/>
          <a:stretch/>
        </p:blipFill>
        <p:spPr>
          <a:xfrm>
            <a:off x="1905120" y="2108160"/>
            <a:ext cx="865080" cy="1689120"/>
          </a:xfrm>
          <a:prstGeom prst="rect">
            <a:avLst/>
          </a:prstGeom>
          <a:ln w="0">
            <a:noFill/>
          </a:ln>
        </p:spPr>
      </p:pic>
      <p:sp>
        <p:nvSpPr>
          <p:cNvPr id="451" name="Text Box 86"/>
          <p:cNvSpPr/>
          <p:nvPr/>
        </p:nvSpPr>
        <p:spPr>
          <a:xfrm>
            <a:off x="2743200" y="421020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32.5 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2" name="Text Box 87"/>
          <p:cNvSpPr/>
          <p:nvPr/>
        </p:nvSpPr>
        <p:spPr>
          <a:xfrm>
            <a:off x="2743200" y="441972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-7°C, 7 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3" name="Text Box 88"/>
          <p:cNvSpPr/>
          <p:nvPr/>
        </p:nvSpPr>
        <p:spPr>
          <a:xfrm>
            <a:off x="2743200" y="4641840"/>
            <a:ext cx="2057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55 Helvetica Roman"/>
              </a:rPr>
              <a:t>Cf. tableau matrice des performances P6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4" name="Text Box 89"/>
          <p:cNvSpPr/>
          <p:nvPr/>
        </p:nvSpPr>
        <p:spPr>
          <a:xfrm>
            <a:off x="2743200" y="4832280"/>
            <a:ext cx="2057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55 Helvetica Roman"/>
              </a:rPr>
              <a:t>Cf. tableau matrice des puis. absorbées P6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5" name="Text Box 90"/>
          <p:cNvSpPr/>
          <p:nvPr/>
        </p:nvSpPr>
        <p:spPr>
          <a:xfrm>
            <a:off x="2743200" y="5059440"/>
            <a:ext cx="2057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55 Helvetica Roman"/>
              </a:rPr>
              <a:t>Cf. tableau indicateurs de certif. P6</a:t>
            </a:r>
            <a:endParaRPr b="0" lang="en-US" sz="8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6" name="Text Box 91"/>
          <p:cNvSpPr/>
          <p:nvPr/>
        </p:nvSpPr>
        <p:spPr>
          <a:xfrm>
            <a:off x="2743200" y="550692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100.00 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7" name="Text Box 92"/>
          <p:cNvSpPr/>
          <p:nvPr/>
        </p:nvSpPr>
        <p:spPr>
          <a:xfrm>
            <a:off x="2743200" y="5700600"/>
            <a:ext cx="121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55 Helvetica Roman"/>
              </a:rPr>
              <a:t>…</a:t>
            </a:r>
            <a:endParaRPr b="0" lang="en-US" sz="1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8" name="Text Box 93"/>
          <p:cNvSpPr/>
          <p:nvPr/>
        </p:nvSpPr>
        <p:spPr>
          <a:xfrm>
            <a:off x="2743200" y="592776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aleur déclaré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59" name="Text Box 94"/>
          <p:cNvSpPr/>
          <p:nvPr/>
        </p:nvSpPr>
        <p:spPr>
          <a:xfrm>
            <a:off x="2743200" y="6149880"/>
            <a:ext cx="2241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Mode continu du compresseur ou en cycl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0" name="Text Box 95"/>
          <p:cNvSpPr/>
          <p:nvPr/>
        </p:nvSpPr>
        <p:spPr>
          <a:xfrm>
            <a:off x="2743200" y="634536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aleur  par défau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1" name="Text Box 96"/>
          <p:cNvSpPr/>
          <p:nvPr/>
        </p:nvSpPr>
        <p:spPr>
          <a:xfrm>
            <a:off x="2743200" y="6567480"/>
            <a:ext cx="2286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Radiateurs, plafonds d</a:t>
            </a:r>
            <a:r>
              <a:rPr b="0" lang="ja-JP" sz="900" spc="-1" strike="noStrike">
                <a:solidFill>
                  <a:srgbClr val="000000"/>
                </a:solidFill>
                <a:latin typeface="55 Helvetica Roman"/>
              </a:rPr>
              <a:t>’</a:t>
            </a: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inertie moyenn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62" name="Text Box 107"/>
          <p:cNvSpPr/>
          <p:nvPr/>
        </p:nvSpPr>
        <p:spPr>
          <a:xfrm>
            <a:off x="2743200" y="397656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aleurs  certifiées ou mesurées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grpSp>
        <p:nvGrpSpPr>
          <p:cNvPr id="463" name="Groupe 37"/>
          <p:cNvGrpSpPr/>
          <p:nvPr/>
        </p:nvGrpSpPr>
        <p:grpSpPr>
          <a:xfrm>
            <a:off x="6997680" y="5499000"/>
            <a:ext cx="2666880" cy="743760"/>
            <a:chOff x="6997680" y="5499000"/>
            <a:chExt cx="2666880" cy="743760"/>
          </a:xfrm>
        </p:grpSpPr>
        <p:pic>
          <p:nvPicPr>
            <p:cNvPr id="464" name="Picture 61" descr="Travail:1 GRAPHISME:GRDF:FICHES_BET_CEGIBAT_GrDF:FICHES_PRODUIT:ELEMENTS_OK:F1_BBS:TABLO.jpg"/>
            <p:cNvPicPr/>
            <p:nvPr/>
          </p:nvPicPr>
          <p:blipFill>
            <a:blip r:embed="rId4"/>
            <a:srcRect l="0" t="0" r="16247" b="0"/>
            <a:stretch/>
          </p:blipFill>
          <p:spPr>
            <a:xfrm>
              <a:off x="6997680" y="5524200"/>
              <a:ext cx="2595600" cy="70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5" name="Text Box 62"/>
            <p:cNvSpPr/>
            <p:nvPr/>
          </p:nvSpPr>
          <p:spPr>
            <a:xfrm>
              <a:off x="8152560" y="5499000"/>
              <a:ext cx="1512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ffffff"/>
                  </a:solidFill>
                  <a:latin typeface="HelveticaNeue BoldCond"/>
                </a:rPr>
                <a:t>Emetteurs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66" name="Text Box 64"/>
            <p:cNvSpPr/>
            <p:nvPr/>
          </p:nvSpPr>
          <p:spPr>
            <a:xfrm>
              <a:off x="6997680" y="5676840"/>
              <a:ext cx="94680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BoldCond"/>
                </a:rPr>
                <a:t>Température départ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67" name="Text Box 65"/>
            <p:cNvSpPr/>
            <p:nvPr/>
          </p:nvSpPr>
          <p:spPr>
            <a:xfrm>
              <a:off x="6997680" y="5942160"/>
              <a:ext cx="1118880" cy="3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BoldCond"/>
                </a:rPr>
                <a:t>Température minimale amont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68" name="Text Box 66"/>
            <p:cNvSpPr/>
            <p:nvPr/>
          </p:nvSpPr>
          <p:spPr>
            <a:xfrm>
              <a:off x="8152560" y="5709960"/>
              <a:ext cx="48060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LightCond"/>
                </a:rPr>
                <a:t>35°C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69" name="Text Box 67"/>
            <p:cNvSpPr/>
            <p:nvPr/>
          </p:nvSpPr>
          <p:spPr>
            <a:xfrm>
              <a:off x="8116560" y="5981760"/>
              <a:ext cx="51624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LightCond"/>
                </a:rPr>
                <a:t>-3,7°C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70" name="Text Box 68"/>
            <p:cNvSpPr/>
            <p:nvPr/>
          </p:nvSpPr>
          <p:spPr>
            <a:xfrm>
              <a:off x="8633160" y="5709960"/>
              <a:ext cx="52704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LightCond"/>
                </a:rPr>
                <a:t>45°C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71" name="Text Box 69"/>
            <p:cNvSpPr/>
            <p:nvPr/>
          </p:nvSpPr>
          <p:spPr>
            <a:xfrm>
              <a:off x="9149760" y="5709960"/>
              <a:ext cx="51480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LightCond"/>
                </a:rPr>
                <a:t>55°C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72" name="Text Box 71"/>
            <p:cNvSpPr/>
            <p:nvPr/>
          </p:nvSpPr>
          <p:spPr>
            <a:xfrm>
              <a:off x="8633160" y="5981760"/>
              <a:ext cx="51624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LightCond"/>
                </a:rPr>
                <a:t>-2,7°C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  <p:sp>
          <p:nvSpPr>
            <p:cNvPr id="473" name="Text Box 72"/>
            <p:cNvSpPr/>
            <p:nvPr/>
          </p:nvSpPr>
          <p:spPr>
            <a:xfrm>
              <a:off x="9149760" y="5981760"/>
              <a:ext cx="430200" cy="19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HelveticaNeue LightCond"/>
                </a:rPr>
                <a:t>-1,7°C</a:t>
              </a:r>
              <a:endParaRPr b="0" lang="en-US" sz="800" spc="-1" strike="noStrike">
                <a:solidFill>
                  <a:srgbClr val="00b1af"/>
                </a:solidFill>
                <a:latin typeface="45 Helvetica Light"/>
              </a:endParaRPr>
            </a:p>
          </p:txBody>
        </p:sp>
      </p:grpSp>
      <p:pic>
        <p:nvPicPr>
          <p:cNvPr id="474" name="Picture 44" descr=""/>
          <p:cNvPicPr/>
          <p:nvPr/>
        </p:nvPicPr>
        <p:blipFill>
          <a:blip r:embed="rId5"/>
          <a:stretch/>
        </p:blipFill>
        <p:spPr>
          <a:xfrm>
            <a:off x="2679840" y="1768320"/>
            <a:ext cx="1722240" cy="144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07"/>
          <p:cNvSpPr/>
          <p:nvPr/>
        </p:nvSpPr>
        <p:spPr>
          <a:xfrm>
            <a:off x="2714760" y="1765440"/>
            <a:ext cx="19810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PAC Hybrid Hysaé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6" name="Text Box 33"/>
          <p:cNvSpPr/>
          <p:nvPr/>
        </p:nvSpPr>
        <p:spPr>
          <a:xfrm>
            <a:off x="6656400" y="6515280"/>
            <a:ext cx="329256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b1af"/>
                </a:solidFill>
                <a:latin typeface="45 Helvetica Light"/>
              </a:rPr>
              <a:t>Valeur issue du titre V RT 2012 ; la totalité des consommations des auxiliaires de génération est regroupée au niveau de la chaudièr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7" name="Text Box 29"/>
          <p:cNvSpPr/>
          <p:nvPr/>
        </p:nvSpPr>
        <p:spPr>
          <a:xfrm>
            <a:off x="6667200" y="1552680"/>
            <a:ext cx="2835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cd0921"/>
                </a:solidFill>
                <a:latin typeface="76 Helvetica BoldItalic"/>
              </a:rPr>
              <a:t>Les paramètres «Limite temp. sources», </a:t>
            </a:r>
            <a:br>
              <a:rPr sz="1100"/>
            </a:br>
            <a:r>
              <a:rPr b="0" lang="fr-FR" sz="1100" spc="-1" strike="noStrike">
                <a:solidFill>
                  <a:srgbClr val="cd0921"/>
                </a:solidFill>
                <a:latin typeface="76 Helvetica BoldItalic"/>
              </a:rPr>
              <a:t>«Température maximale aval» et </a:t>
            </a:r>
            <a:br>
              <a:rPr sz="1100"/>
            </a:br>
            <a:r>
              <a:rPr b="0" lang="fr-FR" sz="1100" spc="-1" strike="noStrike">
                <a:solidFill>
                  <a:srgbClr val="cd0921"/>
                </a:solidFill>
                <a:latin typeface="76 Helvetica BoldItalic"/>
              </a:rPr>
              <a:t>«Température minimale amont» </a:t>
            </a:r>
            <a:br>
              <a:rPr sz="1100"/>
            </a:br>
            <a:r>
              <a:rPr b="0" lang="fr-FR" sz="1100" spc="-1" strike="noStrike">
                <a:solidFill>
                  <a:srgbClr val="cd0921"/>
                </a:solidFill>
                <a:latin typeface="76 Helvetica BoldItalic"/>
              </a:rPr>
              <a:t>caractérisent la régulation sur énergie </a:t>
            </a:r>
            <a:br>
              <a:rPr sz="1100"/>
            </a:br>
            <a:r>
              <a:rPr b="0" lang="fr-FR" sz="1100" spc="-1" strike="noStrike">
                <a:solidFill>
                  <a:srgbClr val="cd0921"/>
                </a:solidFill>
                <a:latin typeface="76 Helvetica BoldItalic"/>
              </a:rPr>
              <a:t>primaire du produit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78" name="Espace réservé du numéro de diapositive 3"/>
          <p:cNvSpPr/>
          <p:nvPr/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21DDE-5B11-4875-877E-8D0C2FFFA023}" type="slidenum">
              <a:rPr b="0" lang="fr-FR" sz="9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Création du générateur «PAC» (fonction chauffage)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pic>
        <p:nvPicPr>
          <p:cNvPr id="480" name="Picture 48" descr="LaCie Disk:1 GRAPHISME:ELEMENTS_OK_FICHES_BET_PRODUIT:F2_BBS:F2_BBS_4.jpg"/>
          <p:cNvPicPr/>
          <p:nvPr/>
        </p:nvPicPr>
        <p:blipFill>
          <a:blip r:embed="rId1"/>
          <a:stretch/>
        </p:blipFill>
        <p:spPr>
          <a:xfrm>
            <a:off x="676440" y="1862280"/>
            <a:ext cx="4809960" cy="1191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81" name="Picture 49" descr="LaCie Disk:1 GRAPHISME:ELEMENTS_OK_FICHES_BET_PRODUIT:F2_BBS:F2_B_5.jpg"/>
          <p:cNvPicPr/>
          <p:nvPr/>
        </p:nvPicPr>
        <p:blipFill>
          <a:blip r:embed="rId2"/>
          <a:stretch/>
        </p:blipFill>
        <p:spPr>
          <a:xfrm>
            <a:off x="685800" y="3218040"/>
            <a:ext cx="4809960" cy="1191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82" name="Picture 50" descr="LaCie Disk:1 GRAPHISME:ELEMENTS_OK_FICHES_BET_PRODUIT:F2_BBS:F2_B_6.jpg"/>
          <p:cNvPicPr/>
          <p:nvPr/>
        </p:nvPicPr>
        <p:blipFill>
          <a:blip r:embed="rId3"/>
          <a:stretch/>
        </p:blipFill>
        <p:spPr>
          <a:xfrm>
            <a:off x="685800" y="4605480"/>
            <a:ext cx="4809960" cy="11919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83" name="Text Box 9"/>
          <p:cNvSpPr/>
          <p:nvPr/>
        </p:nvSpPr>
        <p:spPr>
          <a:xfrm>
            <a:off x="6837480" y="259884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484" name="AutoShape 12"/>
          <p:cNvCxnSpPr/>
          <p:nvPr/>
        </p:nvCxnSpPr>
        <p:spPr>
          <a:xfrm flipH="1" rot="16200000">
            <a:off x="6477120" y="323352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85" name="AutoShape 13"/>
          <p:cNvCxnSpPr/>
          <p:nvPr/>
        </p:nvCxnSpPr>
        <p:spPr>
          <a:xfrm flipH="1" flipV="1" rot="10800000">
            <a:off x="-360" y="465264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86" name="Text Box 22"/>
          <p:cNvSpPr/>
          <p:nvPr/>
        </p:nvSpPr>
        <p:spPr>
          <a:xfrm>
            <a:off x="6656400" y="3767040"/>
            <a:ext cx="32925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7" name="Freeform 23"/>
          <p:cNvSpPr/>
          <p:nvPr/>
        </p:nvSpPr>
        <p:spPr>
          <a:xfrm flipV="1">
            <a:off x="5105520" y="2414520"/>
            <a:ext cx="1600200" cy="860400"/>
          </a:xfrm>
          <a:custGeom>
            <a:avLst/>
            <a:gdLst>
              <a:gd name="textAreaLeft" fmla="*/ 0 w 1600200"/>
              <a:gd name="textAreaRight" fmla="*/ 1600560 w 1600200"/>
              <a:gd name="textAreaTop" fmla="*/ 360 h 860400"/>
              <a:gd name="textAreaBottom" fmla="*/ 861120 h 8604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8" name="Rectangle 28"/>
          <p:cNvSpPr/>
          <p:nvPr/>
        </p:nvSpPr>
        <p:spPr>
          <a:xfrm>
            <a:off x="6640560" y="2090880"/>
            <a:ext cx="33465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Certiﬁcat NF PAC NF 414-664 est consultable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 sur le site 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75 Helvetica Bold"/>
                <a:hlinkClick r:id="rId4"/>
              </a:rPr>
              <a:t>www.certita.org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. 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89" name="Freeform 30"/>
          <p:cNvSpPr/>
          <p:nvPr/>
        </p:nvSpPr>
        <p:spPr>
          <a:xfrm>
            <a:off x="4552920" y="2494080"/>
            <a:ext cx="2819520" cy="860400"/>
          </a:xfrm>
          <a:custGeom>
            <a:avLst/>
            <a:gdLst>
              <a:gd name="textAreaLeft" fmla="*/ 0 w 2819520"/>
              <a:gd name="textAreaRight" fmla="*/ 2819520 w 2819520"/>
              <a:gd name="textAreaTop" fmla="*/ 0 h 860400"/>
              <a:gd name="textAreaBottom" fmla="*/ 860760 h 860400"/>
            </a:gdLst>
            <a:ahLst/>
            <a:rect l="textAreaLeft" t="textAreaTop" r="textAreaRight" b="textAreaBottom"/>
            <a:pathLst>
              <a:path w="1872" h="624">
                <a:moveTo>
                  <a:pt x="1872" y="624"/>
                </a:moveTo>
                <a:lnTo>
                  <a:pt x="1296" y="624"/>
                </a:lnTo>
                <a:lnTo>
                  <a:pt x="1296" y="432"/>
                </a:lnTo>
                <a:lnTo>
                  <a:pt x="240" y="432"/>
                </a:lnTo>
                <a:lnTo>
                  <a:pt x="240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0" name="Text Box 24"/>
          <p:cNvSpPr/>
          <p:nvPr/>
        </p:nvSpPr>
        <p:spPr>
          <a:xfrm>
            <a:off x="6656400" y="3035160"/>
            <a:ext cx="329256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valeur «pivot» à fournir systématiquement par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tilisateur est la valeur pour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Température amont (Tam) = 7 °C et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Température aval (Tav) = 30/35 °C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1" name="Text Box 31"/>
          <p:cNvSpPr/>
          <p:nvPr/>
        </p:nvSpPr>
        <p:spPr>
          <a:xfrm>
            <a:off x="1557360" y="2176560"/>
            <a:ext cx="6858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2" name="Text Box 33"/>
          <p:cNvSpPr/>
          <p:nvPr/>
        </p:nvSpPr>
        <p:spPr>
          <a:xfrm>
            <a:off x="2583000" y="2176560"/>
            <a:ext cx="4572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2,84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2,2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3" name="Text Box 35"/>
          <p:cNvSpPr/>
          <p:nvPr/>
        </p:nvSpPr>
        <p:spPr>
          <a:xfrm>
            <a:off x="3124080" y="2176560"/>
            <a:ext cx="6858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4" name="Text Box 36"/>
          <p:cNvSpPr/>
          <p:nvPr/>
        </p:nvSpPr>
        <p:spPr>
          <a:xfrm>
            <a:off x="4108320" y="2176560"/>
            <a:ext cx="4572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4,34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3,28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5" name="Text Box 37"/>
          <p:cNvSpPr/>
          <p:nvPr/>
        </p:nvSpPr>
        <p:spPr>
          <a:xfrm>
            <a:off x="4648320" y="2176560"/>
            <a:ext cx="6858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6" name="Text Box 38"/>
          <p:cNvSpPr/>
          <p:nvPr/>
        </p:nvSpPr>
        <p:spPr>
          <a:xfrm>
            <a:off x="1557360" y="3538440"/>
            <a:ext cx="6858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7" name="Text Box 39"/>
          <p:cNvSpPr/>
          <p:nvPr/>
        </p:nvSpPr>
        <p:spPr>
          <a:xfrm>
            <a:off x="2666880" y="3538440"/>
            <a:ext cx="4572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,65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,76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8" name="Text Box 40"/>
          <p:cNvSpPr/>
          <p:nvPr/>
        </p:nvSpPr>
        <p:spPr>
          <a:xfrm>
            <a:off x="3124080" y="3538440"/>
            <a:ext cx="6858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499" name="Text Box 41"/>
          <p:cNvSpPr/>
          <p:nvPr/>
        </p:nvSpPr>
        <p:spPr>
          <a:xfrm>
            <a:off x="4119480" y="3538440"/>
            <a:ext cx="52884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,68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,8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0" name="Text Box 42"/>
          <p:cNvSpPr/>
          <p:nvPr/>
        </p:nvSpPr>
        <p:spPr>
          <a:xfrm>
            <a:off x="4648320" y="3538440"/>
            <a:ext cx="6858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1" name="Text Box 43"/>
          <p:cNvSpPr/>
          <p:nvPr/>
        </p:nvSpPr>
        <p:spPr>
          <a:xfrm>
            <a:off x="1557360" y="4925880"/>
            <a:ext cx="6858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2" name="Text Box 44"/>
          <p:cNvSpPr/>
          <p:nvPr/>
        </p:nvSpPr>
        <p:spPr>
          <a:xfrm>
            <a:off x="2666880" y="4925880"/>
            <a:ext cx="4572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3" name="Text Box 45"/>
          <p:cNvSpPr/>
          <p:nvPr/>
        </p:nvSpPr>
        <p:spPr>
          <a:xfrm>
            <a:off x="3124080" y="4925880"/>
            <a:ext cx="6858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4" name="Text Box 46"/>
          <p:cNvSpPr/>
          <p:nvPr/>
        </p:nvSpPr>
        <p:spPr>
          <a:xfrm>
            <a:off x="4191120" y="4925880"/>
            <a:ext cx="4572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1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5" name="Text Box 47"/>
          <p:cNvSpPr/>
          <p:nvPr/>
        </p:nvSpPr>
        <p:spPr>
          <a:xfrm>
            <a:off x="4648320" y="4925880"/>
            <a:ext cx="685800" cy="8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  <a:p>
            <a:pPr algn="ctr">
              <a:spcAft>
                <a:spcPts val="11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0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06" name="Espace réservé du numéro de diapositive 3"/>
          <p:cNvSpPr/>
          <p:nvPr/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B7A3-643B-4235-985D-4B75828ABAB2}" type="slidenum">
              <a:rPr b="0" lang="fr-FR" sz="9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Création du générateur «Chaudière gaz à condensation»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pic>
        <p:nvPicPr>
          <p:cNvPr id="508" name="Picture 43" descr="LaCie Disk:1 GRAPHISME:ELEMENTS_OK_FICHES_BET_PRODUIT:F2_BBS:F2_B_7.jpg"/>
          <p:cNvPicPr/>
          <p:nvPr/>
        </p:nvPicPr>
        <p:blipFill>
          <a:blip r:embed="rId1"/>
          <a:stretch/>
        </p:blipFill>
        <p:spPr>
          <a:xfrm>
            <a:off x="663480" y="1343160"/>
            <a:ext cx="4683240" cy="139356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09" name="Text Box 8"/>
          <p:cNvSpPr/>
          <p:nvPr/>
        </p:nvSpPr>
        <p:spPr>
          <a:xfrm>
            <a:off x="6837480" y="207972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10" name="AutoShape 9"/>
          <p:cNvCxnSpPr/>
          <p:nvPr/>
        </p:nvCxnSpPr>
        <p:spPr>
          <a:xfrm flipH="1" flipV="1" rot="10800000">
            <a:off x="6656040" y="706716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11" name="AutoShape 10"/>
          <p:cNvCxnSpPr/>
          <p:nvPr/>
        </p:nvCxnSpPr>
        <p:spPr>
          <a:xfrm flipH="1" flipV="1" rot="10800000">
            <a:off x="6656040" y="706716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12" name="AutoShape 11"/>
          <p:cNvCxnSpPr/>
          <p:nvPr/>
        </p:nvCxnSpPr>
        <p:spPr>
          <a:xfrm flipH="1" rot="16200000">
            <a:off x="6477120" y="271440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sp>
        <p:nvSpPr>
          <p:cNvPr id="513" name="Freeform 24"/>
          <p:cNvSpPr/>
          <p:nvPr/>
        </p:nvSpPr>
        <p:spPr>
          <a:xfrm>
            <a:off x="5105520" y="2409840"/>
            <a:ext cx="3657600" cy="53352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14" name="Text Box 25"/>
          <p:cNvSpPr/>
          <p:nvPr/>
        </p:nvSpPr>
        <p:spPr>
          <a:xfrm>
            <a:off x="6656400" y="2500200"/>
            <a:ext cx="3368520" cy="93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chaudière gaz à condensation assure une partie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des besoins de chauffage (seule ou en complément de la PAC) et la totalité des besoins en ECS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15" name="Picture 34" descr=""/>
          <p:cNvPicPr/>
          <p:nvPr/>
        </p:nvPicPr>
        <p:blipFill>
          <a:blip r:embed="rId2"/>
          <a:stretch/>
        </p:blipFill>
        <p:spPr>
          <a:xfrm>
            <a:off x="2959200" y="1582560"/>
            <a:ext cx="1584360" cy="14472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30"/>
          <p:cNvSpPr/>
          <p:nvPr/>
        </p:nvSpPr>
        <p:spPr>
          <a:xfrm>
            <a:off x="2968560" y="1584360"/>
            <a:ext cx="151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Chaudière hybride Hysaé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17" name="Picture 34" descr=""/>
          <p:cNvPicPr/>
          <p:nvPr/>
        </p:nvPicPr>
        <p:blipFill>
          <a:blip r:embed="rId3"/>
          <a:stretch/>
        </p:blipFill>
        <p:spPr>
          <a:xfrm>
            <a:off x="2959200" y="1955880"/>
            <a:ext cx="1584360" cy="142920"/>
          </a:xfrm>
          <a:prstGeom prst="rect">
            <a:avLst/>
          </a:prstGeom>
          <a:ln w="0">
            <a:noFill/>
          </a:ln>
        </p:spPr>
      </p:pic>
      <p:sp>
        <p:nvSpPr>
          <p:cNvPr id="518" name="Text Box 30"/>
          <p:cNvSpPr/>
          <p:nvPr/>
        </p:nvSpPr>
        <p:spPr>
          <a:xfrm>
            <a:off x="2968560" y="1954080"/>
            <a:ext cx="1511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Chaudière hybride Hysaé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19" name="Picture 38" descr=""/>
          <p:cNvPicPr/>
          <p:nvPr/>
        </p:nvPicPr>
        <p:blipFill>
          <a:blip r:embed="rId4"/>
          <a:stretch/>
        </p:blipFill>
        <p:spPr>
          <a:xfrm>
            <a:off x="692280" y="3054240"/>
            <a:ext cx="4200480" cy="4143600"/>
          </a:xfrm>
          <a:prstGeom prst="rect">
            <a:avLst/>
          </a:prstGeom>
          <a:ln w="28440">
            <a:solidFill>
              <a:srgbClr val="4e3073"/>
            </a:solidFill>
            <a:miter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cxnSp>
        <p:nvCxnSpPr>
          <p:cNvPr id="520" name="AutoShape 12"/>
          <p:cNvCxnSpPr/>
          <p:nvPr/>
        </p:nvCxnSpPr>
        <p:spPr>
          <a:xfrm flipH="1" flipV="1" rot="10800000">
            <a:off x="243360" y="4133520"/>
            <a:ext cx="252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521" name="Text Box 29"/>
          <p:cNvSpPr/>
          <p:nvPr/>
        </p:nvSpPr>
        <p:spPr>
          <a:xfrm>
            <a:off x="3139920" y="336060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12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2" name="Text Box 30"/>
          <p:cNvSpPr/>
          <p:nvPr/>
        </p:nvSpPr>
        <p:spPr>
          <a:xfrm>
            <a:off x="3139920" y="358776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3,6 k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3" name="Text Box 33"/>
          <p:cNvSpPr/>
          <p:nvPr/>
        </p:nvSpPr>
        <p:spPr>
          <a:xfrm>
            <a:off x="3139920" y="471492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96 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4" name="Text Box 35"/>
          <p:cNvSpPr/>
          <p:nvPr/>
        </p:nvSpPr>
        <p:spPr>
          <a:xfrm>
            <a:off x="3139920" y="519120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108 %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5" name="Text Box 37"/>
          <p:cNvSpPr/>
          <p:nvPr/>
        </p:nvSpPr>
        <p:spPr>
          <a:xfrm>
            <a:off x="3139920" y="563868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87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6" name="Text Box 38"/>
          <p:cNvSpPr/>
          <p:nvPr/>
        </p:nvSpPr>
        <p:spPr>
          <a:xfrm>
            <a:off x="3133800" y="5867280"/>
            <a:ext cx="121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55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7" name="Text Box 39"/>
          <p:cNvSpPr/>
          <p:nvPr/>
        </p:nvSpPr>
        <p:spPr>
          <a:xfrm>
            <a:off x="3139920" y="610560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13,6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28" name="Text Box 40"/>
          <p:cNvSpPr/>
          <p:nvPr/>
        </p:nvSpPr>
        <p:spPr>
          <a:xfrm>
            <a:off x="3139920" y="6540480"/>
            <a:ext cx="1219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21°C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29" name="Picture 28" descr="Travail:1 GRAPHISME:GRDF:FICHES_BET_CEGIBAT_GrDF:FICHES_PRODUIT:ELEMENTS_OK:F1_BBS:fleche.png"/>
          <p:cNvPicPr/>
          <p:nvPr/>
        </p:nvPicPr>
        <p:blipFill>
          <a:blip r:embed="rId5"/>
          <a:stretch/>
        </p:blipFill>
        <p:spPr>
          <a:xfrm rot="379800">
            <a:off x="2052360" y="1901520"/>
            <a:ext cx="865080" cy="1731960"/>
          </a:xfrm>
          <a:prstGeom prst="rect">
            <a:avLst/>
          </a:prstGeom>
          <a:ln w="0">
            <a:noFill/>
          </a:ln>
        </p:spPr>
      </p:pic>
      <p:sp>
        <p:nvSpPr>
          <p:cNvPr id="530" name="Freeform 24"/>
          <p:cNvSpPr/>
          <p:nvPr/>
        </p:nvSpPr>
        <p:spPr>
          <a:xfrm>
            <a:off x="4408560" y="6149880"/>
            <a:ext cx="3657600" cy="45720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457200"/>
              <a:gd name="textAreaBottom" fmla="*/ 457560 h 457200"/>
            </a:gdLst>
            <a:ahLst/>
            <a:rect l="textAreaLeft" t="textAreaTop" r="textAreaRight" b="textAreaBottom"/>
            <a:pathLst>
              <a:path w="2069" h="1126">
                <a:moveTo>
                  <a:pt x="2069" y="1126"/>
                </a:moveTo>
                <a:lnTo>
                  <a:pt x="729" y="1126"/>
                </a:lnTo>
                <a:lnTo>
                  <a:pt x="729" y="816"/>
                </a:lnTo>
                <a:lnTo>
                  <a:pt x="729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1" name="Text Box 25"/>
          <p:cNvSpPr/>
          <p:nvPr/>
        </p:nvSpPr>
        <p:spPr>
          <a:xfrm>
            <a:off x="5959440" y="6226200"/>
            <a:ext cx="336888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puissance électrique de veille à saisir dan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a partie chaudière est la puissance de veille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du générateur hybride à charge nulle dans son ensemble (PAC + chaudière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32" name="Espace réservé du numéro de diapositive 3"/>
          <p:cNvSpPr/>
          <p:nvPr/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5C882-4DA6-46AC-A3B0-A7FEC540294E}" type="slidenum">
              <a:rPr b="0" lang="fr-FR" sz="9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La saisie du circulateur du réseau de distribution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34" name="Text Box 9"/>
          <p:cNvSpPr/>
          <p:nvPr/>
        </p:nvSpPr>
        <p:spPr>
          <a:xfrm>
            <a:off x="6837480" y="172728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cxnSp>
        <p:nvCxnSpPr>
          <p:cNvPr id="535" name="AutoShape 10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36" name="AutoShape 11"/>
          <p:cNvCxnSpPr/>
          <p:nvPr/>
        </p:nvCxnSpPr>
        <p:spPr>
          <a:xfrm flipH="1" flipV="1" rot="10800000">
            <a:off x="6656040" y="67140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537" name="AutoShape 12"/>
          <p:cNvCxnSpPr/>
          <p:nvPr/>
        </p:nvCxnSpPr>
        <p:spPr>
          <a:xfrm flipH="1" rot="16200000">
            <a:off x="6477120" y="236196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538" name="AutoShape 13"/>
          <p:cNvCxnSpPr/>
          <p:nvPr/>
        </p:nvCxnSpPr>
        <p:spPr>
          <a:xfrm flipH="1" flipV="1" rot="10800000">
            <a:off x="21960" y="428760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539" name="Text Box 22"/>
          <p:cNvSpPr/>
          <p:nvPr/>
        </p:nvSpPr>
        <p:spPr>
          <a:xfrm>
            <a:off x="6656400" y="2895480"/>
            <a:ext cx="3292560" cy="26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0" name="Freeform 23"/>
          <p:cNvSpPr/>
          <p:nvPr/>
        </p:nvSpPr>
        <p:spPr>
          <a:xfrm flipV="1">
            <a:off x="5105520" y="1400760"/>
            <a:ext cx="1600200" cy="1143000"/>
          </a:xfrm>
          <a:custGeom>
            <a:avLst/>
            <a:gdLst>
              <a:gd name="textAreaLeft" fmla="*/ 0 w 1600200"/>
              <a:gd name="textAreaRight" fmla="*/ 1600560 w 160020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1" name="Rectangle 13"/>
          <p:cNvSpPr/>
          <p:nvPr/>
        </p:nvSpPr>
        <p:spPr>
          <a:xfrm>
            <a:off x="6705720" y="1219320"/>
            <a:ext cx="3281400" cy="446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83c4"/>
                </a:solidFill>
                <a:latin typeface="75 Helvetica Bold"/>
              </a:rPr>
              <a:t>Focus sur la saisie des circulateurs</a:t>
            </a:r>
            <a:endParaRPr b="0" lang="en-US" sz="13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Ce circulateur représente le système permettant la circul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au chaude dans le réseau hydraulique de chauffage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cd0921"/>
                </a:solidFill>
                <a:latin typeface="76 Helvetica BoldItalic"/>
              </a:rPr>
              <a:t>Attention, la documentation technique de certaines chaudières hybrides mentionne la présence de plusieurs circulateurs :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83c4"/>
                </a:solidFill>
                <a:latin typeface="75 Helvetica Bold"/>
              </a:rPr>
              <a:t>1.</a:t>
            </a:r>
            <a:r>
              <a:rPr b="1" lang="fr-FR" sz="1100" spc="-1" strike="noStrike">
                <a:solidFill>
                  <a:srgbClr val="00b1af"/>
                </a:solidFill>
                <a:latin typeface="75 Helvetica Bold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Le circulateur de l’unité extérieure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- il est pris en compte dans le COP de la PAC, il ne faut donc pas le considérer dans les auxiliaires de distributio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83c4"/>
                </a:solidFill>
                <a:latin typeface="75 Helvetica Bold"/>
              </a:rPr>
              <a:t>2.</a:t>
            </a:r>
            <a:r>
              <a:rPr b="1" lang="fr-FR" sz="1100" spc="-1" strike="noStrike">
                <a:solidFill>
                  <a:srgbClr val="00b1af"/>
                </a:solidFill>
                <a:latin typeface="45 Helvetica Light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Le circulateur dédié au fonctionnement interne de la chaudière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- il doit être saisi comme faisant partie des auxiliaires électriques de la chaudière (car il ne fonctionne que lorsque la chaudière fonctionne)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83c4"/>
                </a:solidFill>
                <a:latin typeface="75 Helvetica Bold"/>
              </a:rPr>
              <a:t>3.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 Le circulateur dédié au réseau de chauffage commun à la PAC et à la chaudière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Ce circulateur est à saisir au niveau du réseau de distribution, la puissance du circulateur à saisir est celle fournie au débit nominal de l’installation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2" name="Text Box 24"/>
          <p:cNvSpPr/>
          <p:nvPr/>
        </p:nvSpPr>
        <p:spPr>
          <a:xfrm>
            <a:off x="736560" y="4718160"/>
            <a:ext cx="5113440" cy="42876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Dans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objet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«Emission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(       ) : on indique la présence du circulateur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et la puissance de ce dernier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43" name="Picture 26" descr="Travail:1 GRAPHISME:GRDF:FICHES_BET_CEGIBAT_GrDF:FICHES_PRODUIT:ELEMENTS_OK:F1_BBS:EMISSION.jpg"/>
          <p:cNvPicPr/>
          <p:nvPr/>
        </p:nvPicPr>
        <p:blipFill>
          <a:blip r:embed="rId1"/>
          <a:stretch/>
        </p:blipFill>
        <p:spPr>
          <a:xfrm>
            <a:off x="2535120" y="4789440"/>
            <a:ext cx="228600" cy="20016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27"/>
          <p:cNvSpPr/>
          <p:nvPr/>
        </p:nvSpPr>
        <p:spPr>
          <a:xfrm>
            <a:off x="6586560" y="4286160"/>
            <a:ext cx="3505320" cy="860400"/>
          </a:xfrm>
          <a:prstGeom prst="rect">
            <a:avLst/>
          </a:prstGeom>
          <a:noFill/>
          <a:ln w="38160">
            <a:solidFill>
              <a:srgbClr val="008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45" name="Picture 31" descr="LaCie Disk:1 GRAPHISME:ELEMENTS_OK_FICHES_BET_PRODUIT:F2_BBS:F2_B_8.jpg"/>
          <p:cNvPicPr/>
          <p:nvPr/>
        </p:nvPicPr>
        <p:blipFill>
          <a:blip r:embed="rId2"/>
          <a:stretch/>
        </p:blipFill>
        <p:spPr>
          <a:xfrm>
            <a:off x="708120" y="1496880"/>
            <a:ext cx="3378240" cy="3113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546" name="Rectangle 25"/>
          <p:cNvSpPr/>
          <p:nvPr/>
        </p:nvSpPr>
        <p:spPr>
          <a:xfrm>
            <a:off x="1838160" y="3890880"/>
            <a:ext cx="2016360" cy="252360"/>
          </a:xfrm>
          <a:prstGeom prst="rect">
            <a:avLst/>
          </a:prstGeom>
          <a:noFill/>
          <a:ln w="38160">
            <a:solidFill>
              <a:srgbClr val="0083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7" name="Rectangle 21"/>
          <p:cNvSpPr/>
          <p:nvPr/>
        </p:nvSpPr>
        <p:spPr>
          <a:xfrm>
            <a:off x="2054160" y="2054160"/>
            <a:ext cx="19447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PAC Hybrid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8" name="Rectangle 22"/>
          <p:cNvSpPr/>
          <p:nvPr/>
        </p:nvSpPr>
        <p:spPr>
          <a:xfrm>
            <a:off x="2054160" y="2271600"/>
            <a:ext cx="194472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45 Helvetica Light"/>
              </a:rPr>
              <a:t>Chaudière gaz condensation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49" name="Rectangle 23"/>
          <p:cNvSpPr/>
          <p:nvPr/>
        </p:nvSpPr>
        <p:spPr>
          <a:xfrm>
            <a:off x="1622520" y="2487600"/>
            <a:ext cx="2016000" cy="2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b1af"/>
              </a:solidFill>
              <a:latin typeface="45 Helvetica Light"/>
            </a:endParaRPr>
          </a:p>
        </p:txBody>
      </p:sp>
      <p:pic>
        <p:nvPicPr>
          <p:cNvPr id="550" name="Picture 27" descr=""/>
          <p:cNvPicPr/>
          <p:nvPr/>
        </p:nvPicPr>
        <p:blipFill>
          <a:blip r:embed="rId3"/>
          <a:stretch/>
        </p:blipFill>
        <p:spPr>
          <a:xfrm>
            <a:off x="663480" y="5510160"/>
            <a:ext cx="5486400" cy="1104840"/>
          </a:xfrm>
          <a:prstGeom prst="rect">
            <a:avLst/>
          </a:prstGeom>
          <a:ln w="0">
            <a:noFill/>
          </a:ln>
        </p:spPr>
      </p:pic>
      <p:sp>
        <p:nvSpPr>
          <p:cNvPr id="551" name="Text Box 28"/>
          <p:cNvSpPr/>
          <p:nvPr/>
        </p:nvSpPr>
        <p:spPr>
          <a:xfrm>
            <a:off x="1168560" y="5583240"/>
            <a:ext cx="22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55 Helvetica Roman"/>
              </a:rPr>
              <a:t>Gestion système de chauffag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2" name="Text Box 28"/>
          <p:cNvSpPr/>
          <p:nvPr/>
        </p:nvSpPr>
        <p:spPr>
          <a:xfrm>
            <a:off x="1168560" y="5870520"/>
            <a:ext cx="22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55 Helvetica Roman"/>
              </a:rPr>
              <a:t>Mode de régulation de fonctionnement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3" name="Text Box 28"/>
          <p:cNvSpPr/>
          <p:nvPr/>
        </p:nvSpPr>
        <p:spPr>
          <a:xfrm>
            <a:off x="3760920" y="5583240"/>
            <a:ext cx="2232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Temp. de départ en fct de temp. extérieur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4" name="Text Box 28"/>
          <p:cNvSpPr/>
          <p:nvPr/>
        </p:nvSpPr>
        <p:spPr>
          <a:xfrm>
            <a:off x="3760920" y="5846760"/>
            <a:ext cx="22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Régulation à débit variable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5" name="Text Box 29"/>
          <p:cNvSpPr/>
          <p:nvPr/>
        </p:nvSpPr>
        <p:spPr>
          <a:xfrm>
            <a:off x="736560" y="5581800"/>
            <a:ext cx="27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55 Helvetica Roman"/>
              </a:rPr>
              <a:t>62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6" name="Text Box 29"/>
          <p:cNvSpPr/>
          <p:nvPr/>
        </p:nvSpPr>
        <p:spPr>
          <a:xfrm>
            <a:off x="736560" y="5869080"/>
            <a:ext cx="27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55 Helvetica Roman"/>
              </a:rPr>
              <a:t>63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7" name="Text Box 28"/>
          <p:cNvSpPr/>
          <p:nvPr/>
        </p:nvSpPr>
        <p:spPr>
          <a:xfrm>
            <a:off x="3760920" y="6084720"/>
            <a:ext cx="2232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Vitesse et pression différentielle variables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8" name="Text Box 29"/>
          <p:cNvSpPr/>
          <p:nvPr/>
        </p:nvSpPr>
        <p:spPr>
          <a:xfrm>
            <a:off x="3760920" y="6373800"/>
            <a:ext cx="12189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55 Helvetica Roman"/>
              </a:rPr>
              <a:t>24 W</a:t>
            </a:r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59" name="Espace réservé du numéro de diapositive 3"/>
          <p:cNvSpPr/>
          <p:nvPr/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3689-C5F0-40A8-B289-91796972F6D6}" type="slidenum">
              <a:rPr b="0" lang="fr-FR" sz="9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/>
          </p:nvPr>
        </p:nvSpPr>
        <p:spPr>
          <a:xfrm>
            <a:off x="2368440" y="317520"/>
            <a:ext cx="7940880" cy="14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3300" spc="-1" strike="noStrike">
                <a:solidFill>
                  <a:srgbClr val="662483"/>
                </a:solidFill>
                <a:latin typeface="Avenir LT Std 55 Roman"/>
              </a:rPr>
              <a:t>Données environnementales</a:t>
            </a:r>
            <a:endParaRPr b="0" lang="en-US" sz="3300" spc="-1" strike="noStrike">
              <a:solidFill>
                <a:srgbClr val="009bc4"/>
              </a:solidFill>
              <a:latin typeface="Avenir LT Std 65 Medium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952560" y="2413080"/>
          <a:ext cx="8091360" cy="741240"/>
        </p:xfrm>
        <a:graphic>
          <a:graphicData uri="http://schemas.openxmlformats.org/drawingml/2006/table">
            <a:tbl>
              <a:tblPr/>
              <a:tblGrid>
                <a:gridCol w="6237360"/>
                <a:gridCol w="18540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Charge en fluide frigorigène (kg)</a:t>
                      </a:r>
                      <a:endParaRPr b="0" lang="en-US" sz="1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R410a</a:t>
                      </a:r>
                      <a:endParaRPr b="0" lang="en-US" sz="1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Type de fluide frigorigène</a:t>
                      </a:r>
                      <a:endParaRPr b="0" lang="en-US" sz="1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1480"/>
                          <a:tab algn="l" pos="2082960"/>
                          <a:tab algn="l" pos="3124080"/>
                          <a:tab algn="l" pos="4165560"/>
                          <a:tab algn="l" pos="5207040"/>
                          <a:tab algn="l" pos="6248520"/>
                          <a:tab algn="l" pos="7289640"/>
                          <a:tab algn="l" pos="8331120"/>
                          <a:tab algn="l" pos="9372600"/>
                          <a:tab algn="l" pos="1041408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1,05</a:t>
                      </a:r>
                      <a:endParaRPr b="0" lang="en-US" sz="1800" spc="-1" strike="noStrike">
                        <a:solidFill>
                          <a:srgbClr val="00b1af"/>
                        </a:solidFill>
                        <a:latin typeface="45 Helvetica Ligh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  <p:sp>
        <p:nvSpPr>
          <p:cNvPr id="562" name="Rectangle 13"/>
          <p:cNvSpPr/>
          <p:nvPr/>
        </p:nvSpPr>
        <p:spPr>
          <a:xfrm>
            <a:off x="808200" y="2006640"/>
            <a:ext cx="9550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Données à saisir pour le calcul de l’impact environnemental du fluide frigorigène de la PAC.</a:t>
            </a:r>
            <a:endParaRPr b="0" lang="en-US" sz="1100" spc="-1" strike="noStrike">
              <a:solidFill>
                <a:srgbClr val="00b1af"/>
              </a:solidFill>
              <a:latin typeface="45 Helvetica Light"/>
            </a:endParaRPr>
          </a:p>
        </p:txBody>
      </p:sp>
      <p:sp>
        <p:nvSpPr>
          <p:cNvPr id="563" name="Espace réservé du numéro de diapositive 3"/>
          <p:cNvSpPr/>
          <p:nvPr/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427E5-F4D2-4EF9-A92B-1EA283C2DD06}" type="slidenum">
              <a:rPr b="0" lang="fr-FR" sz="900" spc="-1" strike="noStrike">
                <a:solidFill>
                  <a:srgbClr val="9796a3"/>
                </a:solidFill>
                <a:latin typeface="45 Helvetica Light"/>
              </a:rPr>
              <a:t>&lt;number&gt;</a:t>
            </a:fld>
            <a:endParaRPr b="0" lang="en-US" sz="900" spc="-1" strike="noStrike">
              <a:solidFill>
                <a:srgbClr val="00b1af"/>
              </a:solidFill>
              <a:latin typeface="45 Helvetica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4:21:17Z</dcterms:modified>
  <cp:revision>126</cp:revision>
  <dc:subject/>
  <dc:title>Présentation PowerPoint</dc:title>
</cp:coreProperties>
</file>