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</p:sldIdLst>
  <p:sldSz cx="10688638" cy="756285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dt" idx="28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 type="sldImg"/>
          </p:nvPr>
        </p:nvSpPr>
        <p:spPr>
          <a:xfrm>
            <a:off x="839520" y="767880"/>
            <a:ext cx="541980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move the slide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 type="ftr" idx="29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 type="sldNum" idx="30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A7AAF-AAD1-4EAB-A39A-C8F58AA69E8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839880" y="768240"/>
            <a:ext cx="5419800" cy="3837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Espace réservé du numéro de diapositive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A8B-A39C-450A-8E4E-BBA20FDFE596}" type="slidenum">
              <a:rPr b="0" lang="fr-FR" sz="1200" spc="-1" strike="noStrike">
                <a:solidFill>
                  <a:srgbClr val="000000"/>
                </a:solidFill>
                <a:latin typeface="Avenir LT Std 55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7E6D-14AA-4576-BB96-74363B887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A0A9-275E-49B3-8D03-18328D5B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9A9960-9A77-4673-A5D9-58C89E03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A17193-B2E4-44B8-A610-CB9ACBC5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2BDF9E-A629-4D34-A663-498F8A31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5D85EE-76C2-424D-9F57-B1A9822B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755BC-4F89-4AA7-B967-46711404F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AEB3F1-BA62-40D7-816F-7CDA004BF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76693-2C80-4F8E-BEF9-A5C38318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2E0EF-BAC4-4209-A5AF-B6BFE1E2E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EE7A2-3A0E-4A63-88AE-105C508E1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9DA6-8FDC-4FE6-BA07-71E0B694F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935F-5DC3-41A2-8CC7-D1A01CBF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FAA2E-AB0D-44C7-A6C7-4D2DBC0A3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25E27-6E3D-40EF-848C-68E29450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267D-C8AA-4E09-B6E1-3EAE8A53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B4E5-5608-4CD5-BC77-46508282C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C1F5-97A1-45BF-80A0-B027BE34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7E1F7-1F5C-4A18-A44C-CF587D1B1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73FC4-CD76-4DD1-8536-FF9CFC74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469A-53E1-44EF-A0EF-2BD536A5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8EA7B-C306-4D29-972F-678C2CC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84D-294C-422C-927F-483EEA88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3BB93-F424-48CC-B6C7-758C0815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A5C2-56D6-4479-ACD7-C42CB3D7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4FB06-C04E-4B80-87B7-8B4D1F919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766F5F-0795-4962-9657-C0F8D6C48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8BEB-7F56-4B18-B33B-74992144F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C827F-163A-4084-AEC5-BC2D7F35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6DE6-DA58-446A-8BE6-FCD12A52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1204-10D0-4545-8AD4-988848C1B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7338-1388-445A-8E3A-1EEE326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B7432-683A-4D10-9247-130AC6827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59223-2D3C-4F31-8EC9-262DB78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1F27E0-90B3-4D5C-8167-6C6107432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79FA2-6C83-4064-9F3A-07C22FBC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76719-6087-46B8-AC10-6F814BD23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BD3C8-6341-4086-A8B4-606B62D67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71976-26FC-4B12-AD10-7ECFAFB28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A92DC-B18F-495C-9786-ED66ACB92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A1211-E3FE-407D-99DE-FD01D3CF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21824-3319-45EF-ACD3-16ACAF82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135A-A925-4F78-A76D-757256C7F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C76CA-CE0D-4707-8135-6F660B65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5E787-0FB2-4C4C-9A5F-222F8F5C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22B92-7338-4854-836F-E1E0BD8C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D4AB2-B73E-44B5-BF01-F111C4619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26154-C106-4587-9A06-5BCB7FE3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4B2DD-B68F-4F32-BC43-08940A3D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D3F1A-DC65-4DD0-8FF6-B207C542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31493-110D-41F2-AA03-7177D4287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BFD0-C1B2-4FCF-8E77-383A29078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5F5D8-C1A9-483B-A1D9-4FFA7AED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6B7-0825-4254-9AD9-233C57BD7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8F8927-6A3C-4FFD-B90D-3C24F63D7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47D55-9886-44AA-B125-DD0CA35C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C8DC6-6F41-4FF8-8F22-34F4D0225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CA8D-9FBC-4EF2-BF2A-936A47A8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1A8C8-562C-4E49-B2B9-E5DF5140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271CD-485A-4369-935E-BA509193E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CA31A7-4B8F-4896-A536-3D416598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33A21-E388-4E5E-B40C-861FB55D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7D02F-B0C2-49CD-847D-5E29DF33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1C6C00-0ADA-4089-9011-492D5B5DD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2804-E48B-469E-99C7-029B17375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F573A9-BCC4-447F-A7F8-D8ACB28D6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C1F07-E554-4A77-9633-B52059C62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0641A9-2F2A-4880-B50F-F18B46B6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DA054-57D9-4937-AA33-589920BEA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E675E-9EE3-4E33-839C-ADFA9732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55238-249A-4565-8318-BACDDB29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9FF46-8E21-4C17-8799-2A78C788F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C8F8B-8081-4A71-AB5F-96F5359A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EA9163-F89E-4AE0-9DC4-12F78AE1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4BCBA-FDDB-4A3C-A536-2DAE03AAD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938-E9E6-417A-93E9-185085133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AFD7F-AF9C-4274-AA7C-1476EB57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E44020-AF6D-44D6-A363-84B8377A2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BD7BA-325D-405F-8336-41C5DFF87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FBC188-9251-4FA5-998E-A694FE091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2BA207-7651-4FE9-91B6-7C554CA6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75291-9407-46C0-8E67-230CE4655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B81DF2-51FB-43B0-893D-9709B271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A1C72A-29A2-49FF-8253-E088339FA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4ECDFA-1BF1-478D-8150-AB4E8FEC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F84A8-133D-40AB-9DE5-F79E1E9D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531-E68D-49A0-852F-5888EE1E1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42CDE6-F34D-434C-8A63-38675E6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4E788-0CE4-4BE7-84FE-A0F69375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12013-BEE8-4D43-8263-93A6617B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89C97-103C-4360-98E9-39F3421D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293C8E-6528-47FD-825B-C92250421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E95BBF-3FFE-4761-8E95-A64EB4BC1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634F54-54B0-48BD-98BE-E723FB71C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14233F-FF0D-418E-89AA-0983F1371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13395C-E636-4744-81AA-C85532FE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4B7984-149C-4FB6-986C-8FB11587A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5945-AD33-483A-9907-E9FD9F70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2369880" y="315720"/>
            <a:ext cx="7940520" cy="649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F9FBA2-5FC6-40DA-91C0-5241DF058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C2BAA-F103-4C17-81C2-9484A5FA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143A03-D7D1-4CC0-B051-D85CCB93B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21459A-B73E-43D7-AFC2-04784C9D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1600200" y="4557240"/>
            <a:ext cx="87105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67E48-5B49-4BFE-BDD4-48417474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063480" y="21938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60020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6063480" y="4557240"/>
            <a:ext cx="425052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0DFB2-B689-4452-AD1A-DBA4BB601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453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7490160" y="21938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160020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45453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7490160" y="4557240"/>
            <a:ext cx="280440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0483FB-288B-4ADC-BF74-62D9C00CE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BE5CA1-2001-4A58-9DBC-121045FA9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ACE18C-1352-40C9-BFA5-3E8AF1670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84033-1C82-4564-9BB2-205B4CCDD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 8" descr=""/>
          <p:cNvPicPr/>
          <p:nvPr/>
        </p:nvPicPr>
        <p:blipFill>
          <a:blip r:embed="rId2"/>
          <a:stretch/>
        </p:blipFill>
        <p:spPr>
          <a:xfrm>
            <a:off x="0" y="6967440"/>
            <a:ext cx="10688760" cy="595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061720" y="6967440"/>
            <a:ext cx="8248680" cy="2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636120" y="7394400"/>
            <a:ext cx="67464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800" spc="-1" strike="noStrike">
                <a:solidFill>
                  <a:srgbClr val="9796a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30C3F-43A1-4896-919F-722BB39D2958}" type="slidenum">
              <a:rPr b="0" lang="fr-FR" sz="800" spc="-1" strike="noStrike">
                <a:solidFill>
                  <a:srgbClr val="9796a3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Image 10" descr="logo_texte.png"/>
          <p:cNvPicPr/>
          <p:nvPr/>
        </p:nvPicPr>
        <p:blipFill>
          <a:blip r:embed="rId3"/>
          <a:stretch/>
        </p:blipFill>
        <p:spPr>
          <a:xfrm>
            <a:off x="0" y="0"/>
            <a:ext cx="189396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5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ED500-B2D5-46DF-BCB3-5345A9B59E28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88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89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4299-534E-49C8-9F85-8598388C300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2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33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8690A-D710-41F8-A975-E6DD57A73B0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b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6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77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178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9F54-B0AC-4F73-8C51-69331AC789D5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à coins arrondis 12"/>
          <p:cNvSpPr/>
          <p:nvPr/>
        </p:nvSpPr>
        <p:spPr>
          <a:xfrm>
            <a:off x="1809720" y="263988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1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22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CFDED-5880-4A93-A8B0-FC6682EDDD62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rme libre 15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65" name="Rectangle à coins arrondis 9"/>
          <p:cNvSpPr/>
          <p:nvPr/>
        </p:nvSpPr>
        <p:spPr>
          <a:xfrm>
            <a:off x="647640" y="6243480"/>
            <a:ext cx="235080" cy="5400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266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CDEBB-B047-4A88-950C-C417925B834E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à coins arrondis 11"/>
          <p:cNvSpPr/>
          <p:nvPr/>
        </p:nvSpPr>
        <p:spPr>
          <a:xfrm>
            <a:off x="766800" y="1155600"/>
            <a:ext cx="311040" cy="71640"/>
          </a:xfrm>
          <a:prstGeom prst="roundRect">
            <a:avLst>
              <a:gd name="adj" fmla="val 22463"/>
            </a:avLst>
          </a:prstGeom>
          <a:solidFill>
            <a:srgbClr val="6624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09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10" name="Image 12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A670E-9F26-4507-AE06-B4050FEE7E9C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248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8"/>
          <p:cNvSpPr/>
          <p:nvPr/>
        </p:nvSpPr>
        <p:spPr>
          <a:xfrm>
            <a:off x="0" y="5527800"/>
            <a:ext cx="10688760" cy="203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3" name="Rectangle à coins arrondis 9"/>
          <p:cNvSpPr/>
          <p:nvPr/>
        </p:nvSpPr>
        <p:spPr>
          <a:xfrm>
            <a:off x="766800" y="2525760"/>
            <a:ext cx="311040" cy="71280"/>
          </a:xfrm>
          <a:prstGeom prst="roundRect">
            <a:avLst>
              <a:gd name="adj" fmla="val 2246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500" spc="-1" strike="noStrike">
                <a:solidFill>
                  <a:srgbClr val="ffffff"/>
                </a:solidFill>
                <a:latin typeface="Avenir LT Std 55 Roman"/>
              </a:rPr>
              <a:t> </a:t>
            </a:r>
            <a:endParaRPr b="0" lang="en-US" sz="55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4" name="Forme libre 14"/>
          <p:cNvSpPr/>
          <p:nvPr/>
        </p:nvSpPr>
        <p:spPr>
          <a:xfrm>
            <a:off x="0" y="4959360"/>
            <a:ext cx="10688760" cy="1128600"/>
          </a:xfrm>
          <a:custGeom>
            <a:avLst/>
            <a:gdLst/>
            <a:ahLst/>
            <a:rect l="l" t="t" r="r" b="b"/>
            <a:pathLst>
              <a:path w="9144000" h="1023534">
                <a:moveTo>
                  <a:pt x="9144000" y="0"/>
                </a:moveTo>
                <a:lnTo>
                  <a:pt x="9144000" y="1023534"/>
                </a:lnTo>
                <a:cubicBezTo>
                  <a:pt x="9144000" y="769636"/>
                  <a:pt x="8938176" y="563811"/>
                  <a:pt x="8684276" y="563811"/>
                </a:cubicBezTo>
                <a:lnTo>
                  <a:pt x="1511300" y="563811"/>
                </a:lnTo>
                <a:lnTo>
                  <a:pt x="459723" y="563811"/>
                </a:lnTo>
                <a:lnTo>
                  <a:pt x="0" y="563811"/>
                </a:lnTo>
                <a:lnTo>
                  <a:pt x="0" y="481948"/>
                </a:lnTo>
                <a:lnTo>
                  <a:pt x="481948" y="481948"/>
                </a:lnTo>
                <a:lnTo>
                  <a:pt x="1003300" y="481948"/>
                </a:lnTo>
                <a:lnTo>
                  <a:pt x="8662052" y="481948"/>
                </a:lnTo>
                <a:cubicBezTo>
                  <a:pt x="8928224" y="481948"/>
                  <a:pt x="9144000" y="266173"/>
                  <a:pt x="9144000" y="0"/>
                </a:cubicBezTo>
                <a:close/>
              </a:path>
            </a:pathLst>
          </a:custGeom>
          <a:solidFill>
            <a:srgbClr val="009b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355" name="Image 13" descr="logo_couv.png"/>
          <p:cNvPicPr/>
          <p:nvPr/>
        </p:nvPicPr>
        <p:blipFill>
          <a:blip r:embed="rId2"/>
          <a:stretch/>
        </p:blipFill>
        <p:spPr>
          <a:xfrm>
            <a:off x="7321680" y="6253200"/>
            <a:ext cx="3365280" cy="130968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369880" y="315720"/>
            <a:ext cx="7940520" cy="14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662483"/>
                </a:solidFill>
                <a:latin typeface="Avenir LT Std 55 Roman"/>
              </a:rPr>
              <a:t>Click to edit the title text format</a:t>
            </a:r>
            <a:endParaRPr b="0" lang="en-US" sz="31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1600200" y="2193840"/>
            <a:ext cx="87105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Click to edit the outline text format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1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con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2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•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Third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3" marL="43668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–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our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4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9bc4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Fif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5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ix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  <a:p>
            <a:pPr lvl="6" marL="1190520"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buClr>
                <a:srgbClr val="000000"/>
              </a:buClr>
              <a:buFont typeface="Arial"/>
              <a:buChar char="»"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700" spc="-1" strike="noStrike">
                <a:solidFill>
                  <a:srgbClr val="009bc4"/>
                </a:solidFill>
                <a:latin typeface="Avenir LT Std 65 Medium"/>
              </a:rPr>
              <a:t>Seventh Outline Level</a:t>
            </a:r>
            <a:endParaRPr b="0" lang="en-US" sz="1700" spc="-1" strike="noStrike">
              <a:solidFill>
                <a:srgbClr val="009bc4"/>
              </a:solidFill>
              <a:latin typeface="Avenir LT Std 65 Medium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5"/>
          </p:nvPr>
        </p:nvSpPr>
        <p:spPr>
          <a:xfrm>
            <a:off x="10310400" y="7394400"/>
            <a:ext cx="3762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6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7"/>
          </p:nvPr>
        </p:nvSpPr>
        <p:spPr>
          <a:xfrm>
            <a:off x="10310760" y="7394400"/>
            <a:ext cx="378000" cy="16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48A-0C63-4D6E-AF3B-5AB692EC65A9}" type="slidenum">
              <a:rPr b="0" lang="fr-FR" sz="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7"/>
          <p:cNvSpPr/>
          <p:nvPr/>
        </p:nvSpPr>
        <p:spPr>
          <a:xfrm>
            <a:off x="8294760" y="5029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L VAG Rounded Light"/>
                <a:ea typeface="MS PGothic"/>
              </a:rPr>
              <a:t>PRODUIT</a:t>
            </a:r>
            <a:endParaRPr b="0" lang="en-US" sz="16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912680" y="404640"/>
            <a:ext cx="8397720" cy="22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Chauffe-Eau Thermodynamique hybride</a:t>
            </a:r>
            <a:br>
              <a:rPr sz="2900"/>
            </a:br>
            <a:r>
              <a:rPr b="0" lang="fr-FR" sz="2900" spc="-1" strike="noStrike">
                <a:solidFill>
                  <a:srgbClr val="9796a3"/>
                </a:solidFill>
                <a:latin typeface="Avenir LT Std 55 Roman"/>
              </a:rPr>
              <a:t>ATLANTIC</a:t>
            </a:r>
            <a:endParaRPr b="0" lang="en-US" sz="2900" spc="-1" strike="noStrike">
              <a:solidFill>
                <a:srgbClr val="662483"/>
              </a:solidFill>
              <a:latin typeface="Avenir LT Std 55 Roman"/>
            </a:endParaRPr>
          </a:p>
        </p:txBody>
      </p:sp>
      <p:sp>
        <p:nvSpPr>
          <p:cNvPr id="406" name="Text Box 11"/>
          <p:cNvSpPr/>
          <p:nvPr/>
        </p:nvSpPr>
        <p:spPr>
          <a:xfrm>
            <a:off x="1852560" y="2612520"/>
            <a:ext cx="6983640" cy="20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Fiche d</a:t>
            </a:r>
            <a:r>
              <a:rPr b="0" lang="ja-JP" sz="2200" spc="-1" strike="noStrike">
                <a:solidFill>
                  <a:srgbClr val="9796a3"/>
                </a:solidFill>
                <a:latin typeface="Avenir LT Std 55 Roman"/>
              </a:rPr>
              <a:t>’</a:t>
            </a: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intégration </a:t>
            </a:r>
            <a:br>
              <a:rPr sz="2200"/>
            </a:b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dans le logiciel RT 2012 :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Climawin de BBS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Version 4.6.1.1 du 07/06/2018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9796a3"/>
                </a:solidFill>
                <a:latin typeface="Avenir LT Std 55 Roman"/>
              </a:rPr>
              <a:t>Moteur Th-BCE : version 7.5.0.3</a:t>
            </a:r>
            <a:endParaRPr b="0" lang="en-US" sz="22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Text Box 10"/>
          <p:cNvSpPr/>
          <p:nvPr/>
        </p:nvSpPr>
        <p:spPr>
          <a:xfrm>
            <a:off x="952560" y="1260360"/>
            <a:ext cx="864072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Le présent document décrit la saisie et la prise en compte d’un chauffe-eau thermodynamique hybride du fabricant Atlantic dans le logiciel d’application de la RT 2012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Le chauffe-eau thermodynamique hybride Atlantic </a:t>
            </a: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est composée des éléments suivant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</a:t>
            </a:r>
            <a:r>
              <a:rPr b="0" lang="ja-JP" sz="1100" spc="-1" strike="noStrike">
                <a:solidFill>
                  <a:srgbClr val="000000"/>
                </a:solidFill>
                <a:latin typeface="Avenir LT Std 55 Roman"/>
              </a:rPr>
              <a:t>’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ensemble du système est décrit dans un objet </a:t>
            </a:r>
            <a:r>
              <a:rPr b="1" lang="fr-FR" sz="1100" spc="-1" strike="noStrike">
                <a:solidFill>
                  <a:srgbClr val="000000"/>
                </a:solidFill>
                <a:latin typeface="75 Helvetica Bold"/>
              </a:rPr>
              <a:t>«génération»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(       ). Cet objet contient les </a:t>
            </a:r>
            <a:br>
              <a:rPr sz="1100"/>
            </a:b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éléments suivants 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e la chaudière gaz à condensation (         ) assurant une fonction de chauffage et d’appoint pour l’ECS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stockage décrivant les caractéristiques du ballon de stockage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Un « générateur » décrivant les caractéristiques du CET (        ) assurant une fonction de production d’ECS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08" name="Rectangle 69"/>
          <p:cNvSpPr/>
          <p:nvPr/>
        </p:nvSpPr>
        <p:spPr>
          <a:xfrm>
            <a:off x="3852720" y="2550960"/>
            <a:ext cx="5226120" cy="16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1455840" y="2197080"/>
          <a:ext cx="7848360" cy="547560"/>
        </p:xfrm>
        <a:graphic>
          <a:graphicData uri="http://schemas.openxmlformats.org/drawingml/2006/table">
            <a:tbl>
              <a:tblPr/>
              <a:tblGrid>
                <a:gridCol w="3316320"/>
                <a:gridCol w="4532040"/>
              </a:tblGrid>
              <a:tr h="288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ffe-eau thermodynam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RIVEO 200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fr-FR" sz="1100" spc="-1" strike="noStrike">
                          <a:solidFill>
                            <a:srgbClr val="ffffff"/>
                          </a:solidFill>
                          <a:latin typeface="75 Helvetica Bold"/>
                          <a:ea typeface="MS PGothic"/>
                        </a:rPr>
                        <a:t>Chaudière gaz à condens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0083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100" spc="-1" strike="noStrike">
                          <a:solidFill>
                            <a:srgbClr val="000000"/>
                          </a:solidFill>
                          <a:latin typeface="55 Helvetica Roman"/>
                        </a:rPr>
                        <a:t>NAIA MIC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ctr" marL="91440" marR="9144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Espace réservé du texte 4"/>
          <p:cNvSpPr/>
          <p:nvPr/>
        </p:nvSpPr>
        <p:spPr>
          <a:xfrm>
            <a:off x="2027160" y="287280"/>
            <a:ext cx="679284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Présentation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1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15CF-1AD9-4788-B63B-66C1D672450A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12" name="ZoneTexte 19"/>
          <p:cNvSpPr/>
          <p:nvPr/>
        </p:nvSpPr>
        <p:spPr>
          <a:xfrm>
            <a:off x="952560" y="4429080"/>
            <a:ext cx="5832360" cy="12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Les étapes de la saisie du système sont les suivant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1 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e l’objet « Génération »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2 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: Création du générateur « Chaudière à condensation (ECS &amp; chauffage) »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3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hybride (ECS seul) » ;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ts val="1599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45 Helvetica Light"/>
              </a:rPr>
              <a:t>Etape 4</a:t>
            </a:r>
            <a:r>
              <a:rPr b="0" lang="fr-FR" sz="1100" spc="-1" strike="noStrike">
                <a:solidFill>
                  <a:srgbClr val="000000"/>
                </a:solidFill>
                <a:latin typeface="45 Helvetica Light"/>
              </a:rPr>
              <a:t> : Création du générateur « CET » 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graphicFrame>
        <p:nvGraphicFramePr>
          <p:cNvPr id="413" name="Object 16"/>
          <p:cNvGraphicFramePr/>
          <p:nvPr/>
        </p:nvGraphicFramePr>
        <p:xfrm>
          <a:off x="4624560" y="3125880"/>
          <a:ext cx="183960" cy="18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4560" y="3125880"/>
                    <a:ext cx="183960" cy="18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Object 17"/>
          <p:cNvGraphicFramePr/>
          <p:nvPr/>
        </p:nvGraphicFramePr>
        <p:xfrm>
          <a:off x="6135840" y="3492360"/>
          <a:ext cx="177480" cy="203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1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5840" y="3492360"/>
                    <a:ext cx="177480" cy="2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Object 4"/>
          <p:cNvGraphicFramePr/>
          <p:nvPr/>
        </p:nvGraphicFramePr>
        <p:xfrm>
          <a:off x="4535640" y="4118040"/>
          <a:ext cx="177480" cy="2030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18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35640" y="4118040"/>
                    <a:ext cx="177480" cy="20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19" name="Picture 22" descr=""/>
          <p:cNvPicPr/>
          <p:nvPr/>
        </p:nvPicPr>
        <p:blipFill>
          <a:blip r:embed="rId7"/>
          <a:stretch/>
        </p:blipFill>
        <p:spPr>
          <a:xfrm>
            <a:off x="6711840" y="4502160"/>
            <a:ext cx="2581560" cy="21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20" name="AutoShape 41"/>
          <p:cNvCxnSpPr/>
          <p:nvPr/>
        </p:nvCxnSpPr>
        <p:spPr>
          <a:xfrm flipH="1" flipV="1" rot="10800000">
            <a:off x="70200" y="4067640"/>
            <a:ext cx="252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1" name="Text Box 33"/>
          <p:cNvSpPr/>
          <p:nvPr/>
        </p:nvSpPr>
        <p:spPr>
          <a:xfrm>
            <a:off x="7072200" y="3053880"/>
            <a:ext cx="3146400" cy="109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Paramétrage classique RT 2012 d’une cascade. Un emplacement en volume chauffé permet de réduire les consommations par rapport à un emplacement hors volume chauffé. À choisir en fonction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2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1 : Création de l’objet « Génération »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3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6BC6-5ECE-4153-A192-2D4AE6974094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24" name="Picture 8" descr=""/>
          <p:cNvPicPr/>
          <p:nvPr/>
        </p:nvPicPr>
        <p:blipFill>
          <a:blip r:embed="rId1"/>
          <a:stretch/>
        </p:blipFill>
        <p:spPr>
          <a:xfrm>
            <a:off x="376200" y="2557440"/>
            <a:ext cx="5904000" cy="2122560"/>
          </a:xfrm>
          <a:prstGeom prst="rect">
            <a:avLst/>
          </a:prstGeom>
          <a:ln w="0">
            <a:noFill/>
          </a:ln>
        </p:spPr>
      </p:pic>
      <p:cxnSp>
        <p:nvCxnSpPr>
          <p:cNvPr id="425" name="Connecteur en angle 29"/>
          <p:cNvCxnSpPr>
            <a:stCxn id="421" idx="1"/>
          </p:cNvCxnSpPr>
          <p:nvPr/>
        </p:nvCxnSpPr>
        <p:spPr>
          <a:xfrm rot="10800000">
            <a:off x="4335480" y="3493440"/>
            <a:ext cx="2737080" cy="108720"/>
          </a:xfrm>
          <a:prstGeom prst="bentConnector3">
            <a:avLst>
              <a:gd name="adj1" fmla="val 50000"/>
            </a:avLst>
          </a:prstGeom>
          <a:ln w="12600">
            <a:solidFill>
              <a:srgbClr val="4e3073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Text Box 7"/>
          <p:cNvSpPr/>
          <p:nvPr/>
        </p:nvSpPr>
        <p:spPr>
          <a:xfrm>
            <a:off x="6799320" y="2505240"/>
            <a:ext cx="18000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27" name="AutoShape 12"/>
          <p:cNvCxnSpPr/>
          <p:nvPr/>
        </p:nvCxnSpPr>
        <p:spPr>
          <a:xfrm flipH="1" flipV="1" rot="10800000">
            <a:off x="-360" y="435744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28" name="Text Box 33"/>
          <p:cNvSpPr/>
          <p:nvPr/>
        </p:nvSpPr>
        <p:spPr>
          <a:xfrm>
            <a:off x="7236000" y="1836720"/>
            <a:ext cx="316836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haudières NAIA MICRO 25/30/35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29" name="Espace réservé du texte 4"/>
          <p:cNvSpPr/>
          <p:nvPr/>
        </p:nvSpPr>
        <p:spPr>
          <a:xfrm>
            <a:off x="2027160" y="260280"/>
            <a:ext cx="82854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1650"/>
              </a:spcBef>
              <a:spcAft>
                <a:spcPts val="887"/>
              </a:spcAft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2 : Création du générateur chaudière gaz à condensation (chauffage &amp; ECS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0" name="Espace réservé du numéro de diapositive 2"/>
          <p:cNvSpPr/>
          <p:nvPr/>
        </p:nvSpPr>
        <p:spPr>
          <a:xfrm>
            <a:off x="9809280" y="7410600"/>
            <a:ext cx="576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44B5-69D0-4CB7-9BAF-EC9D4ECA4DE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31" name="Text Box 33"/>
          <p:cNvSpPr/>
          <p:nvPr/>
        </p:nvSpPr>
        <p:spPr>
          <a:xfrm>
            <a:off x="160200" y="155016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e la chaudière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2" name="Picture 10" descr=""/>
          <p:cNvPicPr/>
          <p:nvPr/>
        </p:nvPicPr>
        <p:blipFill>
          <a:blip r:embed="rId1"/>
          <a:stretch/>
        </p:blipFill>
        <p:spPr>
          <a:xfrm>
            <a:off x="179280" y="2125800"/>
            <a:ext cx="6620040" cy="599760"/>
          </a:xfrm>
          <a:prstGeom prst="rect">
            <a:avLst/>
          </a:prstGeom>
          <a:ln w="0">
            <a:noFill/>
          </a:ln>
        </p:spPr>
      </p:pic>
      <p:cxnSp>
        <p:nvCxnSpPr>
          <p:cNvPr id="433" name="Connecteur en angle 18"/>
          <p:cNvCxnSpPr>
            <a:stCxn id="431" idx="3"/>
          </p:cNvCxnSpPr>
          <p:nvPr/>
        </p:nvCxnSpPr>
        <p:spPr>
          <a:xfrm flipH="1">
            <a:off x="2247120" y="1765080"/>
            <a:ext cx="1059480" cy="864360"/>
          </a:xfrm>
          <a:prstGeom prst="bentConnector3">
            <a:avLst>
              <a:gd name="adj1" fmla="val -7511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34" name="Connecteur en angle 18"/>
          <p:cNvCxnSpPr>
            <a:stCxn id="428" idx="1"/>
          </p:cNvCxnSpPr>
          <p:nvPr/>
        </p:nvCxnSpPr>
        <p:spPr>
          <a:xfrm rot="10800000">
            <a:off x="5415840" y="2556720"/>
            <a:ext cx="1820160" cy="25164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35" name="Text Box 33"/>
          <p:cNvSpPr/>
          <p:nvPr/>
        </p:nvSpPr>
        <p:spPr>
          <a:xfrm>
            <a:off x="7216920" y="4068720"/>
            <a:ext cx="3168360" cy="1152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valeurs présentées ici sont pour le système NAIA MICRO 25 et sont arrondies automatiquement par Climawin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Code couleur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c00000"/>
                </a:solidFill>
                <a:latin typeface="Avenir LT Std 55 Roman"/>
              </a:rPr>
              <a:t>Rouge 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: aucune valeur n’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Gris : une valeur au moins a été changé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36" name="Picture 15" descr=""/>
          <p:cNvPicPr/>
          <p:nvPr/>
        </p:nvPicPr>
        <p:blipFill>
          <a:blip r:embed="rId2"/>
          <a:stretch/>
        </p:blipFill>
        <p:spPr>
          <a:xfrm>
            <a:off x="8080200" y="2629080"/>
            <a:ext cx="1514520" cy="102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7" name=""/>
          <p:cNvGraphicFramePr/>
          <p:nvPr/>
        </p:nvGraphicFramePr>
        <p:xfrm>
          <a:off x="5487840" y="2989440"/>
          <a:ext cx="720720" cy="403200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8.8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6.3 k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97.9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108.7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5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7.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00 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83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10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20 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3796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7f7f7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6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8" name="Picture 14" descr=""/>
          <p:cNvPicPr/>
          <p:nvPr/>
        </p:nvPicPr>
        <p:blipFill>
          <a:blip r:embed="rId3"/>
          <a:stretch/>
        </p:blipFill>
        <p:spPr>
          <a:xfrm>
            <a:off x="1311120" y="2773440"/>
            <a:ext cx="420228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10" descr=""/>
          <p:cNvPicPr/>
          <p:nvPr/>
        </p:nvPicPr>
        <p:blipFill>
          <a:blip r:embed="rId1"/>
          <a:stretch/>
        </p:blipFill>
        <p:spPr>
          <a:xfrm>
            <a:off x="231840" y="2125800"/>
            <a:ext cx="6619680" cy="599760"/>
          </a:xfrm>
          <a:prstGeom prst="rect">
            <a:avLst/>
          </a:prstGeom>
          <a:ln w="0">
            <a:noFill/>
          </a:ln>
        </p:spPr>
      </p:pic>
      <p:cxnSp>
        <p:nvCxnSpPr>
          <p:cNvPr id="440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1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42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43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44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BF79D-23F0-4E04-82B1-647BE224F7B9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45" name="Picture 11" descr=""/>
          <p:cNvPicPr/>
          <p:nvPr/>
        </p:nvPicPr>
        <p:blipFill>
          <a:blip r:embed="rId2"/>
          <a:stretch/>
        </p:blipFill>
        <p:spPr>
          <a:xfrm>
            <a:off x="212760" y="2486160"/>
            <a:ext cx="6619680" cy="218880"/>
          </a:xfrm>
          <a:prstGeom prst="rect">
            <a:avLst/>
          </a:prstGeom>
          <a:ln w="0">
            <a:noFill/>
          </a:ln>
        </p:spPr>
      </p:pic>
      <p:sp>
        <p:nvSpPr>
          <p:cNvPr id="446" name="Text Box 33"/>
          <p:cNvSpPr/>
          <p:nvPr/>
        </p:nvSpPr>
        <p:spPr>
          <a:xfrm>
            <a:off x="231840" y="1478520"/>
            <a:ext cx="3146400" cy="4287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Dans l’outil de saisie des Générateurs, on indique les fonctions du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7" name="Connecteur en angle 18"/>
          <p:cNvCxnSpPr>
            <a:stCxn id="446" idx="3"/>
          </p:cNvCxnSpPr>
          <p:nvPr/>
        </p:nvCxnSpPr>
        <p:spPr>
          <a:xfrm flipH="1">
            <a:off x="2102760" y="1692360"/>
            <a:ext cx="1275480" cy="937440"/>
          </a:xfrm>
          <a:prstGeom prst="bentConnector3">
            <a:avLst>
              <a:gd name="adj1" fmla="val -4573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48" name="Text Box 33"/>
          <p:cNvSpPr/>
          <p:nvPr/>
        </p:nvSpPr>
        <p:spPr>
          <a:xfrm>
            <a:off x="7072200" y="1549440"/>
            <a:ext cx="3292560" cy="2592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référence produit peut être trouver dans la base de données EDIBATE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hoix entre les CET RIVEO 200L/200L ambiant dépend du proj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cxnSp>
        <p:nvCxnSpPr>
          <p:cNvPr id="449" name="Connecteur en angle 18"/>
          <p:cNvCxnSpPr>
            <a:stCxn id="448" idx="1"/>
          </p:cNvCxnSpPr>
          <p:nvPr/>
        </p:nvCxnSpPr>
        <p:spPr>
          <a:xfrm rot="10800000">
            <a:off x="5776200" y="2628360"/>
            <a:ext cx="1296000" cy="216360"/>
          </a:xfrm>
          <a:prstGeom prst="bentConnector3">
            <a:avLst>
              <a:gd name="adj1" fmla="val 4998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pic>
        <p:nvPicPr>
          <p:cNvPr id="450" name="Picture 14" descr=""/>
          <p:cNvPicPr/>
          <p:nvPr/>
        </p:nvPicPr>
        <p:blipFill>
          <a:blip r:embed="rId3"/>
          <a:stretch/>
        </p:blipFill>
        <p:spPr>
          <a:xfrm>
            <a:off x="7361280" y="2413080"/>
            <a:ext cx="276228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1" name="AutoShape 10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2" name="AutoShape 11"/>
          <p:cNvCxnSpPr/>
          <p:nvPr/>
        </p:nvCxnSpPr>
        <p:spPr>
          <a:xfrm flipH="1" flipV="1" rot="10800000">
            <a:off x="7232400" y="693072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cxnSp>
        <p:nvCxnSpPr>
          <p:cNvPr id="453" name="AutoShape 13"/>
          <p:cNvCxnSpPr/>
          <p:nvPr/>
        </p:nvCxnSpPr>
        <p:spPr>
          <a:xfrm flipH="1" flipV="1" rot="10800000">
            <a:off x="-360" y="3781080"/>
            <a:ext cx="2160" cy="216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54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3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5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A277-70A3-4E3B-914B-0C8046DE0C99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6" name="Text Box 33"/>
          <p:cNvSpPr/>
          <p:nvPr/>
        </p:nvSpPr>
        <p:spPr>
          <a:xfrm>
            <a:off x="5848200" y="3276720"/>
            <a:ext cx="4104000" cy="64908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ttention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Ici, on indique un système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Sans appoint intégré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au lieu de « Avec appoint intégré élec »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7" name="Text Box 33"/>
          <p:cNvSpPr/>
          <p:nvPr/>
        </p:nvSpPr>
        <p:spPr>
          <a:xfrm>
            <a:off x="5848200" y="1189080"/>
            <a:ext cx="4104000" cy="158436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Bien renseigner les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limites amont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source froide) et 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aval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(côté production d’eau chaude) de température du CET. 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s bornes admissibles sont fixées dans la fiche d’application « Saisie des chauffe-eau thermodynamiques à compression électrique et à appoint hydraulique » disponible sur le site rt-batiment.fr  à savoir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aximum 7°C en amont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minimum 30°C en aval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8" name="Accolade fermante 33"/>
          <p:cNvSpPr/>
          <p:nvPr/>
        </p:nvSpPr>
        <p:spPr>
          <a:xfrm>
            <a:off x="3255840" y="3133800"/>
            <a:ext cx="216000" cy="431640"/>
          </a:xfrm>
          <a:custGeom>
            <a:avLst/>
            <a:gdLst>
              <a:gd name="textAreaLeft" fmla="*/ 0 w 216000"/>
              <a:gd name="textAreaRight" fmla="*/ 78120 w 216000"/>
              <a:gd name="textAreaTop" fmla="*/ 5400 h 431640"/>
              <a:gd name="textAreaBottom" fmla="*/ 4262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50"/>
                  <a:pt x="10800" y="900"/>
                </a:cubicBezTo>
                <a:lnTo>
                  <a:pt x="10800" y="9900"/>
                </a:lnTo>
                <a:cubicBezTo>
                  <a:pt x="10800" y="10350"/>
                  <a:pt x="16200" y="10800"/>
                  <a:pt x="21600" y="10800"/>
                </a:cubicBezTo>
                <a:cubicBezTo>
                  <a:pt x="16200" y="10800"/>
                  <a:pt x="10800" y="11250"/>
                  <a:pt x="10800" y="11700"/>
                </a:cubicBezTo>
                <a:lnTo>
                  <a:pt x="10800" y="20700"/>
                </a:lnTo>
                <a:cubicBezTo>
                  <a:pt x="10800" y="2115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9ac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59" name="Text Box 33"/>
          <p:cNvSpPr/>
          <p:nvPr/>
        </p:nvSpPr>
        <p:spPr>
          <a:xfrm>
            <a:off x="5848200" y="4213080"/>
            <a:ext cx="4105440" cy="194472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« Chauffage de nuit » possibl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si les conditions de la fiche d’application « Saisie des chauffe-eau thermodynamiques à compression électrique » (rt-batiment.fr) sont réunies :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e CET dispose d’un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relais Heures Pleines / Heures Creuses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pour piloter le fonctionnement de la PAC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La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montée en température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 du ballon (correspondant à th dans la norme NF EN 16147) est 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inférieure à 8h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Sinon, il faut indiquer « </a:t>
            </a:r>
            <a:r>
              <a:rPr b="1" lang="fr-FR" sz="1100" spc="-1" strike="noStrike">
                <a:solidFill>
                  <a:srgbClr val="000000"/>
                </a:solidFill>
                <a:latin typeface="Avenir LT Std 55 Roman"/>
              </a:rPr>
              <a:t>chauffage permanent </a:t>
            </a: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». La régulation du CET «  chauffage de nuit » implique un transfert d’une partie des consommations du CET vers la chaudière d’appoint vu que le CET est restreint dans sa période de fonctionnemen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60" name="Picture 16" descr=""/>
          <p:cNvPicPr/>
          <p:nvPr/>
        </p:nvPicPr>
        <p:blipFill>
          <a:blip r:embed="rId1"/>
          <a:stretch/>
        </p:blipFill>
        <p:spPr>
          <a:xfrm>
            <a:off x="519120" y="1333440"/>
            <a:ext cx="3879720" cy="51404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7" descr=""/>
          <p:cNvPicPr/>
          <p:nvPr/>
        </p:nvPicPr>
        <p:blipFill>
          <a:blip r:embed="rId2"/>
          <a:stretch/>
        </p:blipFill>
        <p:spPr>
          <a:xfrm>
            <a:off x="519120" y="5869080"/>
            <a:ext cx="3889440" cy="1233360"/>
          </a:xfrm>
          <a:prstGeom prst="rect">
            <a:avLst/>
          </a:prstGeom>
          <a:ln w="0">
            <a:noFill/>
          </a:ln>
        </p:spPr>
      </p:pic>
      <p:cxnSp>
        <p:nvCxnSpPr>
          <p:cNvPr id="462" name="Connecteur en angle 18"/>
          <p:cNvCxnSpPr>
            <a:stCxn id="456" idx="1"/>
          </p:cNvCxnSpPr>
          <p:nvPr/>
        </p:nvCxnSpPr>
        <p:spPr>
          <a:xfrm flipV="1" rot="10800000">
            <a:off x="3903120" y="3600000"/>
            <a:ext cx="1945080" cy="126144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63" name="Connecteur en angle 18"/>
          <p:cNvCxnSpPr>
            <a:stCxn id="457" idx="1"/>
          </p:cNvCxnSpPr>
          <p:nvPr/>
        </p:nvCxnSpPr>
        <p:spPr>
          <a:xfrm flipV="1" rot="10800000">
            <a:off x="3255120" y="1980000"/>
            <a:ext cx="2592720" cy="1513800"/>
          </a:xfrm>
          <a:prstGeom prst="bentConnector3">
            <a:avLst>
              <a:gd name="adj1" fmla="val 22052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64" name="Connecteur en angle 18"/>
          <p:cNvCxnSpPr>
            <a:stCxn id="459" idx="1"/>
          </p:cNvCxnSpPr>
          <p:nvPr/>
        </p:nvCxnSpPr>
        <p:spPr>
          <a:xfrm flipV="1" rot="10800000">
            <a:off x="3975840" y="5185440"/>
            <a:ext cx="1872360" cy="756360"/>
          </a:xfrm>
          <a:prstGeom prst="bentConnector3">
            <a:avLst>
              <a:gd name="adj1" fmla="val 5000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graphicFrame>
        <p:nvGraphicFramePr>
          <p:cNvPr id="465" name=""/>
          <p:cNvGraphicFramePr/>
          <p:nvPr/>
        </p:nvGraphicFramePr>
        <p:xfrm>
          <a:off x="4408560" y="2413080"/>
          <a:ext cx="720720" cy="627120"/>
        </p:xfrm>
        <a:graphic>
          <a:graphicData uri="http://schemas.openxmlformats.org/drawingml/2006/table">
            <a:tbl>
              <a:tblPr/>
              <a:tblGrid>
                <a:gridCol w="720720"/>
              </a:tblGrid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0.29 kW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3.3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  <a:tr h="209520">
                <a:tc>
                  <a:txBody>
                    <a:bodyPr lIns="72000" rIns="72000" tIns="36000" bIns="36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fr-FR" sz="900" spc="-1" strike="noStrike">
                          <a:solidFill>
                            <a:srgbClr val="000000"/>
                          </a:solidFill>
                          <a:latin typeface="Avenir LT Std 55 Roman"/>
                        </a:rPr>
                        <a:t>certifié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venir LT Std 55 Roman"/>
                      </a:endParaRPr>
                    </a:p>
                  </a:txBody>
                  <a:tcPr anchor="t" marL="72000" marR="72000">
                    <a:lnL w="5760">
                      <a:solidFill>
                        <a:srgbClr val="7f7f7f"/>
                      </a:solidFill>
                    </a:lnL>
                    <a:lnR w="5760">
                      <a:solidFill>
                        <a:srgbClr val="7f7f7f"/>
                      </a:solidFill>
                    </a:lnR>
                    <a:lnT w="5760">
                      <a:solidFill>
                        <a:srgbClr val="7f7f7f"/>
                      </a:solidFill>
                    </a:lnT>
                    <a:lnB w="5760">
                      <a:solidFill>
                        <a:srgbClr val="7f7f7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15" descr=""/>
          <p:cNvPicPr/>
          <p:nvPr/>
        </p:nvPicPr>
        <p:blipFill>
          <a:blip r:embed="rId1"/>
          <a:stretch/>
        </p:blipFill>
        <p:spPr>
          <a:xfrm>
            <a:off x="808200" y="4789440"/>
            <a:ext cx="7667640" cy="180036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4" descr=""/>
          <p:cNvPicPr/>
          <p:nvPr/>
        </p:nvPicPr>
        <p:blipFill>
          <a:blip r:embed="rId2"/>
          <a:stretch/>
        </p:blipFill>
        <p:spPr>
          <a:xfrm>
            <a:off x="3471840" y="3276720"/>
            <a:ext cx="6913440" cy="1209600"/>
          </a:xfrm>
          <a:prstGeom prst="rect">
            <a:avLst/>
          </a:prstGeom>
          <a:ln w="0">
            <a:noFill/>
          </a:ln>
        </p:spPr>
      </p:pic>
      <p:cxnSp>
        <p:nvCxnSpPr>
          <p:cNvPr id="468" name="AutoShape 12"/>
          <p:cNvCxnSpPr/>
          <p:nvPr/>
        </p:nvCxnSpPr>
        <p:spPr>
          <a:xfrm flipH="1" flipV="1" rot="10800000">
            <a:off x="-360" y="3924720"/>
            <a:ext cx="2160" cy="2520"/>
          </a:xfrm>
          <a:prstGeom prst="bentConnector3">
            <a:avLst>
              <a:gd name="adj1" fmla="val -14400000"/>
            </a:avLst>
          </a:prstGeom>
          <a:ln w="0">
            <a:noFill/>
          </a:ln>
        </p:spPr>
      </p:cxnSp>
      <p:sp>
        <p:nvSpPr>
          <p:cNvPr id="469" name="Espace réservé du texte 4"/>
          <p:cNvSpPr/>
          <p:nvPr/>
        </p:nvSpPr>
        <p:spPr>
          <a:xfrm>
            <a:off x="2027160" y="260280"/>
            <a:ext cx="842976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662483"/>
                </a:solidFill>
                <a:latin typeface="Avenir LT Std 55 Roman"/>
              </a:rPr>
              <a:t>Etape n°4 : Création du générateur CET (ECS seulement)</a:t>
            </a:r>
            <a:endParaRPr b="0" lang="en-US" sz="29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0" name="Espace réservé du numéro de diapositive 2"/>
          <p:cNvSpPr/>
          <p:nvPr/>
        </p:nvSpPr>
        <p:spPr>
          <a:xfrm>
            <a:off x="9880560" y="7410600"/>
            <a:ext cx="5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7A59-B528-4139-ADAE-3216E80A29B3}" type="slidenum">
              <a:rPr b="0" lang="fr-FR" sz="1100" spc="-1" strike="noStrike">
                <a:solidFill>
                  <a:srgbClr val="9796a3"/>
                </a:solidFill>
                <a:latin typeface="Avenir LT Std 55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1" name="Text Box 33"/>
          <p:cNvSpPr/>
          <p:nvPr/>
        </p:nvSpPr>
        <p:spPr>
          <a:xfrm>
            <a:off x="447840" y="1477800"/>
            <a:ext cx="32922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venir LT Std 55 Roman"/>
              </a:rPr>
              <a:t>On saisit les composants chaudières et CET.</a:t>
            </a:r>
            <a:endParaRPr b="0" lang="en-US" sz="11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2" name="Text Box 33"/>
          <p:cNvSpPr/>
          <p:nvPr/>
        </p:nvSpPr>
        <p:spPr>
          <a:xfrm>
            <a:off x="4695840" y="5437080"/>
            <a:ext cx="1657440" cy="5050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sp>
        <p:nvSpPr>
          <p:cNvPr id="473" name="Text Box 33"/>
          <p:cNvSpPr/>
          <p:nvPr/>
        </p:nvSpPr>
        <p:spPr>
          <a:xfrm>
            <a:off x="6927840" y="4286160"/>
            <a:ext cx="289080" cy="287280"/>
          </a:xfrm>
          <a:prstGeom prst="rect">
            <a:avLst/>
          </a:prstGeom>
          <a:noFill/>
          <a:ln w="28440">
            <a:solidFill>
              <a:srgbClr val="4e30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venir LT Std 55 Roman"/>
            </a:endParaRPr>
          </a:p>
        </p:txBody>
      </p:sp>
      <p:pic>
        <p:nvPicPr>
          <p:cNvPr id="474" name="Picture 13" descr=""/>
          <p:cNvPicPr/>
          <p:nvPr/>
        </p:nvPicPr>
        <p:blipFill>
          <a:blip r:embed="rId3"/>
          <a:stretch/>
        </p:blipFill>
        <p:spPr>
          <a:xfrm>
            <a:off x="376200" y="1836720"/>
            <a:ext cx="2390760" cy="1038240"/>
          </a:xfrm>
          <a:prstGeom prst="rect">
            <a:avLst/>
          </a:prstGeom>
          <a:ln w="0">
            <a:noFill/>
          </a:ln>
        </p:spPr>
      </p:pic>
      <p:cxnSp>
        <p:nvCxnSpPr>
          <p:cNvPr id="475" name="Connecteur en angle 18"/>
          <p:cNvCxnSpPr/>
          <p:nvPr/>
        </p:nvCxnSpPr>
        <p:spPr>
          <a:xfrm>
            <a:off x="2752200" y="2628720"/>
            <a:ext cx="4320360" cy="648360"/>
          </a:xfrm>
          <a:prstGeom prst="bentConnector3">
            <a:avLst>
              <a:gd name="adj1" fmla="val 100016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cxnSp>
        <p:nvCxnSpPr>
          <p:cNvPr id="476" name="Connecteur en angle 18"/>
          <p:cNvCxnSpPr/>
          <p:nvPr/>
        </p:nvCxnSpPr>
        <p:spPr>
          <a:xfrm rot="5400000">
            <a:off x="987480" y="3816720"/>
            <a:ext cx="1945440" cy="1080"/>
          </a:xfrm>
          <a:prstGeom prst="bentConnector3">
            <a:avLst>
              <a:gd name="adj1" fmla="val 49990"/>
            </a:avLst>
          </a:prstGeom>
          <a:ln w="15840">
            <a:solidFill>
              <a:srgbClr val="4e3073"/>
            </a:solidFill>
            <a:round/>
            <a:tailEnd len="med" type="triangle" w="sm"/>
          </a:ln>
        </p:spPr>
      </p:cxnSp>
      <p:sp>
        <p:nvSpPr>
          <p:cNvPr id="477" name="ZoneTexte 12"/>
          <p:cNvSpPr/>
          <p:nvPr/>
        </p:nvSpPr>
        <p:spPr>
          <a:xfrm>
            <a:off x="4695840" y="6373800"/>
            <a:ext cx="504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venir LT Std 55 Roman"/>
              </a:rPr>
              <a:t>0 W</a:t>
            </a:r>
            <a:endParaRPr b="0" lang="en-US" sz="1000" spc="-1" strike="noStrike">
              <a:solidFill>
                <a:srgbClr val="000000"/>
              </a:solidFill>
              <a:latin typeface="Avenir LT Std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17T14:36:31Z</dcterms:created>
  <dc:creator>Rapeneau Igor (GDF SUEZ SA)</dc:creator>
  <dc:description/>
  <dc:language>en-US</dc:language>
  <cp:lastModifiedBy>RAPENEAU Igor (Gaz Réseau Distribution France)</cp:lastModifiedBy>
  <cp:lastPrinted>2014-02-20T07:11:44Z</cp:lastPrinted>
  <dcterms:modified xsi:type="dcterms:W3CDTF">2018-11-23T14:05:13Z</dcterms:modified>
  <cp:revision>191</cp:revision>
  <dc:subject/>
  <dc:title>Présentation PowerPoint</dc:title>
</cp:coreProperties>
</file>