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EE9C-CBBF-47C7-BE8B-04D9B6F3EEE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B735-D52F-4C0E-975A-F6DA0E35E965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9C37-F62A-48C4-BFFB-AC2A84530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B199-FD39-4BDB-B084-99013508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100BB0-7FFD-485E-9843-9A8EEC7A3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0C3483-069B-40A3-BFDC-33C743F7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7844D-BC5D-4199-9EDB-88BCA61C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40C6F-56F8-41CD-B59D-AA83ED5C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F1899-5062-4D59-B967-E548CDA6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85046A-6B6A-418C-82DA-A4893118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DE7C9F-7A5F-4D62-AF6F-9F2BE8E3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8793F-1656-41B8-B2AF-E8A7175E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87F1B2-B240-42F5-91BA-0F32601F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E4F-7777-41FF-A553-0CCAB95B7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A92-1D18-43F5-9A02-8C550577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EF090-8FB8-4F69-91F8-D9476D28E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EB1AB-E468-48E5-B5F6-2212D61D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E7A3-3005-44CD-A0BF-51B79E172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D5DD2-5C88-4561-BCD6-4DF10C150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FA696-02B1-4C96-B137-247A0A1FB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507DB-C754-4EE4-B7F5-626EF301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ED3B0-FC49-4567-A3D4-4C1118B1D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429-3740-4B04-A29B-25ECF9D5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4ABB-C0C9-4C40-BF10-DF551F33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9DFE5-BA42-463A-870E-D52A0D86F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73585-16F8-4CDE-AC4C-9F691CE9B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98DB3-43FA-45B1-9F46-91299019A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56DD9-4D7C-4BE7-873C-68B5D82A8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F9455E-1EDC-47DE-85F0-6D90D0F2F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A8C69-6653-4887-8553-1F90CA9F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A0145A-6E4F-4F61-A67F-9A329246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095D2-33B5-4CB8-8C7D-491FB3BA8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CAC96-293F-425F-A17C-746D643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8C0E-09FA-4F91-A0C1-57DB9B52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7BF23-0F5F-470A-B18B-209099EB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164D-818F-472D-91FC-B860B6372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DD0BBB-EB39-43F0-90DC-5CF21408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DE054-DB16-4977-8210-5A8AB838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D9125-98B6-49FC-8D0B-CBCF2D31C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775C2D-BC91-41DF-AD75-2B4B0C220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860B1-880C-48EB-8A38-BED10B0B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D8C7F-008D-4376-B81A-D2D2A1F7F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F1C84-B7DC-4B64-91C7-9C3C3807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C007B-6C91-47C5-9E13-9BEAD6938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2DCF-61F7-4A14-B981-785E79E8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FB3C-D0A1-4681-B834-F9C06C00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0CC2C7-CF75-4AEF-BC0D-AC3184891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AE63-80F3-45D3-9D9F-8DC1504DF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1F4D5-B5CE-472A-ADF5-9273E170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14635-32F6-41F1-8A49-92BA80E3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EB3A2-274A-4C65-BB0A-6A8245A4D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C760B-0A35-4775-94D5-9F8D8C72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5116-E3A4-468D-B6AD-3E7404747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A12B28-27EF-43B9-8ECD-36F60427B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8DC18-37D0-4027-B2E8-EE3628004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97C2-6B31-4DFB-A09A-3AD5A7E6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38496-D4CB-47DF-9870-A5200824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369224-C33A-40E6-92F3-6B90D339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297890-9057-4A55-8C55-D63BB873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F3CC87-EE0C-4CED-86E8-2C3E8FD3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ED304-79DC-4092-87F8-B55E9B217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27EEC-D9D9-4C92-AD7B-1FC64218C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E328D-8C63-4350-8920-CB0E0DD5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5772D-362D-47AE-938F-555DABAE4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EA3D01-26F1-4ABB-A9B4-97500E486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0119FB-7D4B-43F0-B52A-8A8318EFF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E33-3584-419F-A441-12A864B73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B780-CEC4-4828-81F4-DA9296CCD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4225-7FAA-4DDB-A78D-E5A5DCE9A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BA31B-BB59-45E0-8865-755E7CFE0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F7B6CC-9E64-4F07-B508-FC95A2FCE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7B8720-A17D-4F40-A95C-334AE98F6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04D53-0554-437C-8AC8-98EDD46F8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FA36-A8F9-457F-A52A-EE375A64A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434FFC-16DA-4134-9651-BAD11C229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0360A-556E-4563-85C5-0F5EC4EA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BCE194-04D3-4B14-9143-0D32C3CD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07BA-05F3-48B6-A170-333A91F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B58866-8A40-4421-9B09-33E56E2F6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10FE2-77AF-47DA-AE38-20DD8B634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877994-C6AE-4A4C-ADE1-A2B8745C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B1B2BC-D75B-46EB-B8E1-119307BB8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680AD-0BCA-4AED-A79D-643B98590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CB1708-F944-48B9-8569-783AFCE1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81367F-516F-445E-BA04-D6019956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2339-C137-497F-8873-9DEA30E5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A12C0-48CB-4084-8DE3-4D3E3E554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EC8B77-6DED-409C-B039-08811E609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AC33-EE88-4B98-AD34-135CA4A10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8AACB-AC66-4D87-899A-0A0C3C56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A1E204-3106-4A7D-8604-80807EBF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6DDE6A-6E2B-424B-8435-54B78F7F5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B0A60A-198F-4070-86DA-31AAE934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FAD3B-82B1-4989-9214-45BDAE9D5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44F3D8-15E2-4D65-8C59-E4181764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74C3BC-C962-4FA8-ABA7-941F7F0C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2FD22-4CB3-4B4F-BBAE-428235839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76D794-FAC9-4362-AEF8-BE98A84D1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968D71-CE16-4E2C-8773-293FA2F68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A2735-4779-40DE-A0D3-4A0292BE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0E642-8E77-4DA0-A531-02F70C823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E6C46-3E54-4274-999F-A719008D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06DAE7-2811-43BF-9656-99825EE7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1D27B-511E-4C66-97F1-A7C8A8334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2EA98-49A9-4828-A36E-71C08E2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AF6D7-B445-4A0E-9832-B556CB5D3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5DD1A-521D-4632-A9E6-28E7EC819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4DB5EA-6F92-4E49-A1F3-42DC7651B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42D95E-9166-439A-979B-7056E0E2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8E943-D82E-46AD-B7CA-FD1553624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A5D1-6AAF-4033-BC73-ED28504E5905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F11E-37B0-48E1-8FA8-F56E7423643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8800-D66C-48E8-9116-6DDF1FCEF85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3959-B3F0-4613-86FC-955FE9FF0E3D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9D93-D1C1-4543-81E4-A8C5B12604B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2BF7-D3C0-480E-A6A5-EA6BD3A7A16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536C1-234B-4CC8-A9DB-D85BB68C513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2B23-8FDF-4FDC-882D-67FF8D7BD9C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EC52-1954-4B13-AAA9-0FA2DBD4AB0F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DE DIETRICH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De Dietrich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De Dietrich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   ) 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KALIK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NE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2AFA-AA2B-443B-84FF-64A77203885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643280" y="3098880"/>
          <a:ext cx="18432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3098880"/>
                    <a:ext cx="18432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89480"/>
          <a:ext cx="177480" cy="2030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89480"/>
                    <a:ext cx="177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475160" y="413388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5160" y="413388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7000920" y="4502160"/>
            <a:ext cx="2600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0E2-DA4C-4C18-BB05-012CBCDF037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2449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différentes chaudières NANEO 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E27D-E2AB-4425-96A8-B6DA9B84F9E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34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50400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5" name="Text Box 33"/>
          <p:cNvSpPr/>
          <p:nvPr/>
        </p:nvSpPr>
        <p:spPr>
          <a:xfrm>
            <a:off x="7216920" y="4429080"/>
            <a:ext cx="3168360" cy="1297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sont pour le système EMC-M24/28 MI VH 8 et sont arrondies par Climawin. Le système à choisir dépend de chaque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 dans Climawin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6" name="Picture 14" descr=""/>
          <p:cNvPicPr/>
          <p:nvPr/>
        </p:nvPicPr>
        <p:blipFill>
          <a:blip r:embed="rId2"/>
          <a:stretch/>
        </p:blipFill>
        <p:spPr>
          <a:xfrm>
            <a:off x="7792920" y="2629080"/>
            <a:ext cx="1971720" cy="15523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5" descr=""/>
          <p:cNvPicPr/>
          <p:nvPr/>
        </p:nvPicPr>
        <p:blipFill>
          <a:blip r:embed="rId3"/>
          <a:stretch/>
        </p:blipFill>
        <p:spPr>
          <a:xfrm>
            <a:off x="801720" y="2917800"/>
            <a:ext cx="4192560" cy="3959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8" name=""/>
          <p:cNvGraphicFramePr/>
          <p:nvPr/>
        </p:nvGraphicFramePr>
        <p:xfrm>
          <a:off x="4984920" y="2917800"/>
          <a:ext cx="720720" cy="3960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3.8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8.0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9.1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10.50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14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5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40.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0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84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328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0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3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EAFC-0AE6-4FC5-9108-5A2F2CAEAF08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7" name="Connecteur en angle 18"/>
          <p:cNvCxnSpPr>
            <a:stCxn id="446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8" name="Text Box 33"/>
          <p:cNvSpPr/>
          <p:nvPr/>
        </p:nvSpPr>
        <p:spPr>
          <a:xfrm>
            <a:off x="7072200" y="1549440"/>
            <a:ext cx="32925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différents CET Kaliko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9" name="Connecteur en angle 18"/>
          <p:cNvCxnSpPr>
            <a:stCxn id="448" idx="1"/>
          </p:cNvCxnSpPr>
          <p:nvPr/>
        </p:nvCxnSpPr>
        <p:spPr>
          <a:xfrm rot="10800000">
            <a:off x="5776200" y="2628360"/>
            <a:ext cx="1296000" cy="21636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50" name="Picture 14" descr=""/>
          <p:cNvPicPr/>
          <p:nvPr/>
        </p:nvPicPr>
        <p:blipFill>
          <a:blip r:embed="rId3"/>
          <a:stretch/>
        </p:blipFill>
        <p:spPr>
          <a:xfrm>
            <a:off x="7935840" y="2268360"/>
            <a:ext cx="14954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6" descr=""/>
          <p:cNvPicPr/>
          <p:nvPr/>
        </p:nvPicPr>
        <p:blipFill>
          <a:blip r:embed="rId1"/>
          <a:stretch/>
        </p:blipFill>
        <p:spPr>
          <a:xfrm>
            <a:off x="376200" y="1260360"/>
            <a:ext cx="3987720" cy="534348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17" descr=""/>
          <p:cNvPicPr/>
          <p:nvPr/>
        </p:nvPicPr>
        <p:blipFill>
          <a:blip r:embed="rId2"/>
          <a:stretch/>
        </p:blipFill>
        <p:spPr>
          <a:xfrm>
            <a:off x="376200" y="5726160"/>
            <a:ext cx="4016520" cy="1289160"/>
          </a:xfrm>
          <a:prstGeom prst="rect">
            <a:avLst/>
          </a:prstGeom>
          <a:ln w="0">
            <a:noFill/>
          </a:ln>
        </p:spPr>
      </p:pic>
      <p:cxnSp>
        <p:nvCxnSpPr>
          <p:cNvPr id="453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4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5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6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7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F4F0-97D0-4DC8-B930-4165A104563E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8" name="Text Box 33"/>
          <p:cNvSpPr/>
          <p:nvPr/>
        </p:nvSpPr>
        <p:spPr>
          <a:xfrm>
            <a:off x="5848200" y="3565440"/>
            <a:ext cx="4104000" cy="43200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59" name="Connecteur en angle 18"/>
          <p:cNvCxnSpPr>
            <a:stCxn id="458" idx="1"/>
          </p:cNvCxnSpPr>
          <p:nvPr/>
        </p:nvCxnSpPr>
        <p:spPr>
          <a:xfrm flipV="1" rot="10800000">
            <a:off x="3687120" y="3781080"/>
            <a:ext cx="2161080" cy="9374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0" name="Text Box 33"/>
          <p:cNvSpPr/>
          <p:nvPr/>
        </p:nvSpPr>
        <p:spPr>
          <a:xfrm>
            <a:off x="5848200" y="154944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1" name="Connecteur en angle 18"/>
          <p:cNvCxnSpPr>
            <a:stCxn id="460" idx="1"/>
          </p:cNvCxnSpPr>
          <p:nvPr/>
        </p:nvCxnSpPr>
        <p:spPr>
          <a:xfrm flipV="1" rot="10800000">
            <a:off x="3326760" y="2341080"/>
            <a:ext cx="2521440" cy="1153440"/>
          </a:xfrm>
          <a:prstGeom prst="bentConnector3">
            <a:avLst>
              <a:gd name="adj1" fmla="val 1984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2" name="Accolade fermante 33"/>
          <p:cNvSpPr/>
          <p:nvPr/>
        </p:nvSpPr>
        <p:spPr>
          <a:xfrm>
            <a:off x="2968560" y="327672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3" name="Text Box 33"/>
          <p:cNvSpPr/>
          <p:nvPr/>
        </p:nvSpPr>
        <p:spPr>
          <a:xfrm>
            <a:off x="584820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4" name="Connecteur en angle 18"/>
          <p:cNvCxnSpPr>
            <a:stCxn id="463" idx="1"/>
          </p:cNvCxnSpPr>
          <p:nvPr/>
        </p:nvCxnSpPr>
        <p:spPr>
          <a:xfrm flipV="1" rot="10800000">
            <a:off x="3615480" y="5185440"/>
            <a:ext cx="2232720" cy="611640"/>
          </a:xfrm>
          <a:prstGeom prst="bentConnector3">
            <a:avLst>
              <a:gd name="adj1" fmla="val 4999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5" name="Text Box 33"/>
          <p:cNvSpPr/>
          <p:nvPr/>
        </p:nvSpPr>
        <p:spPr>
          <a:xfrm>
            <a:off x="5848200" y="1117440"/>
            <a:ext cx="4104000" cy="27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ici sont celles du Kaliko TWH 200 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4335480" y="2341440"/>
          <a:ext cx="720720" cy="7207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97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33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4120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97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Picture 15" descr=""/>
          <p:cNvPicPr/>
          <p:nvPr/>
        </p:nvPicPr>
        <p:blipFill>
          <a:blip r:embed="rId1"/>
          <a:stretch/>
        </p:blipFill>
        <p:spPr>
          <a:xfrm>
            <a:off x="952560" y="4789440"/>
            <a:ext cx="7734240" cy="1800360"/>
          </a:xfrm>
          <a:prstGeom prst="rect">
            <a:avLst/>
          </a:prstGeom>
          <a:ln w="0">
            <a:noFill/>
          </a:ln>
        </p:spPr>
      </p:pic>
      <p:pic>
        <p:nvPicPr>
          <p:cNvPr id="468" name="Picture 14" descr=""/>
          <p:cNvPicPr/>
          <p:nvPr/>
        </p:nvPicPr>
        <p:blipFill>
          <a:blip r:embed="rId2"/>
          <a:stretch/>
        </p:blipFill>
        <p:spPr>
          <a:xfrm>
            <a:off x="3544920" y="3276720"/>
            <a:ext cx="6897600" cy="11937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3" descr=""/>
          <p:cNvPicPr/>
          <p:nvPr/>
        </p:nvPicPr>
        <p:blipFill>
          <a:blip r:embed="rId3"/>
          <a:stretch/>
        </p:blipFill>
        <p:spPr>
          <a:xfrm>
            <a:off x="519120" y="1836720"/>
            <a:ext cx="2171520" cy="1057320"/>
          </a:xfrm>
          <a:prstGeom prst="rect">
            <a:avLst/>
          </a:prstGeom>
          <a:ln w="0">
            <a:noFill/>
          </a:ln>
        </p:spPr>
      </p:pic>
      <p:cxnSp>
        <p:nvCxnSpPr>
          <p:cNvPr id="470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71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2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6943-A5F8-4F01-9880-E1DFC816ED84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4" name="Connecteur en angle 18"/>
          <p:cNvCxnSpPr/>
          <p:nvPr/>
        </p:nvCxnSpPr>
        <p:spPr>
          <a:xfrm>
            <a:off x="2679840" y="2628720"/>
            <a:ext cx="4304160" cy="64836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75" name="Connecteur en angle 18"/>
          <p:cNvCxnSpPr/>
          <p:nvPr/>
        </p:nvCxnSpPr>
        <p:spPr>
          <a:xfrm rot="5400000">
            <a:off x="-5760" y="3728880"/>
            <a:ext cx="2850480" cy="1081800"/>
          </a:xfrm>
          <a:prstGeom prst="bentConnector4">
            <a:avLst>
              <a:gd name="adj1" fmla="val 34116"/>
              <a:gd name="adj2" fmla="val 12113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6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ZoneTexte 12"/>
          <p:cNvSpPr/>
          <p:nvPr/>
        </p:nvSpPr>
        <p:spPr>
          <a:xfrm>
            <a:off x="4840200" y="6373800"/>
            <a:ext cx="505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6:28Z</dcterms:modified>
  <cp:revision>192</cp:revision>
  <dc:subject/>
  <dc:title>Présentation PowerPoint</dc:title>
</cp:coreProperties>
</file>