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3.png" ContentType="image/png"/>
  <Override PartName="/ppt/media/image10.jpeg" ContentType="image/jpeg"/>
  <Override PartName="/ppt/media/image9.png" ContentType="image/png"/>
  <Override PartName="/ppt/media/image8.png" ContentType="image/png"/>
  <Override PartName="/ppt/media/image6.wmf" ContentType="image/x-wmf"/>
  <Override PartName="/ppt/media/image11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5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57F3-5D71-49BA-87CA-77E1AFD24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E596-3371-45BF-93F1-16BCD89B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3CBA1-6375-49E2-8A41-04C987BD6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67848-97AE-4CA5-829C-ED4099E3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743B2-CCEB-430F-93FB-16B3F0C55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517033-37CE-4AF2-BAB0-816EFCF8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5EE897-7171-4263-9A86-F959CAAC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E65C65-1F51-4CAF-B833-26415666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0B1EC2-8FEB-4430-8CAD-3C4CC54B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703D6-E791-48AE-A6EA-1FE74FDEA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CDCD4F-057D-4739-B739-AB7F94CC5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CED6-67F0-4F2E-ACB6-4DE509014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AAAD-EAAE-42AD-8BA8-FABD099DD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C183-3DD3-4F9C-929C-11E16BA5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FFDFD-C49E-4609-8B4C-40E907178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A3450-5425-4D06-94A7-64F5CCCC8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564FE-B2D6-4EB5-A3D0-DF0CD506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A7B46-650B-44DB-9834-A6DDC707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6AFA1-57BD-44C8-A539-16CB66A4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D4E75-F0BF-4C3A-93E7-1375D371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3C68-DD09-4585-B2D6-EC8E3EFA8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5A08-D49E-4A10-B993-07171CC3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71F05-3CC3-4283-858A-397CCDBC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BCAB4-094F-4150-AB91-F1E1FB22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34AB6-B325-4BC8-9139-C13F7D7F4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90F44-AE59-4EC3-B3DA-7E25EE8B5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D9BC55-B166-4339-A4AA-11C738D30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E2BFA-21C4-4BD2-9E66-244B9CFF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2FF22-4929-4B8A-8581-71372495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C0FA2-C974-4CF7-866C-0065954D0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938E1-5BBB-4822-9EE1-320996B5F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6511-1EF0-4251-9995-998C3B323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94440-EB07-43AE-AE7F-3D7A80C9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73DB-7A4E-4453-B51D-00A9B029C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7ECE-7512-4B43-92C5-85CF0B60D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A4D38-CC40-4303-8AA9-E3BC9F5F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8E1C9-235E-4508-989E-DC8DAB7A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5159D-08F5-4721-B1DA-6A04FAA09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1FE5A-B447-433B-9889-202B9C43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E9CE7-7968-46E5-8AA1-94754ED11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5EACE-FA4D-4EC9-8808-3A0EBB8CB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2FF1B-D619-43EB-8041-C4FDFDFF9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056-7ADB-4D21-86D3-A97DAEFE0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1F018-75BA-406A-97D5-764B2543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FD7F6D-9C08-492B-931E-591E9760C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501CF-48E9-41F1-A4B6-AFE751C1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5BDA2-22D7-405C-9E9A-59C82950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E7B873-A966-4786-9C61-2D23B57D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CF747-CCCC-4EAB-A713-B1DC069C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DBA16-10EF-43B6-9096-1DC410846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60E8-9AB5-4D03-A100-B543AD4A5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9B7A7-CF69-4D5D-87C0-DC123BA5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1A47DB-70F5-4497-BFDB-F5D29B4EE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C472-6A8B-4037-9974-B8C70A62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79AC66-12BE-4998-9E81-C2774743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50BE9-2449-4631-9256-5BE34488C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DF402-4143-4440-8A62-8294B186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2BC57-8B24-45F3-8DD9-9753AB12E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5CD4C-C6AE-4F79-B937-45401E8E3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F1A91-8D7C-4946-B739-A77537C6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F1AB98-1007-4260-80A7-D4A48AB0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4E0B7-A263-45DB-A0D2-931ACB564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9C0A69-84DA-4B6C-A559-13D46F2A3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1B98C-C718-43EC-8447-6F45FF74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DB80-7870-4FFD-8215-AA0D7B418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E5E45-14C3-412C-A33B-E2515A668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7F8C3C-AE40-482B-B60A-8DE54F3C5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9F277-B40C-451B-949D-3B3CDF5F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C45D02-CF35-4432-874C-AFD539E5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EFA16D-B728-416A-ABAE-0952D48C4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6DA1C-8246-41C2-A5D3-8CD83ADE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956005-BA0D-482E-9759-5866BC40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B2009-A096-4B68-BF97-B24717F58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3F731-C9BB-42E5-9F8A-1DFB8203E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3DCFDC-3B95-4339-AF9E-A0008597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C3C-6783-476B-985A-D6990AF9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AEFEB-7082-46E1-8CAA-A42A376EF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41701C-81C9-40A1-9017-51D9B7699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D25267-C7A1-4989-A660-BCDF182A5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2772BA-A0C2-4731-90A5-73E45157E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FB29C-0B73-43B3-9018-210E18CD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03BCF-2AB1-4EA9-B749-EFBB84D2C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6409B-D856-465E-A7C2-9523F9A1C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FFFCF-E092-4E08-9A2C-AEFFC8E8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D448CA-E1D9-4494-B978-336B8075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1D8B08-D56A-407C-B656-971A86939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D438-C1C1-4EC1-8DA9-304D791D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302E51-EC8D-4DC5-A784-5FD505686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C2E71E-EFE8-4A95-A81D-D71A5248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5A9450-D55D-4C83-A0DB-CA0E4F471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BE00B5-1BFA-4984-B0BB-408D3D341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128CC-C8D5-4641-BC04-A94B5A42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FF78DC-2222-42C0-9892-256729FC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6A6A7-5726-4171-96BD-99761D171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45D12-4AF2-469E-A2EE-91D58CD6A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33B35A-C45D-4176-9D82-13A24EEC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52093-7B22-4DBB-8B9F-93E5A77E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F93BA-019F-4E23-B7A5-3B63F904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1EE13-67A0-4343-A418-5616208B8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2395E-F194-45DD-AE95-76240729D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14A3EB-DD6F-4FEA-95D7-89DF47078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7BE82-121E-45F5-AAA2-BFF026C1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34DB7-4929-497D-AC54-8A78D910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92C4E6-6D82-4FA0-82C4-D891847D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F3562-039D-4884-9EF7-42A193164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6B4297-6ECD-4ACB-9AF9-E68B4F9FE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5743F0-A4C4-4E1C-8387-8F0FF41E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9156AD-3509-4337-92D6-E51D8BB33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455D-76D7-442A-AF36-132362A0C575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B78B-601B-4255-BADD-8DDB9A23188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3179-A757-484A-8DC3-0992EAC0C9D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FFB2-B853-484D-AE2D-602DD67BD90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A789-E51D-471F-A36F-8F1D635B63B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9309-26B7-46AE-8442-F968EEE4B8A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58184-BD7F-4067-B289-79DF981E354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CE4E-E9D4-4A88-839D-565757497E3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E8BDE-8507-47BD-B3E8-D6329B049B5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hyperlink" Target="https://techniqueuniclima.com/" TargetMode="Externa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image" Target="../media/image19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2700"/>
            </a:br>
            <a:r>
              <a:rPr b="0" lang="fr-FR" sz="2700" spc="-1" strike="noStrike">
                <a:solidFill>
                  <a:srgbClr val="9796a3"/>
                </a:solidFill>
                <a:latin typeface="Avenir LT Std 55 Roman"/>
              </a:rPr>
              <a:t>CHAPPEE</a:t>
            </a:r>
            <a:endParaRPr b="0" lang="en-US" sz="27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0"/>
          <p:cNvSpPr/>
          <p:nvPr/>
        </p:nvSpPr>
        <p:spPr>
          <a:xfrm>
            <a:off x="933480" y="1582560"/>
            <a:ext cx="7934400" cy="45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CHAPPEE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La chaudière à condensation + CESI optimisé CHAPPEE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chaudière gaz à condensation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décrivant les caractéristiques de la boucle solaire (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u générateur «Chaudière Initia Plus HTE 2.29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objet boucle solaire «Capteur SOL 20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• </a:t>
            </a:r>
            <a:r>
              <a:rPr b="1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206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  <a:ea typeface="MS PGothic"/>
              </a:rPr>
              <a:t> création du système de stockage «Ballon Wsi 150 L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1" name="Object 16"/>
          <p:cNvGraphicFramePr/>
          <p:nvPr/>
        </p:nvGraphicFramePr>
        <p:xfrm>
          <a:off x="5014800" y="3429000"/>
          <a:ext cx="18432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4800" y="3429000"/>
                    <a:ext cx="18432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8"/>
          <p:cNvGraphicFramePr/>
          <p:nvPr/>
        </p:nvGraphicFramePr>
        <p:xfrm>
          <a:off x="2762280" y="4327560"/>
          <a:ext cx="13320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62280" y="4327560"/>
                    <a:ext cx="13320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83"/>
          <p:cNvSpPr/>
          <p:nvPr/>
        </p:nvSpPr>
        <p:spPr>
          <a:xfrm>
            <a:off x="94284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Rectangle 69"/>
          <p:cNvSpPr/>
          <p:nvPr/>
        </p:nvSpPr>
        <p:spPr>
          <a:xfrm>
            <a:off x="376236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019160" y="2427120"/>
          <a:ext cx="791676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16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Initia Plus HTE 2.29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Wsi 150 lit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SOL 20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Object 17"/>
          <p:cNvGraphicFramePr/>
          <p:nvPr/>
        </p:nvGraphicFramePr>
        <p:xfrm>
          <a:off x="6534000" y="385776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34000" y="385776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5873760" y="450360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7" descr=""/>
          <p:cNvPicPr/>
          <p:nvPr/>
        </p:nvPicPr>
        <p:blipFill>
          <a:blip r:embed="rId8"/>
          <a:stretch/>
        </p:blipFill>
        <p:spPr>
          <a:xfrm>
            <a:off x="7143840" y="3997440"/>
            <a:ext cx="2679480" cy="2620800"/>
          </a:xfrm>
          <a:prstGeom prst="rect">
            <a:avLst/>
          </a:prstGeom>
          <a:ln cap="sq"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2" name="Picture 27" descr=""/>
          <p:cNvPicPr/>
          <p:nvPr/>
        </p:nvPicPr>
        <p:blipFill>
          <a:blip r:embed="rId9"/>
          <a:stretch/>
        </p:blipFill>
        <p:spPr>
          <a:xfrm>
            <a:off x="8256600" y="4502160"/>
            <a:ext cx="1190520" cy="1810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"/>
          <p:cNvPicPr/>
          <p:nvPr/>
        </p:nvPicPr>
        <p:blipFill>
          <a:blip r:embed="rId10"/>
          <a:stretch/>
        </p:blipFill>
        <p:spPr>
          <a:xfrm>
            <a:off x="8616960" y="4502160"/>
            <a:ext cx="1190520" cy="181080"/>
          </a:xfrm>
          <a:prstGeom prst="rect">
            <a:avLst/>
          </a:prstGeom>
          <a:ln w="0">
            <a:noFill/>
          </a:ln>
        </p:spPr>
      </p:pic>
      <p:sp>
        <p:nvSpPr>
          <p:cNvPr id="414" name="ZoneTexte 15"/>
          <p:cNvSpPr/>
          <p:nvPr/>
        </p:nvSpPr>
        <p:spPr>
          <a:xfrm>
            <a:off x="8223120" y="4502160"/>
            <a:ext cx="1441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b1af"/>
                </a:solidFill>
                <a:latin typeface="45 Helvetica Light"/>
              </a:rPr>
              <a:t>Balon Wsi 150 L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5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EB70-879A-48AF-8D7C-B6BA05CFFE8D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7" name="ZoneTexte 15"/>
          <p:cNvSpPr/>
          <p:nvPr/>
        </p:nvSpPr>
        <p:spPr>
          <a:xfrm>
            <a:off x="9520200" y="4718160"/>
            <a:ext cx="289080" cy="28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2.29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6" descr="LaCie Disk:1 GRAPHISME:ELEMENTS_OK_FICHES_BET_PRODUIT:F3_BBS:F3_B_1.jpg"/>
          <p:cNvPicPr/>
          <p:nvPr/>
        </p:nvPicPr>
        <p:blipFill>
          <a:blip r:embed="rId1"/>
          <a:stretch/>
        </p:blipFill>
        <p:spPr>
          <a:xfrm>
            <a:off x="685800" y="2052720"/>
            <a:ext cx="5308560" cy="23810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19" name="AutoShape 24"/>
          <p:cNvCxnSpPr/>
          <p:nvPr/>
        </p:nvCxnSpPr>
        <p:spPr>
          <a:xfrm flipH="1" rot="16200000">
            <a:off x="6477120" y="34239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420" name="Freeform 25"/>
          <p:cNvSpPr/>
          <p:nvPr/>
        </p:nvSpPr>
        <p:spPr>
          <a:xfrm>
            <a:off x="5562720" y="3114720"/>
            <a:ext cx="2361960" cy="504720"/>
          </a:xfrm>
          <a:custGeom>
            <a:avLst/>
            <a:gdLst>
              <a:gd name="textAreaLeft" fmla="*/ 0 w 2361960"/>
              <a:gd name="textAreaRight" fmla="*/ 2362320 w 23619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6640560" y="3345120"/>
            <a:ext cx="34354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2" name="Text Box 37"/>
          <p:cNvSpPr/>
          <p:nvPr/>
        </p:nvSpPr>
        <p:spPr>
          <a:xfrm>
            <a:off x="3086280" y="418608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45 Helvetica Light"/>
              </a:rPr>
              <a:t>55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23" name="Picture 17" descr=""/>
          <p:cNvPicPr/>
          <p:nvPr/>
        </p:nvPicPr>
        <p:blipFill>
          <a:blip r:embed="rId2"/>
          <a:stretch/>
        </p:blipFill>
        <p:spPr>
          <a:xfrm>
            <a:off x="3111480" y="2286000"/>
            <a:ext cx="838080" cy="181080"/>
          </a:xfrm>
          <a:prstGeom prst="rect">
            <a:avLst/>
          </a:prstGeom>
          <a:ln w="0">
            <a:noFill/>
          </a:ln>
        </p:spPr>
      </p:pic>
      <p:sp>
        <p:nvSpPr>
          <p:cNvPr id="424" name="Espace réservé du texte 4"/>
          <p:cNvSpPr/>
          <p:nvPr/>
        </p:nvSpPr>
        <p:spPr>
          <a:xfrm>
            <a:off x="2027160" y="260280"/>
            <a:ext cx="7116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CB50-D2E9-440B-AED5-B147A635D784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109" descr="LaCie Disk:1 GRAPHISME:ELEMENTS_OK_FICHES_BET_PRODUIT:F3_BBS:F3_B_2.jpg"/>
          <p:cNvPicPr/>
          <p:nvPr/>
        </p:nvPicPr>
        <p:blipFill>
          <a:blip r:embed="rId1"/>
          <a:stretch/>
        </p:blipFill>
        <p:spPr>
          <a:xfrm>
            <a:off x="808200" y="1523880"/>
            <a:ext cx="4647960" cy="15606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7" name="Picture 110" descr="LaCie Disk:1 GRAPHISME:ELEMENTS_OK_FICHES_BET_PRODUIT:F3_BBS:F3_B_3.jpg"/>
          <p:cNvPicPr/>
          <p:nvPr/>
        </p:nvPicPr>
        <p:blipFill>
          <a:blip r:embed="rId2"/>
          <a:stretch/>
        </p:blipFill>
        <p:spPr>
          <a:xfrm>
            <a:off x="808200" y="3276720"/>
            <a:ext cx="464796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8" name="Text Box 7"/>
          <p:cNvSpPr/>
          <p:nvPr/>
        </p:nvSpPr>
        <p:spPr>
          <a:xfrm>
            <a:off x="6959520" y="2184480"/>
            <a:ext cx="1881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9" name="AutoShape 8"/>
          <p:cNvCxnSpPr>
            <a:stCxn id="430" idx="3"/>
          </p:cNvCxnSpPr>
          <p:nvPr/>
        </p:nvCxnSpPr>
        <p:spPr>
          <a:xfrm flipH="1" flipV="1">
            <a:off x="6713280" y="1792440"/>
            <a:ext cx="3440880" cy="1078200"/>
          </a:xfrm>
          <a:prstGeom prst="bentConnector3">
            <a:avLst>
              <a:gd name="adj1" fmla="val -6644"/>
            </a:avLst>
          </a:prstGeom>
          <a:ln w="0">
            <a:noFill/>
          </a:ln>
        </p:spPr>
      </p:cxnSp>
      <p:cxnSp>
        <p:nvCxnSpPr>
          <p:cNvPr id="431" name="AutoShape 9"/>
          <p:cNvCxnSpPr>
            <a:stCxn id="430" idx="3"/>
          </p:cNvCxnSpPr>
          <p:nvPr/>
        </p:nvCxnSpPr>
        <p:spPr>
          <a:xfrm flipH="1" flipV="1">
            <a:off x="6713280" y="1792440"/>
            <a:ext cx="3440880" cy="1078200"/>
          </a:xfrm>
          <a:prstGeom prst="bentConnector3">
            <a:avLst>
              <a:gd name="adj1" fmla="val -6644"/>
            </a:avLst>
          </a:prstGeom>
          <a:ln w="0">
            <a:noFill/>
          </a:ln>
        </p:spPr>
      </p:cxnSp>
      <p:cxnSp>
        <p:nvCxnSpPr>
          <p:cNvPr id="432" name="AutoShape 10"/>
          <p:cNvCxnSpPr>
            <a:stCxn id="430" idx="3"/>
          </p:cNvCxnSpPr>
          <p:nvPr/>
        </p:nvCxnSpPr>
        <p:spPr>
          <a:xfrm flipH="1" flipV="1">
            <a:off x="6533280" y="2715840"/>
            <a:ext cx="3620520" cy="154800"/>
          </a:xfrm>
          <a:prstGeom prst="bentConnector5">
            <a:avLst>
              <a:gd name="adj1" fmla="val -6314"/>
              <a:gd name="adj2" fmla="val -399067"/>
              <a:gd name="adj3" fmla="val 97533"/>
            </a:avLst>
          </a:prstGeom>
          <a:ln w="0">
            <a:noFill/>
          </a:ln>
        </p:spPr>
      </p:cxnSp>
      <p:cxnSp>
        <p:nvCxnSpPr>
          <p:cNvPr id="433" name="AutoShape 12"/>
          <p:cNvCxnSpPr/>
          <p:nvPr/>
        </p:nvCxnSpPr>
        <p:spPr>
          <a:xfrm flipH="1" flipV="1" rot="10800000">
            <a:off x="70200" y="380016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4" name="Freeform 25"/>
          <p:cNvSpPr/>
          <p:nvPr/>
        </p:nvSpPr>
        <p:spPr>
          <a:xfrm flipV="1">
            <a:off x="4479840" y="2556360"/>
            <a:ext cx="5486400" cy="862200"/>
          </a:xfrm>
          <a:custGeom>
            <a:avLst/>
            <a:gdLst>
              <a:gd name="textAreaLeft" fmla="*/ 0 w 5486400"/>
              <a:gd name="textAreaRight" fmla="*/ 5486760 w 5486400"/>
              <a:gd name="textAreaTop" fmla="*/ -360 h 862200"/>
              <a:gd name="textAreaBottom" fmla="*/ 862200 h 862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0" name="Text Box 18"/>
          <p:cNvSpPr/>
          <p:nvPr/>
        </p:nvSpPr>
        <p:spPr>
          <a:xfrm>
            <a:off x="6711840" y="2486160"/>
            <a:ext cx="344196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5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2027160" y="2057400"/>
            <a:ext cx="865440" cy="1689120"/>
          </a:xfrm>
          <a:prstGeom prst="rect">
            <a:avLst/>
          </a:prstGeom>
          <a:ln w="0">
            <a:noFill/>
          </a:ln>
        </p:spPr>
      </p:pic>
      <p:sp>
        <p:nvSpPr>
          <p:cNvPr id="436" name="Text Box 111"/>
          <p:cNvSpPr/>
          <p:nvPr/>
        </p:nvSpPr>
        <p:spPr>
          <a:xfrm>
            <a:off x="3150000" y="3562200"/>
            <a:ext cx="329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0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Text Box 112"/>
          <p:cNvSpPr/>
          <p:nvPr/>
        </p:nvSpPr>
        <p:spPr>
          <a:xfrm>
            <a:off x="3150360" y="377496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80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8" name="Text Box 113"/>
          <p:cNvSpPr/>
          <p:nvPr/>
        </p:nvSpPr>
        <p:spPr>
          <a:xfrm>
            <a:off x="3119760" y="441972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9" name="Text Box 114"/>
          <p:cNvSpPr/>
          <p:nvPr/>
        </p:nvSpPr>
        <p:spPr>
          <a:xfrm>
            <a:off x="3132720" y="462744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0" name="Text Box 115"/>
          <p:cNvSpPr/>
          <p:nvPr/>
        </p:nvSpPr>
        <p:spPr>
          <a:xfrm>
            <a:off x="3153600" y="484020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6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116"/>
          <p:cNvSpPr/>
          <p:nvPr/>
        </p:nvSpPr>
        <p:spPr>
          <a:xfrm>
            <a:off x="3132720" y="502920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117"/>
          <p:cNvSpPr/>
          <p:nvPr/>
        </p:nvSpPr>
        <p:spPr>
          <a:xfrm>
            <a:off x="3152520" y="525780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.8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118"/>
          <p:cNvSpPr/>
          <p:nvPr/>
        </p:nvSpPr>
        <p:spPr>
          <a:xfrm>
            <a:off x="3135960" y="548640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4" name="Text Box 120"/>
          <p:cNvSpPr/>
          <p:nvPr/>
        </p:nvSpPr>
        <p:spPr>
          <a:xfrm>
            <a:off x="3151440" y="570384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Text Box 121"/>
          <p:cNvSpPr/>
          <p:nvPr/>
        </p:nvSpPr>
        <p:spPr>
          <a:xfrm>
            <a:off x="3151440" y="590076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2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22"/>
          <p:cNvSpPr/>
          <p:nvPr/>
        </p:nvSpPr>
        <p:spPr>
          <a:xfrm>
            <a:off x="3152160" y="6107040"/>
            <a:ext cx="299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1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23"/>
          <p:cNvSpPr/>
          <p:nvPr/>
        </p:nvSpPr>
        <p:spPr>
          <a:xfrm>
            <a:off x="3125880" y="632448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24"/>
          <p:cNvSpPr/>
          <p:nvPr/>
        </p:nvSpPr>
        <p:spPr>
          <a:xfrm>
            <a:off x="3125880" y="655308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124"/>
          <p:cNvSpPr/>
          <p:nvPr/>
        </p:nvSpPr>
        <p:spPr>
          <a:xfrm>
            <a:off x="3119760" y="672156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0" name="Picture 36" descr=""/>
          <p:cNvPicPr/>
          <p:nvPr/>
        </p:nvPicPr>
        <p:blipFill>
          <a:blip r:embed="rId4"/>
          <a:stretch/>
        </p:blipFill>
        <p:spPr>
          <a:xfrm>
            <a:off x="3111480" y="1765440"/>
            <a:ext cx="1542960" cy="1998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7" descr=""/>
          <p:cNvPicPr/>
          <p:nvPr/>
        </p:nvPicPr>
        <p:blipFill>
          <a:blip r:embed="rId5"/>
          <a:stretch/>
        </p:blipFill>
        <p:spPr>
          <a:xfrm>
            <a:off x="3090960" y="2222640"/>
            <a:ext cx="2266920" cy="19044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18"/>
          <p:cNvSpPr/>
          <p:nvPr/>
        </p:nvSpPr>
        <p:spPr>
          <a:xfrm>
            <a:off x="6784920" y="159696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6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2525-302A-4E1D-8E1D-46176DCD8145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ZoneTexte 40"/>
          <p:cNvSpPr/>
          <p:nvPr/>
        </p:nvSpPr>
        <p:spPr>
          <a:xfrm>
            <a:off x="4408560" y="1836720"/>
            <a:ext cx="287280" cy="144360"/>
          </a:xfrm>
          <a:prstGeom prst="rect">
            <a:avLst/>
          </a:prstGeom>
          <a:solidFill>
            <a:srgbClr val="94d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45 Helvetica Light"/>
              </a:rPr>
              <a:t>2.29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879480" y="1909800"/>
            <a:ext cx="5203800" cy="460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57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5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8"/>
          <p:cNvSpPr/>
          <p:nvPr/>
        </p:nvSpPr>
        <p:spPr>
          <a:xfrm>
            <a:off x="7031160" y="2646360"/>
            <a:ext cx="18414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59" name="AutoShape 9"/>
          <p:cNvCxnSpPr/>
          <p:nvPr/>
        </p:nvCxnSpPr>
        <p:spPr>
          <a:xfrm flipV="1" rot="16200000">
            <a:off x="6656760" y="67168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60" name="AutoShape 10"/>
          <p:cNvCxnSpPr/>
          <p:nvPr/>
        </p:nvCxnSpPr>
        <p:spPr>
          <a:xfrm flipV="1" rot="16200000">
            <a:off x="6656760" y="67168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61" name="AutoShape 11"/>
          <p:cNvCxnSpPr/>
          <p:nvPr/>
        </p:nvCxnSpPr>
        <p:spPr>
          <a:xfrm flipH="1" rot="16200000">
            <a:off x="6670800" y="328104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62" name="AutoShape 12"/>
          <p:cNvCxnSpPr/>
          <p:nvPr/>
        </p:nvCxnSpPr>
        <p:spPr>
          <a:xfrm flipH="1" flipV="1" rot="10800000">
            <a:off x="143280" y="385956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3" name="Freeform 24"/>
          <p:cNvSpPr/>
          <p:nvPr/>
        </p:nvSpPr>
        <p:spPr>
          <a:xfrm>
            <a:off x="5680080" y="3433680"/>
            <a:ext cx="2590920" cy="5335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25"/>
          <p:cNvSpPr/>
          <p:nvPr/>
        </p:nvSpPr>
        <p:spPr>
          <a:xfrm>
            <a:off x="6850080" y="3586320"/>
            <a:ext cx="33685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29"/>
          <p:cNvSpPr/>
          <p:nvPr/>
        </p:nvSpPr>
        <p:spPr>
          <a:xfrm>
            <a:off x="3317760" y="29764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,89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45"/>
          <p:cNvSpPr/>
          <p:nvPr/>
        </p:nvSpPr>
        <p:spPr>
          <a:xfrm>
            <a:off x="3317760" y="32050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46"/>
          <p:cNvSpPr/>
          <p:nvPr/>
        </p:nvSpPr>
        <p:spPr>
          <a:xfrm>
            <a:off x="3317760" y="38908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Text Box 47"/>
          <p:cNvSpPr/>
          <p:nvPr/>
        </p:nvSpPr>
        <p:spPr>
          <a:xfrm>
            <a:off x="3317760" y="41194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48"/>
          <p:cNvSpPr/>
          <p:nvPr/>
        </p:nvSpPr>
        <p:spPr>
          <a:xfrm>
            <a:off x="3317760" y="43480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1,7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49"/>
          <p:cNvSpPr/>
          <p:nvPr/>
        </p:nvSpPr>
        <p:spPr>
          <a:xfrm>
            <a:off x="3317760" y="45766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72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1" name="Text Box 50"/>
          <p:cNvSpPr/>
          <p:nvPr/>
        </p:nvSpPr>
        <p:spPr>
          <a:xfrm>
            <a:off x="3317760" y="49579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8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2" name="Text Box 51"/>
          <p:cNvSpPr/>
          <p:nvPr/>
        </p:nvSpPr>
        <p:spPr>
          <a:xfrm>
            <a:off x="3317760" y="6040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3" name="Text Box 52"/>
          <p:cNvSpPr/>
          <p:nvPr/>
        </p:nvSpPr>
        <p:spPr>
          <a:xfrm>
            <a:off x="3317760" y="62690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3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4" name="Text Box 25"/>
          <p:cNvSpPr/>
          <p:nvPr/>
        </p:nvSpPr>
        <p:spPr>
          <a:xfrm>
            <a:off x="6850080" y="1909800"/>
            <a:ext cx="336852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Freeform 24"/>
          <p:cNvSpPr/>
          <p:nvPr/>
        </p:nvSpPr>
        <p:spPr>
          <a:xfrm>
            <a:off x="5680080" y="297648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Text Box 25"/>
          <p:cNvSpPr/>
          <p:nvPr/>
        </p:nvSpPr>
        <p:spPr>
          <a:xfrm>
            <a:off x="6850080" y="2671920"/>
            <a:ext cx="33685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Freeform 24"/>
          <p:cNvSpPr/>
          <p:nvPr/>
        </p:nvSpPr>
        <p:spPr>
          <a:xfrm>
            <a:off x="5680080" y="373860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Text Box 25"/>
          <p:cNvSpPr/>
          <p:nvPr/>
        </p:nvSpPr>
        <p:spPr>
          <a:xfrm>
            <a:off x="6850080" y="4576680"/>
            <a:ext cx="33685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Freeform 24"/>
          <p:cNvSpPr/>
          <p:nvPr/>
        </p:nvSpPr>
        <p:spPr>
          <a:xfrm>
            <a:off x="5680080" y="396720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25"/>
          <p:cNvSpPr/>
          <p:nvPr/>
        </p:nvSpPr>
        <p:spPr>
          <a:xfrm>
            <a:off x="6850080" y="5398920"/>
            <a:ext cx="33685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Freeform 61"/>
          <p:cNvSpPr/>
          <p:nvPr/>
        </p:nvSpPr>
        <p:spPr>
          <a:xfrm>
            <a:off x="5527800" y="5532480"/>
            <a:ext cx="2057400" cy="1101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1296" h="768">
                <a:moveTo>
                  <a:pt x="1296" y="768"/>
                </a:moveTo>
                <a:lnTo>
                  <a:pt x="672" y="768"/>
                </a:lnTo>
                <a:lnTo>
                  <a:pt x="672" y="384"/>
                </a:lnTo>
                <a:lnTo>
                  <a:pt x="672" y="336"/>
                </a:lnTo>
                <a:lnTo>
                  <a:pt x="288" y="336"/>
                </a:ln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6850080" y="6329520"/>
            <a:ext cx="33685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62"/>
          <p:cNvSpPr/>
          <p:nvPr/>
        </p:nvSpPr>
        <p:spPr>
          <a:xfrm>
            <a:off x="4064040" y="621504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AutoShape 65"/>
          <p:cNvSpPr/>
          <p:nvPr/>
        </p:nvSpPr>
        <p:spPr>
          <a:xfrm>
            <a:off x="5146560" y="5091120"/>
            <a:ext cx="152640" cy="87804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878040"/>
              <a:gd name="textAreaBottom" fmla="*/ 866160 h 878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69"/>
                  <a:pt x="10800" y="937"/>
                </a:cubicBezTo>
                <a:lnTo>
                  <a:pt x="10800" y="9863"/>
                </a:lnTo>
                <a:cubicBezTo>
                  <a:pt x="10800" y="10332"/>
                  <a:pt x="16200" y="10800"/>
                  <a:pt x="21600" y="10800"/>
                </a:cubicBezTo>
                <a:cubicBezTo>
                  <a:pt x="16200" y="10800"/>
                  <a:pt x="10800" y="11269"/>
                  <a:pt x="10800" y="11737"/>
                </a:cubicBezTo>
                <a:lnTo>
                  <a:pt x="10800" y="20663"/>
                </a:lnTo>
                <a:cubicBezTo>
                  <a:pt x="10800" y="21132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85" name="Picture 35" descr=""/>
          <p:cNvPicPr/>
          <p:nvPr/>
        </p:nvPicPr>
        <p:blipFill>
          <a:blip r:embed="rId2"/>
          <a:stretch/>
        </p:blipFill>
        <p:spPr>
          <a:xfrm>
            <a:off x="3292560" y="2252520"/>
            <a:ext cx="2028600" cy="1908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5" descr=""/>
          <p:cNvPicPr/>
          <p:nvPr/>
        </p:nvPicPr>
        <p:blipFill>
          <a:blip r:embed="rId3"/>
          <a:stretch/>
        </p:blipFill>
        <p:spPr>
          <a:xfrm>
            <a:off x="3305160" y="5824440"/>
            <a:ext cx="866880" cy="171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35" descr=""/>
          <p:cNvPicPr/>
          <p:nvPr/>
        </p:nvPicPr>
        <p:blipFill>
          <a:blip r:embed="rId4"/>
          <a:stretch/>
        </p:blipFill>
        <p:spPr>
          <a:xfrm>
            <a:off x="3591000" y="5824440"/>
            <a:ext cx="866880" cy="171720"/>
          </a:xfrm>
          <a:prstGeom prst="rect">
            <a:avLst/>
          </a:prstGeom>
          <a:ln w="0">
            <a:noFill/>
          </a:ln>
        </p:spPr>
      </p:pic>
      <p:sp>
        <p:nvSpPr>
          <p:cNvPr id="488" name="Text Box 50"/>
          <p:cNvSpPr/>
          <p:nvPr/>
        </p:nvSpPr>
        <p:spPr>
          <a:xfrm>
            <a:off x="3305160" y="5780160"/>
            <a:ext cx="198108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Capteur SOL 200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E3DC8-11A5-4C09-9A03-29FFD8473725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736560" y="371016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92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787320" y="1652760"/>
            <a:ext cx="4737240" cy="1865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93" name="Text Box 9"/>
          <p:cNvSpPr/>
          <p:nvPr/>
        </p:nvSpPr>
        <p:spPr>
          <a:xfrm>
            <a:off x="6888240" y="2389320"/>
            <a:ext cx="1881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94" name="AutoShape 12"/>
          <p:cNvCxnSpPr/>
          <p:nvPr/>
        </p:nvCxnSpPr>
        <p:spPr>
          <a:xfrm flipH="1" rot="16200000">
            <a:off x="6527880" y="30240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95" name="AutoShape 13"/>
          <p:cNvCxnSpPr/>
          <p:nvPr/>
        </p:nvCxnSpPr>
        <p:spPr>
          <a:xfrm flipH="1" flipV="1" rot="10800000">
            <a:off x="70200" y="3851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96" name="Text Box 22"/>
          <p:cNvSpPr/>
          <p:nvPr/>
        </p:nvSpPr>
        <p:spPr>
          <a:xfrm>
            <a:off x="6707160" y="3557520"/>
            <a:ext cx="344160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Freeform 23"/>
          <p:cNvSpPr/>
          <p:nvPr/>
        </p:nvSpPr>
        <p:spPr>
          <a:xfrm flipV="1">
            <a:off x="5156280" y="206316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8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2031840" y="229068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499" name="Freeform 24"/>
          <p:cNvSpPr/>
          <p:nvPr/>
        </p:nvSpPr>
        <p:spPr>
          <a:xfrm flipV="1">
            <a:off x="5156280" y="4091040"/>
            <a:ext cx="3657600" cy="4968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0" name="Text Box 25"/>
          <p:cNvSpPr/>
          <p:nvPr/>
        </p:nvSpPr>
        <p:spPr>
          <a:xfrm>
            <a:off x="6707160" y="3786120"/>
            <a:ext cx="34416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Freeform 24"/>
          <p:cNvSpPr/>
          <p:nvPr/>
        </p:nvSpPr>
        <p:spPr>
          <a:xfrm flipV="1">
            <a:off x="5156280" y="2382480"/>
            <a:ext cx="3657600" cy="38088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25"/>
          <p:cNvSpPr/>
          <p:nvPr/>
        </p:nvSpPr>
        <p:spPr>
          <a:xfrm>
            <a:off x="6707160" y="2001960"/>
            <a:ext cx="344160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39"/>
          <p:cNvSpPr/>
          <p:nvPr/>
        </p:nvSpPr>
        <p:spPr>
          <a:xfrm>
            <a:off x="2976480" y="4508640"/>
            <a:ext cx="352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 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40"/>
          <p:cNvSpPr/>
          <p:nvPr/>
        </p:nvSpPr>
        <p:spPr>
          <a:xfrm>
            <a:off x="3021480" y="4718160"/>
            <a:ext cx="794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jus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41"/>
          <p:cNvSpPr/>
          <p:nvPr/>
        </p:nvSpPr>
        <p:spPr>
          <a:xfrm>
            <a:off x="2968560" y="4933800"/>
            <a:ext cx="19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,5 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Text Box 42"/>
          <p:cNvSpPr/>
          <p:nvPr/>
        </p:nvSpPr>
        <p:spPr>
          <a:xfrm>
            <a:off x="3017880" y="519264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0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Text Box 43"/>
          <p:cNvSpPr/>
          <p:nvPr/>
        </p:nvSpPr>
        <p:spPr>
          <a:xfrm>
            <a:off x="2946240" y="538632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Text Box 44"/>
          <p:cNvSpPr/>
          <p:nvPr/>
        </p:nvSpPr>
        <p:spPr>
          <a:xfrm>
            <a:off x="2981160" y="563868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0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Text Box 46"/>
          <p:cNvSpPr/>
          <p:nvPr/>
        </p:nvSpPr>
        <p:spPr>
          <a:xfrm>
            <a:off x="2976840" y="588024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0" name="Picture 35" descr=""/>
          <p:cNvPicPr/>
          <p:nvPr/>
        </p:nvPicPr>
        <p:blipFill>
          <a:blip r:embed="rId4"/>
          <a:stretch/>
        </p:blipFill>
        <p:spPr>
          <a:xfrm>
            <a:off x="2938320" y="2498760"/>
            <a:ext cx="1305000" cy="152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7" descr=""/>
          <p:cNvPicPr/>
          <p:nvPr/>
        </p:nvPicPr>
        <p:blipFill>
          <a:blip r:embed="rId5"/>
          <a:stretch/>
        </p:blipFill>
        <p:spPr>
          <a:xfrm>
            <a:off x="2946240" y="2922480"/>
            <a:ext cx="1609920" cy="1526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35" descr=""/>
          <p:cNvPicPr/>
          <p:nvPr/>
        </p:nvPicPr>
        <p:blipFill>
          <a:blip r:embed="rId6"/>
          <a:stretch/>
        </p:blipFill>
        <p:spPr>
          <a:xfrm>
            <a:off x="2944800" y="1895400"/>
            <a:ext cx="866880" cy="1713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35" descr=""/>
          <p:cNvPicPr/>
          <p:nvPr/>
        </p:nvPicPr>
        <p:blipFill>
          <a:blip r:embed="rId7"/>
          <a:stretch/>
        </p:blipFill>
        <p:spPr>
          <a:xfrm>
            <a:off x="3664080" y="1922400"/>
            <a:ext cx="866520" cy="17136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35" descr=""/>
          <p:cNvPicPr/>
          <p:nvPr/>
        </p:nvPicPr>
        <p:blipFill>
          <a:blip r:embed="rId8"/>
          <a:stretch/>
        </p:blipFill>
        <p:spPr>
          <a:xfrm>
            <a:off x="2946240" y="2282760"/>
            <a:ext cx="866880" cy="17136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35" descr=""/>
          <p:cNvPicPr/>
          <p:nvPr/>
        </p:nvPicPr>
        <p:blipFill>
          <a:blip r:embed="rId9"/>
          <a:stretch/>
        </p:blipFill>
        <p:spPr>
          <a:xfrm>
            <a:off x="3448080" y="2282760"/>
            <a:ext cx="866880" cy="17136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1"/>
          <p:cNvSpPr/>
          <p:nvPr/>
        </p:nvSpPr>
        <p:spPr>
          <a:xfrm>
            <a:off x="2939400" y="1922400"/>
            <a:ext cx="784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Wsi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7" name="Text Box 41"/>
          <p:cNvSpPr/>
          <p:nvPr/>
        </p:nvSpPr>
        <p:spPr>
          <a:xfrm>
            <a:off x="2962440" y="2282760"/>
            <a:ext cx="784080" cy="1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Ballon Wsi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8" name="Espace réservé du texte 4"/>
          <p:cNvSpPr/>
          <p:nvPr/>
        </p:nvSpPr>
        <p:spPr>
          <a:xfrm>
            <a:off x="2027160" y="287280"/>
            <a:ext cx="7925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Stockage SOLAR Wsi 150 L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E997-4557-4CCB-B6A4-7F7D8543429A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20" descr=""/>
          <p:cNvPicPr/>
          <p:nvPr/>
        </p:nvPicPr>
        <p:blipFill>
          <a:blip r:embed="rId1"/>
          <a:stretch/>
        </p:blipFill>
        <p:spPr>
          <a:xfrm>
            <a:off x="808200" y="255744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9"/>
          <p:cNvSpPr/>
          <p:nvPr/>
        </p:nvSpPr>
        <p:spPr>
          <a:xfrm>
            <a:off x="6831000" y="2629080"/>
            <a:ext cx="1800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22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23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24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25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Freeform 23"/>
          <p:cNvSpPr/>
          <p:nvPr/>
        </p:nvSpPr>
        <p:spPr>
          <a:xfrm flipV="1">
            <a:off x="5249880" y="2529000"/>
            <a:ext cx="1600200" cy="86184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24"/>
          <p:cNvSpPr/>
          <p:nvPr/>
        </p:nvSpPr>
        <p:spPr>
          <a:xfrm>
            <a:off x="808200" y="2052720"/>
            <a:ext cx="576072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8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536920" y="210348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38"/>
          <p:cNvSpPr/>
          <p:nvPr/>
        </p:nvSpPr>
        <p:spPr>
          <a:xfrm>
            <a:off x="3687840" y="2773440"/>
            <a:ext cx="149364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0" name="Text Box 40"/>
          <p:cNvSpPr/>
          <p:nvPr/>
        </p:nvSpPr>
        <p:spPr>
          <a:xfrm>
            <a:off x="3760920" y="2989440"/>
            <a:ext cx="6001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21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1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15445-D346-4B3D-B4EE-6C33770A3D30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3" name="Text Box 40"/>
          <p:cNvSpPr/>
          <p:nvPr/>
        </p:nvSpPr>
        <p:spPr>
          <a:xfrm>
            <a:off x="3832200" y="2557440"/>
            <a:ext cx="6001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52:55Z</dcterms:modified>
  <cp:revision>115</cp:revision>
  <dc:subject/>
  <dc:title>Présentation PowerPoint</dc:title>
</cp:coreProperties>
</file>