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6.wmf" ContentType="image/x-wmf"/>
  <Override PartName="/ppt/media/image7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6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4277-BB60-41E1-9324-1CEB90E2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D175-6548-41DA-90FE-8F8E1433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91C0E0-1C6A-4FAA-A266-25435740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99E25-9523-44F1-93AC-73B9C5AC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52DF8-2A3E-429B-A0A2-B06063F19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C1D83D-A8B2-4797-8C5D-DDB604EF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703226-71C0-4AA3-98B6-11F36282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DA23E7-89F9-4D48-B39A-B168544B6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240DB-DC5D-4167-B467-9D3A01D8F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C14612-7FEE-4630-8E5B-5177F8B9D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53772-F41A-41FE-86C1-0FAAED5A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D5F0C-F5B1-46F3-9318-15E5096C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BFD0-A458-4656-9173-C378B4808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EBFFD-9EA6-4BB2-80EF-CE2903752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316F-FB64-4305-A97D-EFC2195C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6D6E7-B690-490D-894B-A1101C2E5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32E2-B86A-4ED6-97E1-79CCEFD8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706A8-E98A-4A99-BAAF-7260B6AC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1E99-C56F-4A51-BAEC-2A371F846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AC1AD-887F-4076-A703-EF356CFD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07C6-9DFD-4A8D-9DA8-3ECD0384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1788-82B2-45F9-9D0A-D48B29E9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069CA-F06A-4D95-ACF8-A1C86A41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4BAFB-1A98-4B38-AFC4-54C0F47AC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155FC-D27F-47A6-95B8-47E871EA3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BA98F-DEE5-4507-9115-5481918C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9B5128-94DE-42E2-93AD-A05497F43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9DCA3-2113-4988-AAD7-195BED3E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2B824-B766-4205-999E-907D7AFC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E0701-F2F5-4B1E-AE34-9E27698B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64F32-B048-4FF5-9AEA-D81819E1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FF76-57AD-4E2E-87C7-5804BE26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659546-8F5B-46D9-B37D-4CF8CE45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D373F-6317-4C4E-96E9-643DE79E3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16234-4BEB-4C98-AE35-3581E4F47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DAE40-11ED-42FC-87AE-81B08294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3851F-B9B3-4E6B-B4CC-629E3928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AF3BB-6FE5-44A3-A159-A960D45A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5A527-4AAA-48A5-9355-0A8EF86A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0B436-E279-47B4-9283-1D8D16FBC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53698-5A56-4C1C-94A1-7048B107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E55C9-52E0-4F96-8776-314CD677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038A-804D-4238-8B25-B08265E7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40058-2C1A-4820-B2AB-BE17789A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59DB6-6BF0-4C97-AC18-A9C0A9EC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ECEB4-5D3A-4D95-BD7A-3A3C40BC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93C036-3C80-4016-8E6C-834B92221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4C6C5-E519-44B4-BCA8-5C411856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49F14-107E-4EE8-877D-55AB1EB6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6844A-63EE-4A09-BB12-F66EB8C84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D028A-DDC9-4866-9AB8-76355AC1D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1F3ECF-4E3E-4344-9310-CF9D6820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769FD-FEB5-4420-B4C6-50EC6CD01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58C6-4811-4F72-81D5-C2593E00A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E9E3CF-ED6F-45A5-BFE7-C333897C4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B28E1-4395-4112-9F98-24DF78DEA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051CA3-F477-4E4C-9ACE-5754588E6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62F6FA-680E-468C-9607-93DDD97CC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D5346-53EF-4D3A-80C0-1DED22649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63798C-8692-4ECF-B370-240D30497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EC1E4E-AD8A-4B73-8CDD-F0598046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2F62F-DE2F-49A4-B4FB-4936FC003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F180B-F32B-43EF-9DD9-AD17CFD8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618CF-3088-4DBB-A6B1-77EE5383A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C86-E43D-4C1E-9DFE-871F81AE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0719D-894D-45BB-AC34-B36C786AA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E2F7A-9F93-4860-A285-435919D8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39DE0B-0DAF-46BB-8C65-CBB553CC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888AE0-BDBB-4427-BF5A-3A8BF442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FC5BE7-7315-4735-89C4-9BB5AFB00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707A0-3E92-498C-AE4F-6639727B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BEBF6F-7180-4AFB-969E-EF09FB04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CF577-3DD8-40D4-8922-AD7E76F2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BB97D-C968-4FA3-A083-A27CB1A9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F719F2-DDD6-43E6-BE7F-8393F996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7E08-9283-4C70-9E92-E638A61AD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90833-D242-412F-A80C-9A7A66C3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DD10C-B94D-415B-9957-C232D5BC8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4C64D-4BF7-48CC-8970-2A7910331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4D9609-643F-42ED-9270-D3B0BDF75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71715-F502-4020-9C8C-7186E5492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9A0C88-BE8A-47BD-9140-9EB46FED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F25365-F6F4-46A4-8567-C4D0331B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B937C-0947-41CE-81D1-D0D51D402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19FAAB-7D78-45B0-8E0F-627ADE581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7C9FBC-2019-4FF4-A20F-9AA3A4B4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9790-F130-425B-AB7B-971E14B86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650EB-C781-4699-95F0-4CFBFA3C1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D93B2F-A90F-4A33-BD8F-0FACA90D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A5BCF-FF73-416F-930E-3D07FC0F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72C3B-B27D-4819-A277-6A0ED7390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9A327-EF00-4DB3-8529-9E62D978C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AAC9DB-33F2-49B7-B335-56F6491C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4D4CB-0926-462C-8818-B77D94A3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D0835-4A27-4B29-B34F-78D26AED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FE3F8-74AD-4D71-8071-B97F9F4E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0745E-671B-4AD0-AFBE-58D01B0D2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B7E7-CDD6-4FEB-85B0-DE88566C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4C068-DDA9-4798-915E-942E1D347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BA9AA-B4BB-444E-8203-5DA550B2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ED49A-77B5-45E2-8A5E-49B88392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E94A0-64DC-418F-9583-338594BEC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411DFD-D640-4A76-81B0-922DD5BA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D1444C-9B23-45D4-BD80-FC8EE3E1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1833A-9564-4F2A-B5B7-8F31BFF44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E4653E-90A1-4003-B092-D282B230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56D8F-E840-43AF-A8D1-6EF407616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BF8FB6-CA81-4C63-9C7B-B6230CD06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12001-3CBB-4AA3-9471-D6DAB739B11B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0C404-977A-4FD6-B1C9-6FB50EBC826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3C7A-F284-4681-91FA-6DE03685A20D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47DBC-168C-4EED-A6B6-2E4E590CEF0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5FBCA-3677-46C2-B9EA-1C89FE63636B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31CE-3463-4996-9B7B-2F47CBFB6020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F04B-1510-4A25-9B25-5CCA06BC513F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8131-F333-4F2F-927C-363E72FB39D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BEE7-6041-4903-85CE-8F04E5A573CF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hyperlink" Target="https://techniqueuniclima.com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Chaudière à condensation + CESI optimisé</a:t>
            </a:r>
            <a:br>
              <a:rPr sz="3200"/>
            </a:b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SAUNIER DUVAL</a:t>
            </a:r>
            <a:endParaRPr b="0" lang="en-US" sz="32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 Slama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7/06/2018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0"/>
          <p:cNvSpPr/>
          <p:nvPr/>
        </p:nvSpPr>
        <p:spPr>
          <a:xfrm>
            <a:off x="1438200" y="1582560"/>
            <a:ext cx="7934400" cy="45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Le présent document décrit la saisie et la prise en compte d</a:t>
            </a:r>
            <a:r>
              <a:rPr b="0" lang="ja-JP" sz="1100" spc="-1" strike="noStrike">
                <a:solidFill>
                  <a:srgbClr val="00b1af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une chaudière à condensation avec un chauffe-eau solaire optimisé du fabricant SAUNIER DUVAL dans le logiciel d</a:t>
            </a:r>
            <a:r>
              <a:rPr b="0" lang="ja-JP" sz="1100" spc="-1" strike="noStrike">
                <a:solidFill>
                  <a:srgbClr val="00b1af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application de la RT 2012 ClimaWi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b1af"/>
                </a:solidFill>
                <a:latin typeface="75 Helvetica Bold"/>
              </a:rPr>
              <a:t>La chaudière à condensation + CESI optimisé SAUNIER DUVAL</a:t>
            </a:r>
            <a:r>
              <a:rPr b="1" lang="fr-FR" sz="1100" spc="-1" strike="noStrike">
                <a:solidFill>
                  <a:srgbClr val="00b1af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(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MS PGothic"/>
              </a:rPr>
              <a:t>«générateur»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décrivant les caractéristiques de la chaudière gaz à condensation (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un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  <a:ea typeface="MS PGothic"/>
              </a:rPr>
              <a:t>«ballon de stockage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décrivant les caractéristiques du ballon de stockage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  et du système solaire (     ).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une 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«boucle solaire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décrivant les caractéristiques de la boucle solaire (      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1 :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création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objet génération «CD + CESI op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2 :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création du générateur «Chaudière ThemaPlus Condens F25 Performance R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3 :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création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objet boucle solaire «HelioPlan SRD 2.3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4 :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création du système de stockage «Ballon HelioSet 150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focus :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saisie du circulateur du circuit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0" name="Object 16"/>
          <p:cNvGraphicFramePr/>
          <p:nvPr/>
        </p:nvGraphicFramePr>
        <p:xfrm>
          <a:off x="5519880" y="3429000"/>
          <a:ext cx="183960" cy="18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1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9880" y="3429000"/>
                    <a:ext cx="183960" cy="1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" name="Object 18"/>
          <p:cNvGraphicFramePr/>
          <p:nvPr/>
        </p:nvGraphicFramePr>
        <p:xfrm>
          <a:off x="3267000" y="4327560"/>
          <a:ext cx="133560" cy="17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3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7000" y="4327560"/>
                    <a:ext cx="13356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4" name="Rectangle 83"/>
          <p:cNvSpPr/>
          <p:nvPr/>
        </p:nvSpPr>
        <p:spPr>
          <a:xfrm>
            <a:off x="1447920" y="3227400"/>
            <a:ext cx="18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5" name="Rectangle 69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523880" y="2427120"/>
          <a:ext cx="7917120" cy="77796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ThemaPlus Condens F25 Performante RT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Un système de stockage d</a:t>
                      </a:r>
                      <a:r>
                        <a:rPr b="0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EC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Un ballon de stockage HelioSet 150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apteurs solai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1 capteur HelioPlan SRD 2.3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7" name="Object 17"/>
          <p:cNvGraphicFramePr/>
          <p:nvPr/>
        </p:nvGraphicFramePr>
        <p:xfrm>
          <a:off x="7039080" y="3857760"/>
          <a:ext cx="177840" cy="203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08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39080" y="3857760"/>
                    <a:ext cx="1778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09" name="Picture 304" descr="LaCie Disk:1 GRAPHISME:ELEMENTS_OK_FICHES_BET_PRODUIT:PICTOS:BOUCLE_SOLAIRE.jpg"/>
          <p:cNvPicPr/>
          <p:nvPr/>
        </p:nvPicPr>
        <p:blipFill>
          <a:blip r:embed="rId7"/>
          <a:stretch/>
        </p:blipFill>
        <p:spPr>
          <a:xfrm>
            <a:off x="6378480" y="4503600"/>
            <a:ext cx="190440" cy="14148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05" descr="LaCie Disk:1 GRAPHISME:ELEMENTS_OK_FICHES_BET_PRODUIT:F3_BBS:F3_capt_menu.jpg"/>
          <p:cNvPicPr/>
          <p:nvPr/>
        </p:nvPicPr>
        <p:blipFill>
          <a:blip r:embed="rId8"/>
          <a:stretch/>
        </p:blipFill>
        <p:spPr>
          <a:xfrm>
            <a:off x="7462800" y="3505320"/>
            <a:ext cx="2706840" cy="2684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11" name="Espace réservé du texte 5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2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B10F8-56A4-4AD9-869C-0448B7FD6091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36" descr="LaCie Disk:1 GRAPHISME:ELEMENTS_OK_FICHES_BET_PRODUIT:F3_BBS:F3_B_1.jpg"/>
          <p:cNvPicPr/>
          <p:nvPr/>
        </p:nvPicPr>
        <p:blipFill>
          <a:blip r:embed="rId1"/>
          <a:stretch/>
        </p:blipFill>
        <p:spPr>
          <a:xfrm>
            <a:off x="736560" y="1765440"/>
            <a:ext cx="5308560" cy="2381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14" name="Text Box 14"/>
          <p:cNvSpPr/>
          <p:nvPr/>
        </p:nvSpPr>
        <p:spPr>
          <a:xfrm>
            <a:off x="6888240" y="2502000"/>
            <a:ext cx="18874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15" name="AutoShape 16"/>
          <p:cNvCxnSpPr/>
          <p:nvPr/>
        </p:nvCxnSpPr>
        <p:spPr>
          <a:xfrm flipV="1" rot="16200000">
            <a:off x="6693480" y="252900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16" name="AutoShape 19"/>
          <p:cNvCxnSpPr/>
          <p:nvPr/>
        </p:nvCxnSpPr>
        <p:spPr>
          <a:xfrm flipV="1" rot="16200000">
            <a:off x="6693480" y="252900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17" name="AutoShape 24"/>
          <p:cNvCxnSpPr/>
          <p:nvPr/>
        </p:nvCxnSpPr>
        <p:spPr>
          <a:xfrm flipV="1" rot="16200000">
            <a:off x="6528240" y="31384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18" name="AutoShape 41"/>
          <p:cNvCxnSpPr/>
          <p:nvPr/>
        </p:nvCxnSpPr>
        <p:spPr>
          <a:xfrm flipH="1" flipV="1" rot="10800000">
            <a:off x="91800" y="39081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19" name="Freeform 25"/>
          <p:cNvSpPr/>
          <p:nvPr/>
        </p:nvSpPr>
        <p:spPr>
          <a:xfrm>
            <a:off x="5632560" y="2844720"/>
            <a:ext cx="2361960" cy="86220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862200"/>
              <a:gd name="textAreaBottom" fmla="*/ 862560 h 8622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0" name="Text Box 37"/>
          <p:cNvSpPr/>
          <p:nvPr/>
        </p:nvSpPr>
        <p:spPr>
          <a:xfrm>
            <a:off x="3174120" y="389880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45 Helvetica Light"/>
              </a:rPr>
              <a:t>49,0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21" name="Picture 17" descr=""/>
          <p:cNvPicPr/>
          <p:nvPr/>
        </p:nvPicPr>
        <p:blipFill>
          <a:blip r:embed="rId2"/>
          <a:stretch/>
        </p:blipFill>
        <p:spPr>
          <a:xfrm>
            <a:off x="3162240" y="1998720"/>
            <a:ext cx="838440" cy="181080"/>
          </a:xfrm>
          <a:prstGeom prst="rect">
            <a:avLst/>
          </a:prstGeom>
          <a:ln w="0">
            <a:noFill/>
          </a:ln>
        </p:spPr>
      </p:pic>
      <p:sp>
        <p:nvSpPr>
          <p:cNvPr id="422" name="Espace réservé du texte 22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ion «CD + CESI opt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6784920" y="3567240"/>
            <a:ext cx="34578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 emplacement en volume chauffé permet de réduire les consommations par rapport à un emplacement hors volume chauffé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4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B221-0EEA-4555-A9EC-CD3635BC5943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Picture 109" descr="LaCie Disk:1 GRAPHISME:ELEMENTS_OK_FICHES_BET_PRODUIT:F3_BBS:F3_B_2.jpg"/>
          <p:cNvPicPr/>
          <p:nvPr/>
        </p:nvPicPr>
        <p:blipFill>
          <a:blip r:embed="rId1"/>
          <a:stretch/>
        </p:blipFill>
        <p:spPr>
          <a:xfrm>
            <a:off x="685800" y="1380960"/>
            <a:ext cx="4648320" cy="1560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26" name="Picture 110" descr="LaCie Disk:1 GRAPHISME:ELEMENTS_OK_FICHES_BET_PRODUIT:F3_BBS:F3_B_3.jpg"/>
          <p:cNvPicPr/>
          <p:nvPr/>
        </p:nvPicPr>
        <p:blipFill>
          <a:blip r:embed="rId2"/>
          <a:stretch/>
        </p:blipFill>
        <p:spPr>
          <a:xfrm>
            <a:off x="685800" y="3133800"/>
            <a:ext cx="4648320" cy="3895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27" name="Text Box 7"/>
          <p:cNvSpPr/>
          <p:nvPr/>
        </p:nvSpPr>
        <p:spPr>
          <a:xfrm>
            <a:off x="6837480" y="2041560"/>
            <a:ext cx="1879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28" name="AutoShape 8"/>
          <p:cNvCxnSpPr/>
          <p:nvPr/>
        </p:nvCxnSpPr>
        <p:spPr>
          <a:xfrm flipV="1" rot="16200000">
            <a:off x="6656760" y="17542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29" name="AutoShape 9"/>
          <p:cNvCxnSpPr/>
          <p:nvPr/>
        </p:nvCxnSpPr>
        <p:spPr>
          <a:xfrm flipV="1" rot="16200000">
            <a:off x="6656760" y="17542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30" name="AutoShape 10"/>
          <p:cNvCxnSpPr/>
          <p:nvPr/>
        </p:nvCxnSpPr>
        <p:spPr>
          <a:xfrm flipH="1" rot="16200000">
            <a:off x="6477120" y="267624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31" name="AutoShape 12"/>
          <p:cNvCxnSpPr/>
          <p:nvPr/>
        </p:nvCxnSpPr>
        <p:spPr>
          <a:xfrm flipH="1" flipV="1" rot="10800000">
            <a:off x="-360" y="40953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32" name="Freeform 25"/>
          <p:cNvSpPr/>
          <p:nvPr/>
        </p:nvSpPr>
        <p:spPr>
          <a:xfrm>
            <a:off x="4408560" y="3313080"/>
            <a:ext cx="5486400" cy="862200"/>
          </a:xfrm>
          <a:custGeom>
            <a:avLst/>
            <a:gdLst>
              <a:gd name="textAreaLeft" fmla="*/ 0 w 5486400"/>
              <a:gd name="textAreaRight" fmla="*/ 5486760 w 5486400"/>
              <a:gd name="textAreaTop" fmla="*/ 0 h 862200"/>
              <a:gd name="textAreaBottom" fmla="*/ 862560 h 8622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6640560" y="3494160"/>
            <a:ext cx="343692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valeurs issues du certiﬁcat CE sont considérées certiﬁées. Comparé à un système «CESI classique», la chaudière doit être plus puissante pour produire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 instantanée avec un confort sufﬁsan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34" name="Picture 85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1905120" y="1914480"/>
            <a:ext cx="865080" cy="168912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11"/>
          <p:cNvSpPr/>
          <p:nvPr/>
        </p:nvSpPr>
        <p:spPr>
          <a:xfrm>
            <a:off x="3027960" y="341964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8,1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6" name="Text Box 112"/>
          <p:cNvSpPr/>
          <p:nvPr/>
        </p:nvSpPr>
        <p:spPr>
          <a:xfrm>
            <a:off x="3027960" y="363204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5,43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7" name="Text Box 113"/>
          <p:cNvSpPr/>
          <p:nvPr/>
        </p:nvSpPr>
        <p:spPr>
          <a:xfrm>
            <a:off x="2997720" y="4276800"/>
            <a:ext cx="103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entilateur prés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8" name="Text Box 114"/>
          <p:cNvSpPr/>
          <p:nvPr/>
        </p:nvSpPr>
        <p:spPr>
          <a:xfrm>
            <a:off x="3010680" y="448452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9" name="Text Box 115"/>
          <p:cNvSpPr/>
          <p:nvPr/>
        </p:nvSpPr>
        <p:spPr>
          <a:xfrm>
            <a:off x="3031200" y="4697280"/>
            <a:ext cx="32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7.7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0" name="Text Box 116"/>
          <p:cNvSpPr/>
          <p:nvPr/>
        </p:nvSpPr>
        <p:spPr>
          <a:xfrm>
            <a:off x="3010680" y="488628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1" name="Text Box 117"/>
          <p:cNvSpPr/>
          <p:nvPr/>
        </p:nvSpPr>
        <p:spPr>
          <a:xfrm>
            <a:off x="3030480" y="511488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08.4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2" name="Text Box 118"/>
          <p:cNvSpPr/>
          <p:nvPr/>
        </p:nvSpPr>
        <p:spPr>
          <a:xfrm>
            <a:off x="3013920" y="5343480"/>
            <a:ext cx="84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mesur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3" name="Text Box 120"/>
          <p:cNvSpPr/>
          <p:nvPr/>
        </p:nvSpPr>
        <p:spPr>
          <a:xfrm>
            <a:off x="3029400" y="55609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6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4" name="Text Box 121"/>
          <p:cNvSpPr/>
          <p:nvPr/>
        </p:nvSpPr>
        <p:spPr>
          <a:xfrm>
            <a:off x="3029400" y="575784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8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5" name="Text Box 122"/>
          <p:cNvSpPr/>
          <p:nvPr/>
        </p:nvSpPr>
        <p:spPr>
          <a:xfrm>
            <a:off x="3030120" y="5964120"/>
            <a:ext cx="29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,9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6" name="Text Box 123"/>
          <p:cNvSpPr/>
          <p:nvPr/>
        </p:nvSpPr>
        <p:spPr>
          <a:xfrm>
            <a:off x="3013920" y="6181560"/>
            <a:ext cx="84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mesur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7" name="Text Box 124"/>
          <p:cNvSpPr/>
          <p:nvPr/>
        </p:nvSpPr>
        <p:spPr>
          <a:xfrm>
            <a:off x="3066120" y="6410160"/>
            <a:ext cx="25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1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8" name="Text Box 124"/>
          <p:cNvSpPr/>
          <p:nvPr/>
        </p:nvSpPr>
        <p:spPr>
          <a:xfrm>
            <a:off x="2997720" y="6578640"/>
            <a:ext cx="125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Générateur sans ballon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49" name="Picture 34" descr=""/>
          <p:cNvPicPr/>
          <p:nvPr/>
        </p:nvPicPr>
        <p:blipFill>
          <a:blip r:embed="rId4"/>
          <a:stretch/>
        </p:blipFill>
        <p:spPr>
          <a:xfrm>
            <a:off x="2986200" y="1647720"/>
            <a:ext cx="1133280" cy="1717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4" descr=""/>
          <p:cNvPicPr/>
          <p:nvPr/>
        </p:nvPicPr>
        <p:blipFill>
          <a:blip r:embed="rId5"/>
          <a:stretch/>
        </p:blipFill>
        <p:spPr>
          <a:xfrm>
            <a:off x="3419640" y="1647720"/>
            <a:ext cx="1133280" cy="17172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113"/>
          <p:cNvSpPr/>
          <p:nvPr/>
        </p:nvSpPr>
        <p:spPr>
          <a:xfrm>
            <a:off x="3004200" y="1647720"/>
            <a:ext cx="22042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ThemaPlus Condens F25 Performance R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2" name="Espace réservé du texte 46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à condensation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3" name="Text Box 18"/>
          <p:cNvSpPr/>
          <p:nvPr/>
        </p:nvSpPr>
        <p:spPr>
          <a:xfrm>
            <a:off x="6640560" y="1549440"/>
            <a:ext cx="344016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Toutes les caractéristiques de performances des générateurs sont disponibles sur le site du fabricant, EDIBATEC et la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6"/>
              </a:rPr>
              <a:t>base de données ATITA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 (https://techniqueuniclima.com/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4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D6DE-2C51-44CC-AB45-195F32B20460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Picture 67" descr="LaCie Disk:1 GRAPHISME:ELEMENTS_OK_FICHES_BET_PRODUIT:F3_BBS:F3_B_4.jpg"/>
          <p:cNvPicPr/>
          <p:nvPr/>
        </p:nvPicPr>
        <p:blipFill>
          <a:blip r:embed="rId1"/>
          <a:stretch/>
        </p:blipFill>
        <p:spPr>
          <a:xfrm>
            <a:off x="736560" y="1693800"/>
            <a:ext cx="5203800" cy="460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cxnSp>
        <p:nvCxnSpPr>
          <p:cNvPr id="456" name="AutoShape 12"/>
          <p:cNvCxnSpPr/>
          <p:nvPr/>
        </p:nvCxnSpPr>
        <p:spPr>
          <a:xfrm flipH="1" flipV="1" rot="10800000">
            <a:off x="75960" y="385956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57" name="Text Box 29"/>
          <p:cNvSpPr/>
          <p:nvPr/>
        </p:nvSpPr>
        <p:spPr>
          <a:xfrm>
            <a:off x="3189240" y="277344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.35 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8" name="Text Box 45"/>
          <p:cNvSpPr/>
          <p:nvPr/>
        </p:nvSpPr>
        <p:spPr>
          <a:xfrm>
            <a:off x="3197160" y="300672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9" name="Text Box 46"/>
          <p:cNvSpPr/>
          <p:nvPr/>
        </p:nvSpPr>
        <p:spPr>
          <a:xfrm>
            <a:off x="3184560" y="369252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égulation sur la températur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0" name="Text Box 47"/>
          <p:cNvSpPr/>
          <p:nvPr/>
        </p:nvSpPr>
        <p:spPr>
          <a:xfrm>
            <a:off x="3184560" y="392112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endement optique certifié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1" name="Text Box 48"/>
          <p:cNvSpPr/>
          <p:nvPr/>
        </p:nvSpPr>
        <p:spPr>
          <a:xfrm>
            <a:off x="3184560" y="414972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0.1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2" name="Text Box 49"/>
          <p:cNvSpPr/>
          <p:nvPr/>
        </p:nvSpPr>
        <p:spPr>
          <a:xfrm>
            <a:off x="3184560" y="437832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,76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3" name="Text Box 50"/>
          <p:cNvSpPr/>
          <p:nvPr/>
        </p:nvSpPr>
        <p:spPr>
          <a:xfrm>
            <a:off x="3184560" y="475920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012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4" name="Text Box 51"/>
          <p:cNvSpPr/>
          <p:nvPr/>
        </p:nvSpPr>
        <p:spPr>
          <a:xfrm>
            <a:off x="3184560" y="584208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5" name="Text Box 52"/>
          <p:cNvSpPr/>
          <p:nvPr/>
        </p:nvSpPr>
        <p:spPr>
          <a:xfrm>
            <a:off x="3184560" y="607068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65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6" name="Text Box 25"/>
          <p:cNvSpPr/>
          <p:nvPr/>
        </p:nvSpPr>
        <p:spPr>
          <a:xfrm>
            <a:off x="6729480" y="1711440"/>
            <a:ext cx="343692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Les caractéristiques de performances des capteurs solaires sont données dans les avis techniques ou les PV Keymark des produi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7" name="Text Box 62"/>
          <p:cNvSpPr/>
          <p:nvPr/>
        </p:nvSpPr>
        <p:spPr>
          <a:xfrm>
            <a:off x="3943440" y="601668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68" name="Picture 34" descr=""/>
          <p:cNvPicPr/>
          <p:nvPr/>
        </p:nvPicPr>
        <p:blipFill>
          <a:blip r:embed="rId2"/>
          <a:stretch/>
        </p:blipFill>
        <p:spPr>
          <a:xfrm>
            <a:off x="3132000" y="2486160"/>
            <a:ext cx="1133640" cy="1713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35" descr=""/>
          <p:cNvPicPr/>
          <p:nvPr/>
        </p:nvPicPr>
        <p:blipFill>
          <a:blip r:embed="rId3"/>
          <a:stretch/>
        </p:blipFill>
        <p:spPr>
          <a:xfrm>
            <a:off x="3184560" y="5626080"/>
            <a:ext cx="1133280" cy="17136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47"/>
          <p:cNvSpPr/>
          <p:nvPr/>
        </p:nvSpPr>
        <p:spPr>
          <a:xfrm>
            <a:off x="3147840" y="2486160"/>
            <a:ext cx="19814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397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SRD 2.3 Horizontal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1" name="Text Box 47"/>
          <p:cNvSpPr/>
          <p:nvPr/>
        </p:nvSpPr>
        <p:spPr>
          <a:xfrm>
            <a:off x="3147840" y="5581800"/>
            <a:ext cx="19814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Sans échangeur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2" name="Espace réservé du texte 38"/>
          <p:cNvSpPr/>
          <p:nvPr/>
        </p:nvSpPr>
        <p:spPr>
          <a:xfrm>
            <a:off x="2319480" y="325440"/>
            <a:ext cx="79405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boucle solaire «HelioPlan SRD 2.3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73" name="AutoShape 11"/>
          <p:cNvCxnSpPr/>
          <p:nvPr/>
        </p:nvCxnSpPr>
        <p:spPr>
          <a:xfrm flipH="1" rot="16200000">
            <a:off x="6331680" y="3036600"/>
            <a:ext cx="216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pic>
        <p:nvPicPr>
          <p:cNvPr id="474" name="Picture 36" descr=""/>
          <p:cNvPicPr/>
          <p:nvPr/>
        </p:nvPicPr>
        <p:blipFill>
          <a:blip r:embed="rId4"/>
          <a:stretch/>
        </p:blipFill>
        <p:spPr>
          <a:xfrm>
            <a:off x="4775040" y="4370400"/>
            <a:ext cx="847800" cy="171360"/>
          </a:xfrm>
          <a:prstGeom prst="rect">
            <a:avLst/>
          </a:prstGeom>
          <a:ln w="0">
            <a:noFill/>
          </a:ln>
        </p:spPr>
      </p:pic>
      <p:sp>
        <p:nvSpPr>
          <p:cNvPr id="475" name="Freeform 24"/>
          <p:cNvSpPr/>
          <p:nvPr/>
        </p:nvSpPr>
        <p:spPr>
          <a:xfrm>
            <a:off x="5416560" y="2773440"/>
            <a:ext cx="4191120" cy="22860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6" name="Freeform 24"/>
          <p:cNvSpPr/>
          <p:nvPr/>
        </p:nvSpPr>
        <p:spPr>
          <a:xfrm>
            <a:off x="5487840" y="3494160"/>
            <a:ext cx="2590920" cy="53316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7" name="Freeform 24"/>
          <p:cNvSpPr/>
          <p:nvPr/>
        </p:nvSpPr>
        <p:spPr>
          <a:xfrm>
            <a:off x="5416560" y="3781440"/>
            <a:ext cx="2209680" cy="11430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8" name="Freeform 24"/>
          <p:cNvSpPr/>
          <p:nvPr/>
        </p:nvSpPr>
        <p:spPr>
          <a:xfrm>
            <a:off x="5416560" y="4010040"/>
            <a:ext cx="1828800" cy="17524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9" name="Text Box 25"/>
          <p:cNvSpPr/>
          <p:nvPr/>
        </p:nvSpPr>
        <p:spPr>
          <a:xfrm>
            <a:off x="6784920" y="3276720"/>
            <a:ext cx="351324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 à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rientation des panneaux qui a un fort impact sur la produc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 Une orientation au Nord (cas extrême) augmente la consommation du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0" name="Text Box 25"/>
          <p:cNvSpPr/>
          <p:nvPr/>
        </p:nvSpPr>
        <p:spPr>
          <a:xfrm>
            <a:off x="6784920" y="435780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inclinaison de 45 °est optimale. Une modiﬁcation de celle-ci peut  entrainer une baisse de performanc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1" name="Text Box 25"/>
          <p:cNvSpPr/>
          <p:nvPr/>
        </p:nvSpPr>
        <p:spPr>
          <a:xfrm>
            <a:off x="6784920" y="522144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e manière générale, la régulation de la boucle solaire s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ffectue sur la température en maisons individuell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2" name="Text Box 25"/>
          <p:cNvSpPr/>
          <p:nvPr/>
        </p:nvSpPr>
        <p:spPr>
          <a:xfrm>
            <a:off x="6784920" y="615780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bsence de valeurs fournies par le constructeur, les valeurs moyennes suivantes peuvent être utilisé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3" name="Text Box 25"/>
          <p:cNvSpPr/>
          <p:nvPr/>
        </p:nvSpPr>
        <p:spPr>
          <a:xfrm>
            <a:off x="6784920" y="248616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a surface des capteurs solaires est plus faible dans un système «CESI optimisé» que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4" name="AutoShape 65"/>
          <p:cNvSpPr/>
          <p:nvPr/>
        </p:nvSpPr>
        <p:spPr>
          <a:xfrm>
            <a:off x="4768920" y="5076720"/>
            <a:ext cx="152280" cy="457200"/>
          </a:xfrm>
          <a:custGeom>
            <a:avLst/>
            <a:gdLst>
              <a:gd name="textAreaLeft" fmla="*/ 0 w 152280"/>
              <a:gd name="textAreaRight" fmla="*/ 5508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85" name="Connecteur en angle 53"/>
          <p:cNvCxnSpPr>
            <a:stCxn id="482" idx="1"/>
          </p:cNvCxnSpPr>
          <p:nvPr/>
        </p:nvCxnSpPr>
        <p:spPr>
          <a:xfrm rot="10800000">
            <a:off x="4984200" y="5293440"/>
            <a:ext cx="1800720" cy="1164600"/>
          </a:xfrm>
          <a:prstGeom prst="bentConnector3">
            <a:avLst>
              <a:gd name="adj1" fmla="val 66606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86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79F6-240B-4D1F-8BD4-88661C360839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48" descr="LaCie Disk:1 GRAPHISME:ELEMENTS_OK_FICHES_BET_PRODUIT:F3_BBS:F3_B_6.jpg"/>
          <p:cNvPicPr/>
          <p:nvPr/>
        </p:nvPicPr>
        <p:blipFill>
          <a:blip r:embed="rId1"/>
          <a:stretch/>
        </p:blipFill>
        <p:spPr>
          <a:xfrm>
            <a:off x="685800" y="3624120"/>
            <a:ext cx="4719600" cy="239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88" name="Picture 47" descr="LaCie Disk:1 GRAPHISME:ELEMENTS_OK_FICHES_BET_PRODUIT:F3_BBS:F3_B_5.jpg"/>
          <p:cNvPicPr/>
          <p:nvPr/>
        </p:nvPicPr>
        <p:blipFill>
          <a:blip r:embed="rId2"/>
          <a:stretch/>
        </p:blipFill>
        <p:spPr>
          <a:xfrm>
            <a:off x="685800" y="1566720"/>
            <a:ext cx="4737240" cy="1865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89" name="Text Box 9"/>
          <p:cNvSpPr/>
          <p:nvPr/>
        </p:nvSpPr>
        <p:spPr>
          <a:xfrm>
            <a:off x="6837480" y="2303640"/>
            <a:ext cx="18795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90" name="AutoShape 12"/>
          <p:cNvCxnSpPr/>
          <p:nvPr/>
        </p:nvCxnSpPr>
        <p:spPr>
          <a:xfrm flipV="1" rot="16200000">
            <a:off x="6477480" y="294012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sp>
        <p:nvSpPr>
          <p:cNvPr id="491" name="Text Box 22"/>
          <p:cNvSpPr/>
          <p:nvPr/>
        </p:nvSpPr>
        <p:spPr>
          <a:xfrm>
            <a:off x="6656400" y="3471840"/>
            <a:ext cx="34369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2" name="Freeform 23"/>
          <p:cNvSpPr/>
          <p:nvPr/>
        </p:nvSpPr>
        <p:spPr>
          <a:xfrm flipV="1">
            <a:off x="5105520" y="2117880"/>
            <a:ext cx="1600200" cy="861840"/>
          </a:xfrm>
          <a:custGeom>
            <a:avLst/>
            <a:gdLst>
              <a:gd name="textAreaLeft" fmla="*/ 0 w 1600200"/>
              <a:gd name="textAreaRight" fmla="*/ 1600560 w 1600200"/>
              <a:gd name="textAreaTop" fmla="*/ 360 h 861840"/>
              <a:gd name="textAreaBottom" fmla="*/ 862560 h 86184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93" name="Picture 29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1981080" y="2205000"/>
            <a:ext cx="865440" cy="2028960"/>
          </a:xfrm>
          <a:prstGeom prst="rect">
            <a:avLst/>
          </a:prstGeom>
          <a:ln w="0">
            <a:noFill/>
          </a:ln>
        </p:spPr>
      </p:pic>
      <p:sp>
        <p:nvSpPr>
          <p:cNvPr id="494" name="Freeform 24"/>
          <p:cNvSpPr/>
          <p:nvPr/>
        </p:nvSpPr>
        <p:spPr>
          <a:xfrm flipV="1">
            <a:off x="5105520" y="3822840"/>
            <a:ext cx="3657600" cy="86040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5" name="Freeform 24"/>
          <p:cNvSpPr/>
          <p:nvPr/>
        </p:nvSpPr>
        <p:spPr>
          <a:xfrm>
            <a:off x="5051520" y="4933800"/>
            <a:ext cx="3047760" cy="862200"/>
          </a:xfrm>
          <a:custGeom>
            <a:avLst/>
            <a:gdLst>
              <a:gd name="textAreaLeft" fmla="*/ 0 w 3047760"/>
              <a:gd name="textAreaRight" fmla="*/ 3048120 w 3047760"/>
              <a:gd name="textAreaTop" fmla="*/ 0 h 862200"/>
              <a:gd name="textAreaBottom" fmla="*/ 862560 h 8622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6" name="Text Box 25"/>
          <p:cNvSpPr/>
          <p:nvPr/>
        </p:nvSpPr>
        <p:spPr>
          <a:xfrm>
            <a:off x="6635880" y="5510160"/>
            <a:ext cx="343692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, les pertes thermiques du ballon impactent la consomma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6656400" y="370044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 volume du ballon est plus faible dans un système «CESI optimisé» que dans un système «CESI classique» aﬁn de limiter les pert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8" name="Freeform 24"/>
          <p:cNvSpPr/>
          <p:nvPr/>
        </p:nvSpPr>
        <p:spPr>
          <a:xfrm flipV="1">
            <a:off x="5105520" y="2055600"/>
            <a:ext cx="3657600" cy="86184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861840"/>
              <a:gd name="textAreaBottom" fmla="*/ 862560 h 861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9" name="Text Box 25"/>
          <p:cNvSpPr/>
          <p:nvPr/>
        </p:nvSpPr>
        <p:spPr>
          <a:xfrm>
            <a:off x="6656400" y="1916280"/>
            <a:ext cx="343692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e système «CESI optimisé»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gaz est de type séparé instantané aﬁn de limiter les déperditions. Au contraire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est intégré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0" name="Text Box 39"/>
          <p:cNvSpPr/>
          <p:nvPr/>
        </p:nvSpPr>
        <p:spPr>
          <a:xfrm>
            <a:off x="2892240" y="4422600"/>
            <a:ext cx="35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50.0 l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1" name="Text Box 40"/>
          <p:cNvSpPr/>
          <p:nvPr/>
        </p:nvSpPr>
        <p:spPr>
          <a:xfrm>
            <a:off x="2876760" y="4614840"/>
            <a:ext cx="794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jus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2" name="Text Box 41"/>
          <p:cNvSpPr/>
          <p:nvPr/>
        </p:nvSpPr>
        <p:spPr>
          <a:xfrm>
            <a:off x="2895120" y="4843440"/>
            <a:ext cx="41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.2 W/K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3" name="Text Box 42"/>
          <p:cNvSpPr/>
          <p:nvPr/>
        </p:nvSpPr>
        <p:spPr>
          <a:xfrm>
            <a:off x="2933640" y="51069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75° 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4" name="Text Box 43"/>
          <p:cNvSpPr/>
          <p:nvPr/>
        </p:nvSpPr>
        <p:spPr>
          <a:xfrm>
            <a:off x="2862720" y="5300640"/>
            <a:ext cx="1181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Chauffage 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5" name="Text Box 44"/>
          <p:cNvSpPr/>
          <p:nvPr/>
        </p:nvSpPr>
        <p:spPr>
          <a:xfrm>
            <a:off x="2896920" y="555300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5.00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6" name="Text Box 46"/>
          <p:cNvSpPr/>
          <p:nvPr/>
        </p:nvSpPr>
        <p:spPr>
          <a:xfrm>
            <a:off x="2892600" y="579420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Zone 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07" name="Picture 31" descr=""/>
          <p:cNvPicPr/>
          <p:nvPr/>
        </p:nvPicPr>
        <p:blipFill>
          <a:blip r:embed="rId4"/>
          <a:stretch/>
        </p:blipFill>
        <p:spPr>
          <a:xfrm>
            <a:off x="2843280" y="2197080"/>
            <a:ext cx="1133280" cy="171360"/>
          </a:xfrm>
          <a:prstGeom prst="rect">
            <a:avLst/>
          </a:prstGeom>
          <a:ln w="0">
            <a:noFill/>
          </a:ln>
        </p:spPr>
      </p:pic>
      <p:sp>
        <p:nvSpPr>
          <p:cNvPr id="508" name="Text Box 40"/>
          <p:cNvSpPr/>
          <p:nvPr/>
        </p:nvSpPr>
        <p:spPr>
          <a:xfrm>
            <a:off x="2855160" y="2197080"/>
            <a:ext cx="671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HelioSet 15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9" name="Espace réservé du texte 39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système de stockage «Ballon HelioSet S-FE 150/3 SE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0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DBCE-C081-4989-8BBC-C3157A705100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Picture 20" descr=""/>
          <p:cNvPicPr/>
          <p:nvPr/>
        </p:nvPicPr>
        <p:blipFill>
          <a:blip r:embed="rId1"/>
          <a:stretch/>
        </p:blipFill>
        <p:spPr>
          <a:xfrm>
            <a:off x="736560" y="2486160"/>
            <a:ext cx="5591160" cy="637920"/>
          </a:xfrm>
          <a:prstGeom prst="rect">
            <a:avLst/>
          </a:prstGeom>
          <a:ln w="0">
            <a:noFill/>
          </a:ln>
        </p:spPr>
      </p:pic>
      <p:sp>
        <p:nvSpPr>
          <p:cNvPr id="512" name="Text Box 9"/>
          <p:cNvSpPr/>
          <p:nvPr/>
        </p:nvSpPr>
        <p:spPr>
          <a:xfrm>
            <a:off x="6837480" y="172728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13" name="AutoShape 12"/>
          <p:cNvCxnSpPr/>
          <p:nvPr/>
        </p:nvCxnSpPr>
        <p:spPr>
          <a:xfrm flipH="1" rot="16200000">
            <a:off x="6549840" y="3204720"/>
            <a:ext cx="252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sp>
        <p:nvSpPr>
          <p:cNvPr id="514" name="Text Box 22"/>
          <p:cNvSpPr/>
          <p:nvPr/>
        </p:nvSpPr>
        <p:spPr>
          <a:xfrm>
            <a:off x="6656400" y="2895480"/>
            <a:ext cx="32925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5" name="Freeform 23"/>
          <p:cNvSpPr/>
          <p:nvPr/>
        </p:nvSpPr>
        <p:spPr>
          <a:xfrm flipV="1">
            <a:off x="5178600" y="2383560"/>
            <a:ext cx="1600200" cy="8622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862200"/>
              <a:gd name="textAreaBottom" fmla="*/ 862200 h 8622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6" name="Text Box 24"/>
          <p:cNvSpPr/>
          <p:nvPr/>
        </p:nvSpPr>
        <p:spPr>
          <a:xfrm>
            <a:off x="736560" y="1909800"/>
            <a:ext cx="525636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bjet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«Emission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 (       ) : on indique la présence du circulateur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17" name="Picture 26" descr="Travail:1 GRAPHISME:GRDF:FICHES_BET_CEGIBAT_GrDF:FICHES_PRODUIT:ELEMENTS_OK:F1_BBS:EMISSION.jpg"/>
          <p:cNvPicPr/>
          <p:nvPr/>
        </p:nvPicPr>
        <p:blipFill>
          <a:blip r:embed="rId2"/>
          <a:stretch/>
        </p:blipFill>
        <p:spPr>
          <a:xfrm>
            <a:off x="2463840" y="1960560"/>
            <a:ext cx="228600" cy="20016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8"/>
          <p:cNvSpPr/>
          <p:nvPr/>
        </p:nvSpPr>
        <p:spPr>
          <a:xfrm>
            <a:off x="3616200" y="2701800"/>
            <a:ext cx="14241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Selon projet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9" name="Text Box 39"/>
          <p:cNvSpPr/>
          <p:nvPr/>
        </p:nvSpPr>
        <p:spPr>
          <a:xfrm>
            <a:off x="3687840" y="2486160"/>
            <a:ext cx="99036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0.0 m</a:t>
            </a:r>
            <a:r>
              <a:rPr b="0" lang="fr-FR" sz="1000" spc="-1" strike="noStrike" baseline="30000">
                <a:solidFill>
                  <a:srgbClr val="002060"/>
                </a:solidFill>
                <a:latin typeface="45 Helvetica Light"/>
              </a:rPr>
              <a:t>3</a:t>
            </a: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/h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0" name="Text Box 40"/>
          <p:cNvSpPr/>
          <p:nvPr/>
        </p:nvSpPr>
        <p:spPr>
          <a:xfrm>
            <a:off x="3687840" y="2989440"/>
            <a:ext cx="62388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24 W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1" name="Espace réservé du texte 21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Focus : La saisie du circulateur du réseau de distribu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2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F8B41-C0F4-4049-95DF-1C02C9F86925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23" name="AutoShape 12"/>
          <p:cNvCxnSpPr/>
          <p:nvPr/>
        </p:nvCxnSpPr>
        <p:spPr>
          <a:xfrm flipH="1" rot="16200000">
            <a:off x="6495840" y="3204720"/>
            <a:ext cx="252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0:46:13Z</dcterms:modified>
  <cp:revision>101</cp:revision>
  <dc:subject/>
  <dc:title>Présentation PowerPoint</dc:title>
</cp:coreProperties>
</file>