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9.png" ContentType="image/png"/>
  <Override PartName="/ppt/media/image8.png" ContentType="image/png"/>
  <Override PartName="/ppt/media/image12.png" ContentType="image/png"/>
  <Override PartName="/ppt/media/image6.wmf" ContentType="image/x-wmf"/>
  <Override PartName="/ppt/media/image11.png" ContentType="image/png"/>
  <Override PartName="/ppt/media/image19.jpeg" ContentType="image/jpeg"/>
  <Override PartName="/ppt/media/image22.jpeg" ContentType="image/jpeg"/>
  <Override PartName="/ppt/media/image14.png" ContentType="image/png"/>
  <Override PartName="/ppt/media/image21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7.jpeg" ContentType="image/jpeg"/>
  <Override PartName="/ppt/media/image20.png" ContentType="image/png"/>
  <Override PartName="/ppt/media/image4.wmf" ContentType="image/x-wmf"/>
  <Override PartName="/ppt/media/image5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D595-22A8-486E-B890-F43E8C49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C38C-9C9E-487F-A88B-404EC1645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B1F24-0FAF-4F9D-AA00-AADB728C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4D5DEA-0E32-42EC-86B4-A487708C3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6C6E67-4224-45F0-BD85-BE53EAC44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77C3A-54FD-4C5A-AEAF-2DB434A5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4D348D-86A9-49F5-AE8C-2D443523A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042DAE-A0D5-4D06-9138-F3D58EBB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1EFE4-07F8-4861-92FE-B17111C5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E2685B-FD2B-4DCB-AD23-E88E7C99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0C2712-A921-4196-84A0-6A08CC8D8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8178-AF2E-44E4-A1E2-AFA5F9C25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2FAD-FD9D-44BF-A78C-E6298B5B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78D63-3F2D-4C93-AD3F-5C242380B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123A1-86A8-4C13-80CE-B0E69709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F898A-4123-4AD6-917C-82454F95F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D41D-3D0F-48D5-BA4D-2666FA2C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594C-EA3F-483D-B79D-B2359F006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B1438-E8DC-4A97-8534-D8CD7362A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A40C-A09C-4865-868B-ECB046FD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5E71-579A-4809-A0BE-89676521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867F-6372-4B91-AE8B-8F5ABCE6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E1FF-A379-47C5-9626-BB56554C5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B3BF-D50C-4DCC-9940-4BFFFC4A5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5083-8B5D-4FE2-A288-DB150581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95786-1564-4FDA-853B-63A5DF861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CE94DA-2109-4317-82A1-1E36774BB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D0475-571A-4BF9-AA54-2E4A9959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7B3D4-5452-45DF-8E12-C7171276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0C4367-AF1E-4F85-8253-188B239E4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FF391-3BF0-4614-B7F7-C4E6D03F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8457-BDC3-46F7-AF79-29B38EF1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046DD-2A0D-42F1-AE66-DF437EF64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F4FD8-A502-445B-B9CA-F7FBCF19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F93B5-939B-4652-8372-C3B7B70DD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B5BFD-751A-415A-80FA-2F81EAF3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B8F21-8159-461F-8545-19CF2B5A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204E3-3978-469D-A031-F291A6DDE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E1260-205C-4B3F-AA32-B8DED673F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91047-399B-4D3E-B0AA-74FA76633F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81514-0055-4906-B633-84709738F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71E02-86FD-4F54-82AF-6F5005EC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C992-EE5E-4E9D-934F-FC5A69D9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C98476-FCA1-4B52-946A-954D3C05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C8DB6-7E4D-413F-ACA4-4A09049C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ACE57-CB10-4533-AED7-DDB9A8CB1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EF7C7-C5BD-4D1D-AD3E-841A2EBFF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53045-DF67-4A0E-93F1-A5195521B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934A1D-A95E-4D6D-90D8-CFE9EC8E7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6BE00-1564-4A64-B102-9474A4A7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5D924-17A2-4782-AED7-349C7E36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B39D7-C808-4BE5-833C-510A31DCE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6FD20-62DA-4355-941C-AEDF90D79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5DB2-410F-4D47-8BD9-F0F5FBC1B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3556D-21E8-47E4-A926-2409563E5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99D3F3-2FBB-4541-B9E8-BA7BA60A4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7D5021-CB3A-47A6-9897-FB071269E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B8E8A7-8661-4D26-8ED7-3077542A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74566-6057-4339-933B-003CBF4E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CB36E-693D-45D5-81CC-1CC7038FD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0CBFF-E98E-4E64-A920-C58BB1B5D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6B4AE-693D-43CC-9CF1-BD8E0987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FFC83-6F5A-487F-B1E2-A5CB43D0B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443C6-600E-48C0-B46A-487A76564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B7EE-3DFE-4473-9BDC-7109482A1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09B7A-FBCA-4A81-ABE8-C557A25B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53CA0-6038-45F3-BA55-12C03DCB9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F38D08-86DF-412C-A8A8-D9EAE573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4BE38-25E2-4620-8771-52DDD1EC4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E873EC-36F8-4321-B024-2127E1F0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56066-C958-4B1C-B8E6-ED8FA3940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404C92-72F9-49E8-843F-4E2540DB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4B472-493A-45D7-AA3C-7C239C5D0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41B31-E7AE-456C-A3B3-9E9582EDD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0FEC3-1A31-4EBB-A363-ACBB2CB9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F99D-A0A5-43AB-BB5F-E75A7CC8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1A1766-AEB9-4800-878B-99C3987EF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E078D2-3111-4359-B70F-7E0256D1C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860D9-3584-4B81-936D-56E5C8498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146FA6-A881-4217-9198-A81055CB0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A885F-4A08-4E1F-98DF-A2618F0A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56E04-F853-460B-9E15-3364A27B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E9E18-3689-4F5F-9403-E7C903CD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A93D27-AB9C-4464-BDAF-04C39A46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E8F224-E3E7-4E07-AC1B-23A1B1A55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BD2520-021F-4BFB-8F4E-14B296A7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FEF0-0391-43C0-8291-598A01FFE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102FE-E9FD-4BF8-8C34-10C829BFD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E967C-8272-4DA3-AF2B-B4426EEF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76310-268C-43FD-9A9B-6E550D26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6276B7-601B-42B3-8156-10B4DAFA3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352F32-83B4-4739-938C-85ED75A9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F81424-B7F0-4FC2-8665-38246799E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BF2CE-60C7-4FDF-A07B-D9C4978F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E8F9FC-0A15-408B-9FEE-F9D2A4BF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86252-DDEB-4630-8086-D93E7F29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BABD9-F134-4B88-B32E-12821B3A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8E32-BDDA-43B7-8AE2-516EC0A7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72C556-8E6B-4A17-AF10-D4F894CC0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F4DEA9-CA6A-4CC8-80EA-415627FC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4D2F0-99E5-4549-9134-56DEA04F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7E14B-3159-490F-8611-9E387A0D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53BE7-335D-4E39-AA6D-D154D0CE6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28A889-6E21-4998-91B9-F8955C44E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5C7582-B34C-4396-96E2-3F1016E15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D3D19-F7EE-4731-8599-C87AB6F8A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CA1DC3-3DFF-4F9F-B887-4F032A100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C48A84-9559-45CF-A01B-63F7473F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FBEA1-C04D-4B93-89EA-F12819C3C719}" type="slidenum">
              <a:rPr b="0" lang="fr-FR" sz="9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561A0-8D59-4135-91AA-F0175EFC67EF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6AFF-7C2C-4ABB-BB27-32D5D676B454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2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36D5C-51B9-4B60-BB7D-CA0C47AFCA5F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7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26049-18A1-43A8-A081-1D0F66E667D9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1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98D6-F52F-4604-92E4-0C381D8CE782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B891-C7B2-4063-9286-694C5E355892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09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FFD3-FBDE-4F5A-B361-0D4A8EED2CC8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4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3CD3-1293-46FB-98AF-FECE7FE9911B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9.png"/><Relationship Id="rId24" Type="http://schemas.openxmlformats.org/officeDocument/2006/relationships/image" Target="../media/image9.png"/><Relationship Id="rId25" Type="http://schemas.openxmlformats.org/officeDocument/2006/relationships/image" Target="../media/image9.png"/><Relationship Id="rId26" Type="http://schemas.openxmlformats.org/officeDocument/2006/relationships/image" Target="../media/image9.png"/><Relationship Id="rId27" Type="http://schemas.openxmlformats.org/officeDocument/2006/relationships/image" Target="../media/image9.png"/><Relationship Id="rId2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s://techniqueuniclima.com/" TargetMode="External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6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200" spc="-1" strike="noStrike">
                <a:solidFill>
                  <a:srgbClr val="9796a3"/>
                </a:solidFill>
                <a:latin typeface="Avenir LT Std 55 Roman"/>
              </a:rPr>
              <a:t>Chaudière à condensation + CESI optimisé</a:t>
            </a:r>
            <a:br>
              <a:rPr sz="3200"/>
            </a:br>
            <a:r>
              <a:rPr b="0" lang="fr-FR" sz="3200" spc="-1" strike="noStrike">
                <a:solidFill>
                  <a:srgbClr val="9796a3"/>
                </a:solidFill>
                <a:latin typeface="Avenir LT Std 55 Roman"/>
              </a:rPr>
              <a:t>ATLANTIC</a:t>
            </a:r>
            <a:endParaRPr b="0" lang="en-US" sz="32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8" name="Text Box 7"/>
          <p:cNvSpPr/>
          <p:nvPr/>
        </p:nvSpPr>
        <p:spPr>
          <a:xfrm>
            <a:off x="8294760" y="5029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L VAG Rounded Light"/>
              </a:rPr>
              <a:t>PRODUIT</a:t>
            </a:r>
            <a:endParaRPr b="0" lang="en-US" sz="16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12680" y="2719440"/>
            <a:ext cx="8397720" cy="25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2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200"/>
            </a:b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ClimaWin de BBS Slama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Version 4.6.1.1 du 07/06/2018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0"/>
          <p:cNvSpPr/>
          <p:nvPr/>
        </p:nvSpPr>
        <p:spPr>
          <a:xfrm>
            <a:off x="1438200" y="1582560"/>
            <a:ext cx="7934400" cy="459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Le présent document décrit la saisie et la prise en compte d’une chaudière à condensation avec un chauffe-eau solaire optimisé du fabricant ATLANTIC dans le logiciel d’application de la RT 2012 ClimaWi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b1af"/>
                </a:solidFill>
                <a:latin typeface="45 Helvetica Light"/>
              </a:rPr>
              <a:t>La chaudière à condensation + CESI optimisé ATLANTIC </a:t>
            </a: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est composée des 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nsemble du système est décrit dans un objet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«génération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). Cet objet contient les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MS PGothic"/>
              </a:rPr>
              <a:t>«générateur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décrivant les caractéristiques de la chaudière gaz à condensation (      )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MS PGothic"/>
              </a:rPr>
              <a:t>«ballon de stockage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décrivant les caractéristiques du ballon de stockage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  et du système solaire (     ).</a:t>
            </a:r>
            <a:br>
              <a:rPr sz="1100"/>
            </a:b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une «boucle solaire»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décrivant les caractéristiques de la boucle solaire (      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étapes de la saisie du système sont les suivantes :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étape 1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création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objet génération «CD + CESI opt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étape 2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création du générateur «Chaudière </a:t>
            </a:r>
            <a:r>
              <a:rPr b="0" lang="fr-FR" sz="1100" spc="-1" strike="noStrike">
                <a:solidFill>
                  <a:srgbClr val="000000"/>
                </a:solidFill>
                <a:latin typeface="55 Helvetica Roman"/>
                <a:ea typeface="MS PGothic"/>
              </a:rPr>
              <a:t>Naia Micro 25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étape 3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création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objet boucle solaire «Capteur solerio Optimum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étape 4 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création du système de stockage «Solerio Optimum 2 MV 150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MS PGothic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focus</a:t>
            </a:r>
            <a:r>
              <a:rPr b="0" lang="fr-FR" sz="1100" spc="-1" strike="noStrike">
                <a:solidFill>
                  <a:srgbClr val="000000"/>
                </a:solidFill>
                <a:latin typeface="B VAG Rounded Bold"/>
                <a:ea typeface="MS PGothic"/>
              </a:rPr>
              <a:t> :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MS PGothic"/>
              </a:rPr>
              <a:t> saisie du circulateur du circuit de distributio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01" name="Object 16"/>
          <p:cNvGraphicFramePr/>
          <p:nvPr/>
        </p:nvGraphicFramePr>
        <p:xfrm>
          <a:off x="5519880" y="3449520"/>
          <a:ext cx="183960" cy="1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2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19880" y="3449520"/>
                    <a:ext cx="183960" cy="1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Object 18"/>
          <p:cNvGraphicFramePr/>
          <p:nvPr/>
        </p:nvGraphicFramePr>
        <p:xfrm>
          <a:off x="3267000" y="4398840"/>
          <a:ext cx="133560" cy="1746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4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7000" y="4398840"/>
                    <a:ext cx="133560" cy="17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5" name="Rectangle 83"/>
          <p:cNvSpPr/>
          <p:nvPr/>
        </p:nvSpPr>
        <p:spPr>
          <a:xfrm>
            <a:off x="1447920" y="3200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6" name="Rectangle 69"/>
          <p:cNvSpPr/>
          <p:nvPr/>
        </p:nvSpPr>
        <p:spPr>
          <a:xfrm>
            <a:off x="426708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1523880" y="2427120"/>
          <a:ext cx="7917120" cy="777960"/>
        </p:xfrm>
        <a:graphic>
          <a:graphicData uri="http://schemas.openxmlformats.org/drawingml/2006/table">
            <a:tbl>
              <a:tblPr/>
              <a:tblGrid>
                <a:gridCol w="2514600"/>
                <a:gridCol w="5402520"/>
              </a:tblGrid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haudière à condensation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Chaudière gaz à condensation Naia Micro 25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Un système de stockage d</a:t>
                      </a:r>
                      <a:r>
                        <a:rPr b="0" lang="ja-JP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’</a:t>
                      </a: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EC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Un ballon de stockage Solerio Optimum 2 MV 150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apteurs solaires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4e307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1 capteur Solerio Optimum  Vertical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08" name="Object 17"/>
          <p:cNvGraphicFramePr/>
          <p:nvPr/>
        </p:nvGraphicFramePr>
        <p:xfrm>
          <a:off x="7072200" y="3925800"/>
          <a:ext cx="177840" cy="203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09" name="Object 1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72200" y="3925800"/>
                    <a:ext cx="177840" cy="2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0" name="Picture 304" descr="LaCie Disk:1 GRAPHISME:ELEMENTS_OK_FICHES_BET_PRODUIT:PICTOS:BOUCLE_SOLAIRE.jpg"/>
          <p:cNvPicPr/>
          <p:nvPr/>
        </p:nvPicPr>
        <p:blipFill>
          <a:blip r:embed="rId7"/>
          <a:stretch/>
        </p:blipFill>
        <p:spPr>
          <a:xfrm>
            <a:off x="6378480" y="4573440"/>
            <a:ext cx="190440" cy="14148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29" descr=""/>
          <p:cNvPicPr/>
          <p:nvPr/>
        </p:nvPicPr>
        <p:blipFill>
          <a:blip r:embed="rId8"/>
          <a:stretch/>
        </p:blipFill>
        <p:spPr>
          <a:xfrm>
            <a:off x="7648560" y="4125960"/>
            <a:ext cx="2678040" cy="2463840"/>
          </a:xfrm>
          <a:prstGeom prst="rect">
            <a:avLst/>
          </a:prstGeom>
          <a:ln cap="sq" w="1908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12" name="Picture 28" descr=""/>
          <p:cNvPicPr/>
          <p:nvPr/>
        </p:nvPicPr>
        <p:blipFill>
          <a:blip r:embed="rId9"/>
          <a:stretch/>
        </p:blipFill>
        <p:spPr>
          <a:xfrm>
            <a:off x="9845640" y="4933800"/>
            <a:ext cx="466920" cy="14292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8" descr=""/>
          <p:cNvPicPr/>
          <p:nvPr/>
        </p:nvPicPr>
        <p:blipFill>
          <a:blip r:embed="rId10"/>
          <a:stretch/>
        </p:blipFill>
        <p:spPr>
          <a:xfrm>
            <a:off x="9845640" y="4789440"/>
            <a:ext cx="466920" cy="142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28" descr=""/>
          <p:cNvPicPr/>
          <p:nvPr/>
        </p:nvPicPr>
        <p:blipFill>
          <a:blip r:embed="rId11"/>
          <a:stretch/>
        </p:blipFill>
        <p:spPr>
          <a:xfrm>
            <a:off x="9845640" y="4718160"/>
            <a:ext cx="466920" cy="1429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8" descr=""/>
          <p:cNvPicPr/>
          <p:nvPr/>
        </p:nvPicPr>
        <p:blipFill>
          <a:blip r:embed="rId12"/>
          <a:stretch/>
        </p:blipFill>
        <p:spPr>
          <a:xfrm>
            <a:off x="9377280" y="4933800"/>
            <a:ext cx="466920" cy="14292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28" descr=""/>
          <p:cNvPicPr/>
          <p:nvPr/>
        </p:nvPicPr>
        <p:blipFill>
          <a:blip r:embed="rId13"/>
          <a:stretch/>
        </p:blipFill>
        <p:spPr>
          <a:xfrm>
            <a:off x="8910720" y="4933800"/>
            <a:ext cx="466560" cy="14292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8" descr=""/>
          <p:cNvPicPr/>
          <p:nvPr/>
        </p:nvPicPr>
        <p:blipFill>
          <a:blip r:embed="rId14"/>
          <a:stretch/>
        </p:blipFill>
        <p:spPr>
          <a:xfrm>
            <a:off x="8801280" y="4933800"/>
            <a:ext cx="466560" cy="14292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8" descr=""/>
          <p:cNvPicPr/>
          <p:nvPr/>
        </p:nvPicPr>
        <p:blipFill>
          <a:blip r:embed="rId15"/>
          <a:stretch/>
        </p:blipFill>
        <p:spPr>
          <a:xfrm>
            <a:off x="9377280" y="4791240"/>
            <a:ext cx="466920" cy="1425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28" descr=""/>
          <p:cNvPicPr/>
          <p:nvPr/>
        </p:nvPicPr>
        <p:blipFill>
          <a:blip r:embed="rId16"/>
          <a:stretch/>
        </p:blipFill>
        <p:spPr>
          <a:xfrm>
            <a:off x="9414000" y="4645080"/>
            <a:ext cx="466560" cy="14292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28" descr=""/>
          <p:cNvPicPr/>
          <p:nvPr/>
        </p:nvPicPr>
        <p:blipFill>
          <a:blip r:embed="rId17"/>
          <a:stretch/>
        </p:blipFill>
        <p:spPr>
          <a:xfrm>
            <a:off x="9377280" y="4718160"/>
            <a:ext cx="466920" cy="14292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28" descr=""/>
          <p:cNvPicPr/>
          <p:nvPr/>
        </p:nvPicPr>
        <p:blipFill>
          <a:blip r:embed="rId18"/>
          <a:stretch/>
        </p:blipFill>
        <p:spPr>
          <a:xfrm>
            <a:off x="8766000" y="4789440"/>
            <a:ext cx="466920" cy="1429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28" descr=""/>
          <p:cNvPicPr/>
          <p:nvPr/>
        </p:nvPicPr>
        <p:blipFill>
          <a:blip r:embed="rId19"/>
          <a:stretch/>
        </p:blipFill>
        <p:spPr>
          <a:xfrm>
            <a:off x="9161640" y="4791240"/>
            <a:ext cx="466560" cy="1425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8" descr=""/>
          <p:cNvPicPr/>
          <p:nvPr/>
        </p:nvPicPr>
        <p:blipFill>
          <a:blip r:embed="rId20"/>
          <a:stretch/>
        </p:blipFill>
        <p:spPr>
          <a:xfrm>
            <a:off x="8766000" y="4933800"/>
            <a:ext cx="466920" cy="1429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8" descr=""/>
          <p:cNvPicPr/>
          <p:nvPr/>
        </p:nvPicPr>
        <p:blipFill>
          <a:blip r:embed="rId21"/>
          <a:stretch/>
        </p:blipFill>
        <p:spPr>
          <a:xfrm>
            <a:off x="8766000" y="4718160"/>
            <a:ext cx="466920" cy="1429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28" descr=""/>
          <p:cNvPicPr/>
          <p:nvPr/>
        </p:nvPicPr>
        <p:blipFill>
          <a:blip r:embed="rId22"/>
          <a:stretch/>
        </p:blipFill>
        <p:spPr>
          <a:xfrm>
            <a:off x="8766000" y="4646520"/>
            <a:ext cx="466920" cy="1429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8" descr=""/>
          <p:cNvPicPr/>
          <p:nvPr/>
        </p:nvPicPr>
        <p:blipFill>
          <a:blip r:embed="rId23"/>
          <a:stretch/>
        </p:blipFill>
        <p:spPr>
          <a:xfrm>
            <a:off x="8766000" y="4573440"/>
            <a:ext cx="466920" cy="14292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28" descr=""/>
          <p:cNvPicPr/>
          <p:nvPr/>
        </p:nvPicPr>
        <p:blipFill>
          <a:blip r:embed="rId24"/>
          <a:stretch/>
        </p:blipFill>
        <p:spPr>
          <a:xfrm>
            <a:off x="9053640" y="4646520"/>
            <a:ext cx="466560" cy="1429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8" descr=""/>
          <p:cNvPicPr/>
          <p:nvPr/>
        </p:nvPicPr>
        <p:blipFill>
          <a:blip r:embed="rId25"/>
          <a:stretch/>
        </p:blipFill>
        <p:spPr>
          <a:xfrm>
            <a:off x="9161640" y="4718160"/>
            <a:ext cx="466560" cy="14292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28" descr=""/>
          <p:cNvPicPr/>
          <p:nvPr/>
        </p:nvPicPr>
        <p:blipFill>
          <a:blip r:embed="rId26"/>
          <a:stretch/>
        </p:blipFill>
        <p:spPr>
          <a:xfrm>
            <a:off x="9161640" y="4575240"/>
            <a:ext cx="466560" cy="1429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8" descr=""/>
          <p:cNvPicPr/>
          <p:nvPr/>
        </p:nvPicPr>
        <p:blipFill>
          <a:blip r:embed="rId27"/>
          <a:stretch/>
        </p:blipFill>
        <p:spPr>
          <a:xfrm>
            <a:off x="9520200" y="4573440"/>
            <a:ext cx="466920" cy="14292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38"/>
          <p:cNvSpPr/>
          <p:nvPr/>
        </p:nvSpPr>
        <p:spPr>
          <a:xfrm>
            <a:off x="8709120" y="4573440"/>
            <a:ext cx="176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45 Helvetica Light"/>
              </a:rPr>
              <a:t>Ballon Solerio Optimum 2 MV150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2" name="Rectangle 39"/>
          <p:cNvSpPr/>
          <p:nvPr/>
        </p:nvSpPr>
        <p:spPr>
          <a:xfrm>
            <a:off x="8717400" y="4718160"/>
            <a:ext cx="840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55 Helvetica Roman"/>
              </a:rPr>
              <a:t>Naia Micro 25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3" name="Rectangle 40"/>
          <p:cNvSpPr/>
          <p:nvPr/>
        </p:nvSpPr>
        <p:spPr>
          <a:xfrm>
            <a:off x="8697600" y="4933800"/>
            <a:ext cx="1409040" cy="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45 Helvetica Light"/>
              </a:rPr>
              <a:t>Capteur Solerio Optimum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4" name="Espace réservé du texte 5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5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10B97-D7C1-49A0-BC61-0ACAA8DF5396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6" name="Groupe 17"/>
          <p:cNvGrpSpPr/>
          <p:nvPr/>
        </p:nvGrpSpPr>
        <p:grpSpPr>
          <a:xfrm>
            <a:off x="736560" y="2341440"/>
            <a:ext cx="5308560" cy="2381400"/>
            <a:chOff x="736560" y="2341440"/>
            <a:chExt cx="5308560" cy="2381400"/>
          </a:xfrm>
        </p:grpSpPr>
        <p:pic>
          <p:nvPicPr>
            <p:cNvPr id="437" name="Picture 36" descr="LaCie Disk:1 GRAPHISME:ELEMENTS_OK_FICHES_BET_PRODUIT:F3_BBS:F3_B_1.jpg"/>
            <p:cNvPicPr/>
            <p:nvPr/>
          </p:nvPicPr>
          <p:blipFill>
            <a:blip r:embed="rId1"/>
            <a:stretch/>
          </p:blipFill>
          <p:spPr>
            <a:xfrm>
              <a:off x="736560" y="2341440"/>
              <a:ext cx="5308560" cy="2381400"/>
            </a:xfrm>
            <a:prstGeom prst="rect">
              <a:avLst/>
            </a:prstGeom>
            <a:ln w="0">
              <a:noFill/>
            </a:ln>
            <a:effectLst>
              <a:outerShdw dist="38183" dir="2700000" blurRad="0" rotWithShape="0">
                <a:srgbClr val="000000">
                  <a:alpha val="75000"/>
                </a:srgbClr>
              </a:outerShdw>
            </a:effectLst>
          </p:spPr>
        </p:pic>
        <p:pic>
          <p:nvPicPr>
            <p:cNvPr id="438" name="Picture 17" descr=""/>
            <p:cNvPicPr/>
            <p:nvPr/>
          </p:nvPicPr>
          <p:blipFill>
            <a:blip r:embed="rId2"/>
            <a:stretch/>
          </p:blipFill>
          <p:spPr>
            <a:xfrm>
              <a:off x="3162240" y="2574720"/>
              <a:ext cx="838080" cy="180720"/>
            </a:xfrm>
            <a:prstGeom prst="rect">
              <a:avLst/>
            </a:prstGeom>
            <a:ln w="0">
              <a:noFill/>
            </a:ln>
          </p:spPr>
        </p:pic>
      </p:grpSp>
      <p:cxnSp>
        <p:nvCxnSpPr>
          <p:cNvPr id="439" name="AutoShape 24"/>
          <p:cNvCxnSpPr/>
          <p:nvPr/>
        </p:nvCxnSpPr>
        <p:spPr>
          <a:xfrm flipH="1" rot="16200000">
            <a:off x="6570720" y="371772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40" name="AutoShape 41"/>
          <p:cNvCxnSpPr/>
          <p:nvPr/>
        </p:nvCxnSpPr>
        <p:spPr>
          <a:xfrm flipH="1" flipV="1" rot="10800000">
            <a:off x="19440" y="3850920"/>
            <a:ext cx="252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41" name="Freeform 25"/>
          <p:cNvSpPr/>
          <p:nvPr/>
        </p:nvSpPr>
        <p:spPr>
          <a:xfrm>
            <a:off x="5656320" y="3408480"/>
            <a:ext cx="2362320" cy="50472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2" name="Text Box 36"/>
          <p:cNvSpPr/>
          <p:nvPr/>
        </p:nvSpPr>
        <p:spPr>
          <a:xfrm>
            <a:off x="6784920" y="3638880"/>
            <a:ext cx="345780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Un emplacement en volume chauffé permet de réduire les consommations par rapport à un emplacement hors volume chauffé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3" name="Text Box 37"/>
          <p:cNvSpPr/>
          <p:nvPr/>
        </p:nvSpPr>
        <p:spPr>
          <a:xfrm>
            <a:off x="3216960" y="4479840"/>
            <a:ext cx="558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b1af"/>
                </a:solidFill>
                <a:latin typeface="45 Helvetica Light"/>
              </a:rPr>
              <a:t>49,0 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44" name="Picture 19" descr=""/>
          <p:cNvPicPr/>
          <p:nvPr/>
        </p:nvPicPr>
        <p:blipFill>
          <a:blip r:embed="rId3"/>
          <a:stretch/>
        </p:blipFill>
        <p:spPr>
          <a:xfrm>
            <a:off x="3205080" y="2976480"/>
            <a:ext cx="847800" cy="171360"/>
          </a:xfrm>
          <a:prstGeom prst="rect">
            <a:avLst/>
          </a:prstGeom>
          <a:ln w="0">
            <a:noFill/>
          </a:ln>
        </p:spPr>
      </p:pic>
      <p:sp>
        <p:nvSpPr>
          <p:cNvPr id="445" name="Rectangle 19"/>
          <p:cNvSpPr/>
          <p:nvPr/>
        </p:nvSpPr>
        <p:spPr>
          <a:xfrm>
            <a:off x="3162960" y="2932200"/>
            <a:ext cx="776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Perman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génération «CD + CESI opt»</a:t>
            </a:r>
            <a:endParaRPr b="0" lang="en-US" sz="29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47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65703-1068-4C3A-8F8E-5BE6FA2B603B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110" descr="LaCie Disk:1 GRAPHISME:ELEMENTS_OK_FICHES_BET_PRODUIT:F3_BBS:F3_B_3.jpg"/>
          <p:cNvPicPr/>
          <p:nvPr/>
        </p:nvPicPr>
        <p:blipFill>
          <a:blip r:embed="rId1"/>
          <a:stretch/>
        </p:blipFill>
        <p:spPr>
          <a:xfrm>
            <a:off x="668160" y="3200400"/>
            <a:ext cx="4648320" cy="3895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49" name="Text Box 7"/>
          <p:cNvSpPr/>
          <p:nvPr/>
        </p:nvSpPr>
        <p:spPr>
          <a:xfrm>
            <a:off x="6819840" y="2108160"/>
            <a:ext cx="1881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50" name="AutoShape 8"/>
          <p:cNvCxnSpPr/>
          <p:nvPr/>
        </p:nvCxnSpPr>
        <p:spPr>
          <a:xfrm flipV="1" rot="16200000">
            <a:off x="6639480" y="182088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51" name="AutoShape 9"/>
          <p:cNvCxnSpPr/>
          <p:nvPr/>
        </p:nvCxnSpPr>
        <p:spPr>
          <a:xfrm flipV="1" rot="16200000">
            <a:off x="6639480" y="182088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52" name="AutoShape 10"/>
          <p:cNvCxnSpPr/>
          <p:nvPr/>
        </p:nvCxnSpPr>
        <p:spPr>
          <a:xfrm flipH="1" rot="16200000">
            <a:off x="6458760" y="2742840"/>
            <a:ext cx="2160" cy="252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53" name="AutoShape 12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54" name="Text Box 62"/>
          <p:cNvSpPr/>
          <p:nvPr/>
        </p:nvSpPr>
        <p:spPr>
          <a:xfrm>
            <a:off x="7831080" y="5537160"/>
            <a:ext cx="7970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2060"/>
                </a:solidFill>
                <a:latin typeface="HelveticaNeue BoldCond"/>
              </a:rPr>
              <a:t>Plancher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5" name="Freeform 25"/>
          <p:cNvSpPr/>
          <p:nvPr/>
        </p:nvSpPr>
        <p:spPr>
          <a:xfrm flipV="1">
            <a:off x="4402080" y="2971440"/>
            <a:ext cx="5486400" cy="380880"/>
          </a:xfrm>
          <a:custGeom>
            <a:avLst/>
            <a:gdLst>
              <a:gd name="textAreaLeft" fmla="*/ 0 w 5486400"/>
              <a:gd name="textAreaRight" fmla="*/ 5486760 w 5486400"/>
              <a:gd name="textAreaTop" fmla="*/ 360 h 380880"/>
              <a:gd name="textAreaBottom" fmla="*/ 381600 h 38088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6" name="Text Box 18"/>
          <p:cNvSpPr/>
          <p:nvPr/>
        </p:nvSpPr>
        <p:spPr>
          <a:xfrm>
            <a:off x="6638760" y="2514600"/>
            <a:ext cx="3440160" cy="93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s valeurs issues du certiﬁcat CE sont considérées certiﬁées. Comparé à un système «CESI classique», la chaudière doit être plus puissante pour produire de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 instantanée avec un confort sufﬁsan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6638760" y="1447920"/>
            <a:ext cx="3440160" cy="95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Toutes les caractéristiques de performances des générateurs sont disponibles sur le site du fabricant, EDIBATEC et la 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75 Helvetica Bold"/>
                <a:hlinkClick r:id="rId2"/>
              </a:rPr>
              <a:t>base de données ATITA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 (https://techniqueuniclima.com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8" name="Text Box 111"/>
          <p:cNvSpPr/>
          <p:nvPr/>
        </p:nvSpPr>
        <p:spPr>
          <a:xfrm>
            <a:off x="3009600" y="348624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18,8 k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9" name="Text Box 112"/>
          <p:cNvSpPr/>
          <p:nvPr/>
        </p:nvSpPr>
        <p:spPr>
          <a:xfrm>
            <a:off x="3010680" y="3699000"/>
            <a:ext cx="360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6,3 k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0" name="Text Box 113"/>
          <p:cNvSpPr/>
          <p:nvPr/>
        </p:nvSpPr>
        <p:spPr>
          <a:xfrm>
            <a:off x="2980080" y="4343400"/>
            <a:ext cx="103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entilateur prés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1" name="Text Box 114"/>
          <p:cNvSpPr/>
          <p:nvPr/>
        </p:nvSpPr>
        <p:spPr>
          <a:xfrm>
            <a:off x="2993040" y="4551480"/>
            <a:ext cx="80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2" name="Text Box 115"/>
          <p:cNvSpPr/>
          <p:nvPr/>
        </p:nvSpPr>
        <p:spPr>
          <a:xfrm>
            <a:off x="3013920" y="4764240"/>
            <a:ext cx="322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97.9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3" name="Text Box 116"/>
          <p:cNvSpPr/>
          <p:nvPr/>
        </p:nvSpPr>
        <p:spPr>
          <a:xfrm>
            <a:off x="2988360" y="4952880"/>
            <a:ext cx="848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certifiée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4" name="Text Box 118"/>
          <p:cNvSpPr/>
          <p:nvPr/>
        </p:nvSpPr>
        <p:spPr>
          <a:xfrm>
            <a:off x="2996280" y="5410080"/>
            <a:ext cx="84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mesur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5" name="Text Box 120"/>
          <p:cNvSpPr/>
          <p:nvPr/>
        </p:nvSpPr>
        <p:spPr>
          <a:xfrm>
            <a:off x="3011760" y="562752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5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6" name="Text Box 121"/>
          <p:cNvSpPr/>
          <p:nvPr/>
        </p:nvSpPr>
        <p:spPr>
          <a:xfrm>
            <a:off x="3011760" y="5824440"/>
            <a:ext cx="26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7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7" name="Text Box 122"/>
          <p:cNvSpPr/>
          <p:nvPr/>
        </p:nvSpPr>
        <p:spPr>
          <a:xfrm>
            <a:off x="3012120" y="6031080"/>
            <a:ext cx="20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8" name="Text Box 123"/>
          <p:cNvSpPr/>
          <p:nvPr/>
        </p:nvSpPr>
        <p:spPr>
          <a:xfrm>
            <a:off x="3060000" y="6248520"/>
            <a:ext cx="252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0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9" name="Text Box 124"/>
          <p:cNvSpPr/>
          <p:nvPr/>
        </p:nvSpPr>
        <p:spPr>
          <a:xfrm>
            <a:off x="3062160" y="64659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80 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0" name="Text Box 124"/>
          <p:cNvSpPr/>
          <p:nvPr/>
        </p:nvSpPr>
        <p:spPr>
          <a:xfrm>
            <a:off x="2980080" y="6645240"/>
            <a:ext cx="1252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Générateur sans ballon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71" name="Picture 42" descr=""/>
          <p:cNvPicPr/>
          <p:nvPr/>
        </p:nvPicPr>
        <p:blipFill>
          <a:blip r:embed="rId3"/>
          <a:stretch/>
        </p:blipFill>
        <p:spPr>
          <a:xfrm>
            <a:off x="3743280" y="2146320"/>
            <a:ext cx="533520" cy="15228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115"/>
          <p:cNvSpPr/>
          <p:nvPr/>
        </p:nvSpPr>
        <p:spPr>
          <a:xfrm>
            <a:off x="3025440" y="5176800"/>
            <a:ext cx="41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08,7 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73" name="Picture 109" descr="LaCie Disk:1 GRAPHISME:ELEMENTS_OK_FICHES_BET_PRODUIT:F3_BBS:F3_B_2.jpg"/>
          <p:cNvPicPr/>
          <p:nvPr/>
        </p:nvPicPr>
        <p:blipFill>
          <a:blip r:embed="rId4"/>
          <a:stretch/>
        </p:blipFill>
        <p:spPr>
          <a:xfrm>
            <a:off x="668160" y="1447920"/>
            <a:ext cx="4648320" cy="15602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74" name="Freeform 25"/>
          <p:cNvSpPr/>
          <p:nvPr/>
        </p:nvSpPr>
        <p:spPr>
          <a:xfrm flipV="1">
            <a:off x="4390920" y="5907240"/>
            <a:ext cx="5486400" cy="187200"/>
          </a:xfrm>
          <a:custGeom>
            <a:avLst/>
            <a:gdLst>
              <a:gd name="textAreaLeft" fmla="*/ 0 w 5486400"/>
              <a:gd name="textAreaRight" fmla="*/ 5486760 w 5486400"/>
              <a:gd name="textAreaTop" fmla="*/ 360 h 187200"/>
              <a:gd name="textAreaBottom" fmla="*/ 187920 h 1872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5" name="Text Box 18"/>
          <p:cNvSpPr/>
          <p:nvPr/>
        </p:nvSpPr>
        <p:spPr>
          <a:xfrm>
            <a:off x="6640560" y="5437080"/>
            <a:ext cx="344016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a puissance à charge nulle est identique à celle à puissance nominale car cette information n’est pas précisée dans les documentations du fabrican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76" name="Picture 85" descr="Travail:1 GRAPHISME:GRDF:FICHES_BET_CEGIBAT_GrDF:FICHES_PRODUIT:ELEMENTS_OK:F1_BBS:fleche.png"/>
          <p:cNvPicPr/>
          <p:nvPr/>
        </p:nvPicPr>
        <p:blipFill>
          <a:blip r:embed="rId5"/>
          <a:stretch/>
        </p:blipFill>
        <p:spPr>
          <a:xfrm>
            <a:off x="1887480" y="1981080"/>
            <a:ext cx="865080" cy="168912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40" descr=""/>
          <p:cNvPicPr/>
          <p:nvPr/>
        </p:nvPicPr>
        <p:blipFill>
          <a:blip r:embed="rId6"/>
          <a:stretch/>
        </p:blipFill>
        <p:spPr>
          <a:xfrm>
            <a:off x="2967120" y="1714680"/>
            <a:ext cx="847800" cy="17136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41" descr=""/>
          <p:cNvPicPr/>
          <p:nvPr/>
        </p:nvPicPr>
        <p:blipFill>
          <a:blip r:embed="rId7"/>
          <a:stretch/>
        </p:blipFill>
        <p:spPr>
          <a:xfrm>
            <a:off x="3814920" y="1714680"/>
            <a:ext cx="847440" cy="17136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42" descr=""/>
          <p:cNvPicPr/>
          <p:nvPr/>
        </p:nvPicPr>
        <p:blipFill>
          <a:blip r:embed="rId8"/>
          <a:stretch/>
        </p:blipFill>
        <p:spPr>
          <a:xfrm>
            <a:off x="2967120" y="2146320"/>
            <a:ext cx="847800" cy="1713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43" descr=""/>
          <p:cNvPicPr/>
          <p:nvPr/>
        </p:nvPicPr>
        <p:blipFill>
          <a:blip r:embed="rId9"/>
          <a:stretch/>
        </p:blipFill>
        <p:spPr>
          <a:xfrm>
            <a:off x="3743280" y="2146320"/>
            <a:ext cx="847800" cy="17136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43"/>
          <p:cNvSpPr/>
          <p:nvPr/>
        </p:nvSpPr>
        <p:spPr>
          <a:xfrm>
            <a:off x="2909520" y="1714680"/>
            <a:ext cx="919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Naia Micro 2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2" name="Rectangle 44"/>
          <p:cNvSpPr/>
          <p:nvPr/>
        </p:nvSpPr>
        <p:spPr>
          <a:xfrm>
            <a:off x="2922120" y="2131920"/>
            <a:ext cx="1698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45 Helvetica Light"/>
              </a:rPr>
              <a:t>Chaudière Idra Eco Condens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«Chaudière à condensation»</a:t>
            </a:r>
            <a:endParaRPr b="0" lang="en-US" sz="29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4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AA79B-AEEA-4D9A-9660-19EB075A08C7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Picture 67" descr="LaCie Disk:1 GRAPHISME:ELEMENTS_OK_FICHES_BET_PRODUIT:F3_BBS:F3_B_4.jpg"/>
          <p:cNvPicPr/>
          <p:nvPr/>
        </p:nvPicPr>
        <p:blipFill>
          <a:blip r:embed="rId1"/>
          <a:stretch/>
        </p:blipFill>
        <p:spPr>
          <a:xfrm>
            <a:off x="716040" y="1378080"/>
            <a:ext cx="5203800" cy="4600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cxnSp>
        <p:nvCxnSpPr>
          <p:cNvPr id="486" name="AutoShape 11"/>
          <p:cNvCxnSpPr/>
          <p:nvPr/>
        </p:nvCxnSpPr>
        <p:spPr>
          <a:xfrm flipH="1" rot="16200000">
            <a:off x="6477120" y="274932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87" name="AutoShape 12"/>
          <p:cNvCxnSpPr/>
          <p:nvPr/>
        </p:nvCxnSpPr>
        <p:spPr>
          <a:xfrm flipH="1" flipV="1" rot="10800000">
            <a:off x="-360" y="385956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88" name="Text Box 29"/>
          <p:cNvSpPr/>
          <p:nvPr/>
        </p:nvSpPr>
        <p:spPr>
          <a:xfrm>
            <a:off x="3124080" y="244476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 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9" name="Text Box 45"/>
          <p:cNvSpPr/>
          <p:nvPr/>
        </p:nvSpPr>
        <p:spPr>
          <a:xfrm>
            <a:off x="3124080" y="267336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0" name="Text Box 46"/>
          <p:cNvSpPr/>
          <p:nvPr/>
        </p:nvSpPr>
        <p:spPr>
          <a:xfrm>
            <a:off x="3124080" y="335916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Régulation sur la températur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1" name="Text Box 47"/>
          <p:cNvSpPr/>
          <p:nvPr/>
        </p:nvSpPr>
        <p:spPr>
          <a:xfrm>
            <a:off x="3124080" y="358776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Rendement optique certifié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2" name="Text Box 48"/>
          <p:cNvSpPr/>
          <p:nvPr/>
        </p:nvSpPr>
        <p:spPr>
          <a:xfrm>
            <a:off x="3124080" y="381636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80,4 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3" name="Text Box 49"/>
          <p:cNvSpPr/>
          <p:nvPr/>
        </p:nvSpPr>
        <p:spPr>
          <a:xfrm>
            <a:off x="3124080" y="404496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,235 W/(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.K)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4" name="Text Box 50"/>
          <p:cNvSpPr/>
          <p:nvPr/>
        </p:nvSpPr>
        <p:spPr>
          <a:xfrm>
            <a:off x="3124080" y="442584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.0117 W/(m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.K</a:t>
            </a:r>
            <a:r>
              <a:rPr b="0" lang="fr-FR" sz="900" spc="-1" strike="noStrike" baseline="30000">
                <a:solidFill>
                  <a:srgbClr val="002060"/>
                </a:solidFill>
                <a:latin typeface="55 Helvetica Roman"/>
              </a:rPr>
              <a:t>2</a:t>
            </a: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)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5" name="Text Box 51"/>
          <p:cNvSpPr/>
          <p:nvPr/>
        </p:nvSpPr>
        <p:spPr>
          <a:xfrm>
            <a:off x="3124080" y="550872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0,94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6" name="Text Box 52"/>
          <p:cNvSpPr/>
          <p:nvPr/>
        </p:nvSpPr>
        <p:spPr>
          <a:xfrm>
            <a:off x="3124080" y="5737320"/>
            <a:ext cx="1981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39,5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7" name="Text Box 25"/>
          <p:cNvSpPr/>
          <p:nvPr/>
        </p:nvSpPr>
        <p:spPr>
          <a:xfrm>
            <a:off x="6656400" y="1378080"/>
            <a:ext cx="3513240" cy="5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Les caractéristiques de performances des capteurs solaires sont données dans les avis techniques ou les PV Keymark des produit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8" name="Text Box 62"/>
          <p:cNvSpPr/>
          <p:nvPr/>
        </p:nvSpPr>
        <p:spPr>
          <a:xfrm>
            <a:off x="3870360" y="5683320"/>
            <a:ext cx="18396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99" name="Picture 36" descr=""/>
          <p:cNvPicPr/>
          <p:nvPr/>
        </p:nvPicPr>
        <p:blipFill>
          <a:blip r:embed="rId2"/>
          <a:stretch/>
        </p:blipFill>
        <p:spPr>
          <a:xfrm>
            <a:off x="4919760" y="4083120"/>
            <a:ext cx="847800" cy="171360"/>
          </a:xfrm>
          <a:prstGeom prst="rect">
            <a:avLst/>
          </a:prstGeom>
          <a:ln w="0">
            <a:noFill/>
          </a:ln>
        </p:spPr>
      </p:pic>
      <p:pic>
        <p:nvPicPr>
          <p:cNvPr id="500" name="Picture 37" descr=""/>
          <p:cNvPicPr/>
          <p:nvPr/>
        </p:nvPicPr>
        <p:blipFill>
          <a:blip r:embed="rId3"/>
          <a:stretch/>
        </p:blipFill>
        <p:spPr>
          <a:xfrm>
            <a:off x="3111480" y="1693800"/>
            <a:ext cx="847800" cy="1713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37" descr=""/>
          <p:cNvPicPr/>
          <p:nvPr/>
        </p:nvPicPr>
        <p:blipFill>
          <a:blip r:embed="rId4"/>
          <a:stretch/>
        </p:blipFill>
        <p:spPr>
          <a:xfrm>
            <a:off x="3416400" y="1720800"/>
            <a:ext cx="847800" cy="17136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38"/>
          <p:cNvSpPr/>
          <p:nvPr/>
        </p:nvSpPr>
        <p:spPr>
          <a:xfrm>
            <a:off x="3001680" y="1704960"/>
            <a:ext cx="198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45 Helvetica Light"/>
              </a:rPr>
              <a:t>Capteur Solerio Optimum Vertical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2319120" y="325440"/>
            <a:ext cx="794052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e l</a:t>
            </a:r>
            <a:r>
              <a:rPr b="0" lang="ja-JP" sz="2900" spc="-1" strike="noStrike">
                <a:solidFill>
                  <a:srgbClr val="662483"/>
                </a:solidFill>
                <a:latin typeface="Avenir LT Std 55 Roman"/>
              </a:rPr>
              <a:t>’</a:t>
            </a: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objet boucle solaire «Capteur Solerio Optimum»</a:t>
            </a:r>
            <a:endParaRPr b="0" lang="en-US" sz="29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04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FB21D-638F-40A5-A180-E2231A4BD4FB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5" name="Freeform 24"/>
          <p:cNvSpPr/>
          <p:nvPr/>
        </p:nvSpPr>
        <p:spPr>
          <a:xfrm>
            <a:off x="5560920" y="2486160"/>
            <a:ext cx="4191120" cy="228600"/>
          </a:xfrm>
          <a:custGeom>
            <a:avLst/>
            <a:gdLst>
              <a:gd name="textAreaLeft" fmla="*/ 0 w 4191120"/>
              <a:gd name="textAreaRight" fmla="*/ 4191480 w 41911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6" name="Freeform 24"/>
          <p:cNvSpPr/>
          <p:nvPr/>
        </p:nvSpPr>
        <p:spPr>
          <a:xfrm>
            <a:off x="5632560" y="3205080"/>
            <a:ext cx="2590560" cy="533520"/>
          </a:xfrm>
          <a:custGeom>
            <a:avLst/>
            <a:gdLst>
              <a:gd name="textAreaLeft" fmla="*/ 0 w 2590560"/>
              <a:gd name="textAreaRight" fmla="*/ 2590920 w 25905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7" name="Freeform 24"/>
          <p:cNvSpPr/>
          <p:nvPr/>
        </p:nvSpPr>
        <p:spPr>
          <a:xfrm>
            <a:off x="5560920" y="3494160"/>
            <a:ext cx="2210040" cy="1143000"/>
          </a:xfrm>
          <a:custGeom>
            <a:avLst/>
            <a:gdLst>
              <a:gd name="textAreaLeft" fmla="*/ 0 w 2210040"/>
              <a:gd name="textAreaRight" fmla="*/ 2210400 w 22100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8" name="Freeform 24"/>
          <p:cNvSpPr/>
          <p:nvPr/>
        </p:nvSpPr>
        <p:spPr>
          <a:xfrm>
            <a:off x="5560920" y="3722760"/>
            <a:ext cx="1828800" cy="175248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752480"/>
              <a:gd name="textAreaBottom" fmla="*/ 1752840 h 175248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9" name="Text Box 25"/>
          <p:cNvSpPr/>
          <p:nvPr/>
        </p:nvSpPr>
        <p:spPr>
          <a:xfrm>
            <a:off x="6927840" y="2989440"/>
            <a:ext cx="351324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ttention à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rientation des panneaux qui a un fort impact sur la production d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CS. Une orientation au Nord (cas extrême) augmente la consommation du proje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0" name="Text Box 25"/>
          <p:cNvSpPr/>
          <p:nvPr/>
        </p:nvSpPr>
        <p:spPr>
          <a:xfrm>
            <a:off x="6927840" y="406872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inclinaison de 45 °est optimale.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Une modiﬁcation de celle-ci peut  entrainer une baisse de performanc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1" name="Text Box 25"/>
          <p:cNvSpPr/>
          <p:nvPr/>
        </p:nvSpPr>
        <p:spPr>
          <a:xfrm>
            <a:off x="6927840" y="493380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e manière générale, la régulation de la boucle solaire s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ffectue sur la température en maisons individuell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2" name="Text Box 25"/>
          <p:cNvSpPr/>
          <p:nvPr/>
        </p:nvSpPr>
        <p:spPr>
          <a:xfrm>
            <a:off x="6927840" y="586908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n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bsence de valeurs fournies par le constructeur, les valeurs moyennes suivantes peuvent être utilisé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3" name="Text Box 25"/>
          <p:cNvSpPr/>
          <p:nvPr/>
        </p:nvSpPr>
        <p:spPr>
          <a:xfrm>
            <a:off x="6927840" y="219708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a surface des capteurs solaires est plus faible dans un système «CESI optimisé» que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4" name="AutoShape 65"/>
          <p:cNvSpPr/>
          <p:nvPr/>
        </p:nvSpPr>
        <p:spPr>
          <a:xfrm>
            <a:off x="4911840" y="4789440"/>
            <a:ext cx="152280" cy="457200"/>
          </a:xfrm>
          <a:custGeom>
            <a:avLst/>
            <a:gdLst>
              <a:gd name="textAreaLeft" fmla="*/ 0 w 152280"/>
              <a:gd name="textAreaRight" fmla="*/ 55080 w 1522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15" name="Connecteur en angle 46"/>
          <p:cNvCxnSpPr>
            <a:stCxn id="512" idx="1"/>
          </p:cNvCxnSpPr>
          <p:nvPr/>
        </p:nvCxnSpPr>
        <p:spPr>
          <a:xfrm rot="10800000">
            <a:off x="5126760" y="5004720"/>
            <a:ext cx="1801080" cy="1164240"/>
          </a:xfrm>
          <a:prstGeom prst="bentConnector3">
            <a:avLst>
              <a:gd name="adj1" fmla="val 50000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8" descr="LaCie Disk:1 GRAPHISME:ELEMENTS_OK_FICHES_BET_PRODUIT:F3_BBS:F3_B_6.jpg"/>
          <p:cNvPicPr/>
          <p:nvPr/>
        </p:nvPicPr>
        <p:blipFill>
          <a:blip r:embed="rId1"/>
          <a:stretch/>
        </p:blipFill>
        <p:spPr>
          <a:xfrm>
            <a:off x="736560" y="3678120"/>
            <a:ext cx="4719600" cy="23907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17" name="Text Box 9"/>
          <p:cNvSpPr/>
          <p:nvPr/>
        </p:nvSpPr>
        <p:spPr>
          <a:xfrm>
            <a:off x="6910560" y="2357280"/>
            <a:ext cx="18795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18" name="AutoShape 12"/>
          <p:cNvCxnSpPr/>
          <p:nvPr/>
        </p:nvCxnSpPr>
        <p:spPr>
          <a:xfrm flipH="1" rot="16200000">
            <a:off x="6549840" y="2991960"/>
            <a:ext cx="252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519" name="AutoShape 13"/>
          <p:cNvCxnSpPr/>
          <p:nvPr/>
        </p:nvCxnSpPr>
        <p:spPr>
          <a:xfrm flipH="1" flipV="1" rot="10800000">
            <a:off x="75960" y="385164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520" name="Text Box 22"/>
          <p:cNvSpPr/>
          <p:nvPr/>
        </p:nvSpPr>
        <p:spPr>
          <a:xfrm>
            <a:off x="6729480" y="3525840"/>
            <a:ext cx="343692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1" name="Freeform 23"/>
          <p:cNvSpPr/>
          <p:nvPr/>
        </p:nvSpPr>
        <p:spPr>
          <a:xfrm flipV="1">
            <a:off x="5181480" y="1614600"/>
            <a:ext cx="1600200" cy="860400"/>
          </a:xfrm>
          <a:custGeom>
            <a:avLst/>
            <a:gdLst>
              <a:gd name="textAreaLeft" fmla="*/ 0 w 1600200"/>
              <a:gd name="textAreaRight" fmla="*/ 1600560 w 1600200"/>
              <a:gd name="textAreaTop" fmla="*/ 360 h 860400"/>
              <a:gd name="textAreaBottom" fmla="*/ 861120 h 8604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2" name="Freeform 24"/>
          <p:cNvSpPr/>
          <p:nvPr/>
        </p:nvSpPr>
        <p:spPr>
          <a:xfrm flipV="1">
            <a:off x="5200560" y="3637080"/>
            <a:ext cx="3657600" cy="861840"/>
          </a:xfrm>
          <a:custGeom>
            <a:avLst/>
            <a:gdLst>
              <a:gd name="textAreaLeft" fmla="*/ 0 w 3657600"/>
              <a:gd name="textAreaRight" fmla="*/ 3657960 w 3657600"/>
              <a:gd name="textAreaTop" fmla="*/ 360 h 861840"/>
              <a:gd name="textAreaBottom" fmla="*/ 862560 h 86184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3" name="Text Box 25"/>
          <p:cNvSpPr/>
          <p:nvPr/>
        </p:nvSpPr>
        <p:spPr>
          <a:xfrm>
            <a:off x="6711840" y="3421080"/>
            <a:ext cx="343692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Le volume du ballon est plus faible dans un système «CESI optimisé» que dans un système «CESI classique» aﬁn de limiter les perte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4" name="Text Box 39"/>
          <p:cNvSpPr/>
          <p:nvPr/>
        </p:nvSpPr>
        <p:spPr>
          <a:xfrm>
            <a:off x="3003840" y="4476600"/>
            <a:ext cx="413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150.0 L 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5" name="Text Box 40"/>
          <p:cNvSpPr/>
          <p:nvPr/>
        </p:nvSpPr>
        <p:spPr>
          <a:xfrm>
            <a:off x="2976840" y="466884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6" name="Text Box 41"/>
          <p:cNvSpPr/>
          <p:nvPr/>
        </p:nvSpPr>
        <p:spPr>
          <a:xfrm>
            <a:off x="2976840" y="4897440"/>
            <a:ext cx="934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Valeur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7" name="Text Box 42"/>
          <p:cNvSpPr/>
          <p:nvPr/>
        </p:nvSpPr>
        <p:spPr>
          <a:xfrm>
            <a:off x="3039840" y="5160960"/>
            <a:ext cx="282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85° 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8" name="Text Box 43"/>
          <p:cNvSpPr/>
          <p:nvPr/>
        </p:nvSpPr>
        <p:spPr>
          <a:xfrm>
            <a:off x="2969280" y="5354640"/>
            <a:ext cx="1181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Chauffage perman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9" name="Text Box 44"/>
          <p:cNvSpPr/>
          <p:nvPr/>
        </p:nvSpPr>
        <p:spPr>
          <a:xfrm>
            <a:off x="3003480" y="5607000"/>
            <a:ext cx="387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29.00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0" name="Text Box 46"/>
          <p:cNvSpPr/>
          <p:nvPr/>
        </p:nvSpPr>
        <p:spPr>
          <a:xfrm>
            <a:off x="2998800" y="5848200"/>
            <a:ext cx="36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55 Helvetica Roman"/>
              </a:rPr>
              <a:t>Zone 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31" name="Picture 47" descr="LaCie Disk:1 GRAPHISME:ELEMENTS_OK_FICHES_BET_PRODUIT:F3_BBS:F3_B_5.jpg"/>
          <p:cNvPicPr/>
          <p:nvPr/>
        </p:nvPicPr>
        <p:blipFill>
          <a:blip r:embed="rId2"/>
          <a:stretch/>
        </p:blipFill>
        <p:spPr>
          <a:xfrm>
            <a:off x="736560" y="1620720"/>
            <a:ext cx="4737240" cy="18655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532" name="Picture 29" descr="Travail:1 GRAPHISME:GRDF:FICHES_BET_CEGIBAT_GrDF:FICHES_PRODUIT:ELEMENTS_OK:F1_BBS:fleche.png"/>
          <p:cNvPicPr/>
          <p:nvPr/>
        </p:nvPicPr>
        <p:blipFill>
          <a:blip r:embed="rId3"/>
          <a:stretch/>
        </p:blipFill>
        <p:spPr>
          <a:xfrm>
            <a:off x="2054160" y="2259000"/>
            <a:ext cx="865080" cy="2028960"/>
          </a:xfrm>
          <a:prstGeom prst="rect">
            <a:avLst/>
          </a:prstGeom>
          <a:ln w="0">
            <a:noFill/>
          </a:ln>
        </p:spPr>
      </p:pic>
      <p:sp>
        <p:nvSpPr>
          <p:cNvPr id="533" name="Freeform 24"/>
          <p:cNvSpPr/>
          <p:nvPr/>
        </p:nvSpPr>
        <p:spPr>
          <a:xfrm flipV="1">
            <a:off x="5178600" y="2111040"/>
            <a:ext cx="3657600" cy="860400"/>
          </a:xfrm>
          <a:custGeom>
            <a:avLst/>
            <a:gdLst>
              <a:gd name="textAreaLeft" fmla="*/ 0 w 3657600"/>
              <a:gd name="textAreaRight" fmla="*/ 3657960 w 3657600"/>
              <a:gd name="textAreaTop" fmla="*/ 360 h 860400"/>
              <a:gd name="textAreaBottom" fmla="*/ 861120 h 8604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4" name="Text Box 25"/>
          <p:cNvSpPr/>
          <p:nvPr/>
        </p:nvSpPr>
        <p:spPr>
          <a:xfrm>
            <a:off x="6729480" y="1969920"/>
            <a:ext cx="343692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e système «CESI optimisé»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gaz est de type séparé instantané aﬁn de limiter les déperditions. Au contraire,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appoint est intégré dans un système «CESI classique»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35" name="Picture 36" descr=""/>
          <p:cNvPicPr/>
          <p:nvPr/>
        </p:nvPicPr>
        <p:blipFill>
          <a:blip r:embed="rId4"/>
          <a:stretch/>
        </p:blipFill>
        <p:spPr>
          <a:xfrm>
            <a:off x="2895480" y="1836720"/>
            <a:ext cx="1800360" cy="21600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36" descr=""/>
          <p:cNvPicPr/>
          <p:nvPr/>
        </p:nvPicPr>
        <p:blipFill>
          <a:blip r:embed="rId5"/>
          <a:stretch/>
        </p:blipFill>
        <p:spPr>
          <a:xfrm>
            <a:off x="2895480" y="2268360"/>
            <a:ext cx="1800360" cy="1447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37" descr=""/>
          <p:cNvPicPr/>
          <p:nvPr/>
        </p:nvPicPr>
        <p:blipFill>
          <a:blip r:embed="rId6"/>
          <a:stretch/>
        </p:blipFill>
        <p:spPr>
          <a:xfrm>
            <a:off x="2897280" y="2467080"/>
            <a:ext cx="828720" cy="15228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8" descr=""/>
          <p:cNvPicPr/>
          <p:nvPr/>
        </p:nvPicPr>
        <p:blipFill>
          <a:blip r:embed="rId7"/>
          <a:stretch/>
        </p:blipFill>
        <p:spPr>
          <a:xfrm>
            <a:off x="3618000" y="2459160"/>
            <a:ext cx="828720" cy="1522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9" descr=""/>
          <p:cNvPicPr/>
          <p:nvPr/>
        </p:nvPicPr>
        <p:blipFill>
          <a:blip r:embed="rId8"/>
          <a:stretch/>
        </p:blipFill>
        <p:spPr>
          <a:xfrm>
            <a:off x="2897280" y="2890800"/>
            <a:ext cx="828720" cy="1522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0" descr=""/>
          <p:cNvPicPr/>
          <p:nvPr/>
        </p:nvPicPr>
        <p:blipFill>
          <a:blip r:embed="rId9"/>
          <a:stretch/>
        </p:blipFill>
        <p:spPr>
          <a:xfrm>
            <a:off x="3618000" y="2890800"/>
            <a:ext cx="828720" cy="152280"/>
          </a:xfrm>
          <a:prstGeom prst="rect">
            <a:avLst/>
          </a:prstGeom>
          <a:ln w="0">
            <a:noFill/>
          </a:ln>
        </p:spPr>
      </p:pic>
      <p:sp>
        <p:nvSpPr>
          <p:cNvPr id="541" name="Rectangle 43"/>
          <p:cNvSpPr/>
          <p:nvPr/>
        </p:nvSpPr>
        <p:spPr>
          <a:xfrm>
            <a:off x="2825640" y="1836720"/>
            <a:ext cx="19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45 Helvetica Light"/>
              </a:rPr>
              <a:t>Ballon Solerio Optimum 2 MV 15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2" name="Rectangle 44"/>
          <p:cNvSpPr/>
          <p:nvPr/>
        </p:nvSpPr>
        <p:spPr>
          <a:xfrm>
            <a:off x="2794320" y="2236680"/>
            <a:ext cx="1985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45 Helvetica Light"/>
              </a:rPr>
              <a:t>Ballon Solerio Optimum 2 MV 15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3" name="Rectangle 45"/>
          <p:cNvSpPr/>
          <p:nvPr/>
        </p:nvSpPr>
        <p:spPr>
          <a:xfrm>
            <a:off x="2792520" y="2452680"/>
            <a:ext cx="1552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45 Helvetica Light"/>
              </a:rPr>
              <a:t>Capteur Solerio Optimum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4" name="Rectangle 46"/>
          <p:cNvSpPr/>
          <p:nvPr/>
        </p:nvSpPr>
        <p:spPr>
          <a:xfrm>
            <a:off x="2834280" y="2827440"/>
            <a:ext cx="2078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2060"/>
                </a:solidFill>
                <a:latin typeface="45 Helvetica Light"/>
              </a:rPr>
              <a:t>IdraEco Condens Micro 4120/28_VR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: Création du système de stockage «Solerio Optimum»</a:t>
            </a:r>
            <a:endParaRPr b="0" lang="en-US" sz="29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46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A941-BDAC-4CBD-902E-9D2554968A4B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20" descr=""/>
          <p:cNvPicPr/>
          <p:nvPr/>
        </p:nvPicPr>
        <p:blipFill>
          <a:blip r:embed="rId1"/>
          <a:stretch/>
        </p:blipFill>
        <p:spPr>
          <a:xfrm>
            <a:off x="663480" y="2557440"/>
            <a:ext cx="5591160" cy="63828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24"/>
          <p:cNvSpPr/>
          <p:nvPr/>
        </p:nvSpPr>
        <p:spPr>
          <a:xfrm>
            <a:off x="321300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</a:rPr>
              <a:t>7/7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9" name="Text Box 9"/>
          <p:cNvSpPr/>
          <p:nvPr/>
        </p:nvSpPr>
        <p:spPr>
          <a:xfrm>
            <a:off x="6837480" y="2209680"/>
            <a:ext cx="18000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50" name="AutoShape 10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551" name="AutoShape 11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552" name="AutoShape 13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553" name="Text Box 22"/>
          <p:cNvSpPr/>
          <p:nvPr/>
        </p:nvSpPr>
        <p:spPr>
          <a:xfrm>
            <a:off x="6656400" y="3378240"/>
            <a:ext cx="32925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54" name="Text Box 24"/>
          <p:cNvSpPr/>
          <p:nvPr/>
        </p:nvSpPr>
        <p:spPr>
          <a:xfrm>
            <a:off x="663480" y="1909800"/>
            <a:ext cx="5761080" cy="42876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Dans l</a:t>
            </a:r>
            <a:r>
              <a:rPr b="0" lang="ja-JP" sz="1100" spc="-1" strike="noStrike">
                <a:solidFill>
                  <a:srgbClr val="00206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objet </a:t>
            </a:r>
            <a:r>
              <a:rPr b="0" lang="fr-FR" sz="1100" spc="-1" strike="noStrike">
                <a:solidFill>
                  <a:srgbClr val="002060"/>
                </a:solidFill>
                <a:latin typeface="75 Helvetica Bold"/>
              </a:rPr>
              <a:t>«Emission»</a:t>
            </a: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 (       ) : on indique la présence du circulateur </a:t>
            </a:r>
            <a:br>
              <a:rPr sz="1100"/>
            </a:br>
            <a:r>
              <a:rPr b="0" lang="fr-FR" sz="1100" spc="-1" strike="noStrike">
                <a:solidFill>
                  <a:srgbClr val="002060"/>
                </a:solidFill>
                <a:latin typeface="45 Helvetica Light"/>
              </a:rPr>
              <a:t>et la puissance de ce dernier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55" name="Picture 26" descr="Travail:1 GRAPHISME:GRDF:FICHES_BET_CEGIBAT_GrDF:FICHES_PRODUIT:ELEMENTS_OK:F1_BBS:EMISSION.jpg"/>
          <p:cNvPicPr/>
          <p:nvPr/>
        </p:nvPicPr>
        <p:blipFill>
          <a:blip r:embed="rId2"/>
          <a:stretch/>
        </p:blipFill>
        <p:spPr>
          <a:xfrm>
            <a:off x="2392200" y="1981080"/>
            <a:ext cx="228600" cy="200160"/>
          </a:xfrm>
          <a:prstGeom prst="rect">
            <a:avLst/>
          </a:prstGeom>
          <a:ln w="0">
            <a:noFill/>
          </a:ln>
        </p:spPr>
      </p:pic>
      <p:sp>
        <p:nvSpPr>
          <p:cNvPr id="556" name="Text Box 38"/>
          <p:cNvSpPr/>
          <p:nvPr/>
        </p:nvSpPr>
        <p:spPr>
          <a:xfrm>
            <a:off x="3544920" y="2773440"/>
            <a:ext cx="14936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45 Helvetica Light"/>
              </a:rPr>
              <a:t>Selon projet</a:t>
            </a:r>
            <a:endParaRPr b="0" lang="en-US" sz="12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57" name="Text Box 40"/>
          <p:cNvSpPr/>
          <p:nvPr/>
        </p:nvSpPr>
        <p:spPr>
          <a:xfrm>
            <a:off x="3616200" y="2989440"/>
            <a:ext cx="6001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2060"/>
                </a:solidFill>
                <a:latin typeface="45 Helvetica Light"/>
              </a:rPr>
              <a:t>26 W</a:t>
            </a:r>
            <a:endParaRPr b="0" lang="en-US" sz="12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Focus: La saisie du circulateur du réseau de distribution</a:t>
            </a:r>
            <a:endParaRPr b="0" lang="en-US" sz="29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29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59" name="Espace réservé du numéro de diapositive 3"/>
          <p:cNvSpPr/>
          <p:nvPr/>
        </p:nvSpPr>
        <p:spPr>
          <a:xfrm>
            <a:off x="9664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4DC6-4E8E-491D-A1BD-BCBAE6CB16EC}" type="slidenum">
              <a:rPr b="0" lang="fr-FR" sz="11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60" name="Text Box 40"/>
          <p:cNvSpPr/>
          <p:nvPr/>
        </p:nvSpPr>
        <p:spPr>
          <a:xfrm>
            <a:off x="3687840" y="2557440"/>
            <a:ext cx="60012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45 Helvetica Light"/>
              </a:rPr>
              <a:t>26 W</a:t>
            </a:r>
            <a:endParaRPr b="0" lang="en-US" sz="12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jcd heron</dc:creator>
  <dc:description/>
  <dc:language>en-US</dc:language>
  <cp:lastModifiedBy>caroline.saller</cp:lastModifiedBy>
  <cp:lastPrinted>2014-02-20T07:11:44Z</cp:lastPrinted>
  <dcterms:modified xsi:type="dcterms:W3CDTF">2018-10-10T10:58:09Z</dcterms:modified>
  <cp:revision>166</cp:revision>
  <dc:subject/>
  <dc:title>Présentation PowerPoint</dc:title>
</cp:coreProperties>
</file>