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10688638" cy="756285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dt" idx="28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Img"/>
          </p:nvPr>
        </p:nvSpPr>
        <p:spPr>
          <a:xfrm>
            <a:off x="839520" y="767880"/>
            <a:ext cx="541980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move the slide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ftr" idx="29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 type="sldNum" idx="30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D784E-D0C4-442F-ACC4-62992D1F266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839880" y="768240"/>
            <a:ext cx="5419800" cy="38372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Espace réservé du numéro de diapositiv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F083D-283A-4B16-B6D2-D60D48B5C3D5}" type="slidenum">
              <a:rPr b="0" lang="fr-FR" sz="1200" spc="-1" strike="noStrike">
                <a:solidFill>
                  <a:srgbClr val="000000"/>
                </a:solidFill>
                <a:latin typeface="Avenir LT Std 55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venir LT Std 55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3282-7892-49B6-B68F-C6EB8077B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7E9C-75B0-4934-9CF7-ADDF3795C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B12632-1F4E-4DCF-9B46-643AAFE5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5B1BF2-8274-40C7-B3DE-75806FC9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B031CC-E21D-4B5E-8018-C31F708B3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501A95-9739-4E49-B906-CA24AC82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CA7E58-11DA-4146-8ED7-0B897B43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95EF49-80D8-4F2A-BD28-EEDCD4F5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196131-22C4-4BBE-A15F-C09F9C478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56FB3F-2D2D-42D7-B202-E2EDB7084F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53DA63-6158-4C39-ADFE-244F73881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F87A-CF66-44C2-B85D-FC3357DC7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54C9-6DFA-4480-9BCB-B55116EFB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45E8-AE5C-4EE3-98CB-53F9901A2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1F6F3-5748-41AA-9CE7-7AC0A889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640DD-E45D-419A-8FDE-0C123A47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7D50-04DB-45FF-B5A0-BE5AE707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84997-46E7-4EA9-9221-D6E699CE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536E6-6E34-49B8-9CAA-9B9028105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EEB8-CA55-4106-99FE-A77EEA09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6D9A-A9EB-4935-B775-C975E282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B8139-B5AD-49C1-9581-634756BE8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C5A52-3887-4551-8B4C-BF7BF680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974FD-782D-40AE-BD94-E65CC9EA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C0EC-EDD4-4386-8DA3-6E40BF1B9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2839-3389-4808-B08E-C2FD498C7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12ED60-E957-41B1-BDFA-58ADB508F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B9139-930E-43B1-B8C8-0CB3A1BA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9EEBB-3624-498F-9BE1-40A14370A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164614-6A74-44D3-8BEB-5DF19AE0E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8C1AA-0D9A-4DA6-9760-02B12087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2C13-EFA7-40F6-AEF6-DFB117E37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F9D84-C94E-47B0-A5F3-5FBA3FCD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F3282-F165-461C-8E19-111BA7C3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FC457-C3F1-41B9-87C5-C9CE7349F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A2FA1-6043-4E0F-A130-E86F53155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AB2A7-C13B-4527-B904-A5C641055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6B5B8-2ABA-4269-B43F-613D933E6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949801-AA5A-415A-89C9-38C4E3790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01600-B5DF-49A8-BCE9-0D7EB3463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9F8B8-EC63-4860-A2DC-3EA6519E2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E078A-A288-4CA2-8CEF-40B081016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2C57-2EFF-4184-859D-826F8A61C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0172E-BF9D-4CEA-97CA-E7B69D5C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51A03-5869-4430-9488-E7CDC2618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7B2662-25C1-4045-81EC-83F936E2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C4A55-AFAC-435C-8587-5983EE58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D76C27-00F9-4455-BEB3-9D974C3A2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DB9C8B-C098-49C6-9587-BAFBB1345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EFC970-244F-4ABE-A4F8-B949CE63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68BC5-F6C9-4209-A123-D5EF6FE64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F7BE3-E41B-4E88-A420-E6A80D5DE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1D290-B1AD-473C-A6E4-4758C6283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4CCA-5BE0-44C7-9166-E842A2D9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C53E8-C292-4EC5-BFBE-C3441BBB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9F487-21C4-4F4A-84F2-0544C18E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A0A23-6CAD-4EDF-ADD1-03460093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96AC8-9135-400A-A538-0573762D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954560-79D1-4E24-8BE3-FE0E2E048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DB912-F3DA-45A4-941E-D8F28B07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28F3B-2155-41A2-B387-FE0B451A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F8931-C336-4CD9-A3C1-6A7BA70BA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58481-A5E8-4232-831A-D9F17549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20EEE-84B8-4A98-A3AD-FA409B045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12BD-0FE9-459F-9868-B2D650A1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48E3C-5933-4E7E-B34B-369F4005A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206D70-9500-4D33-AC33-4A88EB8D8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B59317-405B-493A-AEB1-3BE1615A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1D837-B04A-4611-8335-BA43A649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B17F0C-5458-4E36-AD73-5C68D141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0B3E4-7F9E-4BA0-B407-B56887B44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C9F0D3-9E75-4441-8DA2-88C0581AB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79770-9994-42B3-B744-81D27FBB1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B1F508-161E-41E8-82E9-C5AD48AD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7DFF5E-9F04-437E-893A-AF54C4A3F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0351-BA45-4F0D-9E7C-46F4AFFD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5C4759-1731-46A8-B4B2-E645D27C2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1D2EA-07E6-4491-859D-F580CBE04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CDE69E-5082-4D34-829A-4F52B9B96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A33B6-BBF4-4ACA-A8BA-8992027B4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D689E-7D37-47CA-A043-04BD60F9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DF9E8-A559-4F46-8EF4-3913EA62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D7ABEE-584F-4CBA-A085-024C4645A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842DE-8F49-45BB-8E76-890803F57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C8DD4-E483-4436-9961-E5C687E6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E18E0A-3E02-481A-8204-876CF613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9574-6390-4402-A642-366B54FE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5C056-7324-4F1E-AE0E-343B27C8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7D3A3-52A2-480E-ACCC-E9D9E170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AAF584-42C4-4B86-8459-67BAAAB0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36555B-855A-428B-9917-56A0D191C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818AC8-14E1-448A-834D-202C70734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836A07-12E6-4D58-A022-67EB64EF6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80BB0-B823-4C98-873F-6A4B4AFF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7E38FF-6636-45BD-8B75-BCE198AFB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FBC43-3EA5-4EAB-B3FF-C879328B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B8D5F-C26A-46B2-9D94-B2242C788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66E2-9FFC-43D4-8469-630E8E15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D67FC0-D41A-482C-9D6D-6DDB5367B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D0ABE-99C8-4F0C-8DF7-E69DDC271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9133F-CC95-4E7D-9B4F-67C7ED42C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71D6B-7BF8-4318-B7F7-C95E66C0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7F69FC-B89C-4B71-8E06-F8CB58DA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572C3-8368-4B43-A40F-3D06E36F0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AD085D-4678-4E39-8C7F-6E70A565B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649773-1227-4153-9DE5-F9DAA91B7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CF2DC-7E99-4839-8465-2482333D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724248-84E8-4860-A917-21BE3D120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8" descr=""/>
          <p:cNvPicPr/>
          <p:nvPr/>
        </p:nvPicPr>
        <p:blipFill>
          <a:blip r:embed="rId2"/>
          <a:stretch/>
        </p:blipFill>
        <p:spPr>
          <a:xfrm>
            <a:off x="0" y="6967440"/>
            <a:ext cx="10688760" cy="595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61720" y="6967440"/>
            <a:ext cx="82486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636120" y="7394400"/>
            <a:ext cx="67464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9796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39B3-FD8B-4A98-BA2F-B15577C7F589}" type="slidenum">
              <a:rPr b="0" lang="fr-FR" sz="800" spc="-1" strike="noStrike">
                <a:solidFill>
                  <a:srgbClr val="9796a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mage 10" descr="logo_texte.png"/>
          <p:cNvPicPr/>
          <p:nvPr/>
        </p:nvPicPr>
        <p:blipFill>
          <a:blip r:embed="rId3"/>
          <a:stretch/>
        </p:blipFill>
        <p:spPr>
          <a:xfrm>
            <a:off x="0" y="0"/>
            <a:ext cx="1893960" cy="99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à coins arrondis 12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4" name="Forme libre 15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5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2CCE-70FE-4396-86CD-FD4B2B6E1CA9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rme libre 15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88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89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3B26-CC7A-4784-BC7B-0D223A957981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à coins arrondis 11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32" name="Forme libre 14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133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059E-5ED5-4367-9BD1-CCD0999CF31B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76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77" name="Forme libre 14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178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D179-DF18-4704-BA62-80795CCC5BDA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à coins arrondis 12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21" name="Forme libre 15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222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63C1-6216-4F8C-A659-4E03850B1D08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rme libre 15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65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266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A6C92-F1B3-458F-8D04-53980656E207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à coins arrondis 11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09" name="Forme libre 14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310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296F-BA8A-42E6-8935-65745806D3C6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24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53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54" name="Forme libre 14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355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63902-3CD3-43E2-85FC-6DC97D7E7C30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5.wmf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7"/>
          <p:cNvSpPr/>
          <p:nvPr/>
        </p:nvSpPr>
        <p:spPr>
          <a:xfrm>
            <a:off x="8294760" y="50292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L VAG Rounded Light"/>
                <a:ea typeface="MS PGothic"/>
              </a:rPr>
              <a:t>PRODUIT</a:t>
            </a:r>
            <a:endParaRPr b="0" lang="en-US" sz="16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912680" y="404640"/>
            <a:ext cx="8397720" cy="22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900" spc="-1" strike="noStrike">
                <a:solidFill>
                  <a:srgbClr val="9796a3"/>
                </a:solidFill>
                <a:latin typeface="Avenir LT Std 55 Roman"/>
              </a:rPr>
              <a:t>Chauffe-Eau Thermodynamique hybride</a:t>
            </a:r>
            <a:br>
              <a:rPr sz="2900"/>
            </a:br>
            <a:r>
              <a:rPr b="0" lang="fr-FR" sz="2900" spc="-1" strike="noStrike">
                <a:solidFill>
                  <a:srgbClr val="9796a3"/>
                </a:solidFill>
                <a:latin typeface="Avenir LT Std 55 Roman"/>
              </a:rPr>
              <a:t>CHAFFOTEAUX</a:t>
            </a:r>
            <a:endParaRPr b="0" lang="en-US" sz="29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06" name="Text Box 11"/>
          <p:cNvSpPr/>
          <p:nvPr/>
        </p:nvSpPr>
        <p:spPr>
          <a:xfrm>
            <a:off x="1852560" y="2612520"/>
            <a:ext cx="6983640" cy="20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Fiche d</a:t>
            </a:r>
            <a:r>
              <a:rPr b="0" lang="ja-JP" sz="2200" spc="-1" strike="noStrike">
                <a:solidFill>
                  <a:srgbClr val="9796a3"/>
                </a:solidFill>
                <a:latin typeface="Avenir LT Std 55 Roman"/>
              </a:rPr>
              <a:t>’</a:t>
            </a: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intégration </a:t>
            </a:r>
            <a:br>
              <a:rPr sz="2200"/>
            </a:b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dans le logiciel RT 2012 :</a:t>
            </a:r>
            <a:endParaRPr b="0" lang="en-US" sz="22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Climawin de BBS</a:t>
            </a:r>
            <a:endParaRPr b="0" lang="en-US" sz="22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Version 4.6.1.1 du 07/06/2018</a:t>
            </a:r>
            <a:endParaRPr b="0" lang="en-US" sz="22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Moteur Th-BCE : version 7.5.0.3</a:t>
            </a:r>
            <a:endParaRPr b="0" lang="en-US" sz="2200" spc="-1" strike="noStrike">
              <a:solidFill>
                <a:srgbClr val="000000"/>
              </a:solidFill>
              <a:latin typeface="Avenir LT Std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10"/>
          <p:cNvSpPr/>
          <p:nvPr/>
        </p:nvSpPr>
        <p:spPr>
          <a:xfrm>
            <a:off x="952560" y="1260360"/>
            <a:ext cx="864072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Le présent document décrit la saisie et la prise en compte d’un chauffe-eau thermodynamique hybride du fabricant Chaffoteaux dans le logiciel d’application de la RT 2012 Climawin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Le chauffe-eau thermodynamique hybride Chaffoteaux </a:t>
            </a: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est composée des éléments suivants :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</a:t>
            </a:r>
            <a:r>
              <a:rPr b="0" lang="ja-JP" sz="1100" spc="-1" strike="noStrike">
                <a:solidFill>
                  <a:srgbClr val="000000"/>
                </a:solidFill>
                <a:latin typeface="Avenir LT Std 55 Roman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ensemble du système est décrit dans un objet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«génération»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(     ). Cet objet contient les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éléments suivants :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Un « générateur » décrivant les caractéristiques de la chaudière gaz à condensation (         ) assurant une fonction de chauffage et d’appoint pour l’ECS. 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Un stockage décrivant les caractéristiques du ballon de stockage du CE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Un « générateur » décrivant les caractéristiques du CET (        ) assurant une fonction de production d’ECS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08" name="Rectangle 69"/>
          <p:cNvSpPr/>
          <p:nvPr/>
        </p:nvSpPr>
        <p:spPr>
          <a:xfrm>
            <a:off x="3852720" y="2550960"/>
            <a:ext cx="5226120" cy="16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1455840" y="2197080"/>
          <a:ext cx="7848360" cy="547560"/>
        </p:xfrm>
        <a:graphic>
          <a:graphicData uri="http://schemas.openxmlformats.org/drawingml/2006/table">
            <a:tbl>
              <a:tblPr/>
              <a:tblGrid>
                <a:gridCol w="3316320"/>
                <a:gridCol w="4532040"/>
              </a:tblGrid>
              <a:tr h="28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  <a:ea typeface="MS PGothic"/>
                        </a:rPr>
                        <a:t>Chauffe-eau thermodynamiq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83c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AQUANEXT OP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  <a:ea typeface="MS PGothic"/>
                        </a:rPr>
                        <a:t>Chaudière gaz à condens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83c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MIRA C GREEN ULT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0" name="Espace réservé du texte 4"/>
          <p:cNvSpPr/>
          <p:nvPr/>
        </p:nvSpPr>
        <p:spPr>
          <a:xfrm>
            <a:off x="2027160" y="287280"/>
            <a:ext cx="67928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Présentation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11" name="Espace réservé du numéro de diapositive 2"/>
          <p:cNvSpPr/>
          <p:nvPr/>
        </p:nvSpPr>
        <p:spPr>
          <a:xfrm>
            <a:off x="9809280" y="7410600"/>
            <a:ext cx="576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9760-6F67-41CE-918B-A3B668F1F545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12" name="ZoneTexte 19"/>
          <p:cNvSpPr/>
          <p:nvPr/>
        </p:nvSpPr>
        <p:spPr>
          <a:xfrm>
            <a:off x="952560" y="4429080"/>
            <a:ext cx="5832360" cy="12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es étapes de la saisie du système sont les suivantes :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Etape 1 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: Création de l’objet « Génération »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Etape 2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: Création du générateur « Chaudière à condensation (ECS &amp; chauffage) »;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Etape 3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 : Création du générateur « CET hybride (ECS seul) » ;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Etape 4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 : Création du générateur « CET » 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graphicFrame>
        <p:nvGraphicFramePr>
          <p:cNvPr id="413" name="Object 16"/>
          <p:cNvGraphicFramePr/>
          <p:nvPr/>
        </p:nvGraphicFramePr>
        <p:xfrm>
          <a:off x="4560840" y="3135240"/>
          <a:ext cx="184320" cy="18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60840" y="3135240"/>
                    <a:ext cx="184320" cy="1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Object 17"/>
          <p:cNvGraphicFramePr/>
          <p:nvPr/>
        </p:nvGraphicFramePr>
        <p:xfrm>
          <a:off x="6135840" y="3492360"/>
          <a:ext cx="177480" cy="203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1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5840" y="3492360"/>
                    <a:ext cx="177480" cy="2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Object 4"/>
          <p:cNvGraphicFramePr/>
          <p:nvPr/>
        </p:nvGraphicFramePr>
        <p:xfrm>
          <a:off x="4508640" y="4094280"/>
          <a:ext cx="177840" cy="2030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1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08640" y="4094280"/>
                    <a:ext cx="177840" cy="2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9" name="Picture 33" descr=""/>
          <p:cNvPicPr/>
          <p:nvPr/>
        </p:nvPicPr>
        <p:blipFill>
          <a:blip r:embed="rId7"/>
          <a:stretch/>
        </p:blipFill>
        <p:spPr>
          <a:xfrm>
            <a:off x="6711840" y="4645080"/>
            <a:ext cx="26863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20" name="AutoShape 41"/>
          <p:cNvCxnSpPr/>
          <p:nvPr/>
        </p:nvCxnSpPr>
        <p:spPr>
          <a:xfrm flipH="1" flipV="1" rot="10800000">
            <a:off x="70200" y="4067640"/>
            <a:ext cx="252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21" name="Text Box 33"/>
          <p:cNvSpPr/>
          <p:nvPr/>
        </p:nvSpPr>
        <p:spPr>
          <a:xfrm>
            <a:off x="7072200" y="3053880"/>
            <a:ext cx="3146400" cy="109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Paramétrage classique RT 2012 d’une cascade. Un emplacement en volume chauffé permet de réduire les consommations par rapport à un emplacement hors volume chauffé. À choisir en fonction du proje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22" name="Espace réservé du texte 4"/>
          <p:cNvSpPr/>
          <p:nvPr/>
        </p:nvSpPr>
        <p:spPr>
          <a:xfrm>
            <a:off x="2027160" y="260280"/>
            <a:ext cx="8285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1 : Création de l’objet « Génération »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23" name="Espace réservé du numéro de diapositive 2"/>
          <p:cNvSpPr/>
          <p:nvPr/>
        </p:nvSpPr>
        <p:spPr>
          <a:xfrm>
            <a:off x="9809280" y="7410600"/>
            <a:ext cx="576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6DE21-2FB9-4C92-9894-4F4FE70525A2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24" name="Picture 8" descr=""/>
          <p:cNvPicPr/>
          <p:nvPr/>
        </p:nvPicPr>
        <p:blipFill>
          <a:blip r:embed="rId1"/>
          <a:stretch/>
        </p:blipFill>
        <p:spPr>
          <a:xfrm>
            <a:off x="376200" y="2557440"/>
            <a:ext cx="5904000" cy="2122560"/>
          </a:xfrm>
          <a:prstGeom prst="rect">
            <a:avLst/>
          </a:prstGeom>
          <a:ln w="0">
            <a:noFill/>
          </a:ln>
        </p:spPr>
      </p:pic>
      <p:cxnSp>
        <p:nvCxnSpPr>
          <p:cNvPr id="425" name="Connecteur en angle 29"/>
          <p:cNvCxnSpPr>
            <a:stCxn id="421" idx="1"/>
          </p:cNvCxnSpPr>
          <p:nvPr/>
        </p:nvCxnSpPr>
        <p:spPr>
          <a:xfrm rot="10800000">
            <a:off x="4335480" y="3493440"/>
            <a:ext cx="2737080" cy="108720"/>
          </a:xfrm>
          <a:prstGeom prst="bentConnector3">
            <a:avLst>
              <a:gd name="adj1" fmla="val 50000"/>
            </a:avLst>
          </a:prstGeom>
          <a:ln w="12600">
            <a:solidFill>
              <a:srgbClr val="4e3073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7"/>
          <p:cNvSpPr/>
          <p:nvPr/>
        </p:nvSpPr>
        <p:spPr>
          <a:xfrm>
            <a:off x="6799320" y="2505240"/>
            <a:ext cx="18000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cxnSp>
        <p:nvCxnSpPr>
          <p:cNvPr id="427" name="AutoShape 12"/>
          <p:cNvCxnSpPr/>
          <p:nvPr/>
        </p:nvCxnSpPr>
        <p:spPr>
          <a:xfrm flipH="1" flipV="1" rot="10800000">
            <a:off x="-360" y="435744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28" name="Text Box 33"/>
          <p:cNvSpPr/>
          <p:nvPr/>
        </p:nvSpPr>
        <p:spPr>
          <a:xfrm>
            <a:off x="7236000" y="1836720"/>
            <a:ext cx="3168360" cy="165744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a référence produit peut être trouver dans la base de données EDIBATEC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e choix entre les chaudières MIRA GREEN 25/30/35 dépend du proje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29" name="Espace réservé du texte 4"/>
          <p:cNvSpPr/>
          <p:nvPr/>
        </p:nvSpPr>
        <p:spPr>
          <a:xfrm>
            <a:off x="2027160" y="260280"/>
            <a:ext cx="8285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2 : Création du générateur chaudière gaz à condensation (chauffage &amp; ECS)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30" name="Espace réservé du numéro de diapositive 2"/>
          <p:cNvSpPr/>
          <p:nvPr/>
        </p:nvSpPr>
        <p:spPr>
          <a:xfrm>
            <a:off x="9809280" y="7410600"/>
            <a:ext cx="576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F913-24F4-4642-B7D1-751AB093C5B3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31" name="Text Box 33"/>
          <p:cNvSpPr/>
          <p:nvPr/>
        </p:nvSpPr>
        <p:spPr>
          <a:xfrm>
            <a:off x="160200" y="1550160"/>
            <a:ext cx="3146400" cy="4287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Dans l’outil de saisie des Générateurs, on indique les fonctions de la chaudière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32" name="Picture 10" descr=""/>
          <p:cNvPicPr/>
          <p:nvPr/>
        </p:nvPicPr>
        <p:blipFill>
          <a:blip r:embed="rId1"/>
          <a:stretch/>
        </p:blipFill>
        <p:spPr>
          <a:xfrm>
            <a:off x="179280" y="2125800"/>
            <a:ext cx="6620040" cy="599760"/>
          </a:xfrm>
          <a:prstGeom prst="rect">
            <a:avLst/>
          </a:prstGeom>
          <a:ln w="0">
            <a:noFill/>
          </a:ln>
        </p:spPr>
      </p:pic>
      <p:cxnSp>
        <p:nvCxnSpPr>
          <p:cNvPr id="433" name="Connecteur en angle 18"/>
          <p:cNvCxnSpPr>
            <a:stCxn id="431" idx="3"/>
          </p:cNvCxnSpPr>
          <p:nvPr/>
        </p:nvCxnSpPr>
        <p:spPr>
          <a:xfrm flipH="1">
            <a:off x="2247120" y="1765080"/>
            <a:ext cx="1059480" cy="864360"/>
          </a:xfrm>
          <a:prstGeom prst="bentConnector3">
            <a:avLst>
              <a:gd name="adj1" fmla="val -7511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pic>
        <p:nvPicPr>
          <p:cNvPr id="434" name="Picture 9" descr=""/>
          <p:cNvPicPr/>
          <p:nvPr/>
        </p:nvPicPr>
        <p:blipFill>
          <a:blip r:embed="rId2"/>
          <a:stretch/>
        </p:blipFill>
        <p:spPr>
          <a:xfrm>
            <a:off x="7935840" y="2629080"/>
            <a:ext cx="1778040" cy="720720"/>
          </a:xfrm>
          <a:prstGeom prst="rect">
            <a:avLst/>
          </a:prstGeom>
          <a:ln w="0">
            <a:noFill/>
          </a:ln>
        </p:spPr>
      </p:pic>
      <p:cxnSp>
        <p:nvCxnSpPr>
          <p:cNvPr id="435" name="Connecteur en angle 18"/>
          <p:cNvCxnSpPr>
            <a:stCxn id="428" idx="1"/>
          </p:cNvCxnSpPr>
          <p:nvPr/>
        </p:nvCxnSpPr>
        <p:spPr>
          <a:xfrm rot="10800000">
            <a:off x="5415840" y="2556720"/>
            <a:ext cx="1820160" cy="108720"/>
          </a:xfrm>
          <a:prstGeom prst="bentConnector3">
            <a:avLst>
              <a:gd name="adj1" fmla="val 49990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sp>
        <p:nvSpPr>
          <p:cNvPr id="436" name="Text Box 33"/>
          <p:cNvSpPr/>
          <p:nvPr/>
        </p:nvSpPr>
        <p:spPr>
          <a:xfrm>
            <a:off x="7216920" y="3637080"/>
            <a:ext cx="3168360" cy="9363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es valeurs entrées pour ce système sont arrondies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Code couleur: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c00000"/>
                </a:solidFill>
                <a:latin typeface="Avenir LT Std 55 Roman"/>
              </a:rPr>
              <a:t>Rouge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: aucune valeur n’a été changé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Gris : une valeur au moins a été changé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5560920" y="3060720"/>
          <a:ext cx="720720" cy="4344840"/>
        </p:xfrm>
        <a:graphic>
          <a:graphicData uri="http://schemas.openxmlformats.org/drawingml/2006/table">
            <a:tbl>
              <a:tblPr/>
              <a:tblGrid>
                <a:gridCol w="720720"/>
              </a:tblGrid>
              <a:tr h="228600">
                <a:tc>
                  <a:txBody>
                    <a:bodyPr lIns="72000" rIns="72000" tIns="34920" bIns="34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21.5 k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72000" rIns="72000" tIns="34920" bIns="34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6.45 k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72000" rIns="72000" tIns="34920" bIns="34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8600">
                <a:tc>
                  <a:txBody>
                    <a:bodyPr lIns="72000" rIns="72000" tIns="34920" bIns="34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400">
                <a:tc>
                  <a:txBody>
                    <a:bodyPr lIns="72000" rIns="72000" tIns="34920" bIns="34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8600">
                <a:tc>
                  <a:txBody>
                    <a:bodyPr lIns="72000" rIns="72000" tIns="34920" bIns="34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72000" rIns="72000" tIns="34920" bIns="34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97.7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72000" rIns="72000" tIns="34920" bIns="34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72000" rIns="72000" tIns="34920" bIns="34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109.8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72000" rIns="72000" tIns="34920" bIns="34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30400">
                <a:tc>
                  <a:txBody>
                    <a:bodyPr lIns="72000" rIns="72000" tIns="34920" bIns="34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679320">
                <a:tc>
                  <a:txBody>
                    <a:bodyPr lIns="72000" rIns="72000" tIns="34920" bIns="34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À modifier dans Climaw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72000" rIns="72000" tIns="34920" bIns="34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28600">
                <a:tc>
                  <a:txBody>
                    <a:bodyPr lIns="72000" rIns="72000" tIns="34920" bIns="34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8600">
                <a:tc>
                  <a:txBody>
                    <a:bodyPr lIns="72000" rIns="72000" tIns="34920" bIns="34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040">
                <a:tc>
                  <a:txBody>
                    <a:bodyPr lIns="72000" rIns="72000" tIns="34920" bIns="34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27160">
                <a:tc>
                  <a:txBody>
                    <a:bodyPr lIns="72000" rIns="72000" tIns="34920" bIns="3492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8" name="Picture 14" descr=""/>
          <p:cNvPicPr/>
          <p:nvPr/>
        </p:nvPicPr>
        <p:blipFill>
          <a:blip r:embed="rId3"/>
          <a:stretch/>
        </p:blipFill>
        <p:spPr>
          <a:xfrm>
            <a:off x="1311120" y="2844720"/>
            <a:ext cx="4211640" cy="4230720"/>
          </a:xfrm>
          <a:prstGeom prst="rect">
            <a:avLst/>
          </a:prstGeom>
          <a:ln w="0">
            <a:noFill/>
          </a:ln>
        </p:spPr>
      </p:pic>
      <p:sp>
        <p:nvSpPr>
          <p:cNvPr id="439" name="Text Box 33"/>
          <p:cNvSpPr/>
          <p:nvPr/>
        </p:nvSpPr>
        <p:spPr>
          <a:xfrm>
            <a:off x="3471840" y="5726880"/>
            <a:ext cx="647640" cy="428760"/>
          </a:xfrm>
          <a:prstGeom prst="rect">
            <a:avLst/>
          </a:prstGeom>
          <a:noFill/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10" descr=""/>
          <p:cNvPicPr/>
          <p:nvPr/>
        </p:nvPicPr>
        <p:blipFill>
          <a:blip r:embed="rId1"/>
          <a:stretch/>
        </p:blipFill>
        <p:spPr>
          <a:xfrm>
            <a:off x="231840" y="2125800"/>
            <a:ext cx="6619680" cy="599760"/>
          </a:xfrm>
          <a:prstGeom prst="rect">
            <a:avLst/>
          </a:prstGeom>
          <a:ln w="0">
            <a:noFill/>
          </a:ln>
        </p:spPr>
      </p:pic>
      <p:cxnSp>
        <p:nvCxnSpPr>
          <p:cNvPr id="441" name="AutoShape 10"/>
          <p:cNvCxnSpPr/>
          <p:nvPr/>
        </p:nvCxnSpPr>
        <p:spPr>
          <a:xfrm flipH="1" flipV="1" rot="10800000">
            <a:off x="7232400" y="693072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42" name="AutoShape 11"/>
          <p:cNvCxnSpPr/>
          <p:nvPr/>
        </p:nvCxnSpPr>
        <p:spPr>
          <a:xfrm flipH="1" flipV="1" rot="10800000">
            <a:off x="7232400" y="693072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43" name="AutoShape 13"/>
          <p:cNvCxnSpPr/>
          <p:nvPr/>
        </p:nvCxnSpPr>
        <p:spPr>
          <a:xfrm flipH="1" flipV="1" rot="10800000">
            <a:off x="-360" y="37810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44" name="Espace réservé du texte 4"/>
          <p:cNvSpPr/>
          <p:nvPr/>
        </p:nvSpPr>
        <p:spPr>
          <a:xfrm>
            <a:off x="2027160" y="260280"/>
            <a:ext cx="842976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3 : Création du générateur CET (ECS seulement)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45" name="Espace réservé du numéro de diapositive 2"/>
          <p:cNvSpPr/>
          <p:nvPr/>
        </p:nvSpPr>
        <p:spPr>
          <a:xfrm>
            <a:off x="9880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F1692-4A6D-4B80-807C-ABD7FF133D6C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46" name="Picture 11" descr=""/>
          <p:cNvPicPr/>
          <p:nvPr/>
        </p:nvPicPr>
        <p:blipFill>
          <a:blip r:embed="rId2"/>
          <a:stretch/>
        </p:blipFill>
        <p:spPr>
          <a:xfrm>
            <a:off x="212760" y="2486160"/>
            <a:ext cx="6619680" cy="218880"/>
          </a:xfrm>
          <a:prstGeom prst="rect">
            <a:avLst/>
          </a:prstGeom>
          <a:ln w="0">
            <a:noFill/>
          </a:ln>
        </p:spPr>
      </p:pic>
      <p:sp>
        <p:nvSpPr>
          <p:cNvPr id="447" name="Text Box 33"/>
          <p:cNvSpPr/>
          <p:nvPr/>
        </p:nvSpPr>
        <p:spPr>
          <a:xfrm>
            <a:off x="231840" y="1478520"/>
            <a:ext cx="3146400" cy="4287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Dans l’outil de saisie des Générateurs, on indique les fonctions du CE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cxnSp>
        <p:nvCxnSpPr>
          <p:cNvPr id="448" name="Connecteur en angle 18"/>
          <p:cNvCxnSpPr>
            <a:stCxn id="447" idx="3"/>
          </p:cNvCxnSpPr>
          <p:nvPr/>
        </p:nvCxnSpPr>
        <p:spPr>
          <a:xfrm flipH="1">
            <a:off x="2102760" y="1692360"/>
            <a:ext cx="1275480" cy="937440"/>
          </a:xfrm>
          <a:prstGeom prst="bentConnector3">
            <a:avLst>
              <a:gd name="adj1" fmla="val -4573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sp>
        <p:nvSpPr>
          <p:cNvPr id="449" name="Text Box 33"/>
          <p:cNvSpPr/>
          <p:nvPr/>
        </p:nvSpPr>
        <p:spPr>
          <a:xfrm>
            <a:off x="7072200" y="1549440"/>
            <a:ext cx="3292560" cy="194472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a référence produit peut être trouver dans la base de données EDIBATEC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e choix entre les CET AQUANEXT PLUS 110 OPTI/200 OPTI dépend du proje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50" name="Picture 10" descr=""/>
          <p:cNvPicPr/>
          <p:nvPr/>
        </p:nvPicPr>
        <p:blipFill>
          <a:blip r:embed="rId3"/>
          <a:stretch/>
        </p:blipFill>
        <p:spPr>
          <a:xfrm>
            <a:off x="7196040" y="2341440"/>
            <a:ext cx="3133800" cy="1038240"/>
          </a:xfrm>
          <a:prstGeom prst="rect">
            <a:avLst/>
          </a:prstGeom>
          <a:ln w="0">
            <a:noFill/>
          </a:ln>
        </p:spPr>
      </p:pic>
      <p:cxnSp>
        <p:nvCxnSpPr>
          <p:cNvPr id="451" name="Connecteur en angle 18"/>
          <p:cNvCxnSpPr>
            <a:stCxn id="449" idx="1"/>
          </p:cNvCxnSpPr>
          <p:nvPr/>
        </p:nvCxnSpPr>
        <p:spPr>
          <a:xfrm flipV="1" rot="10800000">
            <a:off x="5776200" y="2520720"/>
            <a:ext cx="1296000" cy="108720"/>
          </a:xfrm>
          <a:prstGeom prst="bentConnector3">
            <a:avLst>
              <a:gd name="adj1" fmla="val 49986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2" name="AutoShape 10"/>
          <p:cNvCxnSpPr/>
          <p:nvPr/>
        </p:nvCxnSpPr>
        <p:spPr>
          <a:xfrm flipH="1" flipV="1" rot="10800000">
            <a:off x="7232400" y="693072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53" name="AutoShape 11"/>
          <p:cNvCxnSpPr/>
          <p:nvPr/>
        </p:nvCxnSpPr>
        <p:spPr>
          <a:xfrm flipH="1" flipV="1" rot="10800000">
            <a:off x="7232400" y="693072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54" name="AutoShape 13"/>
          <p:cNvCxnSpPr/>
          <p:nvPr/>
        </p:nvCxnSpPr>
        <p:spPr>
          <a:xfrm flipH="1" flipV="1" rot="10800000">
            <a:off x="-360" y="37810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55" name="Espace réservé du texte 4"/>
          <p:cNvSpPr/>
          <p:nvPr/>
        </p:nvSpPr>
        <p:spPr>
          <a:xfrm>
            <a:off x="2027160" y="260280"/>
            <a:ext cx="842976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3 : Création du générateur CET (ECS seulement)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56" name="Espace réservé du numéro de diapositive 2"/>
          <p:cNvSpPr/>
          <p:nvPr/>
        </p:nvSpPr>
        <p:spPr>
          <a:xfrm>
            <a:off x="9880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51AF-BD69-479A-A6A4-023A46C7C5DC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57" name="Picture 2" descr=""/>
          <p:cNvPicPr/>
          <p:nvPr/>
        </p:nvPicPr>
        <p:blipFill>
          <a:blip r:embed="rId1"/>
          <a:stretch/>
        </p:blipFill>
        <p:spPr>
          <a:xfrm>
            <a:off x="447840" y="5797440"/>
            <a:ext cx="4321080" cy="96516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11" descr=""/>
          <p:cNvPicPr/>
          <p:nvPr/>
        </p:nvPicPr>
        <p:blipFill>
          <a:blip r:embed="rId2"/>
          <a:stretch/>
        </p:blipFill>
        <p:spPr>
          <a:xfrm>
            <a:off x="447840" y="1333440"/>
            <a:ext cx="4297320" cy="4824360"/>
          </a:xfrm>
          <a:prstGeom prst="rect">
            <a:avLst/>
          </a:prstGeom>
          <a:ln w="0">
            <a:noFill/>
          </a:ln>
        </p:spPr>
      </p:pic>
      <p:sp>
        <p:nvSpPr>
          <p:cNvPr id="459" name="Text Box 33"/>
          <p:cNvSpPr/>
          <p:nvPr/>
        </p:nvSpPr>
        <p:spPr>
          <a:xfrm>
            <a:off x="6208560" y="3276720"/>
            <a:ext cx="4104000" cy="64908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Attention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Ici, on indique un système 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Sans appoint intégré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 au lieu de « Avec appoint intégré élec »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cxnSp>
        <p:nvCxnSpPr>
          <p:cNvPr id="460" name="Connecteur en angle 18"/>
          <p:cNvCxnSpPr>
            <a:stCxn id="459" idx="1"/>
          </p:cNvCxnSpPr>
          <p:nvPr/>
        </p:nvCxnSpPr>
        <p:spPr>
          <a:xfrm flipV="1" rot="10800000">
            <a:off x="4263480" y="3601080"/>
            <a:ext cx="1945080" cy="1043640"/>
          </a:xfrm>
          <a:prstGeom prst="bentConnector3">
            <a:avLst>
              <a:gd name="adj1" fmla="val 28008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sp>
        <p:nvSpPr>
          <p:cNvPr id="461" name="Text Box 33"/>
          <p:cNvSpPr/>
          <p:nvPr/>
        </p:nvSpPr>
        <p:spPr>
          <a:xfrm>
            <a:off x="6208560" y="1189080"/>
            <a:ext cx="4104000" cy="15843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Bien renseigner les 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limites amont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 (côté source froide) et  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aval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 (côté production d’eau chaude) de température du CET. 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es bornes admissibles sont fixées dans la fiche d’application « Saisie des chauffe-eau thermodynamiques à compression électrique et à appoint hydraulique » disponible sur le site rt-batiment.fr  à savoir :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maximum 7°C en amont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minimum 30°C en aval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cxnSp>
        <p:nvCxnSpPr>
          <p:cNvPr id="462" name="Connecteur en angle 18"/>
          <p:cNvCxnSpPr>
            <a:stCxn id="461" idx="1"/>
          </p:cNvCxnSpPr>
          <p:nvPr/>
        </p:nvCxnSpPr>
        <p:spPr>
          <a:xfrm flipV="1" rot="10800000">
            <a:off x="3831480" y="1980720"/>
            <a:ext cx="2377080" cy="1369440"/>
          </a:xfrm>
          <a:prstGeom prst="bentConnector3">
            <a:avLst>
              <a:gd name="adj1" fmla="val 23508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sp>
        <p:nvSpPr>
          <p:cNvPr id="463" name="Accolade fermante 33"/>
          <p:cNvSpPr/>
          <p:nvPr/>
        </p:nvSpPr>
        <p:spPr>
          <a:xfrm>
            <a:off x="3040200" y="3133800"/>
            <a:ext cx="215640" cy="431640"/>
          </a:xfrm>
          <a:custGeom>
            <a:avLst/>
            <a:gdLst>
              <a:gd name="textAreaLeft" fmla="*/ 0 w 215640"/>
              <a:gd name="textAreaRight" fmla="*/ 77760 w 215640"/>
              <a:gd name="textAreaTop" fmla="*/ 5400 h 431640"/>
              <a:gd name="textAreaBottom" fmla="*/ 4262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50"/>
                  <a:pt x="10800" y="900"/>
                </a:cubicBezTo>
                <a:lnTo>
                  <a:pt x="10800" y="9900"/>
                </a:lnTo>
                <a:cubicBezTo>
                  <a:pt x="10800" y="10350"/>
                  <a:pt x="16200" y="10800"/>
                  <a:pt x="21600" y="10800"/>
                </a:cubicBezTo>
                <a:cubicBezTo>
                  <a:pt x="16200" y="10800"/>
                  <a:pt x="10800" y="11250"/>
                  <a:pt x="10800" y="11700"/>
                </a:cubicBezTo>
                <a:lnTo>
                  <a:pt x="10800" y="20700"/>
                </a:lnTo>
                <a:cubicBezTo>
                  <a:pt x="10800" y="2115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9a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64" name="Text Box 33"/>
          <p:cNvSpPr/>
          <p:nvPr/>
        </p:nvSpPr>
        <p:spPr>
          <a:xfrm>
            <a:off x="6208560" y="4213080"/>
            <a:ext cx="4105440" cy="194472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« Chauffage de nuit » possible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 si les conditions de la fiche d’application « Saisie des chauffe-eau thermodynamiques à compression électrique » (rt-batiment.fr) sont réunies :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e CET dispose d’un 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relais Heures Pleines / Heures Creuses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 pour piloter le fonctionnement de la PAC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a 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montée en température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 du ballon (correspondant à th dans la norme NF EN 16147) est 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inférieure à 8h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Sinon, il faut indiquer « 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chauffage permanent 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». La régulation du CET «  chauffage de nuit » implique un transfert d’une partie des consommations du CET vers la chaudière d’appoint vu que le CET est restreint dans sa période de fonctionnemen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cxnSp>
        <p:nvCxnSpPr>
          <p:cNvPr id="465" name="Connecteur en angle 18"/>
          <p:cNvCxnSpPr>
            <a:stCxn id="464" idx="1"/>
          </p:cNvCxnSpPr>
          <p:nvPr/>
        </p:nvCxnSpPr>
        <p:spPr>
          <a:xfrm flipV="1" rot="10800000">
            <a:off x="4336200" y="5186160"/>
            <a:ext cx="1872360" cy="467280"/>
          </a:xfrm>
          <a:prstGeom prst="bentConnector3">
            <a:avLst>
              <a:gd name="adj1" fmla="val 27788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graphicFrame>
        <p:nvGraphicFramePr>
          <p:cNvPr id="466" name=""/>
          <p:cNvGraphicFramePr/>
          <p:nvPr/>
        </p:nvGraphicFramePr>
        <p:xfrm>
          <a:off x="4768920" y="2341440"/>
          <a:ext cx="720720" cy="627120"/>
        </p:xfrm>
        <a:graphic>
          <a:graphicData uri="http://schemas.openxmlformats.org/drawingml/2006/table">
            <a:tbl>
              <a:tblPr/>
              <a:tblGrid>
                <a:gridCol w="720720"/>
              </a:tblGrid>
              <a:tr h="20952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0.2 k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2.8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certifi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67" name="AutoShape 12"/>
          <p:cNvCxnSpPr/>
          <p:nvPr/>
        </p:nvCxnSpPr>
        <p:spPr>
          <a:xfrm flipH="1" flipV="1" rot="10800000">
            <a:off x="-360" y="392472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68" name="Espace réservé du texte 4"/>
          <p:cNvSpPr/>
          <p:nvPr/>
        </p:nvSpPr>
        <p:spPr>
          <a:xfrm>
            <a:off x="2027160" y="260280"/>
            <a:ext cx="842976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4 : Création du générateur CET (ECS seulement)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69" name="Espace réservé du numéro de diapositive 2"/>
          <p:cNvSpPr/>
          <p:nvPr/>
        </p:nvSpPr>
        <p:spPr>
          <a:xfrm>
            <a:off x="9880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F3638-DB05-4DA2-86BE-CA0CF8319312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70" name="Picture 7" descr=""/>
          <p:cNvPicPr/>
          <p:nvPr/>
        </p:nvPicPr>
        <p:blipFill>
          <a:blip r:embed="rId1"/>
          <a:stretch/>
        </p:blipFill>
        <p:spPr>
          <a:xfrm>
            <a:off x="447840" y="1909800"/>
            <a:ext cx="2216160" cy="934920"/>
          </a:xfrm>
          <a:prstGeom prst="rect">
            <a:avLst/>
          </a:prstGeom>
          <a:ln w="0">
            <a:noFill/>
          </a:ln>
        </p:spPr>
      </p:pic>
      <p:sp>
        <p:nvSpPr>
          <p:cNvPr id="471" name="Text Box 33"/>
          <p:cNvSpPr/>
          <p:nvPr/>
        </p:nvSpPr>
        <p:spPr>
          <a:xfrm>
            <a:off x="447840" y="1477800"/>
            <a:ext cx="32922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On saisit les composants chaudières et CE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cxnSp>
        <p:nvCxnSpPr>
          <p:cNvPr id="472" name="Connecteur en angle 18"/>
          <p:cNvCxnSpPr/>
          <p:nvPr/>
        </p:nvCxnSpPr>
        <p:spPr>
          <a:xfrm>
            <a:off x="2679840" y="2628720"/>
            <a:ext cx="4304160" cy="648360"/>
          </a:xfrm>
          <a:prstGeom prst="bentConnector2">
            <a:avLst/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pic>
        <p:nvPicPr>
          <p:cNvPr id="473" name="Picture 8" descr=""/>
          <p:cNvPicPr/>
          <p:nvPr/>
        </p:nvPicPr>
        <p:blipFill>
          <a:blip r:embed="rId2"/>
          <a:stretch/>
        </p:blipFill>
        <p:spPr>
          <a:xfrm>
            <a:off x="3471840" y="3276720"/>
            <a:ext cx="7023240" cy="122544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9" descr=""/>
          <p:cNvPicPr/>
          <p:nvPr/>
        </p:nvPicPr>
        <p:blipFill>
          <a:blip r:embed="rId3"/>
          <a:stretch/>
        </p:blipFill>
        <p:spPr>
          <a:xfrm>
            <a:off x="879480" y="4789440"/>
            <a:ext cx="7639200" cy="1809720"/>
          </a:xfrm>
          <a:prstGeom prst="rect">
            <a:avLst/>
          </a:prstGeom>
          <a:ln w="0">
            <a:noFill/>
          </a:ln>
        </p:spPr>
      </p:pic>
      <p:cxnSp>
        <p:nvCxnSpPr>
          <p:cNvPr id="475" name="Connecteur en angle 18"/>
          <p:cNvCxnSpPr/>
          <p:nvPr/>
        </p:nvCxnSpPr>
        <p:spPr>
          <a:xfrm rot="5400000">
            <a:off x="-5760" y="3728880"/>
            <a:ext cx="2850480" cy="1081800"/>
          </a:xfrm>
          <a:prstGeom prst="bentConnector4">
            <a:avLst>
              <a:gd name="adj1" fmla="val 34116"/>
              <a:gd name="adj2" fmla="val 121138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sp>
        <p:nvSpPr>
          <p:cNvPr id="476" name="Text Box 33"/>
          <p:cNvSpPr/>
          <p:nvPr/>
        </p:nvSpPr>
        <p:spPr>
          <a:xfrm>
            <a:off x="4695840" y="5437080"/>
            <a:ext cx="1657440" cy="505080"/>
          </a:xfrm>
          <a:prstGeom prst="rect">
            <a:avLst/>
          </a:prstGeom>
          <a:noFill/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77" name="Text Box 33"/>
          <p:cNvSpPr/>
          <p:nvPr/>
        </p:nvSpPr>
        <p:spPr>
          <a:xfrm>
            <a:off x="6927840" y="4286160"/>
            <a:ext cx="289080" cy="287280"/>
          </a:xfrm>
          <a:prstGeom prst="rect">
            <a:avLst/>
          </a:prstGeom>
          <a:noFill/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78" name="ZoneTexte 12"/>
          <p:cNvSpPr/>
          <p:nvPr/>
        </p:nvSpPr>
        <p:spPr>
          <a:xfrm>
            <a:off x="4695840" y="6373800"/>
            <a:ext cx="504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venir LT Std 55 Roman"/>
              </a:rPr>
              <a:t>0 W</a:t>
            </a:r>
            <a:endParaRPr b="0" lang="en-US" sz="1000" spc="-1" strike="noStrike">
              <a:solidFill>
                <a:srgbClr val="000000"/>
              </a:solidFill>
              <a:latin typeface="Avenir LT Std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4:36:31Z</dcterms:created>
  <dc:creator>Rapeneau Igor (GDF SUEZ SA)</dc:creator>
  <dc:description/>
  <dc:language>en-US</dc:language>
  <cp:lastModifiedBy>RAPENEAU Igor (Gaz Réseau Distribution France)</cp:lastModifiedBy>
  <cp:lastPrinted>2014-02-20T07:11:44Z</cp:lastPrinted>
  <dcterms:modified xsi:type="dcterms:W3CDTF">2018-11-23T14:06:48Z</dcterms:modified>
  <cp:revision>192</cp:revision>
  <dc:subject/>
  <dc:title>Présentation PowerPoint</dc:title>
</cp:coreProperties>
</file>